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1991-B345-4BBA-B7B3-69006F237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95E2-422E-4457-A29F-B51FB31C4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0800" y="4341960"/>
            <a:ext cx="50338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45CC-A76C-4D68-AFB8-AF2E30F09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6724-8DE4-495F-8D2A-ADA6747D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2451-12C3-42BA-A65D-5CF388EB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B120-4385-456E-AB44-B1A9E79C3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5AFB-1C34-47BB-9C4A-C7300619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7955-E6E1-4BCF-9AA0-E7C06FEE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3393-509F-4F00-8A91-810163D8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5F8C-A6C3-4088-831B-48015188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B11A-B0AD-42DA-A196-6E06CED9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053D-14CE-425C-A11A-67639A0F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0284-A223-414D-ADB1-3D1B8237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B7BE-480E-483A-8239-9A9C0BDE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0D42-C3D6-4C45-9D27-2F3CD9E4C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, XPath,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October 24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E8C2-D2B1-4D4F-8898-A911C65ABE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Attribute N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“55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@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ans that price is has to be a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7600" y="1828800"/>
            <a:ext cx="30474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/@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6037-07B6-46DA-A264-3989BA019D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5720" y="1905120"/>
            <a:ext cx="41371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author[firstnam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282E-F1B6-4EB1-BE5C-482564688B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…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…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9520" y="2209680"/>
            <a:ext cx="7355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/book/author[firstname][address[.//zip][city]]/la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F548-BFA6-473C-8B66-ABFB225824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4760" y="2286000"/>
            <a:ext cx="40485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@price &lt; 6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2240" y="3657600"/>
            <a:ext cx="49554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author/@age &lt; 2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5105520"/>
            <a:ext cx="40532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author/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9991-A247-4D31-821A-1B2AD6E3E9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556400" cy="48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ny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the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lement under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ib/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ib//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t any 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/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paper at any 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per|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@pric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ib/book/@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tribute in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ib/book/[@price&lt;“55”]/author/lastnam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8496-8D3E-4DDE-8195-520ECC1253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Quilt, which is based on XML-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XPath to express more complex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CB31-933E-4E80-989D-1FBBDE49BF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WR (“Flower”)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33360" y="2819520"/>
            <a:ext cx="3429000" cy="234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1E5F-57C2-4644-8FA5-BF70BA6F6C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47680" y="1645920"/>
            <a:ext cx="7616880" cy="50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Addison-Wesley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Serge Abitebou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Rick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Hul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Victor Vianu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oundations of Databases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1995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pr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“55”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reema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Jeffrey D. Ullma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Principles of Database and Knowledge Base Syste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1998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Data for Quer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more or les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A2B9-CA22-433B-BEE1-B77FB58D48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book titles published after 199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8680" y="2895480"/>
            <a:ext cx="5397840" cy="157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07560" y="4876920"/>
            <a:ext cx="2713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i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EE02-53F6-4ECD-ABD7-A2C5C8C582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61786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ly (perhaps more geekis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3120" y="2895480"/>
            <a:ext cx="85251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gt; 1995]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1240" y="449568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n shor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8000" y="5562720"/>
            <a:ext cx="7078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gt; 1995]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D174-AD92-4264-A7A4-0ED1CB9A2E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: syntax, semantics, data, DT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ongly recommended readin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Path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java.sun.com/webservices/docs/ea2/tutorial/doc/JAXPXSLT2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Quer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w3.org/TR/xmlquery-use-cases/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xmlportfolio.com/xquery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E02A-43B3-45A8-B613-93072B7DED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book titles and the year when they were publish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6480" y="2971800"/>
            <a:ext cx="586872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6720" y="5029200"/>
            <a:ext cx="811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2002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k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980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0503-A5EA-4DFB-96F1-041302A578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ce the use of “{“ and “}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result without them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71240" y="3657600"/>
            <a:ext cx="5500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BA3E-A8FA-4B4F-A550-B7AAB673DD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author of a book by Morgan Kaufmann, list all books she publish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2200" y="2971800"/>
            <a:ext cx="843336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document(“bib.xml”)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“Morgan Kaufmann”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1480" y="6172200"/>
            <a:ext cx="76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In the </a:t>
            </a:r>
            <a:r>
              <a:rPr b="0" lang="en-US" sz="2400" spc="-1" strike="noStrike" u="sng">
                <a:solidFill>
                  <a:srgbClr val="ff66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clause comma concatenates XML fra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E197-56DE-43E8-854C-9D344D2A8F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913280" cy="394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Jones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def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Smith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ghi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2101-64C4-47A3-B433-FFEAE86633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books with more than 3 auth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3440" y="4876920"/>
            <a:ext cx="528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 function that 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av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computes the average</a:t>
            </a:r>
            <a:br>
              <a:rPr sz="2400"/>
            </a:b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s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mputes the sum</a:t>
            </a:r>
            <a:br>
              <a:rPr sz="2400"/>
            </a:b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eliminates dupl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1480" y="2971800"/>
            <a:ext cx="5397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&gt;3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ECB1-FF1F-4791-863D-D898D4B6961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th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9320" y="2971800"/>
            <a:ext cx="76658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&gt;3]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5160-088D-418F-A2C5-9D2502390E1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 all authors who published more than 3 books – be aware of duplicat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480" y="4267080"/>
            <a:ext cx="62298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$a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book/author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&gt;3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EB8F-7EC9-4CCF-AC32-31C21888355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books whose price is larger than aver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2960" y="2971800"/>
            <a:ext cx="537660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document(“bib.xml”)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ib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(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text() &gt;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3F8F-22A7-4A76-81E5-5F661DDB129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att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tten” the authors, i.e. return a list of (author, title)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6400" y="3352680"/>
            <a:ext cx="547416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,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$x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$y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1920" y="3429000"/>
            <a:ext cx="2838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efg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hkj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5D06-9321-4270-BCD3-6AB5DEBE7AA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-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author, return all titles of her/his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9680" y="3276720"/>
            <a:ext cx="600300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{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82040" y="5334120"/>
            <a:ext cx="159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plic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314400" y="2819520"/>
            <a:ext cx="2838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efg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klm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. 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CA33-934E-4316-97C5-8BE7EAC788F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ing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Path = simple navigation through th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Query = the SQL of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SLT = recursive traver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not discuss in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D43C-1A60-414D-8502-86651AC99CE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-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, but eliminate duplicate auth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2819520"/>
            <a:ext cx="611352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{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1AF7-5DBA-4352-8A39-F3D25DE09D4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-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th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2819520"/>
            <a:ext cx="624636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{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6F66-2CE3-41ED-BD45-843DC903CD8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book titles by the coauthors of “Database Theory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3114720"/>
            <a:ext cx="68990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“Database Theory”],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]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95680" y="4811760"/>
            <a:ext cx="382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k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160" y="5410080"/>
            <a:ext cx="35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Ques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Why do we get duplicat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2F4C-38E5-4CF3-8CB1-14ECCA64C1B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inct-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before, but eliminate duplic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19720" y="4800600"/>
            <a:ext cx="382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k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4952880"/>
            <a:ext cx="848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 func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eliminates dupl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apply to a colle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ues, no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ments – note how query has c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5720" y="2971800"/>
            <a:ext cx="8513280" cy="174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“Database Theory”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,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C1C9-9A2C-44DB-A748-936693632D9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5720" y="1752480"/>
            <a:ext cx="42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pid, name, maker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74400" y="1600200"/>
            <a:ext cx="39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product names, pric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by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83600" y="2735280"/>
            <a:ext cx="2625120" cy="2556360"/>
            <a:chOff x="183600" y="2735280"/>
            <a:chExt cx="2625120" cy="2556360"/>
          </a:xfrm>
        </p:grpSpPr>
        <p:sp>
          <p:nvSpPr>
            <p:cNvPr id="176" name=""/>
            <p:cNvSpPr/>
            <p:nvPr/>
          </p:nvSpPr>
          <p:spPr>
            <a:xfrm>
              <a:off x="183600" y="2735280"/>
              <a:ext cx="2625120" cy="15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x.name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x.pric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Product x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DER BY x.pr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600" y="4638960"/>
              <a:ext cx="1072800" cy="652680"/>
            </a:xfrm>
            <a:prstGeom prst="wedgeEllipseCallout">
              <a:avLst>
                <a:gd name="adj1" fmla="val -26620"/>
                <a:gd name="adj2" fmla="val -9586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Q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719360" y="2666880"/>
            <a:ext cx="7319520" cy="3090960"/>
            <a:chOff x="1719360" y="2666880"/>
            <a:chExt cx="7319520" cy="3090960"/>
          </a:xfrm>
        </p:grpSpPr>
        <p:sp>
          <p:nvSpPr>
            <p:cNvPr id="179" name=""/>
            <p:cNvSpPr/>
            <p:nvPr/>
          </p:nvSpPr>
          <p:spPr>
            <a:xfrm>
              <a:off x="2975040" y="2666880"/>
              <a:ext cx="6063840" cy="192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O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document(“db.xml”)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odu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RDER BY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/price/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xt()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lt;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answ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{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name,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ic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}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&lt;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answ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19360" y="5105160"/>
              <a:ext cx="1650960" cy="652680"/>
            </a:xfrm>
            <a:prstGeom prst="wedgeEllipseCallout">
              <a:avLst>
                <a:gd name="adj1" fmla="val 42129"/>
                <a:gd name="adj2" fmla="val -12436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2EA4-6ED8-46EB-8279-717FCAE1F40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08400" y="2057400"/>
            <a:ext cx="3615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answ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ame&gt;  abc  &lt;/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rice&gt;  7 &lt;/price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answer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answ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ame&gt;  def  &lt;/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rice&gt;  23 &lt;/price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answ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’s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75480" y="4343400"/>
            <a:ext cx="31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: this is NOT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-formed document 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?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50D3-9D0B-4679-9CB9-7D455D8D3E4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ducing a Well-Formed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97080" y="2438280"/>
            <a:ext cx="651492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y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{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document(“db.xml”)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price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,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y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5511-34A7-4A90-9B61-E96FF3E48F2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8400" y="2057400"/>
            <a:ext cx="3844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myQuery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&lt;answ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ame&gt;  abc  &lt;/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rice&gt;  7 &lt;/price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&lt;/answer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&lt;answ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ame&gt;  def  &lt;/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rice&gt;  23 &lt;/price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&lt;/answ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myQuer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’s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2000" y="297180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t is well-formed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C6A9-8DAB-400F-9287-B8331F52BCB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8200" y="1523880"/>
            <a:ext cx="460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pid, name, maker, price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cid, name, city, reven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90160" y="175248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products made in Sea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58400" y="2895480"/>
            <a:ext cx="3864240" cy="2556360"/>
            <a:chOff x="158400" y="2895480"/>
            <a:chExt cx="3864240" cy="2556360"/>
          </a:xfrm>
        </p:grpSpPr>
        <p:sp>
          <p:nvSpPr>
            <p:cNvPr id="193" name=""/>
            <p:cNvSpPr/>
            <p:nvPr/>
          </p:nvSpPr>
          <p:spPr>
            <a:xfrm>
              <a:off x="158400" y="2895480"/>
              <a:ext cx="3864240" cy="15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x.nam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Product x, Company y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x.maker=y.cid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and y.city=“Seattle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6840" y="4799160"/>
              <a:ext cx="1072800" cy="652680"/>
            </a:xfrm>
            <a:prstGeom prst="wedgeEllipseCallout">
              <a:avLst>
                <a:gd name="adj1" fmla="val -26620"/>
                <a:gd name="adj2" fmla="val -9586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Q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41800" y="2362320"/>
            <a:ext cx="5752440" cy="3090960"/>
            <a:chOff x="3241800" y="2362320"/>
            <a:chExt cx="5752440" cy="3090960"/>
          </a:xfrm>
        </p:grpSpPr>
        <p:sp>
          <p:nvSpPr>
            <p:cNvPr id="196" name=""/>
            <p:cNvSpPr/>
            <p:nvPr/>
          </p:nvSpPr>
          <p:spPr>
            <a:xfrm>
              <a:off x="4498920" y="2362320"/>
              <a:ext cx="4495320" cy="265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O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document(“db.xml”)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odu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ompan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WHER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mak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=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i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and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i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 = “Seattle”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{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41800" y="4800600"/>
              <a:ext cx="1650960" cy="652680"/>
            </a:xfrm>
            <a:prstGeom prst="wedgeEllipseCallout">
              <a:avLst>
                <a:gd name="adj1" fmla="val 42129"/>
                <a:gd name="adj2" fmla="val -12436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39680" y="5546880"/>
            <a:ext cx="8861040" cy="1264320"/>
            <a:chOff x="139680" y="5546880"/>
            <a:chExt cx="8861040" cy="1264320"/>
          </a:xfrm>
        </p:grpSpPr>
        <p:sp>
          <p:nvSpPr>
            <p:cNvPr id="199" name=""/>
            <p:cNvSpPr/>
            <p:nvPr/>
          </p:nvSpPr>
          <p:spPr>
            <a:xfrm>
              <a:off x="2054880" y="5546880"/>
              <a:ext cx="694584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O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ompan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[ci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=“Seattle”]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odu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[mak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=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/cid/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xt()]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{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39680" y="5638680"/>
              <a:ext cx="1650960" cy="1172520"/>
            </a:xfrm>
            <a:prstGeom prst="wedgeEllipseCallout">
              <a:avLst>
                <a:gd name="adj1" fmla="val 64560"/>
                <a:gd name="adj2" fmla="val 309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ol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E879-73A1-45D2-967D-DBD83968ACD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430280" y="1260360"/>
            <a:ext cx="4700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rodu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row&gt; &lt;pid&gt; 123 &lt;/pi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ame&gt; abc &lt;/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maker&gt; efg &lt;/mak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row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row&gt; …. &lt;/row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product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roduct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product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1431-9005-41C3-AD2C-ACDB1A77090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Data for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7680" y="1645920"/>
            <a:ext cx="7616880" cy="50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Addison-Wesley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Serge Abitebou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Rick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Hul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Victor Vianu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oundations of Databases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1995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pr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“55”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reema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Jeffrey D. Ullma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Principles of Database and Knowledge Base Syste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1998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EC58-2B07-4838-9D7C-DA1CA1766B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0960" y="1523880"/>
            <a:ext cx="85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company with revenues &lt; 1M count the products over 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1120" y="2009880"/>
            <a:ext cx="84988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y.name, count(*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Product x, Company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x.price &gt; 100 and x.maker=y.cid and y.revenue &lt; 10000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BY y.cid, 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3920" y="3809880"/>
            <a:ext cx="864900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document(“db.xml”)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,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[revenue/text()&lt;1000000]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ud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()  }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umberOfExpensiveProduc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{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mak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]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&gt;100])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umberOfExpensiveProduc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ud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21C8-1255-4605-8482-AAF8225F7B7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9160" y="1523880"/>
            <a:ext cx="81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companies with at least 30 products, and their average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2009880"/>
            <a:ext cx="328968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y.name, avg(x.pric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Product x, Company 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x.maker=y.ci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 BY y.cid, y.na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ING count(*) &gt;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71320" y="2971800"/>
            <a:ext cx="568584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document(“db.xml”)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,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mak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]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30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e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()  }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vg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</a:rPr>
              <a:t>av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)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vg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e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080" y="4114800"/>
            <a:ext cx="2389680" cy="652680"/>
          </a:xfrm>
          <a:prstGeom prst="wedgeEllipseCallout">
            <a:avLst>
              <a:gd name="adj1" fmla="val 103453"/>
              <a:gd name="adj2" fmla="val -7568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88800" y="2133720"/>
            <a:ext cx="2268360" cy="652680"/>
          </a:xfrm>
          <a:prstGeom prst="wedgeEllipseCallout">
            <a:avLst>
              <a:gd name="adj1" fmla="val -41907"/>
              <a:gd name="adj2" fmla="val 13500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1E5C-55BA-42BF-B8F5-75FD2F8C89B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odel for X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848040" y="1981080"/>
            <a:ext cx="609840" cy="1524240"/>
            <a:chOff x="3848040" y="1981080"/>
            <a:chExt cx="609840" cy="1524240"/>
          </a:xfrm>
        </p:grpSpPr>
        <p:sp>
          <p:nvSpPr>
            <p:cNvPr id="58" name=""/>
            <p:cNvSpPr/>
            <p:nvPr/>
          </p:nvSpPr>
          <p:spPr>
            <a:xfrm>
              <a:off x="3848040" y="198108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48040" y="289548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i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48006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48006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00040" y="3352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352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09680" y="43434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43434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71800" y="4917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.  .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1800" y="594360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ddison-Wes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440" y="59436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rge Abitebo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01640" y="2057400"/>
            <a:ext cx="1223640" cy="459720"/>
          </a:xfrm>
          <a:prstGeom prst="wedgeRectCallout">
            <a:avLst>
              <a:gd name="adj1" fmla="val -182967"/>
              <a:gd name="adj2" fmla="val -12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12560" y="3048120"/>
            <a:ext cx="2266920" cy="459720"/>
          </a:xfrm>
          <a:prstGeom prst="wedgeRectCallout">
            <a:avLst>
              <a:gd name="adj1" fmla="val -109907"/>
              <a:gd name="adj2" fmla="val -20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ot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E5E7-3AB2-4B09-9255-2FB7ECC0FB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Simple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98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 empty          (there were no pap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0120" y="1752480"/>
            <a:ext cx="22579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9360" y="4038480"/>
            <a:ext cx="26496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paper/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E219-8D1E-425C-AAFA-2D1E60FA43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Restricted Kleene 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Serge Abitebou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Victor Vianu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effrey D. Ullman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43840" y="1828800"/>
            <a:ext cx="128880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/auth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4640" y="5513400"/>
            <a:ext cx="2084040" cy="42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//first-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7A47-C174-495F-AF24-75BD1AEED0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Text N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ge Abitebo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ctor Vian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ffrey D. Ull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ck Hull doesn’t appear because he has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r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in XPa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= matches the tex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node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matches any node (= * or @* or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name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returns the name of the current 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2000" y="1905120"/>
            <a:ext cx="342684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author/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5FC5-2840-4F14-A968-94BF484B2D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Wild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tches any el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8000" y="2011320"/>
            <a:ext cx="17658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/author/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5ADB-4BA6-4A5A-9E5E-14272C74D6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4-10-25T03:36:39Z</dcterms:modified>
  <cp:revision>117</cp:revision>
  <dc:subject/>
  <dc:title>Lecture 09:</dc:title>
</cp:coreProperties>
</file>