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A09-1B28-4EC3-BFA5-59D798EF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55A-0EB9-4868-9008-42A60EC7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48F-887C-4430-AF90-71F02592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DCF-028A-4A27-96CC-AE1820C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ABA-AA67-4D31-9DE1-23DF82CB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01B-16D8-4656-A6E6-54D1725A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6A4-6AC8-4BA3-B0F9-E50F8D70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AC8-1BD8-4A46-AEFF-7F8F31A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ECE-47D5-4633-9163-1C7C74A4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D2E-0ECC-43A0-9560-DF7B8FD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3DF-87BF-4291-A51D-68DBA119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AFA-25EC-41EF-99DB-9563132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44F-8BD1-4B12-BD61-4D0C92B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1BF-60EF-4890-A0D1-EA7AA52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2F2-745F-4160-996F-F5DB93392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4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91D-02CE-47D7-8560-2B2111C206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AD9-465A-4251-ACA7-7B73ADA8A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572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2CB-BB66-4096-A658-284D20D0FB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93B-C808-442C-B3AE-A6A504C9D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1ED-2565-4C72-A9BE-B02678331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5564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468-7243-422E-B2D3-0999020123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7C9-C5C5-4153-9B4C-BB9E4FFEB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646-4072-4082-89B1-AF8D45FF8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C4D-655B-4DEC-ACA4-F91B6BC001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868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756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B60-D990-41BD-9BC4-9FDEC07AF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31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919-48F9-45A2-BC1D-581315B5F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A96-D097-450F-908D-1018C903B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648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6720" y="5029200"/>
            <a:ext cx="81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356-1F16-4EE9-BC99-8CF05B7422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240" y="365760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2A-C5FA-41B8-9269-02418463C4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20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48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A16-4CCE-42C8-A402-D9514E896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D36-BE61-4238-A900-E4C7FA0F4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344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E1F-436F-4C1A-B2A8-59742C4BD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93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89A-C303-4987-A9CF-27D433CD5C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B19-C251-4C05-9C9E-75BB24ABF6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996-31A8-47DF-815B-3B8320F441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192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108-F05D-4389-9E71-1F257CF847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68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204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1440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7DA-00E2-4616-B8BD-0E6D905188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FFF-A8AC-4133-925E-FE83FBE4B71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228-F411-4F3C-9C35-8963381579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C6B-1D44-4AFA-BB1D-D3142C9DB5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FC9-F9A9-4440-82B3-E93E4F3512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572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CF4-255C-49EE-ACC4-3837144F8D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57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440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176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719360" y="2666880"/>
            <a:ext cx="7319520" cy="3090960"/>
            <a:chOff x="1719360" y="2666880"/>
            <a:chExt cx="7319520" cy="3090960"/>
          </a:xfrm>
        </p:grpSpPr>
        <p:sp>
          <p:nvSpPr>
            <p:cNvPr id="179" name=""/>
            <p:cNvSpPr/>
            <p:nvPr/>
          </p:nvSpPr>
          <p:spPr>
            <a:xfrm>
              <a:off x="29750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9360" y="510516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857-FA3C-4FA2-BE95-50394CD71F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8400" y="2057400"/>
            <a:ext cx="361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4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D4F-4FA0-497A-9CBD-F45284F9C1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70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16C-4918-4DEA-84A2-683AC2743B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8400" y="2057400"/>
            <a:ext cx="384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yQuery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yQue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00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94D-797F-46E6-BE13-F2FCA857CB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820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9016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193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41800" y="2362320"/>
            <a:ext cx="5752440" cy="3090960"/>
            <a:chOff x="3241800" y="2362320"/>
            <a:chExt cx="5752440" cy="3090960"/>
          </a:xfrm>
        </p:grpSpPr>
        <p:sp>
          <p:nvSpPr>
            <p:cNvPr id="196" name=""/>
            <p:cNvSpPr/>
            <p:nvPr/>
          </p:nvSpPr>
          <p:spPr>
            <a:xfrm>
              <a:off x="449892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1800" y="480060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9680" y="5546880"/>
            <a:ext cx="8861040" cy="1264320"/>
            <a:chOff x="139680" y="5546880"/>
            <a:chExt cx="8861040" cy="1264320"/>
          </a:xfrm>
        </p:grpSpPr>
        <p:sp>
          <p:nvSpPr>
            <p:cNvPr id="199" name=""/>
            <p:cNvSpPr/>
            <p:nvPr/>
          </p:nvSpPr>
          <p:spPr>
            <a:xfrm>
              <a:off x="205488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680" y="5638680"/>
              <a:ext cx="1650960" cy="1172520"/>
            </a:xfrm>
            <a:prstGeom prst="wedgeEllipseCallout">
              <a:avLst>
                <a:gd name="adj1" fmla="val 64560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BFE-A591-490F-A51D-53505B137A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3028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123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abc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efg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E4D-6A24-4B2F-B498-F297A64676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D5F-471B-4ECA-BCB1-13DF03C6D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096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12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392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86B-01F7-407A-9883-CA4EC30695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16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132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45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8800" y="2133720"/>
            <a:ext cx="2268360" cy="652680"/>
          </a:xfrm>
          <a:prstGeom prst="wedgeEllipseCallout">
            <a:avLst>
              <a:gd name="adj1" fmla="val -41907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6BD-2C1B-415C-B635-B0903D7514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E34-B792-47C0-A58A-A83A0ACC5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012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F26-988F-45E7-9AFA-15FC07734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384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46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167-D158-47A5-9934-B46CC1483C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8C5-A52B-4E89-9B5C-C8BE7BC4B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05B-51C3-4B70-974B-6DE384C82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5T03:36:39Z</dcterms:modified>
  <cp:revision>117</cp:revision>
  <dc:subject/>
  <dc:title>Lecture 09:</dc:title>
</cp:coreProperties>
</file>