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5BD2-556C-4C8F-A5BF-0E80DAC7F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8F5-2C84-41EE-87D7-DDEDF0A6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2E0-B135-4082-9E1A-357319CF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AEF-B325-46D9-83FE-FF80B33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3BA-E383-4DF7-B348-D051F784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222-4076-4B1C-95D8-56445621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ABE-0D35-491C-A5D2-3E3F4F2B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741-5210-4AE1-AF80-87E8C156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7C9-51EE-4869-9828-E06A598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79F-A739-4C2D-8EA7-0877E99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5E1-2960-440D-8511-FB08D23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9AC-7727-4183-A3FD-81DE60F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43B-C647-4443-8D76-89E15CA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8D0-A235-463F-A910-32FA73E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0A1-6714-4537-B08D-6F7230B4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2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F13-7C48-4D27-BC75-65B0CAAB21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A61-D5BF-4A76-BA7A-ED3AC3220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6840" y="3276720"/>
            <a:ext cx="711144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96D-5673-4DE0-A6DD-A8937A822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240-6C34-4F6F-B0EB-7F8BC6760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060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F3D-94E4-43C7-B234-666F4FD82D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308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88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91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0F3-AC98-4BAE-93EE-7E44A4F4D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530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6004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124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724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704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0724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24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6164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200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90480" y="5472360"/>
            <a:ext cx="1037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680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95" idx="3"/>
            <a:endCxn id="97" idx="7"/>
          </p:cNvCxnSpPr>
          <p:nvPr/>
        </p:nvCxnSpPr>
        <p:spPr>
          <a:xfrm flipH="1">
            <a:off x="6000480" y="2371680"/>
            <a:ext cx="388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5"/>
            <a:endCxn id="98" idx="1"/>
          </p:cNvCxnSpPr>
          <p:nvPr/>
        </p:nvCxnSpPr>
        <p:spPr>
          <a:xfrm>
            <a:off x="6865920" y="2371680"/>
            <a:ext cx="7437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7" idx="3"/>
            <a:endCxn id="99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7" idx="4"/>
            <a:endCxn id="100" idx="0"/>
          </p:cNvCxnSpPr>
          <p:nvPr/>
        </p:nvCxnSpPr>
        <p:spPr>
          <a:xfrm flipH="1">
            <a:off x="5564880" y="2962080"/>
            <a:ext cx="975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8" idx="3"/>
            <a:endCxn id="101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8" idx="4"/>
            <a:endCxn id="102" idx="0"/>
          </p:cNvCxnSpPr>
          <p:nvPr/>
        </p:nvCxnSpPr>
        <p:spPr>
          <a:xfrm flipH="1">
            <a:off x="7919280" y="3267000"/>
            <a:ext cx="291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9" idx="4"/>
            <a:endCxn id="96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0" idx="3"/>
            <a:endCxn id="103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0" idx="4"/>
            <a:endCxn id="104" idx="0"/>
          </p:cNvCxnSpPr>
          <p:nvPr/>
        </p:nvCxnSpPr>
        <p:spPr>
          <a:xfrm>
            <a:off x="5565600" y="4105440"/>
            <a:ext cx="2390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0" idx="5"/>
            <a:endCxn id="105" idx="0"/>
          </p:cNvCxnSpPr>
          <p:nvPr/>
        </p:nvCxnSpPr>
        <p:spPr>
          <a:xfrm>
            <a:off x="593892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3" idx="4"/>
            <a:endCxn id="106" idx="0"/>
          </p:cNvCxnSpPr>
          <p:nvPr/>
        </p:nvCxnSpPr>
        <p:spPr>
          <a:xfrm flipH="1">
            <a:off x="4807800" y="5095440"/>
            <a:ext cx="2516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4" idx="4"/>
            <a:endCxn id="107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4"/>
            <a:endCxn id="108" idx="0"/>
          </p:cNvCxnSpPr>
          <p:nvPr/>
        </p:nvCxnSpPr>
        <p:spPr>
          <a:xfrm>
            <a:off x="64447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1" idx="4"/>
            <a:endCxn id="109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2" idx="4"/>
            <a:endCxn id="110" idx="0"/>
          </p:cNvCxnSpPr>
          <p:nvPr/>
        </p:nvCxnSpPr>
        <p:spPr>
          <a:xfrm>
            <a:off x="7919640" y="4334040"/>
            <a:ext cx="104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813960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196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8" idx="5"/>
            <a:endCxn id="126" idx="0"/>
          </p:cNvCxnSpPr>
          <p:nvPr/>
        </p:nvCxnSpPr>
        <p:spPr>
          <a:xfrm>
            <a:off x="8286840" y="3201840"/>
            <a:ext cx="3340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4"/>
            <a:endCxn id="127" idx="0"/>
          </p:cNvCxnSpPr>
          <p:nvPr/>
        </p:nvCxnSpPr>
        <p:spPr>
          <a:xfrm flipH="1">
            <a:off x="8609760" y="4562640"/>
            <a:ext cx="1044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97" idx="2"/>
            <a:endCxn id="130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3"/>
            <a:endCxn id="131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4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35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2648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AAE-5B7E-416B-AF25-019561742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30A-60EC-4763-B589-4DD406296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120600"/>
            <a:ext cx="898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3657600"/>
            <a:ext cx="46818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71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276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8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22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152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944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200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44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38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172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64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3581280"/>
          <a:ext cx="3504960" cy="1822680"/>
        </p:xfrm>
        <a:graphic>
          <a:graphicData uri="http://schemas.openxmlformats.org/drawingml/2006/table">
            <a:tbl>
              <a:tblPr/>
              <a:tblGrid>
                <a:gridCol w="1752120"/>
                <a:gridCol w="175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56040" y="15318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onical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C8D-2D98-488C-98CA-648B9D0FB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0320" y="120600"/>
            <a:ext cx="89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143240" cy="52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363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2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izmo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pro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Sue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6343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2004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Gadget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5640" y="2057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2666880"/>
          <a:ext cx="3504960" cy="13669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54960" y="1531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60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4800600"/>
          <a:ext cx="3886200" cy="1822320"/>
        </p:xfrm>
        <a:graphic>
          <a:graphicData uri="http://schemas.openxmlformats.org/drawingml/2006/table">
            <a:tbl>
              <a:tblPr/>
              <a:tblGrid>
                <a:gridCol w="1752840"/>
                <a:gridCol w="9144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erson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57416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D62-021C-4174-8F71-0F9239CC4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396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93-E989-4979-8CCB-188478A6E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v.s. relational data and semi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B9E-5F1A-4D52-915F-9A179466D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432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612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792612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E91-50EE-4C23-8EAE-F52AFBF53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396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648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591-A03F-4D05-9CF7-80E42B3EB8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227-4980-4A7A-B9C3-F6C366CD8D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61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CF6-DA88-4D04-A648-12266FE22B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264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764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C1C-6FAD-4B8B-9BEB-F83799627E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4C1-D163-4BB3-8BA0-F87BA22F1D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208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952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612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40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24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56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AB0-9AB9-4CCD-9995-075E704DA5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0D0-BE8D-4B15-9CD2-960260F789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477-3E7D-4A1C-BACE-7EEA86C59E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227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1640" y="2057400"/>
            <a:ext cx="1223640" cy="459720"/>
          </a:xfrm>
          <a:prstGeom prst="wedgeRectCallout">
            <a:avLst>
              <a:gd name="adj1" fmla="val -182967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3048120"/>
            <a:ext cx="2266920" cy="459720"/>
          </a:xfrm>
          <a:prstGeom prst="wedgeRectCallout">
            <a:avLst>
              <a:gd name="adj1" fmla="val -109907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F8F-60E1-4572-AD35-C52C05992D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676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DC5-51A0-426B-A7EE-A9EFE8DD7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012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FAB-208D-49AE-9CFB-DA417ABC09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384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46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9B5-496F-4269-B911-586F7F5247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200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F5D-0E74-410E-858C-6A5B801FCC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99A-5405-4757-8CFC-D7D3B0C8FF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7DC-A655-46D4-940C-707BEBDBF4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72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FD1-DA11-4AB4-B432-6B645F6B6F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520" y="220968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0AB-B702-4C24-9867-ACDAD2C8F3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476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2240" y="365760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D7A-5936-4688-98B6-917636D948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57864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669-724B-40AB-BB71-A34FD9053A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360" y="1752480"/>
            <a:ext cx="7810560" cy="35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B1B-AB14-4CA2-9C96-C280AFD6AF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208-DEFC-4333-9389-AEC0C8264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v.s.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4130640" cy="23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920" y="52578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03800" y="2209680"/>
            <a:ext cx="4762440" cy="26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USD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39B-07C3-4A63-BD7C-85ACA7CEE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ord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repe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u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 ne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 be at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39C-23C8-4405-A5BD-F5631A289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5400" y="464040"/>
            <a:ext cx="7694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433-0847-4608-8D32-5476767607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104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5C2-EBFB-4893-9DCA-05875A7A57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0-22T02:11:13Z</dcterms:modified>
  <cp:revision>93</cp:revision>
  <dc:subject/>
  <dc:title>Lecture 09:</dc:title>
</cp:coreProperties>
</file>