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0455-1CB7-45E6-B237-0617C3B89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5B6C-8402-486D-91CE-94BB2E0CD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2CE-A75C-43CB-87DC-26F15258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C86-A9E5-4352-B872-4E62168A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10D-3E3D-4C79-BD79-B7A58F22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94F-9E6B-43C1-808D-A6D7C3E1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D85-D2B1-4EAE-BA28-2A02C66E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7FE-E6F8-449F-9DCF-718B77F2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40C-A3FC-402A-983A-741CC83E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5AB-5B85-4C7F-B4B0-76933A1F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7BD-95E9-4C4F-8B5D-2CB1140B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98D-5C6B-4799-9BCB-11920DEE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C98-CF66-4222-AE09-6EC50E68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7A9-045C-43B7-B971-E353B083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D254-CE77-4C0D-8D56-7C9FCEF92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XML and Semi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2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55B-613D-4FAC-95AB-B965200BBB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4800" y="3886200"/>
          <a:ext cx="3200400" cy="28195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3C5-7AE2-4261-99CD-4D7F3336E2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6840" y="3276720"/>
            <a:ext cx="711144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3B0-ECF9-4C4B-ADD4-D744133430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174-2386-4E17-802E-170959C2BD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3.org/TR/REC-xml-names (1/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0600" y="4071960"/>
            <a:ext cx="5034960" cy="22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F6D-BD21-4273-A566-946308DD5B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308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888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91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919-12EE-476E-B791-0D7B66A310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53000" y="2133720"/>
            <a:ext cx="3849840" cy="391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p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Thailand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23456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6004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5124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3724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704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0724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24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6164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0200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90480" y="5472360"/>
            <a:ext cx="1037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680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95" idx="3"/>
            <a:endCxn id="97" idx="7"/>
          </p:cNvCxnSpPr>
          <p:nvPr/>
        </p:nvCxnSpPr>
        <p:spPr>
          <a:xfrm flipH="1">
            <a:off x="6000480" y="2371680"/>
            <a:ext cx="388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5"/>
            <a:endCxn id="98" idx="1"/>
          </p:cNvCxnSpPr>
          <p:nvPr/>
        </p:nvCxnSpPr>
        <p:spPr>
          <a:xfrm>
            <a:off x="6865920" y="2371680"/>
            <a:ext cx="7437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7" idx="3"/>
            <a:endCxn id="99" idx="7"/>
          </p:cNvCxnSpPr>
          <p:nvPr/>
        </p:nvCxnSpPr>
        <p:spPr>
          <a:xfrm flipH="1">
            <a:off x="4583880" y="2897280"/>
            <a:ext cx="73908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7" idx="4"/>
            <a:endCxn id="100" idx="0"/>
          </p:cNvCxnSpPr>
          <p:nvPr/>
        </p:nvCxnSpPr>
        <p:spPr>
          <a:xfrm flipH="1">
            <a:off x="5564880" y="2962080"/>
            <a:ext cx="975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98" idx="3"/>
            <a:endCxn id="101" idx="0"/>
          </p:cNvCxnSpPr>
          <p:nvPr/>
        </p:nvCxnSpPr>
        <p:spPr>
          <a:xfrm flipH="1">
            <a:off x="703836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8" idx="4"/>
            <a:endCxn id="102" idx="0"/>
          </p:cNvCxnSpPr>
          <p:nvPr/>
        </p:nvCxnSpPr>
        <p:spPr>
          <a:xfrm flipH="1">
            <a:off x="7919280" y="3267000"/>
            <a:ext cx="291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99" idx="4"/>
            <a:endCxn id="96" idx="0"/>
          </p:cNvCxnSpPr>
          <p:nvPr/>
        </p:nvCxnSpPr>
        <p:spPr>
          <a:xfrm flipH="1">
            <a:off x="4250880" y="4181400"/>
            <a:ext cx="45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0" idx="3"/>
            <a:endCxn id="103" idx="0"/>
          </p:cNvCxnSpPr>
          <p:nvPr/>
        </p:nvCxnSpPr>
        <p:spPr>
          <a:xfrm flipH="1">
            <a:off x="5059440" y="4039920"/>
            <a:ext cx="13356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0" idx="4"/>
            <a:endCxn id="104" idx="0"/>
          </p:cNvCxnSpPr>
          <p:nvPr/>
        </p:nvCxnSpPr>
        <p:spPr>
          <a:xfrm>
            <a:off x="5565600" y="4105440"/>
            <a:ext cx="2390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0" idx="5"/>
            <a:endCxn id="105" idx="0"/>
          </p:cNvCxnSpPr>
          <p:nvPr/>
        </p:nvCxnSpPr>
        <p:spPr>
          <a:xfrm>
            <a:off x="593892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3" idx="4"/>
            <a:endCxn id="106" idx="0"/>
          </p:cNvCxnSpPr>
          <p:nvPr/>
        </p:nvCxnSpPr>
        <p:spPr>
          <a:xfrm flipH="1">
            <a:off x="4807800" y="5095440"/>
            <a:ext cx="25164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4" idx="4"/>
            <a:endCxn id="107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5" idx="4"/>
            <a:endCxn id="108" idx="0"/>
          </p:cNvCxnSpPr>
          <p:nvPr/>
        </p:nvCxnSpPr>
        <p:spPr>
          <a:xfrm>
            <a:off x="64447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1" idx="4"/>
            <a:endCxn id="109" idx="0"/>
          </p:cNvCxnSpPr>
          <p:nvPr/>
        </p:nvCxnSpPr>
        <p:spPr>
          <a:xfrm>
            <a:off x="7038720" y="4410000"/>
            <a:ext cx="1436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2" idx="4"/>
            <a:endCxn id="110" idx="0"/>
          </p:cNvCxnSpPr>
          <p:nvPr/>
        </p:nvCxnSpPr>
        <p:spPr>
          <a:xfrm>
            <a:off x="7919640" y="4334040"/>
            <a:ext cx="104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813960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2196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8" idx="5"/>
            <a:endCxn id="126" idx="0"/>
          </p:cNvCxnSpPr>
          <p:nvPr/>
        </p:nvCxnSpPr>
        <p:spPr>
          <a:xfrm>
            <a:off x="8286840" y="3201840"/>
            <a:ext cx="33408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4"/>
            <a:endCxn id="127" idx="0"/>
          </p:cNvCxnSpPr>
          <p:nvPr/>
        </p:nvCxnSpPr>
        <p:spPr>
          <a:xfrm flipH="1">
            <a:off x="8609760" y="4562640"/>
            <a:ext cx="1044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97" idx="2"/>
            <a:endCxn id="130" idx="7"/>
          </p:cNvCxnSpPr>
          <p:nvPr/>
        </p:nvCxnSpPr>
        <p:spPr>
          <a:xfrm flipH="1">
            <a:off x="4014000" y="2738160"/>
            <a:ext cx="11674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3"/>
            <a:endCxn id="131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4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35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2648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1C0-AE8A-4268-A6C9-CD7D4F47CD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279-ADBD-45F2-B476-BC9B9424A6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120600"/>
            <a:ext cx="8983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71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276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8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22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152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944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8200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444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638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1172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64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04920" y="3581280"/>
          <a:ext cx="3504960" cy="1822680"/>
        </p:xfrm>
        <a:graphic>
          <a:graphicData uri="http://schemas.openxmlformats.org/drawingml/2006/table">
            <a:tbl>
              <a:tblPr/>
              <a:tblGrid>
                <a:gridCol w="175212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56040" y="1531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onical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49B-1898-4EC3-9A16-B61FB781AB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0320" y="120600"/>
            <a:ext cx="8983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143240" cy="52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363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pro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ue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6343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5640" y="2057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2666880"/>
          <a:ext cx="3504960" cy="13669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54960" y="153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160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80880" y="4800600"/>
          <a:ext cx="3886200" cy="1822320"/>
        </p:xfrm>
        <a:graphic>
          <a:graphicData uri="http://schemas.openxmlformats.org/drawingml/2006/table">
            <a:tbl>
              <a:tblPr/>
              <a:tblGrid>
                <a:gridCol w="1752840"/>
                <a:gridCol w="9144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erson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457416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15C-88C9-445D-99D3-E162FDB913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396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7C5-16A6-4563-8E6C-348C0C06D2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v.s. relational data and semi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1AE-6369-47A1-B050-5174417E7D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432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612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792612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10E-A159-4CDB-97C0-B0B7842170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396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9648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9FB-B0C3-481F-A5B4-4630EABD35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27C-2193-4A2B-A2D6-2A02D1C200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61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CE1-5069-49DD-A392-3DAA10EE01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264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764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543-B6EB-43AB-854B-A7BE2C4DF6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4104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2DB-0344-43B5-B5D5-0018E92160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3040" y="2514600"/>
            <a:ext cx="382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2080" y="2514600"/>
            <a:ext cx="29775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40" y="4038480"/>
            <a:ext cx="4642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9520" y="5105520"/>
            <a:ext cx="4057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612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40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0240" y="6172200"/>
            <a:ext cx="472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124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56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4419720"/>
            <a:ext cx="244116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567-148B-40B1-8B17-1B795013E0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C7B-6AF7-4E9D-AFE5-095BAE4A63A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9DF-56CF-43F3-A846-B53AA80A38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227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01640" y="2057400"/>
            <a:ext cx="1223640" cy="459720"/>
          </a:xfrm>
          <a:prstGeom prst="wedgeRectCallout">
            <a:avLst>
              <a:gd name="adj1" fmla="val -182967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12560" y="3048120"/>
            <a:ext cx="2266920" cy="459720"/>
          </a:xfrm>
          <a:prstGeom prst="wedgeRectCallout">
            <a:avLst>
              <a:gd name="adj1" fmla="val -109907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CAE-7F1B-4425-A0C6-FC843604CE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B99-8A76-4DA1-A904-9C1825F2E2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012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7CB-1B6F-444F-A970-C1B8ED1D78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384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46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42D-C4D3-4BD1-BB6F-CC67AD7290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200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D98-A613-40F0-B769-2CEBD83AF1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C42-2E36-4D59-A0A4-A7444DAE30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D76-830D-4329-8C41-8452D1E53C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572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0A2-A2D8-4E50-96D2-B88A11F6C0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9520" y="220968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354-687D-47B3-A9FB-6640F9E579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476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2240" y="365760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0EA-CD78-4B5A-B7D3-82AE981017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57864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/[@price&lt;“55”]/author/lastnam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5B1-530B-4CF3-AF15-6D52D7C91A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3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BF2-56BA-4DB5-9ADB-9BB5CDC5D6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C2D-CA7A-4896-A355-1CD5DAE04B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v.s.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4130640" cy="23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920" y="52578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03800" y="2209680"/>
            <a:ext cx="4762440" cy="268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28E-217F-43C2-AD53-6CEC51DFDD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858000" cy="4064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repe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u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n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at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A14-98CC-4AFD-9215-1FCAEF68C8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5400" y="464040"/>
            <a:ext cx="7694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36F-4E5E-4B26-B4DE-69913FED9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104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B0D-D2BF-4494-8FAD-D8CF8DA2B0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0-22T02:11:13Z</dcterms:modified>
  <cp:revision>93</cp:revision>
  <dc:subject/>
  <dc:title>Lecture 09:</dc:title>
</cp:coreProperties>
</file>