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7949-3A66-46B9-9834-7F5111FB8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90D1-F25C-4169-BEBE-B1980DF3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98DF-A673-4566-9A1B-9D12B3F95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36FD-1741-45EF-947E-936A210C4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86A5-B326-4FAC-A990-2619C60D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FC79-7C9E-4040-92B3-3FB5B003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490E-C1C3-486F-B17E-F0EEAC4B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4FB2-FD9F-47B0-B6AD-7686F671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CBDD-FEE4-496E-8C7F-26316B2BB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52FB-07B2-4E5A-841A-A854C818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CF47-8719-4422-95CF-659EFE11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D5DC-ABA4-48A7-B028-406AFA6D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9531-98EA-4E49-9149-1BEE49182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w3.org/XML/1999/XML-in-10-points" TargetMode="External"/><Relationship Id="rId2" Type="http://schemas.openxmlformats.org/officeDocument/2006/relationships/hyperlink" Target="http://www.zvon.org/xxl/XMLTutorial/General/book_en.html" TargetMode="External"/><Relationship Id="rId3" Type="http://schemas.openxmlformats.org/officeDocument/2006/relationships/hyperlink" Target="http://db.bell-labs.com/galax/" TargetMode="External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Desig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October 20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EA31-38AC-4EAC-BB7D-5A79E207256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’s the Probl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09360" y="3429000"/>
            <a:ext cx="640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problem so far. All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lo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D’s are satisf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put all the data back into a single table aga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57200" y="1371600"/>
          <a:ext cx="3276720" cy="1492200"/>
        </p:xfrm>
        <a:graphic>
          <a:graphicData uri="http://schemas.openxmlformats.org/drawingml/2006/table">
            <a:tbl>
              <a:tblPr/>
              <a:tblGrid>
                <a:gridCol w="1638360"/>
                <a:gridCol w="1638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Un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p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aga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4191120" y="1405080"/>
          <a:ext cx="3809880" cy="1490400"/>
        </p:xfrm>
        <a:graphic>
          <a:graphicData uri="http://schemas.openxmlformats.org/drawingml/2006/table">
            <a:tbl>
              <a:tblPr/>
              <a:tblGrid>
                <a:gridCol w="2058840"/>
                <a:gridCol w="1751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n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u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aga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ba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ba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1295280" y="4419720"/>
          <a:ext cx="6095880" cy="15080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n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p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u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aga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ba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ba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641880" y="2895480"/>
            <a:ext cx="2308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990720" y="6095880"/>
            <a:ext cx="6337080" cy="464760"/>
            <a:chOff x="990720" y="6095880"/>
            <a:chExt cx="6337080" cy="464760"/>
          </a:xfrm>
        </p:grpSpPr>
        <p:sp>
          <p:nvSpPr>
            <p:cNvPr id="90" name=""/>
            <p:cNvSpPr/>
            <p:nvPr/>
          </p:nvSpPr>
          <p:spPr>
            <a:xfrm>
              <a:off x="3917520" y="6095880"/>
              <a:ext cx="34102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Company, Produc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 Un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90720" y="6100920"/>
              <a:ext cx="219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iolates the FD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C19D-86EC-470F-98B5-2094CB4A7A1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started with a table R and F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decomposed R into BCNF tables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their own F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F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reconstruct R from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we cannot reconstruct FD from F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F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8351-45B4-449B-BEAF-A43F767490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tion: 3rd Normal Form (3N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9960" y="1946160"/>
            <a:ext cx="74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mple condition for removing anomalies from rel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2280" y="2819520"/>
            <a:ext cx="7919640" cy="2242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 relation R is in 3rd normal form if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ever there is a nontrivial dependency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 R , then  {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a super-key for 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 B is part of a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1000" y="5410080"/>
            <a:ext cx="745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eoff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NF = no anomalies, but may lose some F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NF = keeps all FDs, but may have some 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FF53-2315-438A-AFDB-5B37FD4F71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NF Decompositio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86240" y="2438280"/>
            <a:ext cx="662076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NF_Decompose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K = [all attributes that are part of some key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X s.t.: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X - K ≠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≠ [all attribute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found)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R is in 3NF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et Y =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X - 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Z = [all attributes] - (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decompose into R1(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) and R2(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Z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3NF_Decompose(R1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3NF_Decompose(R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3772-3BF2-4E69-B4EE-9B9D304FB50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 3NF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120" y="1600200"/>
            <a:ext cx="2008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(A,B,C,D,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8760" y="2209680"/>
            <a:ext cx="12049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22280" y="1905120"/>
            <a:ext cx="552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: (need to compute X+, for several X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, AC, 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7680" y="29718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{A, B, C, 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07280" y="3505320"/>
            <a:ext cx="4743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X =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+  = BC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DE is a BCNF vi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3NF: remove B, D (part of K)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 is a 3NF vi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:  R1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), R2(A,B,C,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1440" y="5791320"/>
            <a:ext cx="574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 is in 3N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 is in 3NF (because its keys: AB, AC, 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CA23-37BB-450E-AA0E-371A502505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6320" y="5867280"/>
            <a:ext cx="8915400" cy="914400"/>
          </a:xfrm>
          <a:prstGeom prst="ellipse">
            <a:avLst/>
          </a:prstGeom>
          <a:solidFill>
            <a:srgbClr val="00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NF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NF v.s. BCNF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828800" y="1828800"/>
          <a:ext cx="5486400" cy="54756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K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304920" y="3124080"/>
          <a:ext cx="3047760" cy="54792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609480"/>
                <a:gridCol w="60948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5105520" y="3124080"/>
          <a:ext cx="3047760" cy="547560"/>
        </p:xfrm>
        <a:graphic>
          <a:graphicData uri="http://schemas.openxmlformats.org/drawingml/2006/table">
            <a:tbl>
              <a:tblPr/>
              <a:tblGrid>
                <a:gridCol w="609120"/>
                <a:gridCol w="609840"/>
                <a:gridCol w="609480"/>
                <a:gridCol w="609480"/>
                <a:gridCol w="60984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K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800600" y="4481640"/>
          <a:ext cx="1828800" cy="54756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7086600" y="4481640"/>
          <a:ext cx="1828800" cy="54756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K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152280" y="4495680"/>
          <a:ext cx="1828800" cy="54792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2438280" y="4495680"/>
          <a:ext cx="1828800" cy="54756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 flipH="1">
            <a:off x="2133360" y="243828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715000" y="243828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388620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19520" y="388620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837720" y="388620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562360" y="388620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533412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28240" y="533412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05320" y="533412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514240" y="533412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43600" y="533412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952520" y="533412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229600" y="525780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7238520" y="525780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76320" y="6019920"/>
          <a:ext cx="457200" cy="54756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1447920" y="6019920"/>
          <a:ext cx="457200" cy="54756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2438280" y="6019920"/>
          <a:ext cx="457200" cy="54756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3886200" y="6019920"/>
          <a:ext cx="457200" cy="54756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4800600" y="6019920"/>
          <a:ext cx="457200" cy="54756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6248520" y="6019920"/>
          <a:ext cx="457200" cy="54756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7238880" y="6019920"/>
          <a:ext cx="457200" cy="54756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8458200" y="5943600"/>
          <a:ext cx="457200" cy="54756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8" name=""/>
          <p:cNvGrpSpPr/>
          <p:nvPr/>
        </p:nvGrpSpPr>
        <p:grpSpPr>
          <a:xfrm>
            <a:off x="33480" y="3860640"/>
            <a:ext cx="8958240" cy="2928960"/>
            <a:chOff x="33480" y="3860640"/>
            <a:chExt cx="8958240" cy="2928960"/>
          </a:xfrm>
        </p:grpSpPr>
        <p:sp>
          <p:nvSpPr>
            <p:cNvPr id="139" name=""/>
            <p:cNvSpPr/>
            <p:nvPr/>
          </p:nvSpPr>
          <p:spPr>
            <a:xfrm>
              <a:off x="33480" y="3860640"/>
              <a:ext cx="8958240" cy="2928960"/>
            </a:xfrm>
            <a:custGeom>
              <a:avLst/>
              <a:gdLst/>
              <a:ahLst/>
              <a:rect l="l" t="t" r="r" b="b"/>
              <a:pathLst>
                <a:path w="5643" h="1845">
                  <a:moveTo>
                    <a:pt x="0" y="1248"/>
                  </a:moveTo>
                  <a:cubicBezTo>
                    <a:pt x="3" y="1369"/>
                    <a:pt x="5" y="1490"/>
                    <a:pt x="11" y="1611"/>
                  </a:cubicBezTo>
                  <a:cubicBezTo>
                    <a:pt x="17" y="1774"/>
                    <a:pt x="262" y="1822"/>
                    <a:pt x="384" y="1835"/>
                  </a:cubicBezTo>
                  <a:cubicBezTo>
                    <a:pt x="419" y="1838"/>
                    <a:pt x="455" y="1841"/>
                    <a:pt x="491" y="1845"/>
                  </a:cubicBezTo>
                  <a:cubicBezTo>
                    <a:pt x="625" y="1839"/>
                    <a:pt x="753" y="1828"/>
                    <a:pt x="886" y="1819"/>
                  </a:cubicBezTo>
                  <a:cubicBezTo>
                    <a:pt x="922" y="1808"/>
                    <a:pt x="960" y="1808"/>
                    <a:pt x="998" y="1803"/>
                  </a:cubicBezTo>
                  <a:cubicBezTo>
                    <a:pt x="1081" y="1771"/>
                    <a:pt x="1167" y="1774"/>
                    <a:pt x="1254" y="1755"/>
                  </a:cubicBezTo>
                  <a:cubicBezTo>
                    <a:pt x="1280" y="1728"/>
                    <a:pt x="1297" y="1707"/>
                    <a:pt x="1328" y="1685"/>
                  </a:cubicBezTo>
                  <a:cubicBezTo>
                    <a:pt x="1340" y="1665"/>
                    <a:pt x="1356" y="1648"/>
                    <a:pt x="1366" y="1627"/>
                  </a:cubicBezTo>
                  <a:cubicBezTo>
                    <a:pt x="1379" y="1597"/>
                    <a:pt x="1388" y="1565"/>
                    <a:pt x="1403" y="1536"/>
                  </a:cubicBezTo>
                  <a:cubicBezTo>
                    <a:pt x="1433" y="1472"/>
                    <a:pt x="1476" y="1420"/>
                    <a:pt x="1488" y="1349"/>
                  </a:cubicBezTo>
                  <a:cubicBezTo>
                    <a:pt x="1495" y="1196"/>
                    <a:pt x="1504" y="970"/>
                    <a:pt x="1670" y="901"/>
                  </a:cubicBezTo>
                  <a:cubicBezTo>
                    <a:pt x="1741" y="871"/>
                    <a:pt x="1847" y="880"/>
                    <a:pt x="1920" y="875"/>
                  </a:cubicBezTo>
                  <a:cubicBezTo>
                    <a:pt x="2180" y="855"/>
                    <a:pt x="1849" y="868"/>
                    <a:pt x="2230" y="859"/>
                  </a:cubicBezTo>
                  <a:cubicBezTo>
                    <a:pt x="2372" y="862"/>
                    <a:pt x="2471" y="870"/>
                    <a:pt x="2603" y="901"/>
                  </a:cubicBezTo>
                  <a:cubicBezTo>
                    <a:pt x="2627" y="917"/>
                    <a:pt x="2654" y="917"/>
                    <a:pt x="2683" y="923"/>
                  </a:cubicBezTo>
                  <a:cubicBezTo>
                    <a:pt x="2712" y="942"/>
                    <a:pt x="2717" y="951"/>
                    <a:pt x="2742" y="976"/>
                  </a:cubicBezTo>
                  <a:cubicBezTo>
                    <a:pt x="2753" y="999"/>
                    <a:pt x="2764" y="1023"/>
                    <a:pt x="2779" y="1045"/>
                  </a:cubicBezTo>
                  <a:cubicBezTo>
                    <a:pt x="2791" y="1097"/>
                    <a:pt x="2797" y="1153"/>
                    <a:pt x="2816" y="1205"/>
                  </a:cubicBezTo>
                  <a:cubicBezTo>
                    <a:pt x="2845" y="1287"/>
                    <a:pt x="2882" y="1367"/>
                    <a:pt x="2907" y="1451"/>
                  </a:cubicBezTo>
                  <a:cubicBezTo>
                    <a:pt x="2913" y="1522"/>
                    <a:pt x="2938" y="1585"/>
                    <a:pt x="2960" y="1653"/>
                  </a:cubicBezTo>
                  <a:cubicBezTo>
                    <a:pt x="2979" y="1713"/>
                    <a:pt x="2968" y="1745"/>
                    <a:pt x="3030" y="1776"/>
                  </a:cubicBezTo>
                  <a:cubicBezTo>
                    <a:pt x="3920" y="1757"/>
                    <a:pt x="3555" y="1764"/>
                    <a:pt x="4123" y="1755"/>
                  </a:cubicBezTo>
                  <a:cubicBezTo>
                    <a:pt x="4126" y="1754"/>
                    <a:pt x="4194" y="1749"/>
                    <a:pt x="4219" y="1739"/>
                  </a:cubicBezTo>
                  <a:cubicBezTo>
                    <a:pt x="4313" y="1698"/>
                    <a:pt x="4340" y="1642"/>
                    <a:pt x="4400" y="1568"/>
                  </a:cubicBezTo>
                  <a:cubicBezTo>
                    <a:pt x="4411" y="1554"/>
                    <a:pt x="4427" y="1544"/>
                    <a:pt x="4438" y="1531"/>
                  </a:cubicBezTo>
                  <a:cubicBezTo>
                    <a:pt x="4452" y="1512"/>
                    <a:pt x="4467" y="1470"/>
                    <a:pt x="4480" y="1451"/>
                  </a:cubicBezTo>
                  <a:cubicBezTo>
                    <a:pt x="4487" y="1439"/>
                    <a:pt x="4499" y="1430"/>
                    <a:pt x="4507" y="1419"/>
                  </a:cubicBezTo>
                  <a:cubicBezTo>
                    <a:pt x="4531" y="1380"/>
                    <a:pt x="4564" y="1329"/>
                    <a:pt x="4576" y="1285"/>
                  </a:cubicBezTo>
                  <a:cubicBezTo>
                    <a:pt x="4580" y="1265"/>
                    <a:pt x="4587" y="1227"/>
                    <a:pt x="4587" y="1227"/>
                  </a:cubicBezTo>
                  <a:cubicBezTo>
                    <a:pt x="4582" y="1192"/>
                    <a:pt x="4582" y="1017"/>
                    <a:pt x="4523" y="976"/>
                  </a:cubicBezTo>
                  <a:cubicBezTo>
                    <a:pt x="4500" y="881"/>
                    <a:pt x="4585" y="845"/>
                    <a:pt x="4662" y="837"/>
                  </a:cubicBezTo>
                  <a:cubicBezTo>
                    <a:pt x="4829" y="797"/>
                    <a:pt x="5078" y="820"/>
                    <a:pt x="5264" y="816"/>
                  </a:cubicBezTo>
                  <a:cubicBezTo>
                    <a:pt x="5379" y="809"/>
                    <a:pt x="5508" y="814"/>
                    <a:pt x="5622" y="779"/>
                  </a:cubicBezTo>
                  <a:cubicBezTo>
                    <a:pt x="5625" y="765"/>
                    <a:pt x="5637" y="754"/>
                    <a:pt x="5638" y="741"/>
                  </a:cubicBezTo>
                  <a:cubicBezTo>
                    <a:pt x="5639" y="695"/>
                    <a:pt x="5643" y="590"/>
                    <a:pt x="5616" y="539"/>
                  </a:cubicBezTo>
                  <a:cubicBezTo>
                    <a:pt x="5608" y="475"/>
                    <a:pt x="5594" y="431"/>
                    <a:pt x="5568" y="373"/>
                  </a:cubicBezTo>
                  <a:cubicBezTo>
                    <a:pt x="5550" y="334"/>
                    <a:pt x="5535" y="270"/>
                    <a:pt x="5499" y="245"/>
                  </a:cubicBezTo>
                  <a:cubicBezTo>
                    <a:pt x="5352" y="248"/>
                    <a:pt x="5238" y="257"/>
                    <a:pt x="5099" y="267"/>
                  </a:cubicBezTo>
                  <a:cubicBezTo>
                    <a:pt x="4864" y="262"/>
                    <a:pt x="4659" y="239"/>
                    <a:pt x="4438" y="309"/>
                  </a:cubicBezTo>
                  <a:cubicBezTo>
                    <a:pt x="4399" y="335"/>
                    <a:pt x="4407" y="334"/>
                    <a:pt x="4384" y="373"/>
                  </a:cubicBezTo>
                  <a:cubicBezTo>
                    <a:pt x="4370" y="431"/>
                    <a:pt x="4339" y="488"/>
                    <a:pt x="4315" y="544"/>
                  </a:cubicBezTo>
                  <a:cubicBezTo>
                    <a:pt x="4309" y="582"/>
                    <a:pt x="4294" y="613"/>
                    <a:pt x="4283" y="651"/>
                  </a:cubicBezTo>
                  <a:cubicBezTo>
                    <a:pt x="4273" y="682"/>
                    <a:pt x="4275" y="715"/>
                    <a:pt x="4267" y="747"/>
                  </a:cubicBezTo>
                  <a:cubicBezTo>
                    <a:pt x="4260" y="771"/>
                    <a:pt x="4227" y="816"/>
                    <a:pt x="4208" y="832"/>
                  </a:cubicBezTo>
                  <a:cubicBezTo>
                    <a:pt x="4167" y="865"/>
                    <a:pt x="4157" y="859"/>
                    <a:pt x="4118" y="880"/>
                  </a:cubicBezTo>
                  <a:cubicBezTo>
                    <a:pt x="4090" y="894"/>
                    <a:pt x="4079" y="911"/>
                    <a:pt x="4048" y="917"/>
                  </a:cubicBezTo>
                  <a:cubicBezTo>
                    <a:pt x="4011" y="942"/>
                    <a:pt x="3968" y="948"/>
                    <a:pt x="3926" y="960"/>
                  </a:cubicBezTo>
                  <a:cubicBezTo>
                    <a:pt x="3822" y="1030"/>
                    <a:pt x="3567" y="986"/>
                    <a:pt x="3536" y="987"/>
                  </a:cubicBezTo>
                  <a:cubicBezTo>
                    <a:pt x="3323" y="983"/>
                    <a:pt x="3221" y="980"/>
                    <a:pt x="3046" y="965"/>
                  </a:cubicBezTo>
                  <a:cubicBezTo>
                    <a:pt x="3021" y="953"/>
                    <a:pt x="2995" y="945"/>
                    <a:pt x="2971" y="933"/>
                  </a:cubicBezTo>
                  <a:cubicBezTo>
                    <a:pt x="2949" y="889"/>
                    <a:pt x="2943" y="850"/>
                    <a:pt x="2928" y="805"/>
                  </a:cubicBezTo>
                  <a:cubicBezTo>
                    <a:pt x="2917" y="739"/>
                    <a:pt x="2926" y="672"/>
                    <a:pt x="2912" y="608"/>
                  </a:cubicBezTo>
                  <a:cubicBezTo>
                    <a:pt x="2887" y="504"/>
                    <a:pt x="2864" y="424"/>
                    <a:pt x="2816" y="331"/>
                  </a:cubicBezTo>
                  <a:cubicBezTo>
                    <a:pt x="2802" y="305"/>
                    <a:pt x="2765" y="212"/>
                    <a:pt x="2731" y="181"/>
                  </a:cubicBezTo>
                  <a:cubicBezTo>
                    <a:pt x="2685" y="139"/>
                    <a:pt x="2618" y="113"/>
                    <a:pt x="2566" y="85"/>
                  </a:cubicBezTo>
                  <a:cubicBezTo>
                    <a:pt x="2506" y="52"/>
                    <a:pt x="2424" y="6"/>
                    <a:pt x="2358" y="5"/>
                  </a:cubicBezTo>
                  <a:cubicBezTo>
                    <a:pt x="2279" y="3"/>
                    <a:pt x="2201" y="1"/>
                    <a:pt x="2123" y="0"/>
                  </a:cubicBezTo>
                  <a:cubicBezTo>
                    <a:pt x="2036" y="3"/>
                    <a:pt x="1948" y="2"/>
                    <a:pt x="1862" y="11"/>
                  </a:cubicBezTo>
                  <a:cubicBezTo>
                    <a:pt x="1815" y="15"/>
                    <a:pt x="1815" y="32"/>
                    <a:pt x="1782" y="48"/>
                  </a:cubicBezTo>
                  <a:cubicBezTo>
                    <a:pt x="1736" y="69"/>
                    <a:pt x="1687" y="83"/>
                    <a:pt x="1643" y="107"/>
                  </a:cubicBezTo>
                  <a:cubicBezTo>
                    <a:pt x="1616" y="121"/>
                    <a:pt x="1597" y="139"/>
                    <a:pt x="1568" y="149"/>
                  </a:cubicBezTo>
                  <a:cubicBezTo>
                    <a:pt x="1533" y="172"/>
                    <a:pt x="1506" y="201"/>
                    <a:pt x="1488" y="240"/>
                  </a:cubicBezTo>
                  <a:cubicBezTo>
                    <a:pt x="1470" y="276"/>
                    <a:pt x="1484" y="258"/>
                    <a:pt x="1472" y="299"/>
                  </a:cubicBezTo>
                  <a:cubicBezTo>
                    <a:pt x="1468" y="311"/>
                    <a:pt x="1451" y="337"/>
                    <a:pt x="1446" y="347"/>
                  </a:cubicBezTo>
                  <a:cubicBezTo>
                    <a:pt x="1436" y="395"/>
                    <a:pt x="1403" y="433"/>
                    <a:pt x="1387" y="480"/>
                  </a:cubicBezTo>
                  <a:cubicBezTo>
                    <a:pt x="1373" y="517"/>
                    <a:pt x="1362" y="544"/>
                    <a:pt x="1344" y="581"/>
                  </a:cubicBezTo>
                  <a:cubicBezTo>
                    <a:pt x="1339" y="602"/>
                    <a:pt x="1329" y="619"/>
                    <a:pt x="1323" y="640"/>
                  </a:cubicBezTo>
                  <a:cubicBezTo>
                    <a:pt x="1326" y="672"/>
                    <a:pt x="1326" y="704"/>
                    <a:pt x="1334" y="736"/>
                  </a:cubicBezTo>
                  <a:cubicBezTo>
                    <a:pt x="1338" y="755"/>
                    <a:pt x="1360" y="789"/>
                    <a:pt x="1360" y="789"/>
                  </a:cubicBezTo>
                  <a:cubicBezTo>
                    <a:pt x="1358" y="798"/>
                    <a:pt x="1360" y="808"/>
                    <a:pt x="1355" y="816"/>
                  </a:cubicBezTo>
                  <a:cubicBezTo>
                    <a:pt x="1350" y="821"/>
                    <a:pt x="1340" y="817"/>
                    <a:pt x="1334" y="821"/>
                  </a:cubicBezTo>
                  <a:cubicBezTo>
                    <a:pt x="1322" y="826"/>
                    <a:pt x="1313" y="837"/>
                    <a:pt x="1302" y="843"/>
                  </a:cubicBezTo>
                  <a:cubicBezTo>
                    <a:pt x="1276" y="853"/>
                    <a:pt x="1223" y="856"/>
                    <a:pt x="1200" y="859"/>
                  </a:cubicBezTo>
                  <a:cubicBezTo>
                    <a:pt x="1170" y="865"/>
                    <a:pt x="1097" y="899"/>
                    <a:pt x="1067" y="901"/>
                  </a:cubicBezTo>
                  <a:cubicBezTo>
                    <a:pt x="971" y="904"/>
                    <a:pt x="875" y="905"/>
                    <a:pt x="779" y="907"/>
                  </a:cubicBezTo>
                  <a:cubicBezTo>
                    <a:pt x="728" y="931"/>
                    <a:pt x="778" y="901"/>
                    <a:pt x="752" y="933"/>
                  </a:cubicBezTo>
                  <a:cubicBezTo>
                    <a:pt x="699" y="995"/>
                    <a:pt x="589" y="958"/>
                    <a:pt x="507" y="960"/>
                  </a:cubicBezTo>
                  <a:cubicBezTo>
                    <a:pt x="449" y="999"/>
                    <a:pt x="393" y="978"/>
                    <a:pt x="315" y="981"/>
                  </a:cubicBezTo>
                  <a:cubicBezTo>
                    <a:pt x="257" y="1009"/>
                    <a:pt x="195" y="1009"/>
                    <a:pt x="139" y="1045"/>
                  </a:cubicBezTo>
                  <a:cubicBezTo>
                    <a:pt x="119" y="1072"/>
                    <a:pt x="103" y="1093"/>
                    <a:pt x="70" y="1104"/>
                  </a:cubicBezTo>
                  <a:cubicBezTo>
                    <a:pt x="48" y="1118"/>
                    <a:pt x="49" y="1134"/>
                    <a:pt x="38" y="1157"/>
                  </a:cubicBezTo>
                  <a:lnTo>
                    <a:pt x="27" y="1264"/>
                  </a:lnTo>
                </a:path>
              </a:pathLst>
            </a:custGeom>
            <a:solidFill>
              <a:srgbClr val="ccffff">
                <a:alpha val="47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659040" y="3886200"/>
              <a:ext cx="8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N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38D4-C223-4A3E-9EA5-88BEE77CD0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(4.6, 4.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lecture: syntax, semistructur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lectures: DTDs, XPath, X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AFC1-C2E8-4393-8CBB-5BDC50BF13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itional Readings on 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Query from the Experts, Katz, 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ference on X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w3.org/XML/1999/XML-in-10-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zvon.org/xxl/XMLTutorial/General/book_en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db.bell-labs.com/galax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source: www.w3.org (but hard to re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56FF-7345-493E-9565-4B519776169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ble Markup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1.0 – a recommendation from W3C,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ots: SGML (a very nasty languag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the roots: a format for sharing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DD55-DBB6-4B66-BD19-45FD64FA7D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data does not have a syn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can’t “give” you my relationa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import it from other other syntax, like CSV (comma-separated-valu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= rich syntax for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XML is not relational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mistructu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 any data to 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e it in files, exchange on the Web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query it directly, using XPath, X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359D-29EC-4FD6-8103-EF9C83EC2AD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of a Relational schema (3.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2D37-E802-44FE-8FA6-44AD40657E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HTML to 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857240" y="1700280"/>
            <a:ext cx="5429520" cy="38145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746000" y="5786280"/>
            <a:ext cx="564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HTML describes the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516C-7D7C-4D10-B223-568D91D7B1B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h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Bibliography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h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Foundations of Databases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iteboul, Hull, Via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br&gt; Addison Wesley, 199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Data on the Web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iteoul, Buneman, Suci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b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Morgan Kaufmann,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CDD2-E65A-4BAC-88AE-65937C60105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234200" cy="480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l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Foundations…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iteboul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Hull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Vianu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ublis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ddison Wesley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ublis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1995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l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26760" y="6202440"/>
            <a:ext cx="499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XML describes the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75FE-F2E6-40E7-91C7-B5BEC5F150C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14360" y="1752480"/>
            <a:ext cx="7810560" cy="35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gs: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tag: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  end tag: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: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…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…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 are 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ty element: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abbrv.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XML document: sing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oot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5360" y="593244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cc"/>
                </a:solidFill>
                <a:latin typeface="Arial"/>
              </a:rPr>
              <a:t>well formed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 XML document: if it has matching ta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BA96-83DD-43AD-89E9-7884DC758CA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194600" cy="40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pr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“55”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urrenc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“USD”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Foundations of Databases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Abiteboul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1995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8000" y="5654520"/>
            <a:ext cx="875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attributes are alternative ways to represent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CB5F-ED6C-489E-9F73-6BDD422BDA3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25400" y="464040"/>
            <a:ext cx="76946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Oids and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365960" cy="39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555”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Jane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456”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Mary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hildr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dre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123 o555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123”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mot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456”&gt;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John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31520" y="5886360"/>
            <a:ext cx="785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oids and references in XML are just synt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776B-5D54-4441-B1AF-E74716A3498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CDATA S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x: &lt;![CDATA[ .....any text here...]]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51040" y="4191120"/>
            <a:ext cx="712872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&lt;![CDATA[ some text here &lt;/notAtag&gt; &lt;&gt;]]&gt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0B66-5F3F-4F7E-84A5-719305C857C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Entity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x: &amp;entitynam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e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this is less than &amp;lt;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e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enti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114800" y="3886200"/>
          <a:ext cx="3200400" cy="281952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</a:tblGrid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l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amp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apos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quo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#38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code ch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3C8E-7CAB-4EC9-A2BF-BAAA7B7376F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Processing Instru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x: &lt;?target argument?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they mea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07560" y="3276720"/>
            <a:ext cx="7252920" cy="184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Alarm Clock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&lt;?ringBell 20?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19.99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A7AE-A5A2-40C9-9E46-84ADA45883C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Com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x &lt;!-- .... Comment text... --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s, they are part of the data model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4C98-D6DE-4BB5-9326-FC38852929C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rmal 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 Normal Fo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all attributes are ato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Normal Fo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2NF) = old and obso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Normal Fo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3NF) = this l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yce Codd Normal Fo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BCNF) = this l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6E92-5CE5-4850-B0ED-BDD0226965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Namesp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w3.org/TR/REC-xml-names (1/9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::= [prefix:]local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70600" y="4071960"/>
            <a:ext cx="5034960" cy="225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xmlns:isb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“www.isbn-org.org/def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…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15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isbn: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….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isbn: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6570-2FEC-4463-A299-033CBD41B3A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973080" y="3141720"/>
            <a:ext cx="6968880" cy="311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a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xmlns:mysty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“http://…”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mystyle:tit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… &lt;/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mystyle:tit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mystyle:numb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a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Namesp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229520" cy="17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ctic: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numb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,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isbn:numb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antic: provide URL for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98880" y="3780720"/>
            <a:ext cx="3947040" cy="5637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long to this name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05160" y="3886200"/>
            <a:ext cx="824040" cy="549360"/>
          </a:xfrm>
          <a:custGeom>
            <a:avLst/>
            <a:gdLst/>
            <a:ahLst/>
            <a:rect l="l" t="t" r="r" b="b"/>
            <a:pathLst>
              <a:path w="1045" h="270">
                <a:moveTo>
                  <a:pt x="0" y="270"/>
                </a:moveTo>
                <a:cubicBezTo>
                  <a:pt x="54" y="232"/>
                  <a:pt x="151" y="78"/>
                  <a:pt x="325" y="39"/>
                </a:cubicBezTo>
                <a:cubicBezTo>
                  <a:pt x="499" y="0"/>
                  <a:pt x="895" y="39"/>
                  <a:pt x="1045" y="3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98880" y="4267080"/>
            <a:ext cx="663840" cy="671760"/>
          </a:xfrm>
          <a:custGeom>
            <a:avLst/>
            <a:gdLst/>
            <a:ahLst/>
            <a:rect l="l" t="t" r="r" b="b"/>
            <a:pathLst>
              <a:path w="711" h="471">
                <a:moveTo>
                  <a:pt x="0" y="471"/>
                </a:moveTo>
                <a:cubicBezTo>
                  <a:pt x="34" y="428"/>
                  <a:pt x="78" y="302"/>
                  <a:pt x="197" y="223"/>
                </a:cubicBezTo>
                <a:cubicBezTo>
                  <a:pt x="316" y="144"/>
                  <a:pt x="534" y="63"/>
                  <a:pt x="7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819760" y="3605040"/>
            <a:ext cx="1038240" cy="281160"/>
          </a:xfrm>
          <a:custGeom>
            <a:avLst/>
            <a:gdLst/>
            <a:ahLst/>
            <a:rect l="l" t="t" r="r" b="b"/>
            <a:pathLst>
              <a:path w="234" h="163">
                <a:moveTo>
                  <a:pt x="234" y="163"/>
                </a:moveTo>
                <a:cubicBezTo>
                  <a:pt x="154" y="125"/>
                  <a:pt x="74" y="87"/>
                  <a:pt x="37" y="60"/>
                </a:cubicBezTo>
                <a:cubicBezTo>
                  <a:pt x="0" y="33"/>
                  <a:pt x="5" y="16"/>
                  <a:pt x="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987720" y="4422600"/>
            <a:ext cx="1501920" cy="1135080"/>
            <a:chOff x="3987720" y="4422600"/>
            <a:chExt cx="1501920" cy="1135080"/>
          </a:xfrm>
        </p:grpSpPr>
        <p:sp>
          <p:nvSpPr>
            <p:cNvPr id="188" name=""/>
            <p:cNvSpPr/>
            <p:nvPr/>
          </p:nvSpPr>
          <p:spPr>
            <a:xfrm>
              <a:off x="3987720" y="4422600"/>
              <a:ext cx="914400" cy="465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25960" y="4970520"/>
              <a:ext cx="1363680" cy="587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88FA-B0C0-4B34-9983-5024842AA27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9800" y="272880"/>
            <a:ext cx="8175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Relational Data to XM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266720" y="3657600"/>
            <a:ext cx="468180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&gt; &lt;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John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3634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&gt; &lt;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Sue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6343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Dick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6363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5459400" y="175248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5012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50120" y="1752480"/>
            <a:ext cx="9903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4938480" y="2313000"/>
            <a:ext cx="5331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72000" y="231300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6081840" y="2313000"/>
            <a:ext cx="3808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450120" y="2286000"/>
            <a:ext cx="31752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7071840" y="231300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453440" y="2313000"/>
            <a:ext cx="5331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82920" y="218448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97320" y="218448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164000" y="218448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97120" y="304812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92760" y="304812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088040" y="304812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82200" y="304812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01520" y="304812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849440" y="297180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82000" y="332568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44480" y="33256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77280" y="332568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996600" y="332568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ck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63800" y="33256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3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911720" y="33256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36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5640" y="29718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29000" y="1413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943600" y="1574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ers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04920" y="3581280"/>
          <a:ext cx="3504960" cy="1822680"/>
        </p:xfrm>
        <a:graphic>
          <a:graphicData uri="http://schemas.openxmlformats.org/drawingml/2006/table">
            <a:tbl>
              <a:tblPr/>
              <a:tblGrid>
                <a:gridCol w="1752120"/>
                <a:gridCol w="1752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h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23A5-3773-4535-A9C6-402FF1036C1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is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elf-describ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ma elements become part of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tional schema: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ersons(name,pho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XML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are part of the data, and are repeated many 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quence: XML is much more flex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=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emistructu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BD65-9736-4EAA-B52D-ECD29BCD68F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structured Data Explai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 attribu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represent i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able with nu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3960" y="2514600"/>
            <a:ext cx="3737880" cy="19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John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1234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Joe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1720" y="3962520"/>
            <a:ext cx="159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hone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5791320" y="4876920"/>
          <a:ext cx="2133360" cy="1295280"/>
        </p:xfrm>
        <a:graphic>
          <a:graphicData uri="http://schemas.openxmlformats.org/drawingml/2006/table">
            <a:tbl>
              <a:tblPr/>
              <a:tblGrid>
                <a:gridCol w="1066680"/>
                <a:gridCol w="1066680"/>
              </a:tblGrid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h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A407-A90B-40F3-BC8C-9F321B985A4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structured Data Explai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ed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ssible in t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434320" y="2590920"/>
            <a:ext cx="361008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Mary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2345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3456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396120" y="3124080"/>
            <a:ext cx="18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phones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4419720" y="5105520"/>
          <a:ext cx="3200400" cy="1295280"/>
        </p:xfrm>
        <a:graphic>
          <a:graphicData uri="http://schemas.openxmlformats.org/drawingml/2006/table">
            <a:tbl>
              <a:tblPr/>
              <a:tblGrid>
                <a:gridCol w="1066680"/>
                <a:gridCol w="1066680"/>
                <a:gridCol w="1067040"/>
              </a:tblGrid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h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7926120" y="54864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137E-B3A7-439E-8D5E-3938311C1A1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structured Data Explai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s with different types in different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ted collections (no 1N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terogeneous colle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&lt;db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tains both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and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ublisher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93960" y="2590920"/>
            <a:ext cx="5125680" cy="173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John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Smith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234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396480" y="274320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ured name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A316-131E-4CD3-96EB-FF132B840EF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yce-Codd Normal 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7040" y="1905120"/>
            <a:ext cx="74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mple condition for removing anomalies from rel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480" y="4917960"/>
            <a:ext cx="850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nglish (though a bit vagu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ever a set of attribute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determining another attribu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determin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attribute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99840" y="2666880"/>
            <a:ext cx="6044040" cy="167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 relation R is in BCNF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 is a non-trivial depend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 R ,   then {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 is a key for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79A2-7712-41BB-ACBD-A5EEDA7A64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CNF Decompositio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3921120"/>
            <a:ext cx="2286000" cy="220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3997440"/>
            <a:ext cx="2286000" cy="220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77240" y="487692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14240" y="495288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09840" y="48769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97560" y="61722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9080" y="3886200"/>
            <a:ext cx="19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s there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-attribu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lation tha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in BCNF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1520" y="1752480"/>
            <a:ext cx="8423280" cy="207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hoose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violates the BNCF cond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plit R into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[others]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ntinue with both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no more vi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97760" y="61722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50360" y="5943600"/>
            <a:ext cx="324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actice, we ha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etter algorithm (nex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5EBB-E6CB-4C76-BEF0-92B8618FAB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CNF Decompositio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58520" y="2438280"/>
            <a:ext cx="628884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NF_Decompose(R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find X s.t.: X ≠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≠ [all attributes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found)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R is in BCNF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et Y =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Z = [all attributes] -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decompose into R1(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) and R2(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Z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BCNF_Decompose(R1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BCNF_Decompose(R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6DF7-62BB-4C2F-A099-BCB4622CD9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BCNF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5880" y="1565280"/>
            <a:ext cx="638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name, SSN, age, hairColor, phone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,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ir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2400" y="2922480"/>
            <a:ext cx="5978160" cy="375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ation 1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+ = SSN, name, age, hair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 into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, age, hairColor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       Phone(SSN, phone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ation 2: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+ = age, hair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ople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name, age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Hair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ag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hairColor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Phone(SSN, phone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43520" y="228600"/>
            <a:ext cx="445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X s.t.: X ≠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≠ [all attribute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903360" y="3261600"/>
            <a:ext cx="1813320" cy="11667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0980-26EB-4CBF-82E1-AE9160005D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(A,B,C,D)    A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B,    B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ion 1:  X = A:   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lit R into  R1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,C)   R2(A,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ion 2: X = B:  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lit R into R3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), R4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), R2(A,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happens if at iteration 1 we pick X = AB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055640" y="2195280"/>
            <a:ext cx="1813320" cy="11667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76FE-0DFA-40C9-A651-CFED555B8A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NF: A Problem with BC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65440" y="1828800"/>
            <a:ext cx="34102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Company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, Produc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51160" y="3048120"/>
            <a:ext cx="30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Unit,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09720" y="6172200"/>
            <a:ext cx="60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loose the FD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, Product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Uni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57200" y="1600200"/>
          <a:ext cx="4572000" cy="132084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n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p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u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380880" y="3962520"/>
          <a:ext cx="3200400" cy="132084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</a:tblGrid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Un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p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4419720" y="3962520"/>
          <a:ext cx="2819160" cy="1320840"/>
        </p:xfrm>
        <a:graphic>
          <a:graphicData uri="http://schemas.openxmlformats.org/drawingml/2006/table">
            <a:tbl>
              <a:tblPr/>
              <a:tblGrid>
                <a:gridCol w="1409400"/>
                <a:gridCol w="1409760"/>
              </a:tblGrid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n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u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9" name=""/>
          <p:cNvGrpSpPr/>
          <p:nvPr/>
        </p:nvGrpSpPr>
        <p:grpSpPr>
          <a:xfrm>
            <a:off x="1066320" y="3048120"/>
            <a:ext cx="3810600" cy="685800"/>
            <a:chOff x="1066320" y="3048120"/>
            <a:chExt cx="3810600" cy="685800"/>
          </a:xfrm>
        </p:grpSpPr>
        <p:sp>
          <p:nvSpPr>
            <p:cNvPr id="80" name=""/>
            <p:cNvSpPr/>
            <p:nvPr/>
          </p:nvSpPr>
          <p:spPr>
            <a:xfrm flipH="1">
              <a:off x="1066320" y="3048120"/>
              <a:ext cx="228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67080" y="3048120"/>
              <a:ext cx="6098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565920" y="5410080"/>
            <a:ext cx="2308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2111-B53C-4075-A270-4202BB5345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4-10-22T16:48:11Z</dcterms:modified>
  <cp:revision>175</cp:revision>
  <dc:subject/>
  <dc:title>Lecture 09:</dc:title>
</cp:coreProperties>
</file>