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98C-DA1D-4C72-90B2-CDF6AB54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CEA-AAB2-4B62-9B6B-D0FD02DF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952-3435-4EAE-8FA7-CCA59F1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633-0661-4C71-8F74-1AF77E0B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F12-1382-426D-B744-C383C320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0B1-2027-47AA-A52C-BD7382D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004-1BE3-420F-9056-EDBB7C89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85A-89E4-47C1-A463-AE473FE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BC0-671D-4C3A-B944-F5AE73B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4EB-48E3-4166-B513-22B577C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745-4458-4853-961F-2F379B5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8CD-8C06-49D0-AD2D-2FF0449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881B-C805-4B2F-BE8C-6DA152A07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3.org/XML/1999/XML-in-10-points" TargetMode="External"/><Relationship Id="rId2" Type="http://schemas.openxmlformats.org/officeDocument/2006/relationships/hyperlink" Target="http://www.zvon.org/xxl/XMLTutorial/General/book_en.html" TargetMode="External"/><Relationship Id="rId3" Type="http://schemas.openxmlformats.org/officeDocument/2006/relationships/hyperlink" Target="http://db.bell-labs.com/galax/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0DE-B0F7-4172-AE7A-8A1B9B623A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9360" y="34290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371600"/>
          <a:ext cx="3276720" cy="14922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191120" y="1405080"/>
          <a:ext cx="3809880" cy="1490400"/>
        </p:xfrm>
        <a:graphic>
          <a:graphicData uri="http://schemas.openxmlformats.org/drawingml/2006/table">
            <a:tbl>
              <a:tblPr/>
              <a:tblGrid>
                <a:gridCol w="2058840"/>
                <a:gridCol w="175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295280" y="4419720"/>
          <a:ext cx="6095880" cy="1508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41880" y="28954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90720" y="6095880"/>
            <a:ext cx="6337080" cy="464760"/>
            <a:chOff x="990720" y="6095880"/>
            <a:chExt cx="6337080" cy="464760"/>
          </a:xfrm>
        </p:grpSpPr>
        <p:sp>
          <p:nvSpPr>
            <p:cNvPr id="90" name=""/>
            <p:cNvSpPr/>
            <p:nvPr/>
          </p:nvSpPr>
          <p:spPr>
            <a:xfrm>
              <a:off x="3917520" y="6095880"/>
              <a:ext cx="3410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mpany, Produc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0720" y="61009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olates the F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4E1-FF57-42CE-9EBA-BF3D643C5B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arted with a table R and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composed R into BCNF tabl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ir own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construct R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cannot reconstruct FD from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CA5-16EF-42E0-86D4-E28698B80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96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228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00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2B0-7B23-4456-80C4-2FC2E4FE0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6240" y="2438280"/>
            <a:ext cx="66207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_Decompose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K = [all attributes that are part of some k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 - K 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R is in 3NF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 - 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Z = [all attributes] -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decompose into R1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3NF_Decompose(R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3NF_Decompose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CB5-25BB-4729-AE3A-7E8BA2DA9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3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120" y="1600200"/>
            <a:ext cx="200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,C,D,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760" y="2209680"/>
            <a:ext cx="1204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2280" y="1905120"/>
            <a:ext cx="55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: (need to compute X+, for several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7680" y="2971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7280" y="3505320"/>
            <a:ext cx="47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X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  =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DE is a BC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3NF: remove B, D (part of K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is a 3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), R2(A,B,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1440" y="579132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i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is in 3NF (because its keys: AB, AC,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0D0-862F-437E-BF3F-8CFFFEA15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20" y="5867280"/>
            <a:ext cx="8915400" cy="914400"/>
          </a:xfrm>
          <a:prstGeom prst="ellipse">
            <a:avLst/>
          </a:prstGeom>
          <a:solidFill>
            <a:srgbClr val="0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v.s.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1828800"/>
          <a:ext cx="54864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04920" y="3124080"/>
          <a:ext cx="3047760" cy="5479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105520" y="3124080"/>
          <a:ext cx="3047760" cy="54756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800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086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52280" y="4495680"/>
          <a:ext cx="1828800" cy="547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438280" y="449568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H="1">
            <a:off x="2133360" y="2438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24382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3772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5623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28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95252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52578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520" y="5257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3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4479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4382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862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2485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2388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458200" y="594360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3480" y="3860640"/>
            <a:ext cx="8958240" cy="2928960"/>
            <a:chOff x="33480" y="3860640"/>
            <a:chExt cx="8958240" cy="2928960"/>
          </a:xfrm>
        </p:grpSpPr>
        <p:sp>
          <p:nvSpPr>
            <p:cNvPr id="139" name=""/>
            <p:cNvSpPr/>
            <p:nvPr/>
          </p:nvSpPr>
          <p:spPr>
            <a:xfrm>
              <a:off x="33480" y="3860640"/>
              <a:ext cx="8958240" cy="2928960"/>
            </a:xfrm>
            <a:custGeom>
              <a:avLst/>
              <a:gdLst/>
              <a:ahLst/>
              <a:rect l="l" t="t" r="r" b="b"/>
              <a:pathLst>
                <a:path w="5643" h="1845">
                  <a:moveTo>
                    <a:pt x="0" y="1248"/>
                  </a:moveTo>
                  <a:cubicBezTo>
                    <a:pt x="3" y="1369"/>
                    <a:pt x="5" y="1490"/>
                    <a:pt x="11" y="1611"/>
                  </a:cubicBezTo>
                  <a:cubicBezTo>
                    <a:pt x="17" y="1774"/>
                    <a:pt x="262" y="1822"/>
                    <a:pt x="384" y="1835"/>
                  </a:cubicBezTo>
                  <a:cubicBezTo>
                    <a:pt x="419" y="1838"/>
                    <a:pt x="455" y="1841"/>
                    <a:pt x="491" y="1845"/>
                  </a:cubicBezTo>
                  <a:cubicBezTo>
                    <a:pt x="625" y="1839"/>
                    <a:pt x="753" y="1828"/>
                    <a:pt x="886" y="1819"/>
                  </a:cubicBezTo>
                  <a:cubicBezTo>
                    <a:pt x="922" y="1808"/>
                    <a:pt x="960" y="1808"/>
                    <a:pt x="998" y="1803"/>
                  </a:cubicBezTo>
                  <a:cubicBezTo>
                    <a:pt x="1081" y="1771"/>
                    <a:pt x="1167" y="1774"/>
                    <a:pt x="1254" y="1755"/>
                  </a:cubicBezTo>
                  <a:cubicBezTo>
                    <a:pt x="1280" y="1728"/>
                    <a:pt x="1297" y="1707"/>
                    <a:pt x="1328" y="1685"/>
                  </a:cubicBezTo>
                  <a:cubicBezTo>
                    <a:pt x="1340" y="1665"/>
                    <a:pt x="1356" y="1648"/>
                    <a:pt x="1366" y="1627"/>
                  </a:cubicBezTo>
                  <a:cubicBezTo>
                    <a:pt x="1379" y="1597"/>
                    <a:pt x="1388" y="1565"/>
                    <a:pt x="1403" y="1536"/>
                  </a:cubicBezTo>
                  <a:cubicBezTo>
                    <a:pt x="1433" y="1472"/>
                    <a:pt x="1476" y="1420"/>
                    <a:pt x="1488" y="1349"/>
                  </a:cubicBezTo>
                  <a:cubicBezTo>
                    <a:pt x="1495" y="1196"/>
                    <a:pt x="1504" y="970"/>
                    <a:pt x="1670" y="901"/>
                  </a:cubicBezTo>
                  <a:cubicBezTo>
                    <a:pt x="1741" y="871"/>
                    <a:pt x="1847" y="880"/>
                    <a:pt x="1920" y="875"/>
                  </a:cubicBezTo>
                  <a:cubicBezTo>
                    <a:pt x="2180" y="855"/>
                    <a:pt x="1849" y="868"/>
                    <a:pt x="2230" y="859"/>
                  </a:cubicBezTo>
                  <a:cubicBezTo>
                    <a:pt x="2372" y="862"/>
                    <a:pt x="2471" y="870"/>
                    <a:pt x="2603" y="901"/>
                  </a:cubicBezTo>
                  <a:cubicBezTo>
                    <a:pt x="2627" y="917"/>
                    <a:pt x="2654" y="917"/>
                    <a:pt x="2683" y="923"/>
                  </a:cubicBezTo>
                  <a:cubicBezTo>
                    <a:pt x="2712" y="942"/>
                    <a:pt x="2717" y="951"/>
                    <a:pt x="2742" y="976"/>
                  </a:cubicBezTo>
                  <a:cubicBezTo>
                    <a:pt x="2753" y="999"/>
                    <a:pt x="2764" y="1023"/>
                    <a:pt x="2779" y="1045"/>
                  </a:cubicBezTo>
                  <a:cubicBezTo>
                    <a:pt x="2791" y="1097"/>
                    <a:pt x="2797" y="1153"/>
                    <a:pt x="2816" y="1205"/>
                  </a:cubicBezTo>
                  <a:cubicBezTo>
                    <a:pt x="2845" y="1287"/>
                    <a:pt x="2882" y="1367"/>
                    <a:pt x="2907" y="1451"/>
                  </a:cubicBezTo>
                  <a:cubicBezTo>
                    <a:pt x="2913" y="1522"/>
                    <a:pt x="2938" y="1585"/>
                    <a:pt x="2960" y="1653"/>
                  </a:cubicBezTo>
                  <a:cubicBezTo>
                    <a:pt x="2979" y="1713"/>
                    <a:pt x="2968" y="1745"/>
                    <a:pt x="3030" y="1776"/>
                  </a:cubicBezTo>
                  <a:cubicBezTo>
                    <a:pt x="3920" y="1757"/>
                    <a:pt x="3555" y="1764"/>
                    <a:pt x="4123" y="1755"/>
                  </a:cubicBezTo>
                  <a:cubicBezTo>
                    <a:pt x="4126" y="1754"/>
                    <a:pt x="4194" y="1749"/>
                    <a:pt x="4219" y="1739"/>
                  </a:cubicBezTo>
                  <a:cubicBezTo>
                    <a:pt x="4313" y="1698"/>
                    <a:pt x="4340" y="1642"/>
                    <a:pt x="4400" y="1568"/>
                  </a:cubicBezTo>
                  <a:cubicBezTo>
                    <a:pt x="4411" y="1554"/>
                    <a:pt x="4427" y="1544"/>
                    <a:pt x="4438" y="1531"/>
                  </a:cubicBezTo>
                  <a:cubicBezTo>
                    <a:pt x="4452" y="1512"/>
                    <a:pt x="4467" y="1470"/>
                    <a:pt x="4480" y="1451"/>
                  </a:cubicBezTo>
                  <a:cubicBezTo>
                    <a:pt x="4487" y="1439"/>
                    <a:pt x="4499" y="1430"/>
                    <a:pt x="4507" y="1419"/>
                  </a:cubicBezTo>
                  <a:cubicBezTo>
                    <a:pt x="4531" y="1380"/>
                    <a:pt x="4564" y="1329"/>
                    <a:pt x="4576" y="1285"/>
                  </a:cubicBezTo>
                  <a:cubicBezTo>
                    <a:pt x="4580" y="1265"/>
                    <a:pt x="4587" y="1227"/>
                    <a:pt x="4587" y="1227"/>
                  </a:cubicBezTo>
                  <a:cubicBezTo>
                    <a:pt x="4582" y="1192"/>
                    <a:pt x="4582" y="1017"/>
                    <a:pt x="4523" y="976"/>
                  </a:cubicBezTo>
                  <a:cubicBezTo>
                    <a:pt x="4500" y="881"/>
                    <a:pt x="4585" y="845"/>
                    <a:pt x="4662" y="837"/>
                  </a:cubicBezTo>
                  <a:cubicBezTo>
                    <a:pt x="4829" y="797"/>
                    <a:pt x="5078" y="820"/>
                    <a:pt x="5264" y="816"/>
                  </a:cubicBezTo>
                  <a:cubicBezTo>
                    <a:pt x="5379" y="809"/>
                    <a:pt x="5508" y="814"/>
                    <a:pt x="5622" y="779"/>
                  </a:cubicBezTo>
                  <a:cubicBezTo>
                    <a:pt x="5625" y="765"/>
                    <a:pt x="5637" y="754"/>
                    <a:pt x="5638" y="741"/>
                  </a:cubicBezTo>
                  <a:cubicBezTo>
                    <a:pt x="5639" y="695"/>
                    <a:pt x="5643" y="590"/>
                    <a:pt x="5616" y="539"/>
                  </a:cubicBezTo>
                  <a:cubicBezTo>
                    <a:pt x="5608" y="475"/>
                    <a:pt x="5594" y="431"/>
                    <a:pt x="5568" y="373"/>
                  </a:cubicBezTo>
                  <a:cubicBezTo>
                    <a:pt x="5550" y="334"/>
                    <a:pt x="5535" y="270"/>
                    <a:pt x="5499" y="245"/>
                  </a:cubicBezTo>
                  <a:cubicBezTo>
                    <a:pt x="5352" y="248"/>
                    <a:pt x="5238" y="257"/>
                    <a:pt x="5099" y="267"/>
                  </a:cubicBezTo>
                  <a:cubicBezTo>
                    <a:pt x="4864" y="262"/>
                    <a:pt x="4659" y="239"/>
                    <a:pt x="4438" y="309"/>
                  </a:cubicBezTo>
                  <a:cubicBezTo>
                    <a:pt x="4399" y="335"/>
                    <a:pt x="4407" y="334"/>
                    <a:pt x="4384" y="373"/>
                  </a:cubicBezTo>
                  <a:cubicBezTo>
                    <a:pt x="4370" y="431"/>
                    <a:pt x="4339" y="488"/>
                    <a:pt x="4315" y="544"/>
                  </a:cubicBezTo>
                  <a:cubicBezTo>
                    <a:pt x="4309" y="582"/>
                    <a:pt x="4294" y="613"/>
                    <a:pt x="4283" y="651"/>
                  </a:cubicBezTo>
                  <a:cubicBezTo>
                    <a:pt x="4273" y="682"/>
                    <a:pt x="4275" y="715"/>
                    <a:pt x="4267" y="747"/>
                  </a:cubicBezTo>
                  <a:cubicBezTo>
                    <a:pt x="4260" y="771"/>
                    <a:pt x="4227" y="816"/>
                    <a:pt x="4208" y="832"/>
                  </a:cubicBezTo>
                  <a:cubicBezTo>
                    <a:pt x="4167" y="865"/>
                    <a:pt x="4157" y="859"/>
                    <a:pt x="4118" y="880"/>
                  </a:cubicBezTo>
                  <a:cubicBezTo>
                    <a:pt x="4090" y="894"/>
                    <a:pt x="4079" y="911"/>
                    <a:pt x="4048" y="917"/>
                  </a:cubicBezTo>
                  <a:cubicBezTo>
                    <a:pt x="4011" y="942"/>
                    <a:pt x="3968" y="948"/>
                    <a:pt x="3926" y="960"/>
                  </a:cubicBezTo>
                  <a:cubicBezTo>
                    <a:pt x="3822" y="1030"/>
                    <a:pt x="3567" y="986"/>
                    <a:pt x="3536" y="987"/>
                  </a:cubicBezTo>
                  <a:cubicBezTo>
                    <a:pt x="3323" y="983"/>
                    <a:pt x="3221" y="980"/>
                    <a:pt x="3046" y="965"/>
                  </a:cubicBezTo>
                  <a:cubicBezTo>
                    <a:pt x="3021" y="953"/>
                    <a:pt x="2995" y="945"/>
                    <a:pt x="2971" y="933"/>
                  </a:cubicBezTo>
                  <a:cubicBezTo>
                    <a:pt x="2949" y="889"/>
                    <a:pt x="2943" y="850"/>
                    <a:pt x="2928" y="805"/>
                  </a:cubicBezTo>
                  <a:cubicBezTo>
                    <a:pt x="2917" y="739"/>
                    <a:pt x="2926" y="672"/>
                    <a:pt x="2912" y="608"/>
                  </a:cubicBezTo>
                  <a:cubicBezTo>
                    <a:pt x="2887" y="504"/>
                    <a:pt x="2864" y="424"/>
                    <a:pt x="2816" y="331"/>
                  </a:cubicBezTo>
                  <a:cubicBezTo>
                    <a:pt x="2802" y="305"/>
                    <a:pt x="2765" y="212"/>
                    <a:pt x="2731" y="181"/>
                  </a:cubicBezTo>
                  <a:cubicBezTo>
                    <a:pt x="2685" y="139"/>
                    <a:pt x="2618" y="113"/>
                    <a:pt x="2566" y="85"/>
                  </a:cubicBezTo>
                  <a:cubicBezTo>
                    <a:pt x="2506" y="52"/>
                    <a:pt x="2424" y="6"/>
                    <a:pt x="2358" y="5"/>
                  </a:cubicBezTo>
                  <a:cubicBezTo>
                    <a:pt x="2279" y="3"/>
                    <a:pt x="2201" y="1"/>
                    <a:pt x="2123" y="0"/>
                  </a:cubicBezTo>
                  <a:cubicBezTo>
                    <a:pt x="2036" y="3"/>
                    <a:pt x="1948" y="2"/>
                    <a:pt x="1862" y="11"/>
                  </a:cubicBezTo>
                  <a:cubicBezTo>
                    <a:pt x="1815" y="15"/>
                    <a:pt x="1815" y="32"/>
                    <a:pt x="1782" y="48"/>
                  </a:cubicBezTo>
                  <a:cubicBezTo>
                    <a:pt x="1736" y="69"/>
                    <a:pt x="1687" y="83"/>
                    <a:pt x="1643" y="107"/>
                  </a:cubicBezTo>
                  <a:cubicBezTo>
                    <a:pt x="1616" y="121"/>
                    <a:pt x="1597" y="139"/>
                    <a:pt x="1568" y="149"/>
                  </a:cubicBezTo>
                  <a:cubicBezTo>
                    <a:pt x="1533" y="172"/>
                    <a:pt x="1506" y="201"/>
                    <a:pt x="1488" y="240"/>
                  </a:cubicBezTo>
                  <a:cubicBezTo>
                    <a:pt x="1470" y="276"/>
                    <a:pt x="1484" y="258"/>
                    <a:pt x="1472" y="299"/>
                  </a:cubicBezTo>
                  <a:cubicBezTo>
                    <a:pt x="1468" y="311"/>
                    <a:pt x="1451" y="337"/>
                    <a:pt x="1446" y="347"/>
                  </a:cubicBezTo>
                  <a:cubicBezTo>
                    <a:pt x="1436" y="395"/>
                    <a:pt x="1403" y="433"/>
                    <a:pt x="1387" y="480"/>
                  </a:cubicBezTo>
                  <a:cubicBezTo>
                    <a:pt x="1373" y="517"/>
                    <a:pt x="1362" y="544"/>
                    <a:pt x="1344" y="581"/>
                  </a:cubicBezTo>
                  <a:cubicBezTo>
                    <a:pt x="1339" y="602"/>
                    <a:pt x="1329" y="619"/>
                    <a:pt x="1323" y="640"/>
                  </a:cubicBezTo>
                  <a:cubicBezTo>
                    <a:pt x="1326" y="672"/>
                    <a:pt x="1326" y="704"/>
                    <a:pt x="1334" y="736"/>
                  </a:cubicBezTo>
                  <a:cubicBezTo>
                    <a:pt x="1338" y="755"/>
                    <a:pt x="1360" y="789"/>
                    <a:pt x="1360" y="789"/>
                  </a:cubicBezTo>
                  <a:cubicBezTo>
                    <a:pt x="1358" y="798"/>
                    <a:pt x="1360" y="808"/>
                    <a:pt x="1355" y="816"/>
                  </a:cubicBezTo>
                  <a:cubicBezTo>
                    <a:pt x="1350" y="821"/>
                    <a:pt x="1340" y="817"/>
                    <a:pt x="1334" y="821"/>
                  </a:cubicBezTo>
                  <a:cubicBezTo>
                    <a:pt x="1322" y="826"/>
                    <a:pt x="1313" y="837"/>
                    <a:pt x="1302" y="843"/>
                  </a:cubicBezTo>
                  <a:cubicBezTo>
                    <a:pt x="1276" y="853"/>
                    <a:pt x="1223" y="856"/>
                    <a:pt x="1200" y="859"/>
                  </a:cubicBezTo>
                  <a:cubicBezTo>
                    <a:pt x="1170" y="865"/>
                    <a:pt x="1097" y="899"/>
                    <a:pt x="1067" y="901"/>
                  </a:cubicBezTo>
                  <a:cubicBezTo>
                    <a:pt x="971" y="904"/>
                    <a:pt x="875" y="905"/>
                    <a:pt x="779" y="907"/>
                  </a:cubicBezTo>
                  <a:cubicBezTo>
                    <a:pt x="728" y="931"/>
                    <a:pt x="778" y="901"/>
                    <a:pt x="752" y="933"/>
                  </a:cubicBezTo>
                  <a:cubicBezTo>
                    <a:pt x="699" y="995"/>
                    <a:pt x="589" y="958"/>
                    <a:pt x="507" y="960"/>
                  </a:cubicBezTo>
                  <a:cubicBezTo>
                    <a:pt x="449" y="999"/>
                    <a:pt x="393" y="978"/>
                    <a:pt x="315" y="981"/>
                  </a:cubicBezTo>
                  <a:cubicBezTo>
                    <a:pt x="257" y="1009"/>
                    <a:pt x="195" y="1009"/>
                    <a:pt x="139" y="1045"/>
                  </a:cubicBezTo>
                  <a:cubicBezTo>
                    <a:pt x="119" y="1072"/>
                    <a:pt x="103" y="1093"/>
                    <a:pt x="70" y="1104"/>
                  </a:cubicBezTo>
                  <a:cubicBezTo>
                    <a:pt x="48" y="1118"/>
                    <a:pt x="49" y="1134"/>
                    <a:pt x="38" y="1157"/>
                  </a:cubicBezTo>
                  <a:lnTo>
                    <a:pt x="27" y="1264"/>
                  </a:lnTo>
                </a:path>
              </a:pathLst>
            </a:custGeom>
            <a:solidFill>
              <a:srgbClr val="ccffff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9040" y="388620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N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1EC-D2B2-407B-A04B-8BA589331D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339-A747-466C-9B25-EDB3CE09B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from the Experts, Katz, 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1999/XML-in-10-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zvon.org/xxl/XMLTutorial/General/book_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b.bell-labs.com/gala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AA4-C50E-473D-91C8-030D7496E4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F20-8CD4-4F47-BAE7-A91759C11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mport it from other other syntax, like CSV (comma-separated-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rich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any data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t in files, exchange on the Web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query it directly, using XPath,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B50-0033-4D5F-90FF-880982EA86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568-4EF7-4955-887B-DE78E2658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600-2B83-486D-9DF8-68AE7F747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80A-DAD0-42A0-9441-7B2AB4C57C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3B8-A558-4F45-BFC8-810E233538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3AA-ED17-4D54-B64E-748E69E423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00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FBF-16C3-4BC6-B2ED-EC85845FD2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5400" y="464040"/>
            <a:ext cx="7694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6BC-7394-4674-8B7A-7F344D415F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A38-39B3-4771-868A-26B5EBC85E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24B-AD06-48F6-8BC4-F1C4748046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7560" y="3276720"/>
            <a:ext cx="725292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2EA-267C-42A9-B32B-6082FDA331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5D7-CCBB-4482-9946-65AEEC6401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114-BD4B-428F-8AA0-210DC87CE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060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422-FFFC-4C20-8C55-9F49B8EFC1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88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2D5-7C7C-43D5-8F24-1A9D5E40E3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9800" y="272880"/>
            <a:ext cx="8175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0E1-4A06-4DAB-B401-8BD97C07BB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B16-72AB-4585-90B3-2D523557CD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396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C64-6901-4C59-BF8B-65FAE6CD24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432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961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777-779C-4513-BBDB-09F7B9A2B1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9648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C02-4726-4447-8784-94F4CE9CD6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4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984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972-2B25-49C2-983E-385489517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360" y="5943600"/>
            <a:ext cx="32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nex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B53-226B-4B20-8FE6-D22F30CF0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8520" y="2438280"/>
            <a:ext cx="62888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decompose into R1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BCNF_Decompose(R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BCNF_Decompose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DB3-2C30-4365-B4FC-EB3C58CE27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352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3360" y="326160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D94-4BC5-465F-B26C-B3B46DE79B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on 1:  X = A:   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R into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,C)   R2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on 2: X = B: 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R into R3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), R4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), R2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at iteration 1 we pick X = AB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5640" y="219528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E16-6FE5-450A-B61F-25DC6BB07F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65440" y="1828800"/>
            <a:ext cx="3410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1160" y="3048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9720" y="617220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572000" cy="1320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80880" y="3962520"/>
          <a:ext cx="3200400" cy="13208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19720" y="3962520"/>
          <a:ext cx="2819160" cy="132084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" name=""/>
          <p:cNvGrpSpPr/>
          <p:nvPr/>
        </p:nvGrpSpPr>
        <p:grpSpPr>
          <a:xfrm>
            <a:off x="1066320" y="3048120"/>
            <a:ext cx="3810600" cy="685800"/>
            <a:chOff x="1066320" y="3048120"/>
            <a:chExt cx="3810600" cy="685800"/>
          </a:xfrm>
        </p:grpSpPr>
        <p:sp>
          <p:nvSpPr>
            <p:cNvPr id="80" name=""/>
            <p:cNvSpPr/>
            <p:nvPr/>
          </p:nvSpPr>
          <p:spPr>
            <a:xfrm flipH="1">
              <a:off x="1066320" y="30481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3048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65920" y="54100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BE0-68B2-4A57-B453-8DE4C3A4A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2T16:48:11Z</dcterms:modified>
  <cp:revision>175</cp:revision>
  <dc:subject/>
  <dc:title>Lecture 09:</dc:title>
</cp:coreProperties>
</file>