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F164-8206-419C-B194-659B57E6B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s: {student, room, time},  {student, course}  and all super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s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ept, 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t, Room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, Dep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urse, 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, Cours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ept, 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, Room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ept,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91BC-C1BE-46BF-93BE-7389D87C7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BF1D-E38C-44F5-B2CA-D7213D76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459D-C3D5-4574-B808-B9CC4D89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B1B6-1020-4FFB-B514-E7F0E938D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9848-F135-44A4-8EBA-2959F4F3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1C83-AA81-41F7-92D3-2AAB2191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6BD4-D7D1-4A54-95A4-5BAFA10A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F0BA-C296-4C8C-BEB0-AAF7B9B2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F1B5-7CBC-4E9C-9539-EA54646E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B9C7-F744-494B-AFCE-1E1F2BF3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8305-C045-42B9-9449-9891C1F2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C29C-A612-40D1-AA94-3D8630E9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E977-E537-4962-820C-888F9C54A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9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October 18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107D-55E9-41AD-ACB0-34812B3316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ing (Super)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ll sets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ll attributes, then X is a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only the minimal X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there can be many key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R(A,B,C),  AB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,  BC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s: AB  and 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F1D8-D8C3-4144-8DB6-33793F8095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price, category, col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, categor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egor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is:    {name, category} ;  superkeys are all super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nrollment(student, address, course, room, t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m, tim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u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, cours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oom,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s are:  [in clas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5871-E54D-4EC5-9E60-F80A5EDBC1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D’s for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6640" y="2022480"/>
            <a:ext cx="83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ven a relation constructed from an E/R diagram, what is its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7800" y="2530440"/>
            <a:ext cx="8070480" cy="1319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ule 1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the relation comes from an entity se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of the relation is the set of attributes which is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of the entity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28600" y="4648320"/>
            <a:ext cx="4723920" cy="1396800"/>
            <a:chOff x="228600" y="4648320"/>
            <a:chExt cx="4723920" cy="1396800"/>
          </a:xfrm>
        </p:grpSpPr>
        <p:sp>
          <p:nvSpPr>
            <p:cNvPr id="90" name=""/>
            <p:cNvSpPr/>
            <p:nvPr/>
          </p:nvSpPr>
          <p:spPr>
            <a:xfrm>
              <a:off x="228600" y="5561640"/>
              <a:ext cx="1019880" cy="483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53800" y="5507640"/>
              <a:ext cx="1019520" cy="483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32640" y="5507640"/>
              <a:ext cx="1019880" cy="483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s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17040" y="4648320"/>
              <a:ext cx="1771560" cy="5371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140480" y="5185440"/>
              <a:ext cx="1181160" cy="48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322000" y="5185440"/>
              <a:ext cx="21456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22000" y="5185440"/>
              <a:ext cx="1717560" cy="42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333040" y="4648320"/>
            <a:ext cx="35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, name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49528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B45E-8294-4290-AA7B-C7E2B9846E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D’s for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65840" y="3321000"/>
            <a:ext cx="1822320" cy="550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21040" y="3154320"/>
            <a:ext cx="1104840" cy="99396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97200" y="3443400"/>
            <a:ext cx="1546200" cy="552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58760" y="2933640"/>
            <a:ext cx="1049400" cy="496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58760" y="4038480"/>
            <a:ext cx="1049400" cy="4971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57800" y="4038480"/>
            <a:ext cx="1049400" cy="4971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38760" y="4038480"/>
            <a:ext cx="1049400" cy="4971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1998720" y="3321000"/>
            <a:ext cx="109440" cy="10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052720" y="3983040"/>
            <a:ext cx="38736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33680" y="3651120"/>
            <a:ext cx="38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25880" y="3651120"/>
            <a:ext cx="93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195960" y="3871800"/>
            <a:ext cx="387360" cy="2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83320" y="3871800"/>
            <a:ext cx="441360" cy="1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66400" y="6033960"/>
            <a:ext cx="33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me, ss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78280" y="4457880"/>
            <a:ext cx="1049400" cy="496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1800" y="41529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4800" y="1158840"/>
            <a:ext cx="8181720" cy="1319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ule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f the relation comes from a many-many relationship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of the relation is the set of all attribute keys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 corresponding to the entity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DB0B-6D39-419F-B1ED-4693ABDA3D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D’s for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5480" y="1332000"/>
            <a:ext cx="7813080" cy="914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cep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there is an arrow from the relationship to E,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on’t need the key of E as part of the relation k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057400" y="2514600"/>
            <a:ext cx="5029200" cy="2239920"/>
            <a:chOff x="2057400" y="2514600"/>
            <a:chExt cx="5029200" cy="2239920"/>
          </a:xfrm>
        </p:grpSpPr>
        <p:sp>
          <p:nvSpPr>
            <p:cNvPr id="121" name=""/>
            <p:cNvSpPr/>
            <p:nvPr/>
          </p:nvSpPr>
          <p:spPr>
            <a:xfrm>
              <a:off x="4069080" y="3017160"/>
              <a:ext cx="914040" cy="82260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rch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40280" y="2514600"/>
              <a:ext cx="132552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40480" y="4297320"/>
              <a:ext cx="13258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60720" y="3200040"/>
              <a:ext cx="13258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t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83480" y="3428640"/>
              <a:ext cx="77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26280" y="3840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66160" y="2971800"/>
              <a:ext cx="50292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57400" y="4205880"/>
              <a:ext cx="1325880" cy="45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reditCa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3382920" y="3428640"/>
              <a:ext cx="685800" cy="77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371600" y="3124080"/>
            <a:ext cx="76212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4114800"/>
            <a:ext cx="91440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rd-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62720" y="4343400"/>
            <a:ext cx="76176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5880" y="2514600"/>
            <a:ext cx="76212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980720" y="2971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523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81480" y="4495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4771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66440" y="5791320"/>
            <a:ext cx="64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ame , sname, ss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ard-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9568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93A7-5358-4FAB-A2E9-420E7B854A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D’s for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-one, one-many, one-one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way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k entity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ry to find them yourself, or check boo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0F95-6951-4B38-B19A-B124F22749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D’s for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1371600"/>
            <a:ext cx="56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y: “the CreditCard determines the Pers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68720" y="3017880"/>
            <a:ext cx="914400" cy="8222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39920" y="2514600"/>
            <a:ext cx="13255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40120" y="4297320"/>
            <a:ext cx="13255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61080" y="3200400"/>
            <a:ext cx="13255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83120" y="3429000"/>
            <a:ext cx="77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25920" y="3840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65440" y="2971800"/>
            <a:ext cx="503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4205160"/>
            <a:ext cx="13255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editC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382560" y="3429000"/>
            <a:ext cx="685800" cy="7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3124080"/>
            <a:ext cx="76212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4114800"/>
            <a:ext cx="91440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rd-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62720" y="4343400"/>
            <a:ext cx="76176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5880" y="2514600"/>
            <a:ext cx="76212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980720" y="2971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1523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81480" y="4495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4771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66440" y="5791320"/>
            <a:ext cx="64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ame , sname, ss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ard-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9568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42440" y="3581280"/>
            <a:ext cx="2209680" cy="1692360"/>
          </a:xfrm>
          <a:prstGeom prst="wedgeEllipseCallout">
            <a:avLst>
              <a:gd name="adj1" fmla="val -149185"/>
              <a:gd name="adj2" fmla="val -21291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ple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at do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sa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48160" y="6289560"/>
            <a:ext cx="19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-n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7069-3A56-48D6-BC6B-6597C125F2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r Logical Desig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some relational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out its FD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m to design a better relational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C33A-27A0-4306-912C-E74C3F5101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Anoma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database is poorly designed we get anomal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dunda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data is repe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pdated anomal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eed to change in several pl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lete anomal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ay lose data when we don’t w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2E1C-3C2B-435F-9198-F0E7EA6D1B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1480" y="4648320"/>
            <a:ext cx="67352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nomal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cy        = repea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anomalies = Fred moves to “Bellevu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on anomalies = Joe deletes his phone numb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his cit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5480" y="1676520"/>
            <a:ext cx="63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set attributes (persons with several phon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6400" y="3962520"/>
            <a:ext cx="26024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066680" y="2209680"/>
          <a:ext cx="7010280" cy="1581120"/>
        </p:xfrm>
        <a:graphic>
          <a:graphicData uri="http://schemas.openxmlformats.org/drawingml/2006/table">
            <a:tbl>
              <a:tblPr/>
              <a:tblGrid>
                <a:gridCol w="1752480"/>
                <a:gridCol w="1752840"/>
                <a:gridCol w="1752480"/>
                <a:gridCol w="175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3579120" y="3962520"/>
            <a:ext cx="38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hone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F26B-5CB8-4BBB-A240-4D119D61C8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dependencies (3.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 about FDs (3.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of a Relational schema (3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45E0-E965-410C-B5D2-FFAB2A7D54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2760" y="148896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reak the relation into tw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04920" y="3841920"/>
          <a:ext cx="4514760" cy="1095120"/>
        </p:xfrm>
        <a:graphic>
          <a:graphicData uri="http://schemas.openxmlformats.org/drawingml/2006/table">
            <a:tbl>
              <a:tblPr/>
              <a:tblGrid>
                <a:gridCol w="1504800"/>
                <a:gridCol w="1505160"/>
                <a:gridCol w="150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5029200" y="3886200"/>
          <a:ext cx="3657600" cy="14605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Phone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378000" y="5014800"/>
            <a:ext cx="6009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nomalies have go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ore repeat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move Fred to “Bellevue” (how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delete all Joe’s phone number (how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981080" y="2057400"/>
          <a:ext cx="6248520" cy="1460520"/>
        </p:xfrm>
        <a:graphic>
          <a:graphicData uri="http://schemas.openxmlformats.org/drawingml/2006/table">
            <a:tbl>
              <a:tblPr/>
              <a:tblGrid>
                <a:gridCol w="1562400"/>
                <a:gridCol w="1562040"/>
                <a:gridCol w="1562040"/>
                <a:gridCol w="1562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 flipH="1">
            <a:off x="914400" y="281952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54800" y="2867040"/>
            <a:ext cx="311760" cy="94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C089-F21A-4F21-8372-7627907930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657600" y="1905120"/>
            <a:ext cx="3581280" cy="864720"/>
            <a:chOff x="3657600" y="1905120"/>
            <a:chExt cx="3581280" cy="864720"/>
          </a:xfrm>
        </p:grpSpPr>
        <p:sp>
          <p:nvSpPr>
            <p:cNvPr id="185" name=""/>
            <p:cNvSpPr/>
            <p:nvPr/>
          </p:nvSpPr>
          <p:spPr>
            <a:xfrm>
              <a:off x="6253920" y="2113560"/>
              <a:ext cx="984600" cy="29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49800" y="2024280"/>
              <a:ext cx="596880" cy="5367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bu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05080" y="2173320"/>
              <a:ext cx="835560" cy="29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57600" y="1905120"/>
              <a:ext cx="56700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57600" y="2501640"/>
              <a:ext cx="56700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25600" y="2501640"/>
              <a:ext cx="56664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71880" y="2501640"/>
              <a:ext cx="56700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s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4164840" y="2113560"/>
              <a:ext cx="5976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4194720" y="2471760"/>
              <a:ext cx="20880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41000" y="2292840"/>
              <a:ext cx="20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46680" y="2292840"/>
              <a:ext cx="50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6433200" y="2412000"/>
              <a:ext cx="20880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2000" y="2412000"/>
              <a:ext cx="238680" cy="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517320" y="20224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ual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120" y="3733920"/>
            <a:ext cx="239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us FD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8040" y="5257800"/>
            <a:ext cx="280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iz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s 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809880" y="3809880"/>
          <a:ext cx="1524240" cy="78768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  <a:gridCol w="380880"/>
                <a:gridCol w="38124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5867280" y="3809880"/>
          <a:ext cx="1905120" cy="59040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  <a:gridCol w="380880"/>
                <a:gridCol w="381240"/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4800600" y="5181480"/>
          <a:ext cx="1143000" cy="787680"/>
        </p:xfrm>
        <a:graphic>
          <a:graphicData uri="http://schemas.openxmlformats.org/drawingml/2006/table">
            <a:tbl>
              <a:tblPr/>
              <a:tblGrid>
                <a:gridCol w="380880"/>
                <a:gridCol w="380880"/>
                <a:gridCol w="38124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6248520" y="5181480"/>
          <a:ext cx="380880" cy="78768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7010280" y="5181480"/>
          <a:ext cx="762120" cy="78768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581280" y="5181480"/>
          <a:ext cx="762120" cy="78732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5562720" y="2971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962160" y="47242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48320" y="47242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477120" y="45720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010280" y="449568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200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876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8FDE-A072-422D-ACA0-3920900078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itions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61440" y="5029200"/>
            <a:ext cx="56131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projection of R o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projection of R o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61520" y="1752480"/>
            <a:ext cx="439848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59040" y="3114720"/>
            <a:ext cx="31424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93560" y="3119400"/>
            <a:ext cx="30938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666880" y="23623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24280" y="236232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EBCC-D12A-4292-B6E6-65B0620323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t is corr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819520" y="2590920"/>
          <a:ext cx="34290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02060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1447920" y="4648320"/>
          <a:ext cx="227952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02060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5486400" y="4648320"/>
          <a:ext cx="24084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 flipH="1">
            <a:off x="2286000" y="41148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91320" y="41148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35760" y="628956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less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BFE0-4072-4540-A735-0B8BE0CC2A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rrect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t is no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819520" y="2819520"/>
          <a:ext cx="34290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02060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914400" y="4800600"/>
          <a:ext cx="24084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5715000" y="4876920"/>
          <a:ext cx="2170080" cy="1452600"/>
        </p:xfrm>
        <a:graphic>
          <a:graphicData uri="http://schemas.openxmlformats.org/drawingml/2006/table">
            <a:tbl>
              <a:tblPr/>
              <a:tblGrid>
                <a:gridCol w="102060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"/>
          <p:cNvSpPr/>
          <p:nvPr/>
        </p:nvSpPr>
        <p:spPr>
          <a:xfrm flipH="1">
            <a:off x="1752120" y="4191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00800" y="41148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671520" y="3033000"/>
            <a:ext cx="2283120" cy="1166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rrect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95840" y="6262560"/>
            <a:ext cx="27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y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3F3C-161D-4834-9B36-683A6566A96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itions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61520" y="1752480"/>
            <a:ext cx="439848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39320" y="4151160"/>
            <a:ext cx="4516200" cy="97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decomposition is loss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59040" y="3114720"/>
            <a:ext cx="31424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93560" y="3119400"/>
            <a:ext cx="30938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666880" y="23623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24280" y="236232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7480" y="6095880"/>
            <a:ext cx="8206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hence the first decomposition is loss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49080" y="5334120"/>
            <a:ext cx="503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don’t nee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9C87-5F51-453F-A332-ADFA71DB728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rmal 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 Normal 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ll attributes are at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Normal 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2NF) = old and obso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Normal 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3NF) = will disc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yce Codd Normal 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CNF) = will disc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466A-43B5-436E-82DD-EB2C59F3190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yce-Codd Normal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7040" y="1905120"/>
            <a:ext cx="74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mple condition for removing anomalies from rel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04480" y="4917960"/>
            <a:ext cx="850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nglish (though a bit vagu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a set of attribut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etermining another attribu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determin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attribut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00560" y="2666880"/>
            <a:ext cx="6044040" cy="167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relation R is in BCNF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 is a non-trivial depend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 R ,   then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 is a superkey for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33C9-35ED-479C-9CC8-FE68570F9B9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CNF Decompositio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90720" y="392112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38280" y="399744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77240" y="48769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14240" y="49528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09840" y="4876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97560" y="6172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49960" y="4343400"/>
            <a:ext cx="19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s ther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-attrib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lation tha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in BCNF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1520" y="1752480"/>
            <a:ext cx="8423280" cy="207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hoose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violates the BNCF cond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plit R into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[others]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ntinue with both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no more vi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97760" y="6172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FA6E-1E3D-4276-9DBA-E70D9743A32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2800" y="4384800"/>
            <a:ext cx="385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dependenc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ke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, PhoneNumbe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 in BCN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143000" y="1828800"/>
          <a:ext cx="7010280" cy="2278080"/>
        </p:xfrm>
        <a:graphic>
          <a:graphicData uri="http://schemas.openxmlformats.org/drawingml/2006/table">
            <a:tbl>
              <a:tblPr/>
              <a:tblGrid>
                <a:gridCol w="1219320"/>
                <a:gridCol w="1981080"/>
                <a:gridCol w="2057400"/>
                <a:gridCol w="1752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4647-C08A-4780-A62E-99D6DCE123C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:  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in R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, t’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 (t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066680" y="3622680"/>
          <a:ext cx="6400800" cy="2244600"/>
        </p:xfrm>
        <a:graphic>
          <a:graphicData uri="http://schemas.openxmlformats.org/drawingml/2006/table">
            <a:tbl>
              <a:tblPr/>
              <a:tblGrid>
                <a:gridCol w="639720"/>
                <a:gridCol w="641520"/>
                <a:gridCol w="637920"/>
                <a:gridCol w="641520"/>
                <a:gridCol w="639720"/>
                <a:gridCol w="639720"/>
                <a:gridCol w="641520"/>
                <a:gridCol w="637920"/>
                <a:gridCol w="641520"/>
                <a:gridCol w="639720"/>
              </a:tblGrid>
              <a:tr h="55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 rot="16200000">
            <a:off x="2628720" y="5067000"/>
            <a:ext cx="228600" cy="2133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3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, t’ agre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5143320" y="5067000"/>
            <a:ext cx="228600" cy="2133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3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, t’ agre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6880" y="44956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6520" y="51814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26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26CC-668A-4643-85F0-ECC952F97E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e it into B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600200" y="2209680"/>
          <a:ext cx="4514760" cy="1185840"/>
        </p:xfrm>
        <a:graphic>
          <a:graphicData uri="http://schemas.openxmlformats.org/drawingml/2006/table">
            <a:tbl>
              <a:tblPr/>
              <a:tblGrid>
                <a:gridCol w="1504800"/>
                <a:gridCol w="1505160"/>
                <a:gridCol w="1504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1676520" y="3886200"/>
          <a:ext cx="3962160" cy="197640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Phone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" name=""/>
          <p:cNvSpPr/>
          <p:nvPr/>
        </p:nvSpPr>
        <p:spPr>
          <a:xfrm>
            <a:off x="6322680" y="2362320"/>
            <a:ext cx="26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89880" y="3809880"/>
            <a:ext cx="299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check anomal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c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C8E5-A38C-4DBB-969B-B985833F8A9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CNF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34280" y="1870200"/>
            <a:ext cx="66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 dependency that violates the BCNF cond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96920" y="392112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444840" y="399744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83440" y="48769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02920" y="48355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21520" y="4876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897640" y="61722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3800" y="61722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5840" y="3013200"/>
            <a:ext cx="67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euristics: choose B , B , … B  “as large as possib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32004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00400" y="32004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038480" y="32004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65760" y="407988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4080" y="5105520"/>
            <a:ext cx="19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s ther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-attrib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lation tha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in BCNF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614640" y="4537080"/>
            <a:ext cx="225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 u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NF vi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09520" y="2479680"/>
            <a:ext cx="4008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F245-E522-4603-90F1-95F741BE373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CNF Decomposition H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you should proceed (HW, midterm, 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e over every set X, from small to l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  X  ≠ 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≠ [all attributes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it is a violation of BCNF (why 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e into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([all attributes] -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5280" y="5638680"/>
            <a:ext cx="8422560" cy="75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ng over the X’s in different orders may lead to differ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NF results, but it doesn’t matter as long as the result is in BC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C3DA-F553-4E36-A6DB-30741350C03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(A,B,C,D)    A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B,    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R: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BC ≠ AB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 into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,B,C), 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,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BC ≠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 into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,C)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,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omposition: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,C)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,B)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,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appens if in R we first pick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A55F-1DC8-46AF-AAEB-B4912AADB6E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Decomposi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1720" y="1676520"/>
            <a:ext cx="638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SSN, age, hairColor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69600" y="3089160"/>
            <a:ext cx="407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 in BCNF (in cla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627B-23E0-4A34-B26F-9FF6461848C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: 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8520" y="4572000"/>
            <a:ext cx="63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{A,B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X = {A, B,     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{A, F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X = {A, F,     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40600" y="2362320"/>
            <a:ext cx="21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A,B,C,D,E,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9640" y="2288520"/>
            <a:ext cx="15937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B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D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 F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1600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7F6D-A20B-4A46-B17A-B85B6EDBA8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: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4160" y="2014200"/>
            <a:ext cx="15937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B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C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D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" y="17175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4040" y="3429000"/>
            <a:ext cx="427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Compute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or every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6640" y="3965040"/>
            <a:ext cx="79621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 = A,   B+ = BD,   C+ = C,   D+ =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+ = ABCD,   AC+ = AC,  AD+ = A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+ = ABD+ = AC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ABCD (no need to compute– 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BCD,    ABCD+ = A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200" y="5670720"/>
            <a:ext cx="79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Enumerate all FD’s 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, s.t.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6240" y="6228000"/>
            <a:ext cx="7222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D, AD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,  AB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, AB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, AC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697A-E239-4349-98BC-4DA833A340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: find FD from th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database in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FD’s satisfied by that in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if we don’t get enough information from our users: need to reverse engineer a data in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3BBC-2D2D-4524-B6F2-ED0380710B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lass: Find All F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762120" y="2133720"/>
          <a:ext cx="6095880" cy="41400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u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r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o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7238520" y="3505320"/>
            <a:ext cx="167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all F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sen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2102-DF7A-40AC-9D61-DA92FB6FAD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11480" y="3050280"/>
            <a:ext cx="4078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ur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Dept,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Room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Dep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ur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ur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De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Room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De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7640" y="3124080"/>
            <a:ext cx="167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all F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sen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0124-C6D2-433A-B080-1C08B044E0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er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et of attributes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.t. for any other attribute B, we have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minimal super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e. set of attributes which is a superkey and for which no subset is a super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2EE2-3666-409B-951A-89F0F357B8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4-10-18T02:15:11Z</dcterms:modified>
  <cp:revision>184</cp:revision>
  <dc:subject/>
  <dc:title>Lecture 09:</dc:title>
</cp:coreProperties>
</file>