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A86B-5014-4686-BB3A-8FDD562BC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Dep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F6E-B151-4A04-8A8C-142321F2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71F-31CA-464F-8E63-80EBC426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420-321D-4A1F-9EBC-08B4B620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0F2-FD44-411A-8173-BCA9F590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889-9EBE-4B0A-9A98-9FC6EBE4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E41-33BA-4D9D-B0E6-3AF86868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925-9097-439E-973B-CC7DD18D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186-2C47-4DC7-8D33-31B28537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314-C4B1-4446-8336-C507EDAF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886-7A1A-471B-95F2-DE009AEB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5E1-B4DE-45CC-B0C8-10A1CD5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FC4-19F2-4CF4-8658-603DC88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B5DA-E54F-4593-84DA-ACF704E78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18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7F3-F594-400C-A8FC-35B75F8695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there can be many key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R(A,B,C),  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 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: AB  and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EDD-9193-4FC8-9D46-3092845632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is:    {name, category} ;  superkeys are all super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[in clas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ABD-6F14-4324-8A6F-042051C7CA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664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7800" y="2530440"/>
            <a:ext cx="807048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90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274-79A6-4EBB-8D48-73147FFB51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6640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800" y="1158840"/>
            <a:ext cx="818172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520-26E7-499A-B8D0-AD73B3BFE9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5480" y="1332000"/>
            <a:ext cx="781308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121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6644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9C1-B452-4B1C-A8DB-D7B08ECA73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or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232-3A33-40FA-8273-8478BB05E7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13716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: “the CreditCard determines the Pers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68720" y="3017880"/>
            <a:ext cx="914400" cy="822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39920" y="25146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40120" y="429732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61080" y="32004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83120" y="34290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25920" y="3840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5440" y="2971800"/>
            <a:ext cx="503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20516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dit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382560" y="3429000"/>
            <a:ext cx="685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6644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42440" y="3581280"/>
            <a:ext cx="2209680" cy="1692360"/>
          </a:xfrm>
          <a:prstGeom prst="wedgeEllipseCallout">
            <a:avLst>
              <a:gd name="adj1" fmla="val -149185"/>
              <a:gd name="adj2" fmla="val -2129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48160" y="628956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-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95B-D0CA-4C41-A7D5-4FF5775669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1FB-6C61-4979-8997-C761BF5958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2FD-3AFC-4B69-A4B2-6CCD0AA474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148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548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" y="396252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66680" y="2209680"/>
          <a:ext cx="7010280" cy="158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3579120" y="3962520"/>
            <a:ext cx="38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645-5FFC-416C-B279-F39ACCE791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 (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about FDs (3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F3D-AA3D-41E4-8F47-A82FDBB18C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76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4920" y="3841920"/>
          <a:ext cx="4514760" cy="10951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029200" y="3886200"/>
          <a:ext cx="3657600" cy="146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37800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981080" y="2057400"/>
          <a:ext cx="6248520" cy="14605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E93-EB94-419B-84F4-340376C75D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185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1732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12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8040" y="525780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40F-489E-4300-9BB2-1750735024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614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79C-BFE6-4225-98E0-3A58836A81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F1D-091D-448A-B3E7-B4FEE9F0B7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84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ED0-1901-4962-A0F3-13128A1F98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7480" y="6095880"/>
            <a:ext cx="820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first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4F4-ED29-4FBA-8A37-DBEB4706B8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C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4F0-8D04-4EE4-9C90-6A5E2C0494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4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A2A-DACC-4E85-8373-30269C528A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49960" y="43434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15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BFB-6909-4D14-AF1D-749BE789BE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4384800"/>
            <a:ext cx="38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C70-F3D7-4901-99CF-9408F09797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3622680"/>
          <a:ext cx="6400800" cy="22446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7920"/>
                <a:gridCol w="641520"/>
                <a:gridCol w="639720"/>
                <a:gridCol w="639720"/>
                <a:gridCol w="641520"/>
                <a:gridCol w="637920"/>
                <a:gridCol w="641520"/>
                <a:gridCol w="639720"/>
              </a:tblGrid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B78-459E-4D29-A3F6-EE9CE2D12B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226-9EEC-46A7-A494-5C1AC76844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4280" y="18702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dependency that violates the BCNF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969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4484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34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2920" y="4835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764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380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5840" y="301320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uristics: choose B , B , … B  “as large as possi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3200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" y="4079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4080" y="510552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14640" y="4537080"/>
            <a:ext cx="225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09520" y="2479680"/>
            <a:ext cx="400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36C-9480-4B2E-973B-9B417A1EA0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H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you should proceed (HW, midterm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every set X, from small to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X  ≠ 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≠ [all attributes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it is a violation of BCNF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into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(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5280" y="5638680"/>
            <a:ext cx="8422560" cy="75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ng over the X’s in different orders may lead to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results, but it doesn’t matter as long as the result is in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9DF-30F4-46F6-B9BA-DC8039D847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: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,C),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BC ≠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omposition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B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B82-BDF2-4A79-974A-509A4D1ADB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8FC-DC06-44BF-B52B-E8E3D061D7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5B8-B06F-40D6-BBF5-FF5B4FFE0A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04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66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20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624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064-4301-4745-AE5C-A53A867721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find FD from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databas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FD’s satisfied by that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if we don’t get enough information from our users: need to reverse engineer a data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77B-569B-4AD0-9170-EA78140F69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: Find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62120" y="2133720"/>
          <a:ext cx="6095880" cy="4140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7238520" y="350532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B7E-3E27-4D78-A978-039DDBDA26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1480" y="3050280"/>
            <a:ext cx="4078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,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7640" y="312408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BCF-3BAC-4E17-9A85-82CFAF7318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DFB-3098-4FF3-8AB9-6DE256BD7F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18T02:15:11Z</dcterms:modified>
  <cp:revision>184</cp:revision>
  <dc:subject/>
  <dc:title>Lecture 09:</dc:title>
</cp:coreProperties>
</file>