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BF2-8F6E-450A-B4BA-3A9D1CE8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A73-9F9D-4895-BD7F-F5650A8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879-8C22-48E7-9C65-25B5842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12B-ABE1-47A2-98D8-04066337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10E-6A46-47CD-A4A5-91038B42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E8B-5C9E-4050-95AC-B6AFF5F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2E2-1201-4EB4-81C7-E3F44A1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65C-FA2A-4D56-B2A0-AE305CC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F43-AB42-478B-ACAB-C0FC6FB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68B-F31D-4A14-8E42-CCA8E2B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33D-7FE0-4C6C-AE22-A821146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5B8-5B59-4D4B-893C-192CC96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6CE-D0EA-4400-8864-78C193D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4D1-CB26-43FC-B930-21F004100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/R Diagrams and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A03-FD09-4916-B43C-6A84191DC9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20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3368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008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08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332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79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738-D48D-4588-BEC0-DB3BBFBE4C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676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04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552-B435-4D94-874A-FEAA250D3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E5F-7891-4C31-AF44-15D1A66D0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E73-EFCF-413E-9B19-B3E23C326A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178" name=""/>
            <p:cNvSpPr/>
            <p:nvPr/>
          </p:nvSpPr>
          <p:spPr>
            <a:xfrm>
              <a:off x="98892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A62-59A3-4FBF-BFF5-465906FBFE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21384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41116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428-4C21-457D-9D16-5080F756A9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847-32A6-4CCC-A8EF-7593D53A50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the most abstract, and “hardest” part of the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 the book (3.4) is not very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TO CLASS, PAY ATTENTION, READ THE LECTURE NOT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934-CF8B-4ED7-8172-B18FC97996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40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728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36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BEB-A4B9-4A2B-BA61-A488E53CE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88800" y="2209680"/>
            <a:ext cx="518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,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BDA-432D-4CD5-859D-2C02E8764B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9D2-8B00-47F6-B05C-899DC2D1F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ut  not   Phone  </a:t>
            </a:r>
            <a:r>
              <a:rPr b="0" lang="en-US" sz="24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209680"/>
            <a:ext cx="5708520" cy="2054160"/>
            <a:chOff x="1219320" y="2209680"/>
            <a:chExt cx="5708520" cy="2054160"/>
          </a:xfrm>
        </p:grpSpPr>
        <p:sp>
          <p:nvSpPr>
            <p:cNvPr id="217" name=""/>
            <p:cNvSpPr/>
            <p:nvPr/>
          </p:nvSpPr>
          <p:spPr>
            <a:xfrm>
              <a:off x="1279440" y="220968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2209680"/>
              <a:ext cx="14763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20968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2209680"/>
              <a:ext cx="12780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3800" y="220968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73680" y="2209680"/>
              <a:ext cx="131760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51400" y="220968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1280" y="2209680"/>
              <a:ext cx="1636560" cy="411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9440" y="26208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00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26208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5800" y="26208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5680" y="26208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3800" y="26208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73680" y="26208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1400" y="26208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e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1280" y="26208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9440" y="3031920"/>
              <a:ext cx="1355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8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3031920"/>
              <a:ext cx="14763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5800" y="3031920"/>
              <a:ext cx="11574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oh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95680" y="3031920"/>
              <a:ext cx="12780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3800" y="3031920"/>
              <a:ext cx="1197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3680" y="3031920"/>
              <a:ext cx="131760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51400" y="3031920"/>
              <a:ext cx="15163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1280" y="3031920"/>
              <a:ext cx="1636560" cy="409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9440" y="344160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1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44160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5800" y="344160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i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95680" y="344160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3800" y="344160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7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73680" y="344160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1400" y="344160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esr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1280" y="344160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79440" y="3852720"/>
              <a:ext cx="13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999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52720"/>
              <a:ext cx="14763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5800" y="3852720"/>
              <a:ext cx="115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95680" y="3852720"/>
              <a:ext cx="12780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800" y="3852720"/>
              <a:ext cx="1197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3680" y="3852720"/>
              <a:ext cx="131760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1400" y="3852720"/>
              <a:ext cx="1516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w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91280" y="3852720"/>
              <a:ext cx="1636560" cy="41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14000" y="153360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, an F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47C-0B3E-4B6F-9280-F07389735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500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829-F760-43E4-85F7-94CA5CC16A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908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664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100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856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764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6808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100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3892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2764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784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764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6808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100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3784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2764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772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8100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E2B-067B-4C10-9A33-83D41B926E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5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5306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72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3E3-11C9-47D1-9770-C35FA76A4C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328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800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B28-92E9-4674-980D-70498D6ABF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084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500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500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252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BC8-9661-4DD4-BC11-8725022BD0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768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4FD-8DD4-4686-A0DD-D62D1009F4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624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64284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2BA-FF17-46FC-82E2-743918CEEF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307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8088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282-5126-4624-A482-FC509BA198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DDA-648E-4718-83E4-3C50FCAC5A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72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B41-5D7E-4642-85AA-0F36DFC2A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996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92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95F-95E3-4423-8569-F8E6C6B71A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62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838080" y="30481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10624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62406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OO HARD !  Let’s see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172-3504-4ED7-980C-FF58D1E6E5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92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72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4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67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B86-08BD-47C3-8E9F-9695C97672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5029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                                       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80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80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08200" y="53942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category, 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36440" y="60260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7880" y="6023160"/>
            <a:ext cx="542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, department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4F5-E87B-4937-9FA4-417673EB82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799-04A5-4FF6-B30B-E5B3B5E19A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852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60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762-EBD8-4556-89D0-E1B7D82471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04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66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20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624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D7-B76E-4368-9BAB-BE7FAE8E3A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692-5113-4AE5-81ED-4C4AACBA4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9160" y="3309840"/>
            <a:ext cx="192096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8240" y="5221440"/>
            <a:ext cx="192096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4C5-0FFF-4CA4-8A3C-C9866E74FE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452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56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851-4CB4-40F4-BD5F-70DA48D60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94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C2D-EC3C-4E2D-9FED-C14F2456E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044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164-AE9E-4814-ACB8-D8AB608637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96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784-20F8-4EE5-A110-CA4BEED097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4-10-15T03:09:17Z</dcterms:modified>
  <cp:revision>357</cp:revision>
  <dc:subject/>
  <dc:title>PowerPoint Presentation</dc:title>
</cp:coreProperties>
</file>