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EC1E-D6AB-4D27-BFF5-BD6F4A486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177-ED15-42EA-B95F-5F0EA0A1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16F-8AF1-46D1-A5CB-3F3313A8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D78-82AB-460B-A348-8B886931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50B-57FB-4A08-84EF-BC004227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1AA-BFC4-4E1E-BDD9-0F031BC8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E1A-D250-4EA8-9081-AEBED6AF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F52-EFC9-4B04-B075-163D8512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51C-95FF-46F3-863E-EBED8FB7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DBF-088F-45C4-BEE8-C390F3F4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317-B5B7-47EA-A9BB-DD37E5FD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F54-C1D0-4FBF-B70B-0C4F0378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67C-772A-4EB1-85C5-97DFADC9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E8EB-7D2B-4CC8-87F4-ABD44438B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 and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082-12F0-4DA5-BD2D-C0526EBC2A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200" y="2063880"/>
            <a:ext cx="136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3368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4008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080" y="4613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332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79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6600" y="3276720"/>
            <a:ext cx="1756800" cy="912600"/>
          </a:xfrm>
          <a:prstGeom prst="wedgeEllipseCallout">
            <a:avLst>
              <a:gd name="adj1" fmla="val -36421"/>
              <a:gd name="adj2" fmla="val -81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9640" y="5638680"/>
            <a:ext cx="1603800" cy="912600"/>
          </a:xfrm>
          <a:prstGeom prst="wedgeEllipseCallout">
            <a:avLst>
              <a:gd name="adj1" fmla="val 11601"/>
              <a:gd name="adj2" fmla="val -11119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6720" y="5772240"/>
            <a:ext cx="1908720" cy="523080"/>
          </a:xfrm>
          <a:prstGeom prst="wedgeEllipseCallout">
            <a:avLst>
              <a:gd name="adj1" fmla="val -21245"/>
              <a:gd name="adj2" fmla="val -8321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8CB-29F3-4C37-978A-A0A0511892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676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6080" y="5985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040" y="9907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47920" y="1447920"/>
            <a:ext cx="449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895120" y="1447920"/>
            <a:ext cx="3048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648320" y="1447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47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480" y="83808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640" y="1371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D31-FF3F-4C39-82E6-131BAE49EF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name plus 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add the domain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Name, Address, Phone)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l mathematics, not to be confused with SQL tabl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5E1-7C3B-4FBF-B8EE-BAB6F6DE86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lation with k attributes (of “type”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corresponding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…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 relations, of typ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FF3-19E5-42A9-9D44-CC6358A786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30240" y="2514600"/>
            <a:ext cx="7467480" cy="3844800"/>
            <a:chOff x="930240" y="2514600"/>
            <a:chExt cx="7467480" cy="3844800"/>
          </a:xfrm>
        </p:grpSpPr>
        <p:sp>
          <p:nvSpPr>
            <p:cNvPr id="178" name=""/>
            <p:cNvSpPr/>
            <p:nvPr/>
          </p:nvSpPr>
          <p:spPr>
            <a:xfrm>
              <a:off x="988920" y="2514600"/>
              <a:ext cx="729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            Price              Category           Manufa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zmo              $1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 gizmo   $2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Touch    $149.99          photography     Can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Touch      $203.99          household         Hita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30240" y="30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30240" y="315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9040" y="26258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4032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5924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D7D-1D1E-4D6C-947F-5AB7E7C5F3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21384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541116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4DD-3ED4-435D-8079-CC627E1A9A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E4F-65AC-4F25-A682-1566F74BB9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ning: this is the most abstract, and “hardest” part of the cou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pter in the book (3.4) is not very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TO CLASS, PAY ATTENTION, READ THE LECTURE NOT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B75-EDA0-48A2-9E61-CBE7D8DB9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240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728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36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0144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9952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0A9-2C5C-4047-A875-6EBEEF967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Examples of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88800" y="2209680"/>
            <a:ext cx="518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manufactur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, 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59C-405A-46CF-B498-BE6880CCF5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/R diagrams to relations (3.2, 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5CA-34F1-4413-9743-14319019FC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19320" y="2209680"/>
            <a:ext cx="5708520" cy="2054160"/>
            <a:chOff x="1219320" y="2209680"/>
            <a:chExt cx="5708520" cy="2054160"/>
          </a:xfrm>
        </p:grpSpPr>
        <p:sp>
          <p:nvSpPr>
            <p:cNvPr id="217" name=""/>
            <p:cNvSpPr/>
            <p:nvPr/>
          </p:nvSpPr>
          <p:spPr>
            <a:xfrm>
              <a:off x="1279440" y="220968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320" y="2209680"/>
              <a:ext cx="147636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20968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5680" y="2209680"/>
              <a:ext cx="127800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3800" y="220968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73680" y="2209680"/>
              <a:ext cx="131760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51400" y="220968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91280" y="2209680"/>
              <a:ext cx="163656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9440" y="262080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00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9320" y="262080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55800" y="262080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i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95680" y="262080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33800" y="262080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73680" y="262080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51400" y="262080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e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91280" y="262080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79440" y="3031920"/>
              <a:ext cx="13557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18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19320" y="3031920"/>
              <a:ext cx="147636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55800" y="3031920"/>
              <a:ext cx="11574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oh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95680" y="3031920"/>
              <a:ext cx="127800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33800" y="3031920"/>
              <a:ext cx="1197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87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3680" y="3031920"/>
              <a:ext cx="131760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51400" y="3031920"/>
              <a:ext cx="15163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esr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91280" y="3031920"/>
              <a:ext cx="163656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9440" y="344160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1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9320" y="344160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55800" y="344160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i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95680" y="344160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33800" y="344160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87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73680" y="344160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51400" y="344160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esr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1280" y="344160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79440" y="385272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999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9320" y="385272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55800" y="385272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95680" y="385272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800" y="385272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73680" y="385272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51400" y="385272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w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91280" y="385272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14000" y="153360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ly, 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5D5-BF10-4463-80FF-48F7CBFFB6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eck 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erase all othe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he remaining relation is many-one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athema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438280" y="2666880"/>
          <a:ext cx="4330800" cy="23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6880"/>
                    <a:ext cx="4330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50000" y="5791320"/>
            <a:ext cx="68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Note: this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the mathematical definition of a function.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ook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266-AB92-44A2-8C2A-AC67036DA3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0040" y="231948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29080" y="2336760"/>
            <a:ext cx="120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231948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66640" y="2336760"/>
            <a:ext cx="97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1000" y="2336760"/>
            <a:ext cx="10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38560" y="2336760"/>
            <a:ext cx="133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0040" y="230040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5720" y="230040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14800" y="230040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100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27720" y="230040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84920" y="230040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27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95720" y="231948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819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0040" y="280656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7640" y="282240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5080" y="280656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68080" y="282240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81000" y="282240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38920" y="2822400"/>
            <a:ext cx="906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Cl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527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0040" y="278604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95720" y="278604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14800" y="278604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100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27720" y="278604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278604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819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527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95720" y="280656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819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040" y="3282840"/>
            <a:ext cx="152568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27640" y="329868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8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5080" y="3282840"/>
            <a:ext cx="130500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3298680"/>
            <a:ext cx="77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81000" y="329868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37840" y="329868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527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0040" y="327348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95720" y="32734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5080" y="327348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18000" y="327348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75200" y="327348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819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27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95720" y="328284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819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0040" y="375912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27640" y="377676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5080" y="375912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68080" y="377676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81000" y="377676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37840" y="377676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527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70040" y="374976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95720" y="37497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5080" y="374976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18000" y="374976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75200" y="374976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819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527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95720" y="3759120"/>
            <a:ext cx="936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819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0040" y="423720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27640" y="425304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9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5080" y="423720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67720" y="4253040"/>
            <a:ext cx="88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81000" y="425304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38200" y="4253040"/>
            <a:ext cx="124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527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70040" y="4703760"/>
            <a:ext cx="152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95720" y="423720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95720" y="4703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14800" y="4703760"/>
            <a:ext cx="1295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100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27720" y="4703760"/>
            <a:ext cx="1339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84920" y="4703760"/>
            <a:ext cx="16970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819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562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FDA-81EF-4E5F-994A-1AD551139F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5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"/>
          <p:cNvSpPr/>
          <p:nvPr/>
        </p:nvSpPr>
        <p:spPr>
          <a:xfrm>
            <a:off x="5306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72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801-6113-4ABE-92B4-8B24F01A90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5328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800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E0E-1F89-490E-966F-D667D50E70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084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500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2500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252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331-40AC-4A99-B97E-BE615D2D43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768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81108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0688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F9E-BC84-4053-801D-78B91EECA2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624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364284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496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FBD-1ED3-454F-B276-B590834553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307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8088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444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4048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5F5-ED42-4F39-A66F-B744BF3B45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EEA-013E-4705-BB97-95EA1D16CC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72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A03-2EEE-4F51-8328-C977C6A20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996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92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B96-97C8-40CA-9620-AB0B526FFF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62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838080" y="30481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510624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7DC-8281-4D9C-A6BB-EB976B2583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9920" y="1676520"/>
            <a:ext cx="663192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is the set of attributes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720" y="35841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4240" y="3581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67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FB8-BB1C-4FDD-BD37-97AFC6CBE2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80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80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3644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788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CF7-9743-4CC2-9A72-B21E9D33E8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5E8-EC43-4774-BB67-27086F44C4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2FD-68FB-423B-8A57-F035E9713A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404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66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120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624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F06-3AE3-442A-B685-363D651377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83D-5B4A-4A57-A5DB-C2D346C374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9160" y="3309840"/>
            <a:ext cx="192096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98240" y="5221440"/>
            <a:ext cx="192096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1D4-5DB7-4F19-9F72-CAF48D3078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452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856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B5E-ACAC-45C2-ABA5-4734473BB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94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8D4-0ABC-4150-8BCE-771BE110D1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044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3840" y="5943600"/>
            <a:ext cx="73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 (last l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937-B4E6-4166-9EDB-80FB5F4059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96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889-57F8-4C27-971E-060EF94D5A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15T03:09:17Z</dcterms:modified>
  <cp:revision>357</cp:revision>
  <dc:subject/>
  <dc:title>PowerPoint Presentation</dc:title>
</cp:coreProperties>
</file>