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C93-B43B-4C20-8938-70D4DBE5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EB0-1ABF-49A9-ACEB-4DA0DE91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D32-72F0-4A4C-9478-08E3C9EA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74F-59D8-425F-BC1B-5F08C535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1A2-5C24-434A-A211-43999106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741-7288-41FC-BBB2-13D48F64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CE2-A113-4F5A-890A-B3957FC3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EBE-A9EB-44B2-A7BC-CCE6CB5C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9B5-64E2-487D-B7F7-D98B2F13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41F-D2C3-4C4D-9E98-6D56D45A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1E3-C18D-4099-AF5D-C2A4B2FA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B15-03D8-420D-9050-FA15D54E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41F-8C2B-4B8B-B550-51E0EDCA2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: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13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B5C-A676-4B1A-801A-F99A91B030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56" idx="0"/>
            <a:endCxn id="157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7" idx="2"/>
            <a:endCxn id="161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3697200" y="3200400"/>
            <a:ext cx="2099520" cy="1172520"/>
          </a:xfrm>
          <a:prstGeom prst="wedgeEllipseCallout">
            <a:avLst>
              <a:gd name="adj1" fmla="val 77254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AAE-F853-4D54-A7A0-08955FFFF7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656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182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6564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95A-82C1-4F90-8E02-7011B7BDBF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I know the store, person, invoice, I know the movie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81080" y="2514600"/>
            <a:ext cx="5257800" cy="2742840"/>
            <a:chOff x="1981080" y="2514600"/>
            <a:chExt cx="5257800" cy="2742840"/>
          </a:xfrm>
        </p:grpSpPr>
        <p:sp>
          <p:nvSpPr>
            <p:cNvPr id="192" name=""/>
            <p:cNvSpPr/>
            <p:nvPr/>
          </p:nvSpPr>
          <p:spPr>
            <a:xfrm>
              <a:off x="3965040" y="3461040"/>
              <a:ext cx="991080" cy="849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2940120"/>
              <a:ext cx="143784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17000" y="4784400"/>
              <a:ext cx="143892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01040" y="3650040"/>
              <a:ext cx="1437840" cy="47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6480" y="388656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61480" y="431100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61480" y="2987640"/>
              <a:ext cx="6944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9720" y="2514600"/>
              <a:ext cx="143928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18920" y="3413160"/>
              <a:ext cx="54612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687-0C8A-4D55-BE20-D0D8C2BEC8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 thes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ore, person, invoice determines movie  and store, invoice, movie determines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5400" y="3460680"/>
            <a:ext cx="990720" cy="8510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940120"/>
            <a:ext cx="143856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8080" y="478476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00680" y="364968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6120" y="38862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62560" y="431172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62560" y="2987640"/>
            <a:ext cx="69372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10080" y="2514600"/>
            <a:ext cx="14400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413160"/>
            <a:ext cx="54576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B69-6674-425F-B9D9-298567776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ow do I say: “invoice determines store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good way; best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y is this incomple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95480" y="3200400"/>
            <a:ext cx="4343040" cy="2265120"/>
            <a:chOff x="2895480" y="3200400"/>
            <a:chExt cx="4343040" cy="2265120"/>
          </a:xfrm>
        </p:grpSpPr>
        <p:sp>
          <p:nvSpPr>
            <p:cNvPr id="215" name=""/>
            <p:cNvSpPr/>
            <p:nvPr/>
          </p:nvSpPr>
          <p:spPr>
            <a:xfrm>
              <a:off x="4534560" y="3981960"/>
              <a:ext cx="818280" cy="7023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355176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30080" y="507492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0520" y="413748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52840" y="4332960"/>
              <a:ext cx="69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4960" y="468432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944960" y="3591000"/>
              <a:ext cx="57276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84560" y="3200400"/>
              <a:ext cx="118908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83480" y="3942360"/>
              <a:ext cx="4510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A83-72E5-4319-8F40-A7C2C97AB6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3680" y="17938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need an entity set twice in on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DF5-9180-4C0F-98AF-717B49BCB8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AD7-5B32-47EE-8052-74226A40F3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6ED-3363-4A7C-9E98-06C84ED75F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BCB-AF4C-4017-B6A1-121D5B0B37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16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D86-8CEF-4EB6-AADB-4241A239B9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 (3.2, 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1A7-F363-4B25-B270-224BCE257B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80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2" idx="0"/>
            <a:endCxn id="297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82" idx="0"/>
            <a:endCxn id="283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82" idx="0"/>
            <a:endCxn id="284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80" idx="0"/>
            <a:endCxn id="291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80" idx="3"/>
            <a:endCxn id="281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204948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FED-4899-4194-B244-6DAE05959E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916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8" idx="0"/>
            <a:endCxn id="323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08" idx="0"/>
            <a:endCxn id="309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08" idx="0"/>
            <a:endCxn id="310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06" idx="0"/>
            <a:endCxn id="317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06" idx="3"/>
            <a:endCxn id="307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34E-825E-4C64-9C4D-B688C515F0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46280" y="403848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Name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Name,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717-DF65-4818-9559-83CC84788D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636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608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4A0-E65B-44EC-B801-31FD72591F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5108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C4C-7567-4EE7-9DEE-49021C2DFE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8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4A8-58C9-4B14-820D-7975813C6C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60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764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8C2-FD8A-423B-971F-7BB4E197A7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908-B3AF-4317-B57A-E8E533C472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422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425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28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94960" y="2479680"/>
            <a:ext cx="893880" cy="916920"/>
            <a:chOff x="5394960" y="2479680"/>
            <a:chExt cx="893880" cy="916920"/>
          </a:xfrm>
        </p:grpSpPr>
        <p:sp>
          <p:nvSpPr>
            <p:cNvPr id="440" name=""/>
            <p:cNvSpPr/>
            <p:nvPr/>
          </p:nvSpPr>
          <p:spPr>
            <a:xfrm>
              <a:off x="539496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9496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410800" y="3733920"/>
            <a:ext cx="893880" cy="916920"/>
            <a:chOff x="5410800" y="3733920"/>
            <a:chExt cx="893880" cy="916920"/>
          </a:xfrm>
        </p:grpSpPr>
        <p:sp>
          <p:nvSpPr>
            <p:cNvPr id="443" name=""/>
            <p:cNvSpPr/>
            <p:nvPr/>
          </p:nvSpPr>
          <p:spPr>
            <a:xfrm>
              <a:off x="541080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080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0800" y="5257800"/>
            <a:ext cx="893880" cy="916920"/>
            <a:chOff x="5410800" y="5257800"/>
            <a:chExt cx="893880" cy="916920"/>
          </a:xfrm>
        </p:grpSpPr>
        <p:sp>
          <p:nvSpPr>
            <p:cNvPr id="446" name=""/>
            <p:cNvSpPr/>
            <p:nvPr/>
          </p:nvSpPr>
          <p:spPr>
            <a:xfrm>
              <a:off x="541080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080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9A1-08C0-4823-8988-A5259EA515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53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2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72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0696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A59-1AAB-4149-9C74-BA5366A771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B01-348B-43C0-9779-CCC196D7B9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  classes are disjoint (same for Java, 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80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043-4F29-44F1-BF7E-E82A2C140A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500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52F-606E-49FE-B7AA-ED0B240FF3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ed if we want extra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516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C3C-D7FE-4E04-9120-1E3EAEC5DA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6692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3" idx="0"/>
            <a:endCxn id="542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42" idx="0"/>
            <a:endCxn id="531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1" idx="2"/>
            <a:endCxn id="540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3"/>
            <a:endCxn id="532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33" idx="2"/>
            <a:endCxn id="541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1" idx="3"/>
            <a:endCxn id="534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0"/>
            <a:endCxn id="532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4" idx="0"/>
            <a:endCxn id="539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6" idx="2"/>
            <a:endCxn id="533" idx="0"/>
          </p:cNvCxnSpPr>
          <p:nvPr/>
        </p:nvCxnSpPr>
        <p:spPr>
          <a:xfrm>
            <a:off x="1146240" y="3260880"/>
            <a:ext cx="7977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5" idx="2"/>
            <a:endCxn id="532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EC0-9FB3-481F-B847-01B23BBC21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555" name=""/>
            <p:cNvSpPr/>
            <p:nvPr/>
          </p:nvSpPr>
          <p:spPr>
            <a:xfrm>
              <a:off x="358560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2FD-F032-483B-95FF-D71DE96777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562" name=""/>
            <p:cNvSpPr/>
            <p:nvPr/>
          </p:nvSpPr>
          <p:spPr>
            <a:xfrm>
              <a:off x="366192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D1D-D728-453C-B1D2-DEB12DF013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6192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2236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75" idx="0"/>
            <a:endCxn id="573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76" idx="0"/>
            <a:endCxn id="579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73" idx="0"/>
            <a:endCxn id="578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" name=""/>
          <p:cNvCxnSpPr>
            <a:stCxn id="579" idx="0"/>
            <a:endCxn id="578" idx="3"/>
          </p:cNvCxnSpPr>
          <p:nvPr/>
        </p:nvCxnSpPr>
        <p:spPr>
          <a:xfrm flipV="1" rot="16200000">
            <a:off x="6038280" y="2075400"/>
            <a:ext cx="453240" cy="2253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501-979E-488A-9745-8B4EB830C6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efinition Language (ODL) - se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/Relationship model (E/R) -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8E8-69D0-4F2A-896C-E286D8BD81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740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5CD-9568-4C58-B99C-6A85218C55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3" idx="0"/>
            <a:endCxn id="64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4" idx="2"/>
            <a:endCxn id="68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79A-F716-4BAF-9EA0-0BD0C025E1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0EA-FA0B-4311-B41C-36E0C8AA1E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97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38280" y="5843520"/>
            <a:ext cx="3810240" cy="709200"/>
            <a:chOff x="2438280" y="5843520"/>
            <a:chExt cx="3810240" cy="709200"/>
          </a:xfrm>
        </p:grpSpPr>
        <p:sp>
          <p:nvSpPr>
            <p:cNvPr id="112" name=""/>
            <p:cNvSpPr/>
            <p:nvPr/>
          </p:nvSpPr>
          <p:spPr>
            <a:xfrm>
              <a:off x="3820320" y="5843520"/>
              <a:ext cx="747000" cy="6721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5280" y="5992920"/>
              <a:ext cx="108324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6179400"/>
              <a:ext cx="104580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67320" y="61794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483720" y="6179400"/>
              <a:ext cx="3358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AFB-24C6-44B1-9371-EB4FB1E086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29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35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38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56B-F79D-47A1-8EE3-5FA8B367C8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13T02:40:10Z</dcterms:modified>
  <cp:revision>292</cp:revision>
  <dc:subject/>
  <dc:title>PowerPoint Presentation</dc:title>
</cp:coreProperties>
</file>