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3F4-DE5F-43AA-908D-EC3F5621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2EC-132C-4053-979F-27B4F3F4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4D5-319D-4C50-84FB-46F4B89D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1CC-BFA7-43D1-93EB-BD9A000C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9FB-2748-41E2-8532-D517B31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A2A-6557-4441-B295-44A56DCA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FA9-868B-4E6F-93F9-4E0ACE37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268-C24D-4630-A7DE-EA52DF04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4E5-D984-46BE-AB7E-0702BEE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668-6737-4E44-9BC4-8788269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3EC-DBFE-49E2-B92A-CCEDEAB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DCD-8710-4098-A355-560FB63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78EA-721E-4896-9A1A-581AF82F9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3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5BC-7935-4C84-BDC3-BCCABEB629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6" idx="0"/>
            <a:endCxn id="157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7" idx="2"/>
            <a:endCxn id="161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3697200" y="3200400"/>
            <a:ext cx="2099520" cy="1172520"/>
          </a:xfrm>
          <a:prstGeom prst="wedgeEllipseCallout">
            <a:avLst>
              <a:gd name="adj1" fmla="val 77254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0B3-B14A-4D28-9F62-04593C9650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56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2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6564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15F-B177-45A3-995F-12D7004D4C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192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531-A06F-4612-B692-DE0510951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C56-79A7-4E8C-97C0-E7016488A3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15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20F-3C05-4FB0-91FA-15A92A2908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368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C92-356B-4D25-A76F-11743E705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F0C-8671-49F6-B327-31E30C60CB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762-8EE2-4C9F-AF77-E3DBF824C6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A24-9127-4779-8744-6BF44780DE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16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B6F-EFB1-4419-965A-A9A2750FDA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1C4-F6E6-4615-9A2D-E6507B868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0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0"/>
            <a:endCxn id="29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2" idx="0"/>
            <a:endCxn id="28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82" idx="0"/>
            <a:endCxn id="28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0" idx="0"/>
            <a:endCxn id="29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0" idx="3"/>
            <a:endCxn id="28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04948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EE6-D330-4A44-B7F4-55EA73A138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916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8" idx="0"/>
            <a:endCxn id="323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08" idx="0"/>
            <a:endCxn id="309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08" idx="0"/>
            <a:endCxn id="310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6" idx="0"/>
            <a:endCxn id="317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06" idx="3"/>
            <a:endCxn id="307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736-8024-4DD8-AE8F-4F8CE205E6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205-A63D-443D-8D02-F949F4C788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636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608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D71-43EB-4444-8426-520807EAAF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108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775-63BD-41EB-B6B2-2E8BAA6329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8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201-718D-4DD5-9953-9BE95A3F17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60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64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448-C2E9-432A-BB95-187A2A846C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86D-BAA1-40EB-8C1A-E0C848500A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2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28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4960" y="2479680"/>
            <a:ext cx="893880" cy="916920"/>
            <a:chOff x="5394960" y="2479680"/>
            <a:chExt cx="893880" cy="916920"/>
          </a:xfrm>
        </p:grpSpPr>
        <p:sp>
          <p:nvSpPr>
            <p:cNvPr id="440" name=""/>
            <p:cNvSpPr/>
            <p:nvPr/>
          </p:nvSpPr>
          <p:spPr>
            <a:xfrm>
              <a:off x="539496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496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10800" y="3733920"/>
            <a:ext cx="893880" cy="916920"/>
            <a:chOff x="5410800" y="3733920"/>
            <a:chExt cx="893880" cy="916920"/>
          </a:xfrm>
        </p:grpSpPr>
        <p:sp>
          <p:nvSpPr>
            <p:cNvPr id="443" name=""/>
            <p:cNvSpPr/>
            <p:nvPr/>
          </p:nvSpPr>
          <p:spPr>
            <a:xfrm>
              <a:off x="541080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80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800" y="5257800"/>
            <a:ext cx="893880" cy="916920"/>
            <a:chOff x="5410800" y="5257800"/>
            <a:chExt cx="893880" cy="916920"/>
          </a:xfrm>
        </p:grpSpPr>
        <p:sp>
          <p:nvSpPr>
            <p:cNvPr id="446" name=""/>
            <p:cNvSpPr/>
            <p:nvPr/>
          </p:nvSpPr>
          <p:spPr>
            <a:xfrm>
              <a:off x="541080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80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C68-6E0B-42F9-823D-A6A6CA895D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53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72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696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9B7-04C7-4E44-AB65-FD3D75AEE7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811-D52A-4787-A196-E8375BD04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0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5CC-4A58-44F4-9942-1D405E1129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00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E72-03FC-4F14-87F1-C31808DFC2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16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415-DAFB-4975-B4C4-215602FF21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692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3" idx="0"/>
            <a:endCxn id="542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2" idx="0"/>
            <a:endCxn id="531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2"/>
            <a:endCxn id="540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3"/>
            <a:endCxn id="532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3" idx="2"/>
            <a:endCxn id="541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3"/>
            <a:endCxn id="534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0"/>
            <a:endCxn id="532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4" idx="0"/>
            <a:endCxn id="539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6" idx="2"/>
            <a:endCxn id="533" idx="0"/>
          </p:cNvCxnSpPr>
          <p:nvPr/>
        </p:nvCxnSpPr>
        <p:spPr>
          <a:xfrm>
            <a:off x="1146240" y="3260880"/>
            <a:ext cx="7977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5" idx="2"/>
            <a:endCxn id="532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C29-F32D-416D-BA3E-CE2F0259DA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55" name=""/>
            <p:cNvSpPr/>
            <p:nvPr/>
          </p:nvSpPr>
          <p:spPr>
            <a:xfrm>
              <a:off x="358560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523-0EE4-4BEF-AA03-A09A9A549C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62" name=""/>
            <p:cNvSpPr/>
            <p:nvPr/>
          </p:nvSpPr>
          <p:spPr>
            <a:xfrm>
              <a:off x="366192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1AD-DD51-4CFF-8C56-2A3471EDE2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192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2236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5" idx="0"/>
            <a:endCxn id="57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6" idx="0"/>
            <a:endCxn id="57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3" idx="0"/>
            <a:endCxn id="57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9" idx="0"/>
            <a:endCxn id="578" idx="3"/>
          </p:cNvCxnSpPr>
          <p:nvPr/>
        </p:nvCxnSpPr>
        <p:spPr>
          <a:xfrm flipV="1" rot="16200000">
            <a:off x="6038280" y="2075400"/>
            <a:ext cx="453240" cy="225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639-11B9-42EF-9859-9941AA801C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finition Language (ODL) - se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/Relationship model (E/R) -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F68-411A-4F2B-A0D7-184EB479D9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740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39F-047B-447E-9AAE-C488AA8D6F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018-88E3-4104-BA2B-6421A94366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686-5964-41F0-9F56-CA118C2D4B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843520"/>
            <a:ext cx="3810240" cy="709200"/>
            <a:chOff x="2438280" y="5843520"/>
            <a:chExt cx="3810240" cy="709200"/>
          </a:xfrm>
        </p:grpSpPr>
        <p:sp>
          <p:nvSpPr>
            <p:cNvPr id="112" name=""/>
            <p:cNvSpPr/>
            <p:nvPr/>
          </p:nvSpPr>
          <p:spPr>
            <a:xfrm>
              <a:off x="3820320" y="58435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5280" y="59929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61794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7320" y="61794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83720" y="61794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116-5676-4D8D-866E-330A237339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9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5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8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7D6-BBDF-4F56-B39E-2C79C256EF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13T02:40:10Z</dcterms:modified>
  <cp:revision>292</cp:revision>
  <dc:subject/>
  <dc:title>PowerPoint Presentation</dc:title>
</cp:coreProperties>
</file>