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0AB-4566-4AF2-A0D4-1476CD8E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ED1-57DD-4AE4-A0E0-76DEA568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D56-351F-4943-8337-AB284DB9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6B7-F368-4241-AB15-8E58C65C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1C4-11E2-4D40-8C3E-FE3A720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82F-7701-4CFD-8CDD-051B6ED9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7EC-587B-462C-B8D3-49647E60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78D-601A-4666-B22F-B9B5326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92E-F707-451A-A98B-CC0F4F3A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2C8-EA84-4A8E-902F-13428C0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8BF-362F-4C88-83DE-57B4AB3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C52-6598-4CE9-9A73-C2CA221B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D5BF-9E35-4727-96CE-3A4131813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1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DCA-F767-4846-B20B-9E45051261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5840" y="3200400"/>
            <a:ext cx="685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82F-9571-4DE8-87FF-5EFC123644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F7B-DDCB-44C9-99D3-29226C4295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D84-DE65-40A4-986C-B76138AFF3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732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77F-79FB-427C-90C1-53F35D96AA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60640" y="2438280"/>
            <a:ext cx="58669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-Store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city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080" y="4800600"/>
            <a:ext cx="669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Seattle”, 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know the name of the person who made the purchas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set to NULL (why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1120" y="160020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5DD-8015-4173-9A11-E3B467A24D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056-A112-4F9B-959E-7794CB857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6800" y="3656160"/>
            <a:ext cx="1750680" cy="1172520"/>
          </a:xfrm>
          <a:prstGeom prst="wedgeEllipseCallout">
            <a:avLst>
              <a:gd name="adj1" fmla="val -123638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093-9AF5-4E2A-80B4-9988C5277E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340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93E-62F9-43A1-8F5B-1C0DFB7877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7652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78F-F569-44F8-BA15-4969E19F96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031-943A-473E-B7EC-4F012149C3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begin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233-5F0A-419C-9939-1BE674A87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913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008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495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323-C0A8-49E8-8A81-0E9C7D3FEC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344-B27F-465D-8EB0-5CFEAD5F3F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28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800-5638-45C8-8A54-F9AAF9058F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63E-F564-4D6C-8BFC-3BE8316E22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E6D-DFB4-403F-8187-4B2D2CA0FB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722-479D-4799-8CDA-AD24CD31E2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332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22640" y="304920"/>
            <a:ext cx="4007520" cy="1692360"/>
          </a:xfrm>
          <a:prstGeom prst="wedgeEllipseCallout">
            <a:avLst>
              <a:gd name="adj1" fmla="val -39412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A48-D6E1-4FC2-BFC8-9D3B5CBBE7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392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C79-AFAE-4531-BCB9-4B7904BA11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37F-3820-4F92-B4EE-88B2DFFECA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844-91C8-43E4-987C-007CD76A9E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22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0600" y="3317760"/>
            <a:ext cx="68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quivalent for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AFE-D94D-40FE-B78C-89A01B8FD9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Object Definition Language (OD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not cover i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Entity/Relationship model (E/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ECF-970F-4280-A7BA-25D979E389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792-8495-479D-ABAB-D4B2746E9F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51" idx="0"/>
            <a:endCxn id="152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2" idx="2"/>
            <a:endCxn id="156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2E4-D631-4918-ADB0-D580AF1465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845-65AA-4D6C-A659-E4965C22B0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185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438280" y="5843520"/>
            <a:ext cx="3810240" cy="709200"/>
            <a:chOff x="2438280" y="5843520"/>
            <a:chExt cx="3810240" cy="709200"/>
          </a:xfrm>
        </p:grpSpPr>
        <p:sp>
          <p:nvSpPr>
            <p:cNvPr id="200" name=""/>
            <p:cNvSpPr/>
            <p:nvPr/>
          </p:nvSpPr>
          <p:spPr>
            <a:xfrm>
              <a:off x="3820320" y="58435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65280" y="59929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61794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67320" y="61794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483720" y="61794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132-3E87-4B3B-B67C-C1C5CD722C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217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223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226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4BC-D5A6-49F1-BA56-2F427B53EF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44" idx="0"/>
            <a:endCxn id="245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5" idx="2"/>
            <a:endCxn id="249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715-1180-48A2-AE1A-A618E9693E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270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866-1589-4477-ADEC-5F238739EC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280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102-351E-4D7B-8997-F77531DE45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143-0BBC-4202-BA34-4FCC55EC34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1880" y="15228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94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46360" y="2133720"/>
            <a:ext cx="59781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00 &l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Product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08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pi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DE0-5E00-48B1-A4F5-99C16F81A9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303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A1C-5B09-4EB2-A980-4180F79281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040" y="331776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ore, find the Product ID of its most expensiv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D68-61D3-42E3-9738-7A483F83E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800" y="1981080"/>
            <a:ext cx="5274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908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x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1120" y="1565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04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4280" y="552780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FC9-59A2-4DF0-9DA8-2668488D65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820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x.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356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968-72E2-493A-A08B-578E3A6EE7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850-2AE9-4BAF-BA06-1D855AE399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26680" y="1447920"/>
            <a:ext cx="52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6240" y="274320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812-9491-4523-9CCD-6AF5209445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11T03:26:54Z</dcterms:modified>
  <cp:revision>277</cp:revision>
  <dc:subject/>
  <dc:title>PowerPoint Presentation</dc:title>
</cp:coreProperties>
</file>