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2E1-1E19-45A7-9985-AE0112B3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858-B06C-4708-B45D-0895E250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24BB-BFE9-4F03-90D0-9FD01BF5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218F-530F-43E9-8B00-8777B28B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D23-9154-448B-98E0-FBDFD6D9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6F4-DF9B-4925-8DB7-F60E75FA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A18A-E7AF-4060-A40C-29CBF789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EF7F-18C6-4441-98E5-DD1DA7E3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327-A53A-4B98-8EF5-96DFB9E5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EFD4-5D37-4F81-A825-9313963C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04A-9A98-467D-A967-B94D724C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932-CC5A-46EC-981E-FADC2B47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F194-58E2-4172-ABC2-9CA9C71B2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6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11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42F-DC4D-493C-B486-AD7DA6F9D6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5840" y="3200400"/>
            <a:ext cx="6850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21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later use the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76E2-B994-40E7-93CD-6478F61A88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When We Query a Vie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6929280" cy="156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37339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1600" y="4267080"/>
            <a:ext cx="6917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, 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city = “Seattle”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name = Purchase.bu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274-CB00-4D87-8E6B-73DD626DED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ir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only on-demand – slow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p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computed offline – fa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sta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7E96-8A64-4C28-B41B-8CFF54031B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4600" y="1192320"/>
            <a:ext cx="573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an I insert a tuple into a table that doesn’t ex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7360" y="2362320"/>
            <a:ext cx="4357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3760" y="4114800"/>
            <a:ext cx="3308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 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Joe”, “Optimize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47320" y="5257800"/>
            <a:ext cx="6929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(ssn, name, department, project, salary)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ULL, “Joe”, NULL, “Optimizer”,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6200" y="403848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mak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ing inser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9440" y="53341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beco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5F8F-7A1B-4DD9-9DB3-8319F08E43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Updatable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60640" y="2438280"/>
            <a:ext cx="58669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ity-Store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.city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8080" y="4800600"/>
            <a:ext cx="6694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can we add the following tuple to the 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Seattle”,   “Nine West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n’t know the name of the person who made the purchas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set to NULL (why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1120" y="1600200"/>
            <a:ext cx="48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56B6-5F0B-45CA-A271-A30ED3CC27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traint = a property that we’d like our database to 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 will enforce the constraint by taking some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bid an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perform compensating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E268-B7B6-4D4F-BB62-F5729EB00A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in SQ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, foreig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-level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-level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constraints: asse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re complex the constraint, the harder it is to check and to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24480" y="2514600"/>
            <a:ext cx="2210040" cy="609480"/>
          </a:xfrm>
          <a:prstGeom prst="wedgeEllipseCallout">
            <a:avLst>
              <a:gd name="adj1" fmla="val -131175"/>
              <a:gd name="adj2" fmla="val -755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6800" y="3656160"/>
            <a:ext cx="1750680" cy="1172520"/>
          </a:xfrm>
          <a:prstGeom prst="wedgeEllipseCallout">
            <a:avLst>
              <a:gd name="adj1" fmla="val -123638"/>
              <a:gd name="adj2" fmla="val 34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5F0B-DAE9-4CC5-810B-D0FB2B090B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3428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3400" y="1752480"/>
            <a:ext cx="5426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7920" y="4343400"/>
            <a:ext cx="4217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m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C902-1051-4B72-974C-F6D82AD27C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with Multipl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5605200" cy="22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76520" y="4800600"/>
          <a:ext cx="4190760" cy="1701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</a:tblGrid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573-9099-4C75-A076-1C739A30B4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040440" cy="39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D  CHAR(1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M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ID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867280"/>
            <a:ext cx="49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t most on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an be man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5E0-8E01-44AB-99A0-2ADA714B6C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s (6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 (Chapter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begin 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4847-CCAA-4440-AED7-AB89710E5F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71913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(nam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0080" y="5181480"/>
            <a:ext cx="57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Name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roduct(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must b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94720" y="914400"/>
            <a:ext cx="2185920" cy="1692360"/>
          </a:xfrm>
          <a:prstGeom prst="wedgeEllipseCallout">
            <a:avLst>
              <a:gd name="adj1" fmla="val -136495"/>
              <a:gd name="adj2" fmla="val -3281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t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8F2-BC4B-4995-9866-6D923460B0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254016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029200" y="254016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457920" y="200664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920" y="200664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CFA-34DE-42B2-BE48-134A2F00CF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ame, category) must be a PRIMARY 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7280" y="2057400"/>
            <a:ext cx="82929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roduct(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A43-7C13-4E3E-88AC-4E55DCCC5B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04920" y="4444920"/>
          <a:ext cx="3047760" cy="20322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876920" y="444492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305640" y="39117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7640" y="3911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upd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urchase: insert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oduct: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3962520"/>
            <a:ext cx="3733920" cy="609480"/>
          </a:xfrm>
          <a:custGeom>
            <a:avLst/>
            <a:gdLst/>
            <a:ahLst/>
            <a:rect l="l" t="t" r="r" b="b"/>
            <a:pathLst>
              <a:path w="2352" h="384">
                <a:moveTo>
                  <a:pt x="2352" y="384"/>
                </a:moveTo>
                <a:cubicBezTo>
                  <a:pt x="1924" y="192"/>
                  <a:pt x="1496" y="0"/>
                  <a:pt x="1104" y="0"/>
                </a:cubicBezTo>
                <a:cubicBezTo>
                  <a:pt x="712" y="0"/>
                  <a:pt x="356" y="192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4D9-82EB-4E83-B7B4-883FF146F9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has three policies for maintaining referential integr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olating modifications (defau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sca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fter a delete/update do a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t-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foreign-key field to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EMNT: 7.1.5, 7.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B381-1F0B-45AC-B92D-1845DF26F3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on Attributes and Tu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attribut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obvious meaning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any condi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tu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AA71-C136-4CA4-BE9A-F3F9477D44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73320" y="2666880"/>
            <a:ext cx="74991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HE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NOT 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22640" y="304920"/>
            <a:ext cx="4007520" cy="1692360"/>
          </a:xfrm>
          <a:prstGeom prst="wedgeEllipseCallout">
            <a:avLst>
              <a:gd name="adj1" fmla="val -39412"/>
              <a:gd name="adj2" fmla="val 13995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difference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-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268-1A60-4CFC-BF35-1C59A403AC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s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3920" y="1981080"/>
            <a:ext cx="862812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ASSER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yAsser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E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T 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, Purch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 = Purchase.prod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nt(*) &gt; 2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C83C-47CC-44A4-94EA-FA1FA1A4DE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omments on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ive them names, and alter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n the book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understand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y are che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understand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tions are taken if they f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A558-08FE-4DBF-8BDE-6D3CE7B4F1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we need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 on structure of the database before deciding on a particular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ssues 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ntities to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entities are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nstraints exist in the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achiev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3543-0D5A-431D-B345-F977BCA944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2200" y="2187720"/>
            <a:ext cx="39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ore(sid, s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pname, price, 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0600" y="3317760"/>
            <a:ext cx="68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stores that se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with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quivalent form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stores s.t. all their products have price &gt;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9FA-1D1D-4768-8D4A-F5BA2FAAEF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Formal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Object Definition Language (OD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r in spirit to object-oriented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not cover in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Entity/Relationship model (E/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relational in n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widely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be translated (semi-automatically) to relational sche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L to OO-schema: direct transformation (C++ or Smalltalk based syste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012-A381-4254-B2D5-CD38F8BD7B6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/ Relationship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4160" y="2743200"/>
            <a:ext cx="6308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                 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                  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are like in OD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: like in ODL  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irst class citizens (not associated with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necessarily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3048120"/>
            <a:ext cx="121932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1295640" cy="533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4648320"/>
            <a:ext cx="1828800" cy="6858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C45-6167-424D-953C-64285E7A89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51" idx="0"/>
            <a:endCxn id="152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52" idx="2"/>
            <a:endCxn id="156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1ABA-75F6-46BD-A407-443692FB61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entity set must hav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51055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4191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742840" y="48002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505320" y="3962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114800" y="39621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506-DAD0-4B81-932B-9BEC99C22D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ela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thematical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, B are sets, then a relation R is a subset of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{1,2,3},   B={a,b,c,d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= {(1,a),(1,b), . . ., (3,d)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= {(1,a), (1,c), (3,b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bset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335920" y="3048120"/>
            <a:ext cx="3366720" cy="2320920"/>
            <a:chOff x="5335920" y="3048120"/>
            <a:chExt cx="3366720" cy="2320920"/>
          </a:xfrm>
        </p:grpSpPr>
        <p:sp>
          <p:nvSpPr>
            <p:cNvPr id="185" name=""/>
            <p:cNvSpPr/>
            <p:nvPr/>
          </p:nvSpPr>
          <p:spPr>
            <a:xfrm>
              <a:off x="6402600" y="304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02600" y="37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26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78400" y="3048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79120" y="3632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78400" y="4216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79120" y="48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12080" y="3083040"/>
              <a:ext cx="9144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88240" y="3083040"/>
              <a:ext cx="9144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21560" y="33116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21560" y="338796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721560" y="392112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35920" y="388620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40680" y="47246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438280" y="5843520"/>
            <a:ext cx="3810240" cy="709200"/>
            <a:chOff x="2438280" y="5843520"/>
            <a:chExt cx="3810240" cy="709200"/>
          </a:xfrm>
        </p:grpSpPr>
        <p:sp>
          <p:nvSpPr>
            <p:cNvPr id="200" name=""/>
            <p:cNvSpPr/>
            <p:nvPr/>
          </p:nvSpPr>
          <p:spPr>
            <a:xfrm>
              <a:off x="3820320" y="5843520"/>
              <a:ext cx="747000" cy="67212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k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65280" y="5992920"/>
              <a:ext cx="1083240" cy="37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38280" y="6179400"/>
              <a:ext cx="1045800" cy="37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67320" y="6179400"/>
              <a:ext cx="59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483720" y="6179400"/>
              <a:ext cx="33588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34E-44BC-4B76-BB9D-05B2953CF8D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ity of E/R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1981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3124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4267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9431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71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028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02884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438280" y="2378160"/>
            <a:ext cx="1143000" cy="1008000"/>
            <a:chOff x="2438280" y="2378160"/>
            <a:chExt cx="1143000" cy="1008000"/>
          </a:xfrm>
        </p:grpSpPr>
        <p:sp>
          <p:nvSpPr>
            <p:cNvPr id="217" name=""/>
            <p:cNvSpPr/>
            <p:nvPr/>
          </p:nvSpPr>
          <p:spPr>
            <a:xfrm>
              <a:off x="2438280" y="237816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78080" y="237816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743200" y="2590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743200" y="2590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2971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514600" y="3581280"/>
            <a:ext cx="1143000" cy="1008000"/>
            <a:chOff x="2514600" y="3581280"/>
            <a:chExt cx="1143000" cy="1008000"/>
          </a:xfrm>
        </p:grpSpPr>
        <p:sp>
          <p:nvSpPr>
            <p:cNvPr id="223" name=""/>
            <p:cNvSpPr/>
            <p:nvPr/>
          </p:nvSpPr>
          <p:spPr>
            <a:xfrm>
              <a:off x="2514600" y="358128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54400" y="358128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590920" y="5105520"/>
            <a:ext cx="1143000" cy="1008000"/>
            <a:chOff x="2590920" y="5105520"/>
            <a:chExt cx="1143000" cy="1008000"/>
          </a:xfrm>
        </p:grpSpPr>
        <p:sp>
          <p:nvSpPr>
            <p:cNvPr id="226" name=""/>
            <p:cNvSpPr/>
            <p:nvPr/>
          </p:nvSpPr>
          <p:spPr>
            <a:xfrm>
              <a:off x="2590920" y="510552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30720" y="510552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819520" y="38098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41911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5257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5486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895480" y="5486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79D0-BC28-43BC-AF48-8EDD40F0677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44" idx="0"/>
            <a:endCxn id="245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45" idx="2"/>
            <a:endCxn id="249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3696120" y="3200400"/>
            <a:ext cx="2099880" cy="1172520"/>
          </a:xfrm>
          <a:prstGeom prst="wedgeEllipseCallout">
            <a:avLst>
              <a:gd name="adj1" fmla="val 77217"/>
              <a:gd name="adj2" fmla="val -6758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4F5-7BA8-4B85-B59B-DC249BD4D9A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4400" y="1793880"/>
            <a:ext cx="73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model a purchase relationship between buy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nd s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914400" y="2666880"/>
            <a:ext cx="7391160" cy="3416040"/>
            <a:chOff x="914400" y="2666880"/>
            <a:chExt cx="7391160" cy="3416040"/>
          </a:xfrm>
        </p:grpSpPr>
        <p:sp>
          <p:nvSpPr>
            <p:cNvPr id="270" name=""/>
            <p:cNvSpPr/>
            <p:nvPr/>
          </p:nvSpPr>
          <p:spPr>
            <a:xfrm>
              <a:off x="3703320" y="3433680"/>
              <a:ext cx="1394640" cy="1254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14400" y="26668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54840" y="538596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83440" y="37126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98320" y="4061160"/>
              <a:ext cx="11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00640" y="468864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36520" y="3363840"/>
              <a:ext cx="76680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60600" y="613728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ill model as a mathematical set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7002-43AB-4F73-B98F-B2B1A8E7F1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at does the arrow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I know the store, person, invoice, I know the movie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981080" y="2514600"/>
            <a:ext cx="5257800" cy="2742840"/>
            <a:chOff x="1981080" y="2514600"/>
            <a:chExt cx="5257800" cy="2742840"/>
          </a:xfrm>
        </p:grpSpPr>
        <p:sp>
          <p:nvSpPr>
            <p:cNvPr id="280" name=""/>
            <p:cNvSpPr/>
            <p:nvPr/>
          </p:nvSpPr>
          <p:spPr>
            <a:xfrm>
              <a:off x="3965040" y="3461040"/>
              <a:ext cx="991080" cy="849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81080" y="2940120"/>
              <a:ext cx="143784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deo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17000" y="4784400"/>
              <a:ext cx="143892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01040" y="3650040"/>
              <a:ext cx="1437840" cy="47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v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6480" y="3886560"/>
              <a:ext cx="84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61480" y="4311000"/>
              <a:ext cx="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461480" y="2987640"/>
              <a:ext cx="69444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09720" y="2514600"/>
              <a:ext cx="143928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vo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18920" y="3413160"/>
              <a:ext cx="54612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1401-BB14-43B5-B17F-6BA48AE3EF1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at do these arrow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tore, person, invoice determines movie  and store, invoice, movie determines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5400" y="3460680"/>
            <a:ext cx="990720" cy="8510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2940120"/>
            <a:ext cx="143856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8080" y="4784760"/>
            <a:ext cx="14382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00680" y="3649680"/>
            <a:ext cx="14382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56120" y="3886200"/>
            <a:ext cx="84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62560" y="4311720"/>
            <a:ext cx="0" cy="47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462560" y="2987640"/>
            <a:ext cx="69372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10080" y="2514600"/>
            <a:ext cx="14400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19640" y="3413160"/>
            <a:ext cx="54576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899-7079-418F-AB1D-A95EF8D208C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1880" y="152280"/>
            <a:ext cx="455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,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&lt; min(Product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9400" y="4494240"/>
            <a:ext cx="57848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price &lt;=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46360" y="2133720"/>
            <a:ext cx="597816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00 &l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Product.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080" y="28954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pic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A83-D6A6-4195-A0C5-2F58079860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how do I say: “invoice determines store”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o good way; best approxi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y is this incomplet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895480" y="3200400"/>
            <a:ext cx="4343040" cy="2265120"/>
            <a:chOff x="2895480" y="3200400"/>
            <a:chExt cx="4343040" cy="2265120"/>
          </a:xfrm>
        </p:grpSpPr>
        <p:sp>
          <p:nvSpPr>
            <p:cNvPr id="303" name=""/>
            <p:cNvSpPr/>
            <p:nvPr/>
          </p:nvSpPr>
          <p:spPr>
            <a:xfrm>
              <a:off x="4534560" y="3981960"/>
              <a:ext cx="818280" cy="7023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n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95480" y="355176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deo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30080" y="507492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50520" y="413748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52840" y="4332960"/>
              <a:ext cx="69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44960" y="468432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944960" y="3591000"/>
              <a:ext cx="572760" cy="39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84560" y="3200400"/>
              <a:ext cx="118908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o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83480" y="3942360"/>
              <a:ext cx="45108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E1A-FA13-494C-9203-8EB8C22824E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2187720"/>
            <a:ext cx="39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ore(sid, s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pname, price, 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2040" y="331776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tore, find the Product ID of its most expensiv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A6D-3FDD-45CA-A785-ED9863B96E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800" y="1981080"/>
            <a:ext cx="5274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, max(Product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9080" y="3962520"/>
            <a:ext cx="58669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, x.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x.si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price &gt;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y.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1120" y="1565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easy but doesn’t do what we w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2040" y="36990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4280" y="5527800"/>
            <a:ext cx="178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p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85D-C518-49F4-9EBB-74C10B8BCC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8200" y="2743200"/>
            <a:ext cx="5866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, max(x.p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x.si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price &gt;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y.sid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3560" y="1565280"/>
            <a:ext cx="67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, choose some pid arbitrarily, if there are m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highest pr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F0F8-1E9A-4C9A-92EF-6532502434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4600" y="1793880"/>
            <a:ext cx="777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esenting different information to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has acces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thers only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880" y="3962520"/>
            <a:ext cx="518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636-31F5-4CB1-AE7C-E82F1801EE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26680" y="1447920"/>
            <a:ext cx="5254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maker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new virtual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6240" y="2743200"/>
            <a:ext cx="5933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AD4-9388-4909-BBA1-3C734146B7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4-10-11T03:26:54Z</dcterms:modified>
  <cp:revision>277</cp:revision>
  <dc:subject/>
  <dc:title>PowerPoint Presentation</dc:title>
</cp:coreProperties>
</file>