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B2E-2AAE-4BAA-A114-72EA3889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052-CD58-46BC-8A7A-57372E44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F5E-36F0-4477-8DE8-FCA3F91F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1BE-6890-4B35-8907-DFA29A86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D34-B7DE-4ECB-9503-4A09F8D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4AE-5DD2-4497-AECF-20B950A3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113-F25D-4D4B-A0BB-725F412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243-C57A-40F0-BB55-AF52908B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814-6C9C-4930-9371-A173EBBA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5DD-2020-4426-A061-FE27444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68C-4B26-494D-A1DD-7DA94B1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7D3-0DA2-452D-8ADE-C3EAE9C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287-B8E2-45E4-8BC8-4963306A4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8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8D9-081C-4173-A7EF-BB400DB0F3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52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288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0008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40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00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C80-AA4A-4F08-8251-2A0DFF2266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968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44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A8E-2E75-46B9-8DBE-03393ED28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8076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22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F66-BBCF-478D-8149-E6ABE91652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04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1BD-58C6-4BE9-912F-AC2F61D116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72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2212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AB7-DB30-4AA9-B4B4-5F062F70C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1400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080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652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612-0DEB-4B73-9401-083632E00A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70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700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B99-E8D5-473D-A2D0-A1F3666289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616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59B-DF43-4AE7-B75F-F816413522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387-1E7B-4009-A90D-DA1C7B4F03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700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626-CDDC-4287-8E65-AC3ED3B0AC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2FA-8FCE-49C6-B62F-013EC0F8D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86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269-0274-41FA-93C6-8AE76682AF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284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B33-E93E-4631-B0E7-B4CAAA9CB1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600-BCA3-466D-91C4-7F4F5EFEC1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7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28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101-6BB1-402D-9144-5C662C912F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8CB-3F8B-43FB-A7CF-8198F9258D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10F-A0FA-4F72-8EC4-A63E88F11F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156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159" name="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162" name="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165" name="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F55-B7A7-484B-AF82-0B1EA83C7E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613-11FF-4FA1-AEFD-38E251FDC5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334-EFA1-4B6C-80FC-EBB103E6B0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2992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768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244-47CD-4016-AB75-D48E2FA37E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522-A075-4934-92ED-47241C891C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908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CDF-F5B5-4D7C-A48C-A674744793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232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A11-E4AB-474F-B87C-64D8E371E9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193-6043-48CB-A3E3-83C2B601C2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120" y="1192320"/>
            <a:ext cx="60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SN,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0160" y="4114800"/>
            <a:ext cx="342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128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, “Joe”, NULL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08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440-EE08-4514-9965-7AEB1C3DD4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440" y="198108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6280" y="2743200"/>
            <a:ext cx="5137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.SSN, x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x, Employee y, Employe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managerSSN = x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z.managerSSN = y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520" y="4952880"/>
            <a:ext cx="3580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1400" y="60199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to execu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06A-F16E-489E-8E72-E3263DECB1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CD0-0F22-4AE7-828B-2BF9583EA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231-320D-4176-B59D-821AB80D6C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432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656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A22-57A5-4EA7-B046-F5E118B093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004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348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3DD-12B6-40EA-80D6-D3478EF801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846-FC53-47C2-A19F-338B41C3D6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0E8-4079-4355-B730-14F13311FB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08T01:47:59Z</dcterms:modified>
  <cp:revision>252</cp:revision>
  <dc:subject/>
  <dc:title>PowerPoint Presentation</dc:title>
</cp:coreProperties>
</file>