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E6B-385D-4D5D-A9EB-DCF3F8C4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BFC-7A65-4428-9C7C-5F25332E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455-66B2-44D5-9772-0D0E54C7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973-0076-4D03-918A-75FDB374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B7E-B6B7-4844-AD2F-7CA1576D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5C3-073D-442E-9BD0-84D0DC1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1CD-B4C0-40A4-9A97-7FEC443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81E-EE21-4EBB-B363-EEBABC49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AB1-9D71-49D2-9FCD-10CECCB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1E8-BA20-4BFE-9B30-59B7235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CBC-BDAB-4154-837D-1D427CA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21F-8FAE-4F81-8656-A1DD2C8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A30-58C0-4388-8657-02D784A4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8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A9E-148C-4010-A59B-3E98469066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52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288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0008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40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00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83E-AC9B-4E7E-9441-E155D5E6FA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968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44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A79-B509-4712-9634-631BCF1E50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8076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22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3D8-35D7-45FB-843F-614A616D7F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04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302-363E-4FAA-B0AC-0447401C01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72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2212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D98-B74F-4BC8-A873-15D63F6A61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1400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080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652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EE5-EFE6-4EBA-9DE7-21C1AABF2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70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700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40D-B5E4-4036-900D-AEAEDEC601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616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C4D-8FD6-4A91-B2BF-F69D554C1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, REAL plus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DATETIME (SQL Serv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ddress  AS  VARCHAR(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BD3-7EE4-4DC5-9D81-2B489E293D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700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A0B-288E-469D-8C0D-EEECD2CC73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097-6D36-4CFF-B116-090AB2939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86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AD4-2408-414D-B3B3-68693E9D72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0284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61C-ADC9-4336-8A98-40284E4460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D33-9523-4081-8685-A592DF0FB4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7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28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743-4036-492A-865B-E17E893223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385-8225-4438-8AAA-B59382F8EF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F4C-A966-4A56-AF1F-D18C37DAEA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156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159" name="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162" name="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165" name="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D5D-27E5-4F87-AF7E-B63BC796F8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C80-F106-4663-993F-455E2A535B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43E-CDD4-4B74-9A9E-628687A8C6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2992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768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C2A-7311-4C30-9392-651641F88A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B02-FE42-4E48-A59F-C84054F9D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908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F19-DF83-4D40-BA49-E89022E2A6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232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1A2-58DA-4F19-AE56-2E0E3A0240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D41-8730-40AF-BE7F-C3CEA77295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7120" y="1192320"/>
            <a:ext cx="60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SN,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0160" y="4114800"/>
            <a:ext cx="342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128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, “Joe”, NULL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908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A79-09A0-4025-9F23-B466AE7231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440" y="198108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6280" y="2743200"/>
            <a:ext cx="5137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.SSN, x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x, Employee y, Employe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managerSSN = x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z.managerSSN = y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520" y="4952880"/>
            <a:ext cx="3580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1400" y="60199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to execu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4BE-6BF3-4081-8E23-246471F316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488-5328-4500-A73A-9F31E681F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C6D-3435-4DAA-92B3-EE5CFD9E31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432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656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083-558D-4475-9EE5-70F5E12241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004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348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E52-AB3B-4486-BD0B-F7A27771F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CEB-2730-4105-886B-6BFDE9E03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DC5-2341-477D-BEB1-D9C408524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08T01:47:59Z</dcterms:modified>
  <cp:revision>252</cp:revision>
  <dc:subject/>
  <dc:title>PowerPoint Presentation</dc:title>
</cp:coreProperties>
</file>