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EF9-BAD0-47E2-8EEA-179E5DBA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D50-D63F-438C-B2A8-4FEE6813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DDC-23E8-4942-8D96-3503BE5F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1B6-3503-415F-A3D5-B625F6B8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33C-1B85-4BE8-ABDC-9C4E3340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9EA-F9C0-43CA-88B9-8A0192EB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64B-48F2-4AF6-9ADB-5E254883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C5C-0ED9-4C48-9D8C-CE041A77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D9D-3712-43D3-981E-31273F5B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327-5D0C-4C42-A736-3D8F2C72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4E7-D878-4326-BB77-07F1A69F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6B8-7D01-4381-BF1A-2BCD778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B6D-E63C-4E08-B410-E458CFF30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272-FA82-4D7C-A748-3DB23C1EE8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08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419-261F-4895-8032-E7EAF0B4E3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8F8-5752-48AC-837A-73933D29C3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464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D74-E040-4B4E-BCAA-EAA168CFF2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996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7A8-4DB3-4002-AB62-5540677C24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04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44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4FF-A2C6-4068-8C2C-5CC8AF51A8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AEB-FCBC-40D1-8E58-2C89ED9056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some of group-by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9760" y="5029200"/>
            <a:ext cx="1399680" cy="652680"/>
          </a:xfrm>
          <a:prstGeom prst="wedgeEllipseCallout">
            <a:avLst>
              <a:gd name="adj1" fmla="val -102425"/>
              <a:gd name="adj2" fmla="val -2392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540-3FE9-4CC3-A4F4-91626FB503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C7F-65C1-4E55-9776-58BA2FF066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Queries with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s, and their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765-31C4-4AD8-956B-4F9D97FA85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 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10400" y="2666880"/>
            <a:ext cx="2411280" cy="1692360"/>
          </a:xfrm>
          <a:prstGeom prst="wedgeEllipseCallout">
            <a:avLst>
              <a:gd name="adj1" fmla="val -98004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writ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71A-72EB-41A8-A103-BDF88EB40C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0CC-0C59-4929-A4E2-6534FD5791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5640" y="3962520"/>
            <a:ext cx="51076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,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9964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AC8-3DA6-4838-B381-5E79495355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44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724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13C-8ED6-43BE-8F5E-1F427B33A8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E4D-2151-49E3-8EAE-8D02115E39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3A0-6DC4-4F60-A47F-8D2DD2A0C9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400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689-5315-4CBA-9921-260C4F9E23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080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7F6-09BC-49DD-92AB-CDE5D78354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60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286-9786-459C-AB69-29D94535C9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573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168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3F2-E856-4BA5-BEAA-AD0A8B7989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7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C1E-1E38-4510-B7A2-95EAE39516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B6F-EDCD-471A-871D-363B20048B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 and EXCEP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292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03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88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4800" y="1143000"/>
            <a:ext cx="2540880" cy="1862280"/>
          </a:xfrm>
          <a:prstGeom prst="wedgeEllipseCallout">
            <a:avLst>
              <a:gd name="adj1" fmla="val -57490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4B5-C654-4D15-BE6F-93A2A261F8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838-F62D-4B00-B323-2752227A0F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F32-8899-42AC-BC3D-C32F80887D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52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288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0008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040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00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B68-E6C2-427F-A140-3138CE7F7D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968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144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AE7-C4E4-4049-B26B-4D6DDA608E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68076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22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BD9-8B2E-4A3B-B03B-D323D46698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04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CBF-8230-4921-AD08-B7870D686E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772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72212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58E-CCDB-44E6-B842-0BE3EC26A0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1400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080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52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5A7-2160-4A04-98E6-5DE7823C7D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70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700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141-2BE3-4D66-83C6-195C725AD6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544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136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11A-DD75-4280-8ECC-CEF6522B79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63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308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BD8-61D9-4E16-9DB5-396B649D0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4800" y="1946160"/>
            <a:ext cx="700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91400" y="2917800"/>
            <a:ext cx="3449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8800" y="449568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6240" y="28954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67E-F667-4C80-92F0-00275EBCFF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920" y="1946160"/>
            <a:ext cx="629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4200" y="328284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8240" y="464832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5F0-8376-4655-8108-0FE90AB475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297-1C53-4F68-A189-CEC778AF29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368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096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56E-C78C-412F-92A6-E854C3EC39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bhushan</cp:lastModifiedBy>
  <dcterms:modified xsi:type="dcterms:W3CDTF">2004-10-06T01:52:10Z</dcterms:modified>
  <cp:revision>190</cp:revision>
  <dc:subject/>
  <dc:title>PowerPoint Presentation</dc:title>
</cp:coreProperties>
</file>