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A16-5ADB-42CC-A99E-A8410784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604-DCD8-48AE-8F20-DE632C3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585-C3D2-4E61-B0D1-93E21C67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222-2573-417A-BFE1-83C0C2D2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380-604D-42E9-8367-64CD64C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847-13B9-4E5D-8611-30A010B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C8F-285C-47CB-8AA4-B2963BF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52C-A719-427B-9605-DEC691B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0C8-47C2-4080-B7BE-A9BD088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0F9-3D2E-445C-AD58-076C5D5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D92-D763-4F50-8B8A-C4C7296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F9B-5738-476E-808D-A0C50CC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8073-3831-46A2-B71F-321287A2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9D4-A451-4B05-8DAD-34691CAA8E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EE7-ADBA-4750-80E6-DECD62F00E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2A8-7F12-4753-A058-284500428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7AB-C251-44AB-8D41-39C30D415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8F7-08E7-4898-B25F-C2012E003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C23-CB9F-48AB-9EFA-A379BFF5E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67C-C9E7-41F2-A1AF-939ECF399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some of group-by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9760" y="5029200"/>
            <a:ext cx="1399680" cy="652680"/>
          </a:xfrm>
          <a:prstGeom prst="wedgeEllipseCallout">
            <a:avLst>
              <a:gd name="adj1" fmla="val -102425"/>
              <a:gd name="adj2" fmla="val -239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32D-CB3C-40FF-827F-CB58A94628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5AF-F168-49A5-8AD5-AA508ED1E1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Queries with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, and their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955-917E-423C-A236-EA287D9D7A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 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0400" y="2666880"/>
            <a:ext cx="2411280" cy="1692360"/>
          </a:xfrm>
          <a:prstGeom prst="wedgeEllipseCallout">
            <a:avLst>
              <a:gd name="adj1" fmla="val -98004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rit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874-EE9B-4667-9D4A-9AE86510CA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593-AE02-4B7B-A08A-50D2B793B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5640" y="3962520"/>
            <a:ext cx="51076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,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D56-7815-4736-BAF5-23169AE7F6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3B7-A3B5-46BF-9C97-B6CC8548D7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A52-09C9-460C-A1BB-2CCC6B3B82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C4B-93DE-447E-B2C9-830AA1DF2B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688-7967-4193-A3BC-1EF388D173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91C-7C14-4B2C-8F95-D753664E9D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1B0-BCD8-4606-B800-4D50C55C55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9F7-61E2-40FD-89AE-4D5DDE0011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1CC-D027-4E94-AB5E-6F519E79F4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167-C6C6-4051-91C5-41519B472D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03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480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5FD-CAAD-4C24-86A9-D3139166D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EF0-33AE-465C-8E8F-94DBA373FD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EC8-459C-4017-ADEB-61849C73AD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4D5-0A24-4912-B100-C1C4423EA6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446-BE4D-4E93-B457-481B3CB81B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E7B-6DF6-46B8-9D6B-AB24D15F53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C38-D5B8-487F-8203-1C2449A50E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81B-6C12-4DF9-87B5-EA39734F96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186-4ABC-48AE-8574-766E0D90EA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CD7-4203-4C63-BB20-273AAA5B20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F37-4507-40E2-9C82-FCCA57563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DF2-C3D4-45C0-BDF5-44DE4925D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800" y="1946160"/>
            <a:ext cx="700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91400" y="2917800"/>
            <a:ext cx="3449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8800" y="449568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6240" y="28954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057-8C13-4E77-BDD2-D70994A2A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920" y="1946160"/>
            <a:ext cx="629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4200" y="328284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8240" y="464832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5F0-7D80-4EA3-A3D1-A84976072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12A-8131-44B8-A83B-0E179B3EB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39C-1C26-488E-A4BF-6BE8F79D08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bhushan</cp:lastModifiedBy>
  <dcterms:modified xsi:type="dcterms:W3CDTF">2004-10-06T01:52:10Z</dcterms:modified>
  <cp:revision>190</cp:revision>
  <dc:subject/>
  <dc:title>PowerPoint Presentation</dc:title>
</cp:coreProperties>
</file>