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B0D-7593-4F92-BFFA-BFDC9C4D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F24-AA8A-4D36-9ADC-EF9DB55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925-C24A-44F9-A0B1-078ECFA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CB1-BD54-4868-8818-0A74AB46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59E-255C-4F5D-8BC9-00749EE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86C-4C15-4DD3-A27C-9319ABEB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5D5-313C-4949-AAD4-DC97671D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41A-2F6A-4A16-9815-C1035B7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9A2-D1A1-4FA8-AE92-3351B21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7C4-F702-4FCD-B1A9-5C87DF59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984-3276-4EDF-B781-3D7C8B7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3EB-B807-4106-9AC7-60CAE374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6D8-44EC-45F4-9A72-41140F474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496-E4D5-4D4E-AD7A-C34CFC46C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3328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B6B-85EB-4C03-8ABA-2BE7333311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3440" y="1717560"/>
            <a:ext cx="61048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28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F43-A3DA-4D37-9608-9A95DE77F0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01400" y="2209680"/>
            <a:ext cx="61045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581-D361-46CF-B008-F7E585FF58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DB8-CD41-4F40-B4E1-08F38E7576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3FF-1307-4BB6-AE89-A1B5CDB6D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94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3720" y="20224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that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484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EE7-2886-4986-A4C1-0CBDFB9E94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856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696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840" y="502920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C63-86C9-4E50-A473-70988B4A8D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12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15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77F-5152-4F5E-96C7-700C06D4A9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BEA-9E45-469B-81CE-FE89ADCBCE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E0D-8553-47C4-A2A4-DB4C25CD1D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 (out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1: Inventory - Abramsky to Ha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2: Billing - Henning to O'Con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3: Shipping - Paija Pun to Zhu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5: Relational Schema for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5: Project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course website, but note that it is still subject to change in the next two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623-D8E1-461E-BAFE-9E90D3C800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924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4E6-E7CB-42A7-ADA3-E0484613F1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08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639-A816-4540-A7DE-40F23783D6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720" y="3276720"/>
            <a:ext cx="78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6760" y="4191120"/>
            <a:ext cx="7448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12C-EE54-4627-91CE-F2585D071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6000" y="3352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9960" y="4191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831-E99B-45C1-AE7E-FE8DD4B56F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467-2F21-4E62-91A9-033E09FB59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544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EF3-6FDA-4714-A1EA-45ACC3436A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103-65F0-4866-8EEE-936FCE3DF1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80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98C-DE8B-4B39-ACA4-F0C12F60E6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192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2A2-AFD9-4FF0-84CF-D10570A56E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8F6-8393-4829-A553-EBC3A2E91D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domain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chema, populate the database, send us the sche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th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October 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a Webpage: due October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orking on the Webp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?  Ask me or Victor T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DF1-D761-4400-B67C-18EEBE5FD9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6B7-311A-47C7-B3C5-80DCCEDB1F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EDC-8071-4F63-9391-52C57E0F70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2A0-2701-4A53-96E9-2B3C7D480C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1C9-217A-40D2-AD17-903E6D79DC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46F-7B43-437E-9A79-B2465CF84F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738-825E-47C7-B199-7F9C0C0579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7FB-97DE-460A-B77C-F33960A653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376-740A-412F-A497-7AB1EAE3E7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721-22C1-47D3-9F48-86BC6B0DF4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388-4B04-45DD-A3D0-0117F1F355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812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752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0EA-2906-4DC7-8A0D-46FC5D227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6A2-DCF3-4E0D-B907-0323BC0E3B7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B31-EBB9-4CE7-9FC1-8EEBD33336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0F0-B2C0-4B63-B429-ABDDBC0595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5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2895480"/>
            <a:ext cx="71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was so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‘BestBuy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920" y="20574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023-0962-4BE8-97ED-4B63D3F4A5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704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7300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C7A-CFFA-41DD-AA57-8F0AD40A7D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240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638-17A5-4FF2-94B0-6F8B17760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7F3-5C5E-4A44-A7F8-1051C0FD5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8680" y="1793880"/>
            <a:ext cx="465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8960" y="449568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B9F-33E8-45FA-894C-E857AE4ED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04T03:57:15Z</dcterms:modified>
  <cp:revision>279</cp:revision>
  <dc:subject/>
  <dc:title>PowerPoint Presentation</dc:title>
</cp:coreProperties>
</file>