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8EF-1C82-4809-80BC-EA1B0CAB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921-5CBD-4861-831D-BBE6B5C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7A2-D45D-4D6D-AD99-C530582C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87A-1E53-4894-A5EA-B90B41B0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962-FE15-4B37-94B3-9E4C315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87A-B359-4A6C-93F8-24DA04BE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1FB-FD05-4FA0-AA0F-1B650E5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3A8-3B44-4017-89AB-752EFA6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56F-C313-4959-B441-D6C77F1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CBD-D344-42C2-8390-BAA152F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0B6-23B6-4D5A-995F-7D3ECDA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F53-2193-44B0-9CC9-BD90E2F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E2A-70E8-4E63-ABF6-D1F5323B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852-108A-4AD2-833D-8FED5B3899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3328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189-279E-4AB9-833A-0CAB74E562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3440" y="1717560"/>
            <a:ext cx="61048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28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168-9E37-4EA7-9DE1-DA2A152472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1400" y="220968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7F3-46A0-4F3C-8BED-78DC2B8C12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45E-C1EB-406C-89F7-3B752711BC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9DC-7AA5-48A7-A4BB-002F430509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94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3720" y="20224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that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484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3BB-059B-4D95-822B-7895A423BF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856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696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840" y="502920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EF3-75A0-42A4-99CC-19C295A9DD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12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15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880-F393-4ECC-8A14-CFA13BE43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2B8-7D41-43CD-842C-97103E43F3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DF9-62BF-4495-BC89-287D508B11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 (out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1: Inventory - Abramsky to Ha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2: Billing - Henning to O'Con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3: Shipping - Paija Pun to Zhu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5: Relational Schema for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5: Project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course website, but note that it is still subject to change in the next two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B0F-A394-45A7-B001-CAAA32216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924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8DA-5BD1-455D-81BC-2B37E635A0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08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640-51C9-451B-9826-6AD41D33C5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720" y="327672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760" y="4191120"/>
            <a:ext cx="7448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106-9036-4042-8C82-22F40A14E2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6000" y="3352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9960" y="4191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727-F873-49B0-9092-3FF967E2CB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7FB-9EC0-497D-8285-1D42211CB9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E61-2A63-442D-8F2E-50DD66FC24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95A-738D-4112-BB82-6FA1D725B4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80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68D-1CF3-4097-A102-3222ACC7CA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192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727-DBE7-4755-A4B8-68C5A11CA0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D96-4E87-4763-B121-DDF8EFAEA0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 populate the database, send us the sche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October 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a Webpage: due October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orking on the Webp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?  Ask me or Victor T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3F6-C8E1-4560-81E2-1E9C79587C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246-4150-4C1D-A82F-F9B360087A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491-E850-4FEC-8B55-C89DEDD651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6A0-E5B3-486D-8ADE-ABD66852A6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EB7-5E01-4585-BEF0-E12E3B3C8A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3FB-09FD-4DCD-9A98-FD863F81F6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348-CFED-4CB1-9310-EF7CE1938D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D88-D066-4AA6-B21B-D4201747DF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B36-18ED-49FD-B73B-01986197BF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D2F-22D9-4EF2-8995-4B7ED4E554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02F-256A-4112-8F51-EC00C9C054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812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752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68E-C6AC-4393-9924-CF3813BD3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413-0EAD-4207-9065-3C0A23352F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D9D-E67C-4F8C-AF3C-6F6DE72C70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238-8B54-46A5-BF08-DE3C5111073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5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2895480"/>
            <a:ext cx="71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was so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‘BestBuy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920" y="20574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999-4324-4F1B-9AE3-A3174EFDA8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704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7300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21C-048B-4F14-B07D-BEFB1E8915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240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5D4-1B58-4143-8862-DDC566653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2E1-2F72-4BF8-96DD-F4CFA630A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8680" y="1793880"/>
            <a:ext cx="465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8960" y="449568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F4F-213E-49B5-A1AC-E39306CE0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4T03:57:15Z</dcterms:modified>
  <cp:revision>279</cp:revision>
  <dc:subject/>
  <dc:title>PowerPoint Presentation</dc:title>
</cp:coreProperties>
</file>