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93BD-C8B2-440B-A085-14E17ED4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1DFF-E546-4AE8-8F63-701F4EBC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7FD6-34D5-427A-90D3-A56A1C4A1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E6AE-A42E-40F4-93F9-EFA42DD5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A734-CCA7-4029-B5A9-39661B46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8E99-A626-4671-95A1-0E1DBB76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D96B-24B5-4837-8D42-07572E9B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4DB1-7E72-4A88-8FF0-FF73191B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E4C6-4714-436D-B8D6-D6FF466C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C718-D026-4476-9EAA-62304E45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31E1-1504-4AA6-BE4D-2DB37584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F6EC-D2CF-4DE6-A521-D72B41EE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C75D-21D2-4F7A-9578-19AF564EE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s.washington.edu/education/courses/cse444/CurrentQtr/Domain1.htm" TargetMode="External"/><Relationship Id="rId2" Type="http://schemas.openxmlformats.org/officeDocument/2006/relationships/hyperlink" Target="http://www.cs.washington.edu/education/courses/cse444/CurrentQtr/Domain1.ht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2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October 1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6719-5FB2-467D-9B5D-E0F94AF8B4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uple = a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riction: all attributes are of atomic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ble = a set of tu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a li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t is unorderd: 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s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sted tables, only flat tables are allowed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see later how to decompose complex structures into multiple flat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865E-3677-4D47-9D58-EDD1A8CB8A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table is the table name and its attribu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PName, Price, Category, Manfactur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attribute whose values are unique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nderline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Price, Category, Manfactur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6A3C-F722-482A-B8AF-9491FA2150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2160" y="2666880"/>
            <a:ext cx="686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orm: (plus many many more bells and whist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8520" y="3957480"/>
            <a:ext cx="6080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attribut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relations, possibly multiple, joine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condition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3654-A276-4623-B631-278B4E4C52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352680" y="19810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33280" y="3809880"/>
            <a:ext cx="3919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*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340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276720" y="5257800"/>
          <a:ext cx="5410080" cy="10047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271440" y="5852160"/>
            <a:ext cx="2175120" cy="6498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3254-40E5-42FA-A8B0-EAA7D8AD31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352680" y="19810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232560" y="3809880"/>
            <a:ext cx="50180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340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114800" y="5257800"/>
          <a:ext cx="4057560" cy="10047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346320" y="5319000"/>
            <a:ext cx="290628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”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B2A0-6BDF-4668-9D5E-DAEA328C51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tation for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2920" y="3809880"/>
            <a:ext cx="4848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Price, Manufactur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4960" y="3200400"/>
            <a:ext cx="49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Price, Category, Man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5257800"/>
            <a:ext cx="39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nswer(PName, Price, Man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10360" y="1752480"/>
            <a:ext cx="2653560" cy="652680"/>
          </a:xfrm>
          <a:prstGeom prst="wedgeEllipseCallout">
            <a:avLst>
              <a:gd name="adj1" fmla="val -37972"/>
              <a:gd name="adj2" fmla="val 1689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52840" y="6019920"/>
            <a:ext cx="2941560" cy="652680"/>
          </a:xfrm>
          <a:prstGeom prst="wedgeEllipseCallout">
            <a:avLst>
              <a:gd name="adj1" fmla="val 20055"/>
              <a:gd name="adj2" fmla="val -10347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B337-E966-4829-8641-8019B35D1F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goes in th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y, x &lt; y, x &lt;= y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number, they have the usual mea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HAR and VARCHAR: lexicographic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ed conversion between CHAR and VARCH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ates and times, what you expe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tern matching on strings: s LIKE p (ne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2F93-5363-4949-8E16-3744393BCB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:  pattern matching on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may contain two special symbo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 = any sequence of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   = any single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(Name, Price, Category, Manu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ll products whose name mentions ‘gizmo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5029200"/>
            <a:ext cx="40226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*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Products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PNam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‘%gizmo%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5268-4632-4BA2-AC6E-92635F2462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9320" y="2133720"/>
            <a:ext cx="4039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37339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44560" y="4876920"/>
            <a:ext cx="2576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324480" y="4343400"/>
          <a:ext cx="1352520" cy="167472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248520" y="1905120"/>
          <a:ext cx="1352520" cy="133956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5181480" y="2362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5029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C39-8D44-412D-9D36-5FBF585861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ing th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6440" y="2133720"/>
            <a:ext cx="5734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=‘gizmo’ AND price &gt;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,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8120" y="4079880"/>
            <a:ext cx="840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ing is ascending, unless you specify the DESC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s are broken by the second attribute on the ORDER BY lis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F617-9758-4A8D-936C-C2155A793A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ri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1 is out. Due: Tuesday, Oct.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login on IISQLSRV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change your passwor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subscribe to CSE444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464B-B6EF-4B96-859A-C0F6A8822E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ing th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80" y="2133720"/>
            <a:ext cx="2759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40384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6095880" y="4648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3840" y="419112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DD67-D73C-4351-88C8-69BABAEA51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ing th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320" y="2133720"/>
            <a:ext cx="403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37339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248520" y="1905120"/>
          <a:ext cx="1352520" cy="133956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181480" y="2362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029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9320" y="4572000"/>
            <a:ext cx="403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3120" y="44956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E0FE-8CF0-4BD9-850E-37021D70DC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 two or more t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676520" y="2590920"/>
          <a:ext cx="6553080" cy="1825560"/>
        </p:xfrm>
        <a:graphic>
          <a:graphicData uri="http://schemas.openxmlformats.org/drawingml/2006/table">
            <a:tbl>
              <a:tblPr/>
              <a:tblGrid>
                <a:gridCol w="1638360"/>
                <a:gridCol w="1638000"/>
                <a:gridCol w="1638360"/>
                <a:gridCol w="16383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34960" y="26668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8480" y="472428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00400" y="4724280"/>
          <a:ext cx="5410080" cy="1930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345960" y="5158080"/>
            <a:ext cx="2446920" cy="15966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m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61DB-C6AE-4C8E-B6AA-177461462A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s under $200 manufactured in Japan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their names and pr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8040" y="4191120"/>
            <a:ext cx="71395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r=CName AND Country=‘Japan’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AND Price &lt;=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438280" y="3200400"/>
            <a:ext cx="6395040" cy="2209680"/>
            <a:chOff x="2438280" y="3200400"/>
            <a:chExt cx="6395040" cy="2209680"/>
          </a:xfrm>
        </p:grpSpPr>
        <p:sp>
          <p:nvSpPr>
            <p:cNvPr id="133" name=""/>
            <p:cNvSpPr/>
            <p:nvPr/>
          </p:nvSpPr>
          <p:spPr>
            <a:xfrm>
              <a:off x="2438280" y="4876920"/>
              <a:ext cx="2743200" cy="5331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75040" y="3200400"/>
              <a:ext cx="3158280" cy="1692360"/>
            </a:xfrm>
            <a:prstGeom prst="wedgeEllipseCallout">
              <a:avLst>
                <a:gd name="adj1" fmla="val -77064"/>
                <a:gd name="adj2" fmla="val 55060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oin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tween Produc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d 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9D18-2D2F-4065-B8A3-245F8E7B1A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52280" y="2133720"/>
          <a:ext cx="4114800" cy="1365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  <a:gridCol w="1067040"/>
                <a:gridCol w="1143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154080" y="17524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30280" y="18288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105520" y="2209680"/>
          <a:ext cx="3809880" cy="109224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40" name=""/>
          <p:cNvCxnSpPr/>
          <p:nvPr/>
        </p:nvCxnSpPr>
        <p:spPr>
          <a:xfrm>
            <a:off x="4266720" y="2543040"/>
            <a:ext cx="83916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/>
          <p:nvPr/>
        </p:nvCxnSpPr>
        <p:spPr>
          <a:xfrm flipV="1">
            <a:off x="4266720" y="2892240"/>
            <a:ext cx="839160" cy="197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" name=""/>
          <p:cNvCxnSpPr/>
          <p:nvPr/>
        </p:nvCxnSpPr>
        <p:spPr>
          <a:xfrm flipV="1">
            <a:off x="4266720" y="3315960"/>
            <a:ext cx="839160" cy="46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"/>
          <p:cNvCxnSpPr/>
          <p:nvPr/>
        </p:nvCxnSpPr>
        <p:spPr>
          <a:xfrm flipV="1">
            <a:off x="4266720" y="2618640"/>
            <a:ext cx="83916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144" name=""/>
          <p:cNvGraphicFramePr/>
          <p:nvPr/>
        </p:nvGraphicFramePr>
        <p:xfrm>
          <a:off x="5943600" y="5638680"/>
          <a:ext cx="1904760" cy="546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6781680" y="4038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219320" y="2362320"/>
            <a:ext cx="7619760" cy="1066680"/>
            <a:chOff x="1219320" y="2362320"/>
            <a:chExt cx="7619760" cy="1066680"/>
          </a:xfrm>
        </p:grpSpPr>
        <p:sp>
          <p:nvSpPr>
            <p:cNvPr id="147" name=""/>
            <p:cNvSpPr/>
            <p:nvPr/>
          </p:nvSpPr>
          <p:spPr>
            <a:xfrm>
              <a:off x="7772400" y="2666880"/>
              <a:ext cx="1066680" cy="7621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19320" y="2362320"/>
              <a:ext cx="838080" cy="9144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1134400">
              <a:off x="3346200" y="2746080"/>
              <a:ext cx="2971800" cy="4572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16440" y="4330800"/>
            <a:ext cx="480744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PName, Price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ufacturer=CName AND Country=‘Japan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AND Price &lt;=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6784-5FAF-4583-8A36-82FE7CE7C8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untries that manufacture some product in the ‘Gadgets’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40240" y="4191120"/>
            <a:ext cx="7563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untr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r=CName AND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2A2A-4C50-41ED-9043-7482B0EF8ED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280" y="2133720"/>
          <a:ext cx="4114800" cy="1365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  <a:gridCol w="1067040"/>
                <a:gridCol w="1143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154080" y="17524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31360" y="18288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105520" y="2209680"/>
          <a:ext cx="3809880" cy="109224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60" name=""/>
          <p:cNvCxnSpPr/>
          <p:nvPr/>
        </p:nvCxnSpPr>
        <p:spPr>
          <a:xfrm>
            <a:off x="4266720" y="2543040"/>
            <a:ext cx="83916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/>
          <p:nvPr/>
        </p:nvCxnSpPr>
        <p:spPr>
          <a:xfrm flipV="1">
            <a:off x="4266720" y="2892240"/>
            <a:ext cx="839160" cy="197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/>
          <p:nvPr/>
        </p:nvCxnSpPr>
        <p:spPr>
          <a:xfrm flipV="1">
            <a:off x="4266720" y="3315960"/>
            <a:ext cx="839160" cy="46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3" name=""/>
          <p:cNvCxnSpPr/>
          <p:nvPr/>
        </p:nvCxnSpPr>
        <p:spPr>
          <a:xfrm flipV="1">
            <a:off x="4266720" y="2618640"/>
            <a:ext cx="83916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4" name=""/>
          <p:cNvSpPr/>
          <p:nvPr/>
        </p:nvSpPr>
        <p:spPr>
          <a:xfrm>
            <a:off x="2209680" y="2438280"/>
            <a:ext cx="76212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4038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553080" y="5181480"/>
          <a:ext cx="1270080" cy="1092240"/>
        </p:xfrm>
        <a:graphic>
          <a:graphicData uri="http://schemas.openxmlformats.org/drawingml/2006/table">
            <a:tbl>
              <a:tblPr/>
              <a:tblGrid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451080" y="5158080"/>
            <a:ext cx="2238120" cy="15966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lem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’s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2800" y="3962520"/>
            <a:ext cx="50878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Countr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ufacturer=CName AND Category=‘Gadget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6A32-69F8-4391-89F2-545EB5EE4F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ers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phone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names of people living in Seattle that bought some  product in the ‘Gadgets’ category, and the names of the stores they bought such product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23640" y="4952880"/>
            <a:ext cx="71456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name, stor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,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name=buyer AND product = pname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city=‘Seattle’  AND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6DB-7305-4927-87F1-F6D4B2B7F2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ambiguating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two relations have the same attr: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erson(pname, address, worksfor)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pany(cname, add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5240" y="3505320"/>
            <a:ext cx="48700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, addres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for = 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8200" y="5486400"/>
            <a:ext cx="7038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.pname, Company.addres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worksfor = Company.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05160" y="3046320"/>
            <a:ext cx="1859400" cy="1172520"/>
          </a:xfrm>
          <a:prstGeom prst="wedgeEllipseCallout">
            <a:avLst>
              <a:gd name="adj1" fmla="val -78587"/>
              <a:gd name="adj2" fmla="val 1000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9000" y="4876920"/>
            <a:ext cx="457200" cy="533160"/>
          </a:xfrm>
          <a:prstGeom prst="downArrow">
            <a:avLst>
              <a:gd name="adj1" fmla="val 50000"/>
              <a:gd name="adj2" fmla="val 291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5583-675A-41DA-AFDD-9BD2412A4C6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pl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2720" y="3962520"/>
            <a:ext cx="7351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DISTINC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 AS x, Purchase AS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product = y.product AND y.store = ‘BestBuy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9720" y="2895480"/>
            <a:ext cx="714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stores that sold at least one product that the st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BestBuy’ also so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1440" y="601992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swer (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280" y="1600200"/>
            <a:ext cx="60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pname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persname, phone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DD0D-AEA7-4436-A52D-BE6FB350C45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’s Reading Assig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read i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es ACID mea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tom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= 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 =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d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2EA-EDE0-43E1-AA3C-32A761A4AC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pl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1066680"/>
            <a:ext cx="7130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rule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 variables introduced automatically by the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name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o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work when Product occurs more than o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at case the user needs to define variables explici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5600" y="2666880"/>
            <a:ext cx="2884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73720" y="4343400"/>
            <a:ext cx="3864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AS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3298-1242-4B7A-AA3A-A726733CE78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of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, a2, …, 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AS x1, R2 AS x2, …, Rn AS 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Nested loo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3120" y="3809880"/>
            <a:ext cx="7873920" cy="27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 = Answ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(a1,…,a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BD56-DD8B-4305-A1A0-C8F305B190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of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, a2, …, 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AS x1, R2 AS x2, …, Rn AS 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arallel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impose any order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960" y="3886200"/>
            <a:ext cx="7953120" cy="14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assignments x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1, …, x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 = Answ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(a1,…,a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BD20-0DB1-4F18-8300-E7183BE76D2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Unintuitive SQ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8680" y="1793880"/>
            <a:ext cx="4658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, S,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.A=S.A    OR   R.A=T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for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     (S     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what happens if T is emp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514600" y="3733920"/>
                <a:ext cx="38088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200400" y="3733920"/>
                <a:ext cx="3873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F492-DF63-44A9-9A26-0E9BEE64545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6640" y="1870200"/>
            <a:ext cx="87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cname, stock 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 per-name, phone 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people who bought telephony pro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 and 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buy French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4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 and 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 in Seat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people who bought stuff from Joe or bought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company whose stock prices is more than $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7E0D-2523-4A74-A12D-99102915596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Queries in SQL (6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ies with more than one relation (6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ssign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3, “Simple Queries” fro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QL for Web Nerd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hilip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reenspu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philip.greenspun.com/sql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8872-A0EF-438A-A549-6AD600DAE9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0720" y="1717560"/>
            <a:ext cx="682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language for querying and manipulat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ctured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ery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7760" y="3241800"/>
            <a:ext cx="555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tandards out the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I 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92 (a.k.a. SQL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99 (a.k.a. SQL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dors support various subsets of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 discuss is common to all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8B98-FB59-4DE4-9823-15ABF2B2AB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Definition Language (D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/alter/delete tables and their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 lectu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Manipulation Language (D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one or more tables – discussed nex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/delete/modify tuples in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-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package a sequence of SQL statemen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n’t discuss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06C2-C5F4-429C-AC3E-29677BA076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mic types, a.k.a. dat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s built from atomic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0859-A072-4726-96FA-9079845FFA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(2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fixed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CHAR(4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variable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GINT, INT, SMALLINT, TINY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, FLOA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differ in 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and da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SQL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...  All are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F39B-2FDA-4FAE-A019-242C43BB98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143000" y="2209680"/>
          <a:ext cx="7696080" cy="355572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610200" y="167652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01120" y="304920"/>
            <a:ext cx="3041280" cy="652680"/>
          </a:xfrm>
          <a:prstGeom prst="wedgeEllipseCallout">
            <a:avLst>
              <a:gd name="adj1" fmla="val 546"/>
              <a:gd name="adj2" fmla="val 2791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8520" y="228600"/>
            <a:ext cx="2292120" cy="652680"/>
          </a:xfrm>
          <a:prstGeom prst="wedgeEllipseCallout">
            <a:avLst>
              <a:gd name="adj1" fmla="val -22365"/>
              <a:gd name="adj2" fmla="val 19839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80" y="6095880"/>
            <a:ext cx="2856960" cy="652680"/>
          </a:xfrm>
          <a:prstGeom prst="wedgeEllipseCallout">
            <a:avLst>
              <a:gd name="adj1" fmla="val -1861"/>
              <a:gd name="adj2" fmla="val -11681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s or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E906-F6F0-40CE-BC5C-65AB79703F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4-10-01T16:57:47Z</dcterms:modified>
  <cp:revision>195</cp:revision>
  <dc:subject/>
  <dc:title>PowerPoint Presentation</dc:title>
</cp:coreProperties>
</file>