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B63F-A16A-4A3A-B5E1-724A4A2F3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F5F5-A709-4B84-930A-BB85523D1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46A3-436A-4149-982B-AD3907012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730B-F43F-4762-BD54-84CE3B6ED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31D1-87F5-48AE-8AA7-F245CC9B1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1357-3DD8-4472-90D4-4F861B918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48D4-8781-45D8-9D5B-02D8AD601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755A-CC9E-4651-A09D-BF6925172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D978-1C09-4BD8-AC7C-9DEA9D68B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1499-9E10-43C0-BC80-43B436F8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BCBD-30B9-4AC6-9E40-16A3D2B7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717F-3922-4533-B6A4-0B7AB631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5CA69-C887-44A6-8606-5E5AC702CC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s.washington.edu/education/courses/cse444/CurrentQtr/Domain1.htm" TargetMode="External"/><Relationship Id="rId2" Type="http://schemas.openxmlformats.org/officeDocument/2006/relationships/hyperlink" Target="http://www.cs.washington.edu/education/courses/cse444/CurrentQtr/Domain1.htm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02: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October 1,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AC94-7FB6-4435-AC5E-7EA48BDAF81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s Explai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uple = a re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riction: all attributes are of atomic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able = a set of tu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ke a lis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t is unorderd: n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rst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n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xt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n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st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nested tables, only flat tables are allowed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ill see later how to decompose complex structures into multiple flat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F979-B6CD-44E6-8909-1D9F131EE08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s Explai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chem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 table is the table name and its attribu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oduct(PName, Price, Category, Manfactur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n attribute whose values are unique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underline a 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oduct(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PName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Price, Category, Manfactur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6516-A863-4A1B-8BDF-BFA8704671B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2160" y="2666880"/>
            <a:ext cx="6864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form: (plus many many more bells and whist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98520" y="3957480"/>
            <a:ext cx="60804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attribute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&lt;relations, possibly multiple, joine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condition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0153-BD91-4923-B7D6-9D1147037B9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SQL 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352680" y="1981080"/>
          <a:ext cx="5410080" cy="167508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  <a:gridCol w="1352520"/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233280" y="3809880"/>
            <a:ext cx="39193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*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ategory=‘Gadgets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63400" y="198108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19920" y="3962520"/>
            <a:ext cx="609480" cy="60948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276720" y="5257800"/>
          <a:ext cx="5410080" cy="100476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  <a:gridCol w="1352520"/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"/>
          <p:cNvSpPr/>
          <p:nvPr/>
        </p:nvSpPr>
        <p:spPr>
          <a:xfrm>
            <a:off x="271440" y="5852160"/>
            <a:ext cx="2175120" cy="64980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E7B0-F755-4FE8-9027-642BD5F6E61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SQL 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3352680" y="1981080"/>
          <a:ext cx="5410080" cy="167508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  <a:gridCol w="1352520"/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232560" y="3809880"/>
            <a:ext cx="50180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Name, Price, Manufacturer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ice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63400" y="198108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19920" y="3962520"/>
            <a:ext cx="609480" cy="60948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114800" y="5257800"/>
          <a:ext cx="4057560" cy="100476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"/>
          <p:cNvSpPr/>
          <p:nvPr/>
        </p:nvSpPr>
        <p:spPr>
          <a:xfrm>
            <a:off x="346320" y="5319000"/>
            <a:ext cx="2906280" cy="116676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”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io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B9C9-0E7A-4C39-A80C-FE9A6626D3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Notation for SQL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2920" y="3809880"/>
            <a:ext cx="48488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Name, Price, Manufacturer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ice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54960" y="3200400"/>
            <a:ext cx="49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oduct(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PName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Price, Category, Manfactur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19920" y="3962520"/>
            <a:ext cx="609480" cy="60948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643280" y="5257800"/>
            <a:ext cx="393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nswer(PName, Price, Manfactur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210360" y="1752480"/>
            <a:ext cx="2653560" cy="652680"/>
          </a:xfrm>
          <a:prstGeom prst="wedgeEllipseCallout">
            <a:avLst>
              <a:gd name="adj1" fmla="val -37972"/>
              <a:gd name="adj2" fmla="val 168962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52840" y="6019920"/>
            <a:ext cx="2941560" cy="652680"/>
          </a:xfrm>
          <a:prstGeom prst="wedgeEllipseCallout">
            <a:avLst>
              <a:gd name="adj1" fmla="val 20055"/>
              <a:gd name="adj2" fmla="val -103472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9627-23F8-49F3-B731-B5CE4E21895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goes in th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u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 = y, x &lt; y, x &lt;= y,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number, they have the usual mean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HAR and VARCHAR: lexicographic ord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ed conversion between CHAR and VARCH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dates and times, what you expec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tern matching on strings: s LIKE p (nex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28F6-E0B3-4B9E-8BAA-A2B300B77EC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K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p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K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:  pattern matching on st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 may contain two special symbo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 = any sequence of chara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   = any single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oduct(Name, Price, Category, Manufactur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 all products whose name mentions ‘gizmo’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52480" y="5029200"/>
            <a:ext cx="402264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*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Products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PNam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K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‘%gizmo%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FF2B-DED6-42EF-B752-31DCF43B4CA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iminating Dupl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9320" y="2133720"/>
            <a:ext cx="40395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373392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44560" y="4876920"/>
            <a:ext cx="25765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324480" y="4343400"/>
          <a:ext cx="1352520" cy="1674720"/>
        </p:xfrm>
        <a:graphic>
          <a:graphicData uri="http://schemas.openxmlformats.org/drawingml/2006/table">
            <a:tbl>
              <a:tblPr/>
              <a:tblGrid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6248520" y="1905120"/>
          <a:ext cx="1352520" cy="1339560"/>
        </p:xfrm>
        <a:graphic>
          <a:graphicData uri="http://schemas.openxmlformats.org/drawingml/2006/table">
            <a:tbl>
              <a:tblPr/>
              <a:tblGrid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5181480" y="23623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50292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2694-8688-461A-84CB-E43DFA975D2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dering the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6440" y="2133720"/>
            <a:ext cx="5734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name, price, manufactu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ategory=‘gizmo’ AND price &gt; 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ORDER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ice, p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8120" y="4079880"/>
            <a:ext cx="840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ing is ascending, unless you specify the DESC key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s are broken by the second attribute on the ORDER BY list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BBA3-4197-4F8A-A105-3B283E80FC2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ministriv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ework 1 is out. Due: Tuesday, Oct.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d you login on IISQLSRV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d you change your password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d you subscribe to CSE444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21D6-A361-4D4B-8603-5B69AB51D6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dering the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9680" y="2133720"/>
            <a:ext cx="27594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RDER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28600" y="4038480"/>
          <a:ext cx="5410080" cy="167508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  <a:gridCol w="1352520"/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6095880" y="46483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73840" y="4191120"/>
            <a:ext cx="63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6144-4AD7-4F14-977C-7C71C70258F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dering the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320" y="2133720"/>
            <a:ext cx="40395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RDER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3880" y="373392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248520" y="1905120"/>
          <a:ext cx="1352520" cy="1339560"/>
        </p:xfrm>
        <a:graphic>
          <a:graphicData uri="http://schemas.openxmlformats.org/drawingml/2006/table">
            <a:tbl>
              <a:tblPr/>
              <a:tblGrid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5181480" y="23623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50292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9320" y="4572000"/>
            <a:ext cx="40395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RDER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3120" y="4495680"/>
            <a:ext cx="63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409A-CCB5-4957-BCC6-69604680A10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in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nect two or more tab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676520" y="2590920"/>
          <a:ext cx="6553080" cy="1825560"/>
        </p:xfrm>
        <a:graphic>
          <a:graphicData uri="http://schemas.openxmlformats.org/drawingml/2006/table">
            <a:tbl>
              <a:tblPr/>
              <a:tblGrid>
                <a:gridCol w="1638360"/>
                <a:gridCol w="1638000"/>
                <a:gridCol w="1638360"/>
                <a:gridCol w="16383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534960" y="266688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58480" y="472428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200400" y="4724280"/>
          <a:ext cx="5410080" cy="1930680"/>
        </p:xfrm>
        <a:graphic>
          <a:graphicData uri="http://schemas.openxmlformats.org/drawingml/2006/table">
            <a:tbl>
              <a:tblPr/>
              <a:tblGrid>
                <a:gridCol w="1803240"/>
                <a:gridCol w="1803600"/>
                <a:gridCol w="1803240"/>
              </a:tblGrid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ck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>
            <a:off x="345960" y="5158080"/>
            <a:ext cx="2446920" cy="159660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nn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m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2249-541D-4D0A-9D64-6464B164E1F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430440" y="25718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1752480"/>
            <a:ext cx="719136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 price, category, manufactur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 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stockPrice, count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products under $200 manufactured in Japan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their names and pric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48040" y="4191120"/>
            <a:ext cx="71395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Name, Price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, Company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ufacturer=CName AND Country=‘Japan’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AND Price &lt;=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438280" y="3200400"/>
            <a:ext cx="6395040" cy="2209680"/>
            <a:chOff x="2438280" y="3200400"/>
            <a:chExt cx="6395040" cy="2209680"/>
          </a:xfrm>
        </p:grpSpPr>
        <p:sp>
          <p:nvSpPr>
            <p:cNvPr id="133" name=""/>
            <p:cNvSpPr/>
            <p:nvPr/>
          </p:nvSpPr>
          <p:spPr>
            <a:xfrm>
              <a:off x="2438280" y="4876920"/>
              <a:ext cx="2743200" cy="53316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675040" y="3200400"/>
              <a:ext cx="3158280" cy="1692360"/>
            </a:xfrm>
            <a:prstGeom prst="wedgeEllipseCallout">
              <a:avLst>
                <a:gd name="adj1" fmla="val -77064"/>
                <a:gd name="adj2" fmla="val 55060"/>
              </a:avLst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Join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etween Product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d Compan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0189-FAEC-4D86-8A57-9D46BB9A566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in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52280" y="2133720"/>
          <a:ext cx="4114800" cy="1365120"/>
        </p:xfrm>
        <a:graphic>
          <a:graphicData uri="http://schemas.openxmlformats.org/drawingml/2006/table">
            <a:tbl>
              <a:tblPr/>
              <a:tblGrid>
                <a:gridCol w="1047600"/>
                <a:gridCol w="857160"/>
                <a:gridCol w="1067040"/>
                <a:gridCol w="114300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154080" y="1752480"/>
            <a:ext cx="65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30280" y="182880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Comp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5105520" y="2209680"/>
          <a:ext cx="3809880" cy="1092240"/>
        </p:xfrm>
        <a:graphic>
          <a:graphicData uri="http://schemas.openxmlformats.org/drawingml/2006/table">
            <a:tbl>
              <a:tblPr/>
              <a:tblGrid>
                <a:gridCol w="1269720"/>
                <a:gridCol w="1270080"/>
                <a:gridCol w="127008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ckPr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nt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cxnSp>
        <p:nvCxnSpPr>
          <p:cNvPr id="140" name=""/>
          <p:cNvCxnSpPr/>
          <p:nvPr/>
        </p:nvCxnSpPr>
        <p:spPr>
          <a:xfrm>
            <a:off x="4266720" y="2543040"/>
            <a:ext cx="83916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/>
          <p:nvPr/>
        </p:nvCxnSpPr>
        <p:spPr>
          <a:xfrm flipV="1">
            <a:off x="4266720" y="2892240"/>
            <a:ext cx="839160" cy="197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2" name=""/>
          <p:cNvCxnSpPr/>
          <p:nvPr/>
        </p:nvCxnSpPr>
        <p:spPr>
          <a:xfrm flipV="1">
            <a:off x="4266720" y="3315960"/>
            <a:ext cx="839160" cy="46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3" name=""/>
          <p:cNvCxnSpPr/>
          <p:nvPr/>
        </p:nvCxnSpPr>
        <p:spPr>
          <a:xfrm flipV="1">
            <a:off x="4266720" y="2618640"/>
            <a:ext cx="839160" cy="197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aphicFrame>
        <p:nvGraphicFramePr>
          <p:cNvPr id="144" name=""/>
          <p:cNvGraphicFramePr/>
          <p:nvPr/>
        </p:nvGraphicFramePr>
        <p:xfrm>
          <a:off x="5943600" y="5638680"/>
          <a:ext cx="1904760" cy="546120"/>
        </p:xfrm>
        <a:graphic>
          <a:graphicData uri="http://schemas.openxmlformats.org/drawingml/2006/table">
            <a:tbl>
              <a:tblPr/>
              <a:tblGrid>
                <a:gridCol w="1047600"/>
                <a:gridCol w="85716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6781680" y="40384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219320" y="2362320"/>
            <a:ext cx="7619760" cy="1066680"/>
            <a:chOff x="1219320" y="2362320"/>
            <a:chExt cx="7619760" cy="1066680"/>
          </a:xfrm>
        </p:grpSpPr>
        <p:sp>
          <p:nvSpPr>
            <p:cNvPr id="147" name=""/>
            <p:cNvSpPr/>
            <p:nvPr/>
          </p:nvSpPr>
          <p:spPr>
            <a:xfrm>
              <a:off x="7772400" y="2666880"/>
              <a:ext cx="1066680" cy="76212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219320" y="2362320"/>
              <a:ext cx="838080" cy="9144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21134400">
              <a:off x="3346200" y="2746080"/>
              <a:ext cx="2971800" cy="4572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316440" y="4330800"/>
            <a:ext cx="4807440" cy="106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PName, Price</a:t>
            </a: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Product, Company</a:t>
            </a: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WHERE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nufacturer=CName AND Country=‘Japan’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AND Price &lt;= 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9686-6D72-4D4F-A700-BF9DD4D46C2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30440" y="25718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4400" y="1752480"/>
            <a:ext cx="719136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 price, category, manufactur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 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stockPrice, count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countries that manufacture some product in the ‘Gadgets’ categ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40240" y="4191120"/>
            <a:ext cx="75632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untry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, Company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ufacturer=CName AND Category=‘Gadgets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5CCF-7E69-4946-9462-EEA92A76753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in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52280" y="2133720"/>
          <a:ext cx="4114800" cy="1365120"/>
        </p:xfrm>
        <a:graphic>
          <a:graphicData uri="http://schemas.openxmlformats.org/drawingml/2006/table">
            <a:tbl>
              <a:tblPr/>
              <a:tblGrid>
                <a:gridCol w="1047600"/>
                <a:gridCol w="857160"/>
                <a:gridCol w="1067040"/>
                <a:gridCol w="114300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154080" y="1752480"/>
            <a:ext cx="65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31360" y="182880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Comp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5105520" y="2209680"/>
          <a:ext cx="3809880" cy="1092240"/>
        </p:xfrm>
        <a:graphic>
          <a:graphicData uri="http://schemas.openxmlformats.org/drawingml/2006/table">
            <a:tbl>
              <a:tblPr/>
              <a:tblGrid>
                <a:gridCol w="1269720"/>
                <a:gridCol w="1270080"/>
                <a:gridCol w="127008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ckPr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nt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cxnSp>
        <p:nvCxnSpPr>
          <p:cNvPr id="160" name=""/>
          <p:cNvCxnSpPr/>
          <p:nvPr/>
        </p:nvCxnSpPr>
        <p:spPr>
          <a:xfrm>
            <a:off x="4266720" y="2543040"/>
            <a:ext cx="83916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1" name=""/>
          <p:cNvCxnSpPr/>
          <p:nvPr/>
        </p:nvCxnSpPr>
        <p:spPr>
          <a:xfrm flipV="1">
            <a:off x="4266720" y="2892240"/>
            <a:ext cx="839160" cy="197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2" name=""/>
          <p:cNvCxnSpPr/>
          <p:nvPr/>
        </p:nvCxnSpPr>
        <p:spPr>
          <a:xfrm flipV="1">
            <a:off x="4266720" y="3315960"/>
            <a:ext cx="839160" cy="46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3" name=""/>
          <p:cNvCxnSpPr/>
          <p:nvPr/>
        </p:nvCxnSpPr>
        <p:spPr>
          <a:xfrm flipV="1">
            <a:off x="4266720" y="2618640"/>
            <a:ext cx="839160" cy="197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64" name=""/>
          <p:cNvSpPr/>
          <p:nvPr/>
        </p:nvSpPr>
        <p:spPr>
          <a:xfrm>
            <a:off x="2209680" y="2438280"/>
            <a:ext cx="762120" cy="4572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81680" y="40384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553080" y="5181480"/>
          <a:ext cx="1270080" cy="1092240"/>
        </p:xfrm>
        <a:graphic>
          <a:graphicData uri="http://schemas.openxmlformats.org/drawingml/2006/table">
            <a:tbl>
              <a:tblPr/>
              <a:tblGrid>
                <a:gridCol w="127008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nt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>
            <a:off x="451080" y="5158080"/>
            <a:ext cx="2238120" cy="159660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blem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’s th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ution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22800" y="3962520"/>
            <a:ext cx="50878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Country</a:t>
            </a: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Product, Company</a:t>
            </a: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WHERE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nufacturer=CName AND Category=‘Gadgets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D69E-E4D8-4B3B-8C8D-7D5DCEFB70A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30440" y="25718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14400" y="1752480"/>
            <a:ext cx="719136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 price, category, manufactur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 (buyer,  seller,  store,  prod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ers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phoneNumber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names of people living in Seattle that bought some  product in the ‘Gadgets’ category, and the names of the stores they bought such product fr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23640" y="4952880"/>
            <a:ext cx="71456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name, store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erson, Purchase, Product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name=buyer AND product = pname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city=‘Seattle’  AND category=‘Gadgets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97B8-9AE7-4DDE-981E-835F163C665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ambiguating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times two relations have the same attr: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erson(pname, address, worksfor)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ompany(cname, addr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15240" y="3505320"/>
            <a:ext cx="48700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name, address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erson, Company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for = c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8200" y="5486400"/>
            <a:ext cx="70387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.pname, Company.address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erson, Company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.worksfor = Company.c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05160" y="3046320"/>
            <a:ext cx="1859400" cy="1172520"/>
          </a:xfrm>
          <a:prstGeom prst="wedgeEllipseCallout">
            <a:avLst>
              <a:gd name="adj1" fmla="val -78587"/>
              <a:gd name="adj2" fmla="val 10004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9000" y="4876920"/>
            <a:ext cx="457200" cy="533160"/>
          </a:xfrm>
          <a:prstGeom prst="downArrow">
            <a:avLst>
              <a:gd name="adj1" fmla="val 50000"/>
              <a:gd name="adj2" fmla="val 2915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04EA-7F9E-45E1-94F4-A1F57100B73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ple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2720" y="3962520"/>
            <a:ext cx="73512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DISTINCT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.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urchase AS x, Purchase AS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.product = y.product AND y.store = ‘BestBuy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69720" y="2895480"/>
            <a:ext cx="714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stores that sold at least one product that the sto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‘BestBuy’ also sol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91440" y="6019920"/>
            <a:ext cx="20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swer (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9280" y="1600200"/>
            <a:ext cx="604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pname,  price, category, manufactur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 (buyer,  seller,  store,  prod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persname, phoneNumber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57C6-AA36-4AB8-BB84-109403984D2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day’s Reading Assig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d you read i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es ACID mean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= atomi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= consist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 = iso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 = du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9A1E-E59F-4813-AD0A-B169F607FF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ple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1066680"/>
            <a:ext cx="7130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rule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ple variables introduced automatically by the syst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 name,  price, category, manufactur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om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n’t work when Product occurs more than o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at case the user needs to define variables explici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95600" y="2666880"/>
            <a:ext cx="28843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73720" y="4343400"/>
            <a:ext cx="38646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 AS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87A5-BEF2-4F53-B313-B8E4824413D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ning (Semantics) of SQL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0773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1, a2, …, 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 AS x1, R2 AS x2, …, Rn AS x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Nested loo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3120" y="3809880"/>
            <a:ext cx="7873920" cy="272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 = {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swer = Answ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(a1,…,ak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EB1B-8827-4299-A376-D24605EC7C9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ning (Semantics) of SQL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1, a2, …, 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 AS x1, R2 AS x2, …, Rn AS x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Parallel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n’t impose any order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960" y="3886200"/>
            <a:ext cx="7953120" cy="14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 = {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l assignments x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1, …, x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swer = Answ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(a1,…,ak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BFAB-F541-4D53-9AE7-53A4CA2EF61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Unintuitive SQ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98680" y="1793880"/>
            <a:ext cx="4658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R, S,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R.A=S.A    OR   R.A=T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ing for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      (S     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what happens if T is emp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514600" y="3733920"/>
                <a:ext cx="380880" cy="29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3200400" y="3733920"/>
                <a:ext cx="38736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70FA-3053-4624-8F3B-3BBEAF89FF6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rcis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6640" y="1870200"/>
            <a:ext cx="8748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 pname,  price, category, manufactur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 (buyer,  seller,  store,  prod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 (cname, stock price, count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 per-name, phone number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Ex #1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nd people who bought telephony produ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Ex #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nd names of people who bought American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Ex #3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nd names of people who bought American products and d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buy French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Ex #4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nd names of people who bought American products and th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ve in Seatt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Ex #5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nd people who bought stuff from Joe or bought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a company whose stock prices is more than $5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9D84-1817-4353-A7DD-A81F2BF49B1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at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 Queries in SQL (6.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ies with more than one relation (6.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 assignm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3, “Simple Queries” fro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QL for Web Nerds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Philip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Greenspu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philip.greenspun.com/sql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38A5-2182-49A0-90D3-2A69BC21A7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0720" y="1717560"/>
            <a:ext cx="682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language for querying and manipulating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ctured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ery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37760" y="3241800"/>
            <a:ext cx="5554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standards out ther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I 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92 (a.k.a. SQL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99 (a.k.a. SQL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ndors support various subsets of th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e discuss is common to all of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4D15-0539-4B45-B600-99AF9D333B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Definition Language (DD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/alter/delete tables and their 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lowing lectur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Manipulation Language (DM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 one or more tables – discussed next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/delete/modify tuples in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act-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: package a sequence of SQL statement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n’t discuss in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756C-65F0-48B0-9016-E51F05DE45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omic types, a.k.a. data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bles built from atomic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0658-B638-4925-84E6-30F781FDB4D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Type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760" indent="-45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(20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fixed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760" indent="-45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CHAR(40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variable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760" indent="-45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GINT, INT, SMALLINT, TINY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760" indent="-45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, FLOAT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differ in pr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760" indent="-45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s and dat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760" indent="-45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760" indent="-45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SQL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s...  All are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190F-5E47-4A5D-BFB5-3A2962DD8AD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143000" y="2209680"/>
          <a:ext cx="7696080" cy="3555720"/>
        </p:xfrm>
        <a:graphic>
          <a:graphicData uri="http://schemas.openxmlformats.org/drawingml/2006/table">
            <a:tbl>
              <a:tblPr/>
              <a:tblGrid>
                <a:gridCol w="1924200"/>
                <a:gridCol w="1923840"/>
                <a:gridCol w="1924200"/>
                <a:gridCol w="1923840"/>
              </a:tblGrid>
              <a:tr h="71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610200" y="167652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01120" y="304920"/>
            <a:ext cx="3041280" cy="652680"/>
          </a:xfrm>
          <a:prstGeom prst="wedgeEllipseCallout">
            <a:avLst>
              <a:gd name="adj1" fmla="val 546"/>
              <a:gd name="adj2" fmla="val 279162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 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8520" y="228600"/>
            <a:ext cx="2292120" cy="652680"/>
          </a:xfrm>
          <a:prstGeom prst="wedgeEllipseCallout">
            <a:avLst>
              <a:gd name="adj1" fmla="val -22365"/>
              <a:gd name="adj2" fmla="val 198398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480" y="6095880"/>
            <a:ext cx="2856960" cy="652680"/>
          </a:xfrm>
          <a:prstGeom prst="wedgeEllipseCallout">
            <a:avLst>
              <a:gd name="adj1" fmla="val -1861"/>
              <a:gd name="adj2" fmla="val -116810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ples or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3426-4E5D-4E78-B80A-246186B6D0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Dan Suciu</dc:creator>
  <dc:description/>
  <dc:language>en-US</dc:language>
  <cp:lastModifiedBy>Dan Suciu</cp:lastModifiedBy>
  <dcterms:modified xsi:type="dcterms:W3CDTF">2004-10-01T16:57:47Z</dcterms:modified>
  <cp:revision>195</cp:revision>
  <dc:subject/>
  <dc:title>PowerPoint Presentation</dc:title>
</cp:coreProperties>
</file>