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A66-3F75-4C5C-9C3C-4C72BE88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3D0-9C8B-4157-9212-0D925FE2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91A-BADF-4336-A43B-8CA33E08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329-4ED0-4305-86B1-629C3B5F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A17-C61D-4C5B-AA00-AF12439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730-039C-4F81-B409-D0F3CEC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D52-B868-41D9-9ACC-C02C9F0F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2FC-F1A1-489C-BA27-81A2D6EE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573-0207-40B8-81F1-DC709A2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CC8-994C-4D02-8C0D-D4A933F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2FA-3AE9-4A30-AA83-326C4CC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C2A-0876-4A2D-919D-CF64339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BC0C-8E1D-4334-B652-983CD8F5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9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52C-912D-4E0C-AEBD-75C878A126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391-7DEB-4A75-9F90-7162867949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EF1-8E44-4277-954B-680E58A6B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5440" y="3124080"/>
            <a:ext cx="6464520" cy="33980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972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0840" y="4952880"/>
            <a:ext cx="1949760" cy="652680"/>
          </a:xfrm>
          <a:prstGeom prst="wedgeEllipseCallout">
            <a:avLst>
              <a:gd name="adj1" fmla="val -171226"/>
              <a:gd name="adj2" fmla="val 2590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0D8-8C94-4B56-83A5-5FE96E06F3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a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students.txt – 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920" y="2209680"/>
            <a:ext cx="1949760" cy="652680"/>
          </a:xfrm>
          <a:prstGeom prst="wedgeEllipseCallout">
            <a:avLst>
              <a:gd name="adj1" fmla="val -121976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DA3-BB15-4193-BDB6-7B63F9D750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2160" y="5207040"/>
            <a:ext cx="3041280" cy="1692360"/>
          </a:xfrm>
          <a:prstGeom prst="wedgeEllipseCallout">
            <a:avLst>
              <a:gd name="adj1" fmla="val -29157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00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F08-B702-4946-BB8C-F01E6A958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5B1-3EA9-40DF-B9B7-B393775EFD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260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EAB-F544-4761-9C3B-ED48891B3B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2400480"/>
          <a:ext cx="3898800" cy="14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00480"/>
                    <a:ext cx="3898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29200" y="2400480"/>
          <a:ext cx="2743200" cy="1574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400480"/>
                    <a:ext cx="2743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2296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12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1800" y="3924360"/>
          <a:ext cx="4889520" cy="1422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924360"/>
                    <a:ext cx="48895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96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748-602E-4764-8FFA-AC3F785E71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56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3C3-BFEF-41DA-B737-9E02A2CC0D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1E0-8F5B-445D-AB62-90ECD200F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, Room 662, suciu@cs.washington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 Tuesdays, 10:30-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by appointment)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hushan Mandhani, bhushan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Tung, victort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0C2-B7A8-4E2E-945B-CEEB0BE33D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99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076-110C-40FC-9E5A-C5A0B50C34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3008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28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22240" y="1981080"/>
            <a:ext cx="4336200" cy="3388680"/>
            <a:chOff x="4422240" y="1981080"/>
            <a:chExt cx="4336200" cy="3388680"/>
          </a:xfrm>
        </p:grpSpPr>
        <p:sp>
          <p:nvSpPr>
            <p:cNvPr id="136" name=""/>
            <p:cNvSpPr/>
            <p:nvPr/>
          </p:nvSpPr>
          <p:spPr>
            <a:xfrm flipH="1">
              <a:off x="5748840" y="2427120"/>
              <a:ext cx="126828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24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0856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6920" y="3668400"/>
              <a:ext cx="803880" cy="515160"/>
              <a:chOff x="5416920" y="3668400"/>
              <a:chExt cx="803880" cy="515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692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468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6920" y="36684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416920" y="3668400"/>
                <a:ext cx="803880" cy="515160"/>
                <a:chOff x="5416920" y="3668400"/>
                <a:chExt cx="803880" cy="515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596920" y="36684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692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41880" y="1992240"/>
              <a:ext cx="843120" cy="389520"/>
              <a:chOff x="6941880" y="1992240"/>
              <a:chExt cx="843120" cy="38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698292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7040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4188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620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935400" y="298764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3720" y="198108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32200" y="4354200"/>
              <a:ext cx="1472400" cy="381960"/>
              <a:chOff x="4732200" y="4354200"/>
              <a:chExt cx="1472400" cy="38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732200" y="4354200"/>
                <a:ext cx="161280" cy="158760"/>
                <a:chOff x="4732200" y="4354200"/>
                <a:chExt cx="161280" cy="158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732200" y="4354200"/>
                  <a:ext cx="11556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90880" y="4371840"/>
                  <a:ext cx="10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80492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712200" y="2982600"/>
              <a:ext cx="803880" cy="515160"/>
              <a:chOff x="6712200" y="2982600"/>
              <a:chExt cx="803880" cy="5151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9220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3996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92200" y="29826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712200" y="2982600"/>
                <a:ext cx="803880" cy="515160"/>
                <a:chOff x="6712200" y="2982600"/>
                <a:chExt cx="803880" cy="51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92200" y="29826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71220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770616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036760" y="4049280"/>
              <a:ext cx="3045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80816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816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36760" y="39729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9400" y="3972960"/>
              <a:ext cx="533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27480" y="3135240"/>
              <a:ext cx="837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475400" y="3134880"/>
              <a:ext cx="6854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600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3B4-8827-41E6-A455-FAFA44FEE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D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C6E-254D-4E45-8215-A977EF685C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XML mess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040-9DFC-4792-A2EE-5F1AE33CAA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ecurity, Transactions (maybe 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term: Friday, October 29 (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449-0DF9-4D8B-AC1F-4F0BAC1C0A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December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:30-10:20, EE1 037 (this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49A-CB30-4BD5-9344-F1C79A7C40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B63-3E25-4991-82EA-3DEDC6D25F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thre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195-6D2C-460A-B55C-705A58211A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of everyth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: SQ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(Functional dependencies, normal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nd data structures (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amming and hacking for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: how to meet Real Worl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C91-25BB-4D5C-961D-2E26B421A4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 (see instructions on the Web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5DD-C423-44C4-869A-80AF09333E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Slides are good, and we discuss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275-EC10-45E3-8685-3906BB55E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, but we don’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272-19A6-425A-8A71-8F9D69437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915-7022-48BD-88BB-17BD4B01A9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</a:t>
            </a:r>
            <a:br>
              <a:rPr sz="2800"/>
            </a:b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FD6-B8D3-450D-B1A6-2EA3B09FC2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DC-2B0B-47B7-AA5F-D11445E76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9AA-2404-462B-8DD2-B79D56291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uw</cp:lastModifiedBy>
  <cp:lastPrinted>1998-09-26T21:35:18Z</cp:lastPrinted>
  <dcterms:modified xsi:type="dcterms:W3CDTF">2004-09-29T16:37:04Z</dcterms:modified>
  <cp:revision>312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