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60C-D452-4704-AD06-CC932DBF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3CF-05E6-443A-9764-CA594D86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172-5BDF-436C-AC2F-9A8B40B8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EBA-9D52-427D-921D-D4B6DAE0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EDA-83AC-43B2-8B3F-F67CA35B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1E5-6D80-46A8-838A-A3A79FFD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62B-D525-493A-A031-098E2E4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F76-75FE-4353-ABDD-5FD89193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C72-5918-43C1-B76B-4E5A1D55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CE7-AABC-4608-ABBC-4F733A1C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47E-429B-425D-9CE1-57088F8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FAA-55AE-4B66-8714-5F12891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0219-BD2C-4373-8A93-98E224D2D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9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70B-F11C-4FB9-835A-5A63FA686B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23924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206-A76D-42D5-A606-66D7B37924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it without a DB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e we can!  Start by storing the data in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.txt      courses.txt          professors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rite C or Java programs to implement specific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E61-A207-4FB0-9B70-1DA03CC40A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it without a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25440" y="3124080"/>
            <a:ext cx="6464520" cy="339804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9720" y="26319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 program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0840" y="4952880"/>
            <a:ext cx="1949760" cy="652680"/>
          </a:xfrm>
          <a:prstGeom prst="wedgeEllipseCallout">
            <a:avLst>
              <a:gd name="adj1" fmla="val -171226"/>
              <a:gd name="adj2" fmla="val 2590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62A-BB7E-4C1C-BAA5-D52E76ED7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out an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ras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ata sets (say 50G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a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 access by 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students.txt – 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3566880" cy="131832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5920" y="2209680"/>
            <a:ext cx="1949760" cy="652680"/>
          </a:xfrm>
          <a:prstGeom prst="wedgeEllipseCallout">
            <a:avLst>
              <a:gd name="adj1" fmla="val -121976"/>
              <a:gd name="adj2" fmla="val 614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B39-20F5-43DC-AEA3-46C68C611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02160" y="5207040"/>
            <a:ext cx="3041280" cy="1692360"/>
          </a:xfrm>
          <a:prstGeom prst="wedgeEllipseCallout">
            <a:avLst>
              <a:gd name="adj1" fmla="val -29157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1804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00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45D-C54F-4F75-B7F6-A8C24C87D1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sees SQL, which ha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ind the scenes the DBM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 (concurrency, recov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393-AC55-43FA-9438-9A90C63574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DD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ith DM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2600" y="2590920"/>
            <a:ext cx="5841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udent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CHAR(9) PRIMARY KEY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HAR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5040" y="5029200"/>
            <a:ext cx="5514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(‘Charles’, ‘123456789’, ‘undergradua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015-1024-4781-8253-D124D29F54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 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11280" y="515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15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2400480"/>
          <a:ext cx="3898800" cy="14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00480"/>
                    <a:ext cx="3898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29200" y="2400480"/>
          <a:ext cx="2743200" cy="1574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400480"/>
                    <a:ext cx="2743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22960" y="198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812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1800" y="3924360"/>
          <a:ext cx="4889520" cy="1422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924360"/>
                    <a:ext cx="48895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15120" y="3540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960" y="5715000"/>
            <a:ext cx="665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= sepa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9EE-2FD3-439E-B2F1-9ADC1FEA67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0040" y="2590920"/>
            <a:ext cx="52282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GIN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Students.SSN, Courses.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tudents,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tudents.name = ‘Mary Johnson’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.name = ‘CSE444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More updates her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thing-went-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ROLL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560" y="628956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ystem crashes, the transaction is still either committed or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61E-0E23-470F-B6FD-E751761972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323-21A5-45FA-B458-012454D71C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, Room 662, suciu@cs.washington.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 Tuesdays, 10:30-11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by appointment)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hushan Mandhani, bhushan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Tung, victort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D91-CABF-4F02-917F-BFEC503956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9960" y="2895480"/>
            <a:ext cx="61182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5D9-FFA5-4900-A640-1284F2EC72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, behind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3008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360" y="2362320"/>
            <a:ext cx="497808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28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22240" y="1981080"/>
            <a:ext cx="4336200" cy="3388680"/>
            <a:chOff x="4422240" y="1981080"/>
            <a:chExt cx="4336200" cy="3388680"/>
          </a:xfrm>
        </p:grpSpPr>
        <p:sp>
          <p:nvSpPr>
            <p:cNvPr id="136" name=""/>
            <p:cNvSpPr/>
            <p:nvPr/>
          </p:nvSpPr>
          <p:spPr>
            <a:xfrm flipH="1">
              <a:off x="5748840" y="2427120"/>
              <a:ext cx="126828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24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0856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6920" y="3668400"/>
              <a:ext cx="803880" cy="515160"/>
              <a:chOff x="5416920" y="3668400"/>
              <a:chExt cx="803880" cy="515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692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468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6920" y="36684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416920" y="3668400"/>
                <a:ext cx="803880" cy="515160"/>
                <a:chOff x="5416920" y="3668400"/>
                <a:chExt cx="803880" cy="515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596920" y="36684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1692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41880" y="1992240"/>
              <a:ext cx="843120" cy="389520"/>
              <a:chOff x="6941880" y="1992240"/>
              <a:chExt cx="843120" cy="389520"/>
            </a:xfrm>
          </p:grpSpPr>
          <p:sp>
            <p:nvSpPr>
              <p:cNvPr id="147" name=""/>
              <p:cNvSpPr/>
              <p:nvPr/>
            </p:nvSpPr>
            <p:spPr>
              <a:xfrm>
                <a:off x="698292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7040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4188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3620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935400" y="298764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3720" y="198108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32200" y="4354200"/>
              <a:ext cx="1472400" cy="381960"/>
              <a:chOff x="4732200" y="4354200"/>
              <a:chExt cx="1472400" cy="3819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732200" y="4354200"/>
                <a:ext cx="161280" cy="158760"/>
                <a:chOff x="4732200" y="4354200"/>
                <a:chExt cx="161280" cy="158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732200" y="4354200"/>
                  <a:ext cx="11556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90880" y="4371840"/>
                  <a:ext cx="10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80492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712200" y="2982600"/>
              <a:ext cx="803880" cy="515160"/>
              <a:chOff x="6712200" y="2982600"/>
              <a:chExt cx="803880" cy="5151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9220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3996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92200" y="29826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6712200" y="2982600"/>
                <a:ext cx="803880" cy="515160"/>
                <a:chOff x="6712200" y="2982600"/>
                <a:chExt cx="803880" cy="51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892200" y="29826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71220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770616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036760" y="4049280"/>
              <a:ext cx="3045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80816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816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36760" y="39729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9400" y="3972960"/>
              <a:ext cx="533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27480" y="3135240"/>
              <a:ext cx="837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475400" y="3134880"/>
              <a:ext cx="68544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6000" y="60609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best execution plan for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1C6-398B-4594-8F0E-90F655AEB8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commercial database vend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D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ree database systems (Unix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SE444 we use SQL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D13-27A7-40AA-8769-DA9F22F5CB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s in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XML XM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s with XM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between XML and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XML mess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research here at UW on XML a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0CC-020B-49EF-B5D8-FA4C2CE04E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(Chapter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al data model (Chapter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design (Chapters 2, 3,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ecurity, Transactions (maybe in Part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term: Friday, October 29 (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148-E095-4889-BED1-AB72974AB1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, indexes (Chapters 1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 and optimization (Chapter 15,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(Chapter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December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:30-10:20, EE1 037 (this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B93-3586-480C-B460-4CE4492FB3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 25%  (4 of them; some light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30%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E7B-BB67-4DF2-A215-E9E3B86760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data management needs of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have thre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 to Real World phases of system evolution i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352-1585-45E3-B559-759B560B66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is course about, reall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of everything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: SQ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(Functional dependencies, normal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and data structures (in Part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rogramming and hacking for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ly: how to meet Real Worl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829-77BD-48C0-8867-3E7979F321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 (see instructions on the Web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39E-0EAC-4B5A-BF93-8B7D17CFF1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Slides are good, and we discuss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6E2-27B4-4D95-B6E9-A5F0A4882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, but we don’t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005-E785-47AD-B5DC-831B2D159F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quired R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reading assignments from the We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, especially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QL, a good source of information is the MSDN library (on your Windows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722-9C9A-4D07-9A46-D68D0EB5A3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Frida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</a:t>
            </a:r>
            <a:br>
              <a:rPr sz="2800"/>
            </a:b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67F-E985-4988-803D-63DA1BCF89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lational Database Management Syste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 =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=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that stor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C program written by someone else that accesses and updates those files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FA3-762A-4D52-8CA2-4B70E97636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RDBMS us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traditional “databas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large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D5E-2738-4959-B8E3-A435A2AEA1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uw</cp:lastModifiedBy>
  <cp:lastPrinted>1998-09-26T21:35:18Z</cp:lastPrinted>
  <dcterms:modified xsi:type="dcterms:W3CDTF">2004-09-29T16:37:04Z</dcterms:modified>
  <cp:revision>312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