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B37-84AF-45AB-81BE-5C1A31D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C5-A95D-4269-9784-D098150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60E-44E9-4A49-80E7-379BD5E0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3A5-DD92-4879-A996-58083C3F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553-998B-4709-A00A-7D45537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71B-9FEE-46F3-8CE2-5A84AA7B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D6F-CAA5-4F89-AADC-947ADC6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020-05FF-456F-A207-BD83E3D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DB0-206A-43A3-AC11-0A0099D4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B6D-252E-4D14-8E92-8781B22F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87E-CF45-4918-9E3E-771AD1A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80D-85F7-4EA7-A116-3E995A7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009-B09A-4215-B12A-B59B5A07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3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December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763-F2D7-4DEB-B1C9-7BC9A9B47E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lations t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XML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8F4-FDD6-4592-9502-04FFB54B7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records into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76F-321E-4DA4-9179-DEB60C2039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56F-7ED9-4003-9F7F-598B79A69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/spars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/secondary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B95-2045-4A6B-9F47-F0D0EE7124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-loop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ass algorithms based on hash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base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BB7-35B9-4CCF-A7DE-7E1DBCC584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logic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id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based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programming for jo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2E5-1086-40F8-B95F-33FEBE2F7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398-F95E-41C9-8470-34681877A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d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ll require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ifficulty may be un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e easy on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7C0-2636-447D-AF5C-83E3E5F2D2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3 out of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: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: 15%: may be overridden by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: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s: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0E8-EAF1-422B-8876-89C91BBAA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885-2245-460E-9A9D-50027B68C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: Friday, Decemb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8:30 – 10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: thi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 exam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5F0-E9B1-4485-B155-161F47A52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odeling/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664-BB2D-4800-8B36-AAFA627C1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 diagrams, O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093-96D6-45A3-99C3-582B37293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5BE-B75F-425E-87FC-8DFB05353F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463-4C0C-481B-9950-6BDB4FC4A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-from-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07D-3A6F-4DF0-A6B9-6861A1EB0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nd modifying relation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FFE-78F0-47F9-AC5D-BC7B1FCF0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1B3-233E-4322-A8D6-EC84D15FE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2-10T08:14:06Z</dcterms:modified>
  <cp:revision>479</cp:revision>
  <dc:subject/>
  <dc:title>Lecture 09:</dc:title>
</cp:coreProperties>
</file>