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17590F-92DB-4292-8DA1-52BB62D95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ecause if the system crashes before it writes &lt;END CKPT&gt; then we cannot use the checkpoint.  We use &lt;END CKPT&gt; to ensure that the system didn’t crash and the checkpoint ter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918-23CB-4FC5-B385-35E11FF5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870-5ECC-49B4-A12B-90CDCB95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973-4CD6-4C5F-995D-C2840A07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69C-D1CB-430D-952E-6FD16275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800-65F5-471D-AB5B-AD2742F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67D-59F2-49FB-BD6A-03DB4F63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599-B262-4010-9177-10973EE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D64-B510-43FF-95FE-527B76D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804-3157-4984-97BD-756112F6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64C-E180-4EBE-9BE0-7500B41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553-3DA1-400C-8622-74C6615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98B-D870-4599-BB77-3676160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06FB-ABA4-4198-B5D0-C3ED7394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1A2-7719-4E50-9E10-4189B67388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7339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6,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ier transactions 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4, T5,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5791320"/>
            <a:ext cx="262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Q: why do we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&lt;END CKPT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157-507A-4E1E-A417-1B153B8FD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TART T&gt; = transaction T h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MMIT T&gt; = T has com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ABORT T&gt;= T has ab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v&gt;= T has updated element X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F6E-3F0C-4284-981C-3EE832AFB8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-Logg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: If T modifies X, then both &lt;T,X,v&gt; and &lt;COMMIT T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: OUTPUTs are don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045-79F3-4580-8FF9-62F22328F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658-6C85-4C0A-A662-C453D8AD7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Decide for each transaction T whether it is comple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COMMIT T&gt;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.&lt;ABORT T&gt;…….    =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TART T&gt;………………………   =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Read log from the beginning, redo all updates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C39-E111-481E-9070-3EDD8AFBF1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D14-30A4-4873-8719-9FBD43B718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to disk all blocks of committed transac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le continuing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blocks have been written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721-D721-4487-83EC-B065112151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o Recovery with 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905120"/>
            <a:ext cx="266724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MIT T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4, T5, T6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RT CKPT T9, T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5560" y="2708280"/>
            <a:ext cx="20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ND 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18480" y="2556000"/>
            <a:ext cx="16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, T5, T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80" y="4633920"/>
            <a:ext cx="2038320" cy="916920"/>
          </a:xfrm>
          <a:prstGeom prst="borderCallout1">
            <a:avLst>
              <a:gd name="adj1" fmla="val 18750"/>
              <a:gd name="adj2" fmla="val -8333"/>
              <a:gd name="adj3" fmla="val 8986"/>
              <a:gd name="adj4" fmla="val 15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UTP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1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to be on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1FE-4DBD-400A-8691-F3DEAE97D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Undo/Re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logg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seen, T definitely has written all its data to disk (hence, don’t need to redo) –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must be done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&lt;COMMIT T&gt; is not seen, T definitely has not written any of its data to disk (hence there is not dirty data on disk, no need to undo) – in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more flexibility on when to OUTPUT: undo/redo logging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F2D-6FBC-4269-AEC7-7B2E593080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records, only on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,X,u,v&gt;= T has updated element X,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was u, and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1A3-30DF-4C70-B794-B492733A4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using undo logging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 logging 1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/undo 17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A56-2537-4CCB-AB2B-5249C8395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/Redo-Logging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1: If T modifies X, then &lt;T,X,u,v&gt; must be written to disk before X is written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e are free to OUTPUT early or late (i.e. before or after &lt;COMMIT T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A0D-BD24-4E98-A7D3-D1C3CCDB8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914400"/>
          <a:ext cx="8534520" cy="4959360"/>
        </p:xfrm>
        <a:graphic>
          <a:graphicData uri="http://schemas.openxmlformats.org/drawingml/2006/table">
            <a:tbl>
              <a:tblPr/>
              <a:tblGrid>
                <a:gridCol w="1461960"/>
                <a:gridCol w="1067040"/>
                <a:gridCol w="1066680"/>
                <a:gridCol w="1066680"/>
                <a:gridCol w="1065240"/>
                <a:gridCol w="1067040"/>
                <a:gridCol w="17398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STAR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T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A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:=t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,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T,B,8,16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COMMIT T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AA3-1D1E-4F85-99B8-E00AFE039A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ystem’s crash, run recovery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all committed transaction,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all uncommitted transactions,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C94-2DED-42CC-8DF3-3631D6DEA7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/Re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7200" y="1905120"/>
            <a:ext cx="16909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 X2, 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828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780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4D1-E0B2-49F9-BF03-C4EFF7532A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7720" y="1905120"/>
            <a:ext cx="16909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6,X6,v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288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26320" y="1946160"/>
            <a:ext cx="258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1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updat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2 in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ne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he lo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334120"/>
            <a:ext cx="914400" cy="612720"/>
          </a:xfrm>
          <a:prstGeom prst="wedgeEllipseCallout">
            <a:avLst>
              <a:gd name="adj1" fmla="val 154166"/>
              <a:gd name="adj2" fmla="val -41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975-5D92-4884-B349-6393F0838B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all undo command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mpo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erform them a second time, no harm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if there is a system crash during recovery, simply restart recovery from scr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DFF-9A73-452A-BA96-9F1E493E7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Undo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we stop reading the lo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stop until we reach the beginning of the log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dea: use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507-2FD5-4142-9601-7F9392A0D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point the database period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ccepting new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until all current transaction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sh log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CKPT&gt; log record, fl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B34-4765-46FF-BE17-A8A4E34DCB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Recovery with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6680" y="1905120"/>
            <a:ext cx="16909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9,X9,v9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RT T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1,X1,v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5,X5,v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4,X4,v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MIT T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3,X3,v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2,X2,v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280" y="270828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cov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op a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K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0400" y="3886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886200"/>
            <a:ext cx="152280" cy="2666880"/>
          </a:xfrm>
          <a:custGeom>
            <a:avLst/>
            <a:gdLst>
              <a:gd name="textAreaLeft" fmla="*/ 0 w 152280"/>
              <a:gd name="textAreaRight" fmla="*/ 55080 w 1522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T2,T3,T4,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1981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897-4F4B-4AAB-8997-28EB8F10C3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with checkpointing: database freezes during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like to checkpoint while database is 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nonquiescent checkpo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1160" y="560376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= being quiet, still, or at rest;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quiescent = allowing transactions to be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97B-1BBB-4603-BB12-6C33C01D3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quiescent Checkpo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&lt;START CKPT(T1,…,Tk)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1,…,Tk are all activ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norma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of T1,…,Tk have completed, write &lt;END CKP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2F4-2C93-40CC-8994-F79CA0256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2-08T01:37:39Z</dcterms:modified>
  <cp:revision>470</cp:revision>
  <dc:subject/>
  <dc:title>Lecture 09:</dc:title>
</cp:coreProperties>
</file>