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C632D7-FEA5-4A22-9D43-5525D3F8D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746-C5CA-4B28-905C-2A89A4F4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B8D-9E1B-462F-9AA3-0DB6A71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03B-C04F-40A5-987A-D75D4021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A52-9ECD-4949-8BD9-4678F33C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9B3-3385-470F-B067-612FF03C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BD5-8B4F-41B3-B829-62C9FCD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2AA-BFCE-4FEF-8B00-BFA7DD20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5C7-C714-4651-A81C-F8B256A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F26-D7C1-4793-83D9-0EA9CDE8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50E-CDD3-4022-BC4D-EA5F9C05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896-4B32-4C59-AA13-B0889B9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2A8-9BD8-41D0-9039-E5A4DAA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EA26-2BAA-4D5F-BFD9-56A5FC81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December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731-5EAC-492A-92A1-F78752D399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 has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has updated element X, and i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wa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44E-8FBF-4ED4-9062-6DDAA5DDD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: If T modifies X, then &lt;T,X,v&gt; must be written to disk before X is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2: If T commits, then &lt;COMMIT T&gt; must be written to disk only after all changes by T are output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fore the transaction com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945-06EC-4721-8B0B-E92FCD8C0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28600" y="914400"/>
          <a:ext cx="8534520" cy="541008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20A-27D0-4C0B-A177-BCEE4E484D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 2. Undo all modifications by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756-A330-411E-A454-7015000F6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manag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lo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om the 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MMIT T&gt;: 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BORT T&gt;: mark T a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,X,v&gt;: if T is not comple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X=v to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else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79B-6141-4307-92D5-6FE09F5AD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2632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509-26AA-4B97-A194-1EAD562B0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5C7-A0E7-4A1B-B47E-3FEEB73F8A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48E-DACB-474F-8F2A-E0B237420D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96F-1AAB-4D4B-BBCB-82335A57BC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F3E-E0F6-40C8-B2DE-1FB473D05D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F90-DD67-48EF-B0A9-BBCC7089B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16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769-3EEA-40E3-B1BC-E99C6A872E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B32-DF39-4AFB-9E00-9CBB467360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B85-0FC3-4A6C-8FB6-CBFF4A52AA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28800" y="1371600"/>
          <a:ext cx="6095880" cy="5079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Cr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en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ng data 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aint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l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r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ndancy: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RAID, 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e, theft, bankruptcy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insurance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job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failures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.g.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DATABAS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RECO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92600" y="5392440"/>
            <a:ext cx="1703520" cy="1172520"/>
          </a:xfrm>
          <a:prstGeom prst="wedgeEllipseCallout">
            <a:avLst>
              <a:gd name="adj1" fmla="val 56736"/>
              <a:gd name="adj2" fmla="val 23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F81-6982-4945-8637-9419E558F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stem crashes, internal state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ich parts executed and which di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dy: us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records every single action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AC9-7900-4451-8DAA-ECCBA8A38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iece of code that must be executed at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-hoc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mmand = on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mbedded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tarts = first SQL command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end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BACK (=ab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8F2-EC6C-4F73-9A21-FA5DC8B91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the database is composed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1 element = 1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maller (=1 record) or larger (=1 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each transaction reads/writes so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A79-96AE-4BDE-9004-2B47C5106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Operations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lement X to memory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element X to transaction local vari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(X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ransaction local variable t to elem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element X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72E-C9F4-4DAA-805F-83FF25A42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(A,t); t := t*2;WRITE(A,t); READ(B,t); t := t*2;WRITE(B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752480"/>
          <a:ext cx="7848720" cy="4959360"/>
        </p:xfrm>
        <a:graphic>
          <a:graphicData uri="http://schemas.openxmlformats.org/drawingml/2006/table">
            <a:tbl>
              <a:tblPr/>
              <a:tblGrid>
                <a:gridCol w="1689120"/>
                <a:gridCol w="1231920"/>
                <a:gridCol w="1231920"/>
                <a:gridCol w="1231920"/>
                <a:gridCol w="1231920"/>
                <a:gridCol w="123192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7D8-C3F6-46A7-92B7-29885964C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-only file contain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multiple transactions run concurrently, log records are interle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system crash, use lo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some transaction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other transactions that didn’t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kinds of logs: undo, redo, undo/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5CB-41C6-477A-AE08-4D19B3A82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2-05T07:47:54Z</dcterms:modified>
  <cp:revision>465</cp:revision>
  <dc:subject/>
  <dc:title>Lecture 09:</dc:title>
</cp:coreProperties>
</file>