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96ABC59-1BD3-4667-9C9F-3B290C775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ecause if the system crashes before it writes &lt;END CKPT&gt; then we cannot use the checkpoint.  We use &lt;END CKPT&gt; to ensure that the system didn’t crash and the checkpoint ter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C54-BA4B-44B5-B23E-E7726B22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EB1-0A6D-46C1-8E06-1BD4B96F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E2B-8A62-4B7D-8AF2-07D09307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0BA3-8EC9-465F-992A-C5CE64FA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F7F-6DAC-4ACE-99F6-A25B1E1C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31DE-C601-496C-9EBC-002C40A7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08C-CF62-416E-80CE-8B6DA783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3C1-98C0-4371-9973-067BCED7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E9A-7BA1-424F-A5C5-C90099E0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A2D-7587-4BDC-AAAB-2DA3E3D6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49A-EEEF-4DD7-9187-7289655D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7AF-C8E4-4898-98C1-29DBD2C0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01CB-1331-417E-A2A6-CFD27F531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7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/Cost Estimation,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December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310-D7AF-411D-8ACC-659C26AA81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on more than one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,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T(S)/(max(V(R,A),V(S,A))*max(V(R,B),V(S,B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ADD-3449-4F7D-B0A8-4A63CB53C4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21F-DFBF-400F-9009-11BC70385E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2120"/>
                <a:gridCol w="1122480"/>
                <a:gridCol w="1120680"/>
                <a:gridCol w="1120680"/>
                <a:gridCol w="112104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19E-8507-468F-A392-B7AE67EAE3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the size of 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36F-DE84-4741-9291-5236318490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Employee, Salary) =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Ranks, Salary) = 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roper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=Emplo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mpl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uple t in Emplo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oins with how many tuples in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: with T(Employe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/T(Employee) *  T(Employee)/250 =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/ 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(Employe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)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=1,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/ 25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200x8 + 800x20 + 5000x40 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2000x80 + 6500x100 + 500x2)/25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1E53-3C94-4CDE-91E5-CFEA653948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828800" y="1371600"/>
          <a:ext cx="6095880" cy="5079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Cr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ven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ong data 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aint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cl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cras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ndancy: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RAID, arch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e, theft, bankruptcy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 insurance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jobs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failures: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DATABAS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RECO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192600" y="5392440"/>
            <a:ext cx="1703520" cy="1172520"/>
          </a:xfrm>
          <a:prstGeom prst="wedgeEllipseCallout">
            <a:avLst>
              <a:gd name="adj1" fmla="val 56736"/>
              <a:gd name="adj2" fmla="val 238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402-78BA-446E-B2FD-1E90A1A9B3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Fail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ystem crashes, internal state i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ich parts executed and which di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dy: use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that records every single action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06C-092F-4925-A900-2CD6C60F57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iece of code that must be executed atom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-hoc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mmand = one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mbedded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starts = first SQL command iss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end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LBACK (=ab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491-F932-445A-9BC6-FC2C931802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the database is composed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1 element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smaller (=1 record) or larger (=1 re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each transaction reads/writes som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26BA-4D05-45D8-9429-F6C142642A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Operations of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element X to memory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element X to transaction local variabl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ransaction local variable t to elem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element X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A2C9-45FE-41BB-96F6-6647E4B1DE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: 16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using undo logging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6C3-F4D6-4493-A54C-3035436736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(A,t); t := t*2;WRITE(A,t); READ(B,t); t := t*2;WRITE(B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1752480"/>
          <a:ext cx="784872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920"/>
                <a:gridCol w="1231920"/>
                <a:gridCol w="1231920"/>
              </a:tblGrid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5E0-75D3-4B68-B870-4821240549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-only file containing 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multiple transactions run concurrently, log records are interlea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system crash, use log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some transaction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other transactions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logs: undo, redo, undo/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FAB-2FCA-42C9-8D0F-F56BD03F64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T has be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updated element X, and i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wa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3D8F-0B3B-4D83-9F59-505253A7EE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: If T modifies X, then &lt;T,X,v&gt; must be written to disk before X is output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2: If T commits, then &lt;COMMIT T&gt; must be written to disk only after all changes by T are output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a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fore the transaction com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F26-2164-4242-B179-C472B925A6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914400"/>
          <a:ext cx="8534520" cy="541008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C88-36CA-4B87-AC38-FF465C8ED5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2. Undo all modifications by incomplet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CBE-3089-4088-9787-3B606BCE88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manag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lo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om the 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:  mark T as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: mark T as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: if T is not comple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rite X=v to dis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else 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: 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131-BCDE-4F29-AFD3-8E534D2D3E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7720" y="1905120"/>
            <a:ext cx="169092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6,X6,v6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82880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26320" y="1946160"/>
            <a:ext cx="258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1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updat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2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r b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ne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the lo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5334120"/>
            <a:ext cx="914400" cy="612720"/>
          </a:xfrm>
          <a:prstGeom prst="wedgeEllipseCallout">
            <a:avLst>
              <a:gd name="adj1" fmla="val 154166"/>
              <a:gd name="adj2" fmla="val -41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775-86FE-4540-9693-279B0F7ED6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all undo command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mpo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perform them a second time, no harm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if there is a system crash during recovery, simply restart recovery from scr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C50-FEC8-485E-B5EB-49D39529B1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o we stop reading the log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stop until we reach the beginning of the log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imprac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idea: use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C31-8CD4-4BE7-9D2B-7EA8B4E674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(E) and V(E,a) in order to estimate cost and choose a good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impossible without computing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‘estimate’ them inst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in large errors, when E is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se errors are uniform, and the optimizer will usually prefer a good plan over a poor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9B3-F680-45A1-81AF-537D56E6D9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point the database period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accepting new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until all current transaction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log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CKPT&gt; log record, fl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m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B52-8B81-4EBB-9D80-695375708D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6680" y="1905120"/>
            <a:ext cx="169092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9,X9,v9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comple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3886200"/>
            <a:ext cx="152280" cy="2666880"/>
          </a:xfrm>
          <a:custGeom>
            <a:avLst/>
            <a:gdLst>
              <a:gd name="textAreaLeft" fmla="*/ 0 w 152280"/>
              <a:gd name="textAreaRight" fmla="*/ 55080 w 15228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s T2,T3,T4,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9063-55FC-48FA-B5EA-948FCD42CB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with checkpointing: database freezes during check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like to checkpoint while database is 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nonquiescent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1160" y="5603760"/>
            <a:ext cx="65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escent = being quiet, still, or at rest; in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quiescent = allowing transactions to be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D1B-8ACF-4F56-9E65-3C78123030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of T1,…,Tk have completed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EB5-8937-4E8C-A6D2-6F8547BF8B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733920"/>
            <a:ext cx="76320" cy="106668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6,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lier transactions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502920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60" y="5791320"/>
            <a:ext cx="262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Q: why do we n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&lt;END CKPT&gt;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1D0-C6F6-453C-A657-C4EEF560FA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: 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 projection doesn’t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36D-5EC1-41A9-87FF-ABB110541A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ng the size of a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san be anything from 0 to T(R) – V(R,A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value: T(S) = T(R)/V(R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&lt;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can be anything from 0 to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T(S) = T(R)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C5A-0557-475B-8693-F4F8ED2524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natural join,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set of A values are disjoint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is a key in S and a foreign key in R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has a unique value, the same in R and S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 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C3F-B9C7-416A-96A7-24EF29B8EB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ainment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V(R,A) &lt;= V(S,A), then the set of A values of R is included in the set of A values of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is indeed holds when A is a foreign key in R, and a key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rvation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or any other attribute B,  V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, B) = V(R, B)   (or V(S, B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EA9B-9B88-4F83-8BAE-BECBC8A3EE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V(R,A) &lt;=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each tuple t in R jo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uple(s)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verage T(S)/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will contribute T(S)/V(S,A) tuples in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T(R) T(S) /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: T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T(R) T(S) / max(V(R,A),V(S,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A54-C8BE-4052-B255-AE0F24F9C1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10000,  T(S) = 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A) = 100,  V(S,A) 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is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10000 20000/200 = 1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768-9F26-4FF3-9AD0-F56B6B2687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mgubanov</cp:lastModifiedBy>
  <dcterms:modified xsi:type="dcterms:W3CDTF">2003-12-03T18:15:40Z</dcterms:modified>
  <cp:revision>460</cp:revision>
  <dc:subject/>
  <dc:title>Lecture 09:</dc:title>
</cp:coreProperties>
</file>