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9AF7DA-FAB8-4548-B235-568C3B1A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 = B(R)+B(S)+B(T)+B(U)+2B(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) + 2B(R ⋈ S ⋈ 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max(B(S), B(T), B(U)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= B(R)+B(S)+B(T)+B(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 = B(S) + B(T) + B(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429-74A8-49F8-A010-4659E266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9CD-524D-4DC5-A5CA-D23D0F59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949-8D5A-4762-A48A-0565C8E5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701-E4E7-4F11-B3A8-8F29AE3F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2C5-C53D-4D07-B511-69C8AE4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0B6-2627-4914-A614-55185E76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8B8-CA1D-4165-AB27-BA2062F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CC5-4E25-4CB1-AF9A-69762AC5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9C8-6001-4FB8-B8D3-A43EB91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A5E-E088-4CF6-8155-63CAADD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68C-A721-4462-9959-AD411FF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0DB-BEF7-4E6D-A37F-F8F3418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13A7-864E-4FCA-A4ED-DCAD8E15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26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ost Esti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Decemb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AE5-22C8-4509-B956-5A26BC1BDF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only join qu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s are pushed down (i.e. ea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s are pulled up (i.e. 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exponential time in genera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linear joins may reduc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rtesian products may reduce time furth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 product joins: in data warehous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’s optimizers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 b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erver and D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 arbitrary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5A5-C83E-4B7E-A157-FBA1A305E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Qu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lgorithm to implement each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ccount for more than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memory do we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nput operand(s) sor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for each intermediate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ter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8B3-765E-4181-9B3A-6EC81FAAF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5" idx="3"/>
            <a:endCxn id="76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  <a:endCxn id="77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7" idx="3"/>
            <a:endCxn id="81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7" idx="5"/>
            <a:endCxn id="82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6" idx="5"/>
            <a:endCxn id="80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5" idx="5"/>
            <a:endCxn id="83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1847880" y="4419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600" y="1825560"/>
            <a:ext cx="3639960" cy="4289400"/>
          </a:xfrm>
          <a:custGeom>
            <a:avLst/>
            <a:gdLst>
              <a:gd name="textAreaLeft" fmla="*/ 177480 w 3639960"/>
              <a:gd name="textAreaRight" fmla="*/ 3462480 w 3639960"/>
              <a:gd name="textAreaTop" fmla="*/ 177480 h 4289400"/>
              <a:gd name="textAreaBottom" fmla="*/ 4111920 h 4289400"/>
            </a:gdLst>
            <a:ahLst/>
            <a:rect l="textAreaLeft" t="textAreaTop" r="textAreaRight" b="textAreaBottom"/>
            <a:pathLst>
              <a:path w="21600" h="25453">
                <a:moveTo>
                  <a:pt x="3600" y="0"/>
                </a:moveTo>
                <a:arcTo wR="3600" hR="3600" stAng="16200000" swAng="-5400000"/>
                <a:lnTo>
                  <a:pt x="0" y="21853"/>
                </a:lnTo>
                <a:arcTo wR="3600" hR="3600" stAng="10800000" swAng="-5400000"/>
                <a:lnTo>
                  <a:pt x="18000" y="25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1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1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V2,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V2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38862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3560" y="23623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E1C-AC7E-454A-94FF-164C8A6AD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 Intermediate Results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F4F-6CFF-4C21-A128-1E40C9036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6040" y="4761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3"/>
            <a:endCxn id="100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7"/>
          </p:cNvCxnSpPr>
          <p:nvPr/>
        </p:nvCxnSpPr>
        <p:spPr>
          <a:xfrm flipH="1">
            <a:off x="1593000" y="4110120"/>
            <a:ext cx="6627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3140280" y="4781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8320" y="5827680"/>
            <a:ext cx="6393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705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4480" y="34862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1" idx="3"/>
            <a:endCxn id="105" idx="7"/>
          </p:cNvCxnSpPr>
          <p:nvPr/>
        </p:nvCxnSpPr>
        <p:spPr>
          <a:xfrm flipH="1">
            <a:off x="758520" y="5447880"/>
            <a:ext cx="45000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01" idx="5"/>
            <a:endCxn id="106" idx="1"/>
          </p:cNvCxnSpPr>
          <p:nvPr/>
        </p:nvCxnSpPr>
        <p:spPr>
          <a:xfrm>
            <a:off x="1593720" y="5448240"/>
            <a:ext cx="38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0" idx="5"/>
            <a:endCxn id="104" idx="1"/>
          </p:cNvCxnSpPr>
          <p:nvPr/>
        </p:nvCxnSpPr>
        <p:spPr>
          <a:xfrm>
            <a:off x="2641680" y="4110120"/>
            <a:ext cx="612000" cy="80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9" idx="5"/>
            <a:endCxn id="107" idx="1"/>
          </p:cNvCxnSpPr>
          <p:nvPr/>
        </p:nvCxnSpPr>
        <p:spPr>
          <a:xfrm>
            <a:off x="3651120" y="2725200"/>
            <a:ext cx="6357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5151240" y="2702520"/>
            <a:ext cx="370404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Tabl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(R, x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1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2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oin(HashTable3, 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(Answer,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819160" y="43434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900240" y="3095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23680" y="56386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2280" y="1905120"/>
            <a:ext cx="2514600" cy="3047760"/>
            <a:chOff x="152280" y="1905120"/>
            <a:chExt cx="2514600" cy="3047760"/>
          </a:xfrm>
        </p:grpSpPr>
        <p:sp>
          <p:nvSpPr>
            <p:cNvPr id="117" name=""/>
            <p:cNvSpPr/>
            <p:nvPr/>
          </p:nvSpPr>
          <p:spPr>
            <a:xfrm flipV="1">
              <a:off x="152280" y="1905120"/>
              <a:ext cx="2514600" cy="3047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570000">
              <a:off x="484920" y="324792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pe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942-0F1C-4233-963C-8BDF577B3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Betwee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B(R), B(S), B(T), B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ost of the pl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in memory do we n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C9-5181-448B-A6E4-6281483A1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in Bush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3440" y="20383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422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7320" y="485784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23" idx="7"/>
          </p:cNvCxnSpPr>
          <p:nvPr/>
        </p:nvCxnSpPr>
        <p:spPr>
          <a:xfrm flipH="1">
            <a:off x="2640960" y="27252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3" idx="3"/>
            <a:endCxn id="124" idx="7"/>
          </p:cNvCxnSpPr>
          <p:nvPr/>
        </p:nvCxnSpPr>
        <p:spPr>
          <a:xfrm flipH="1">
            <a:off x="1304280" y="4109760"/>
            <a:ext cx="95148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3668040" y="584820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4760" y="5848200"/>
            <a:ext cx="638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6160" y="5848200"/>
            <a:ext cx="5742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3"/>
            <a:endCxn id="128" idx="7"/>
          </p:cNvCxnSpPr>
          <p:nvPr/>
        </p:nvCxnSpPr>
        <p:spPr>
          <a:xfrm flipH="1">
            <a:off x="713520" y="5544720"/>
            <a:ext cx="2055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4" idx="4"/>
            <a:endCxn id="129" idx="0"/>
          </p:cNvCxnSpPr>
          <p:nvPr/>
        </p:nvCxnSpPr>
        <p:spPr>
          <a:xfrm>
            <a:off x="1112760" y="5659200"/>
            <a:ext cx="13104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3" idx="5"/>
            <a:endCxn id="133" idx="1"/>
          </p:cNvCxnSpPr>
          <p:nvPr/>
        </p:nvCxnSpPr>
        <p:spPr>
          <a:xfrm>
            <a:off x="2641320" y="4110120"/>
            <a:ext cx="2595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2" idx="5"/>
            <a:endCxn id="135" idx="1"/>
          </p:cNvCxnSpPr>
          <p:nvPr/>
        </p:nvCxnSpPr>
        <p:spPr>
          <a:xfrm>
            <a:off x="3651120" y="2725200"/>
            <a:ext cx="1758240" cy="104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 flipH="1">
            <a:off x="2666880" y="419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9568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66680" y="5715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76520" y="36385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02272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3"/>
            <a:endCxn id="139" idx="7"/>
          </p:cNvCxnSpPr>
          <p:nvPr/>
        </p:nvCxnSpPr>
        <p:spPr>
          <a:xfrm flipH="1">
            <a:off x="4784040" y="4325400"/>
            <a:ext cx="624600" cy="83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9" idx="3"/>
            <a:endCxn id="127" idx="7"/>
          </p:cNvCxnSpPr>
          <p:nvPr/>
        </p:nvCxnSpPr>
        <p:spPr>
          <a:xfrm flipH="1">
            <a:off x="4215600" y="5710320"/>
            <a:ext cx="18324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332400" y="5103720"/>
            <a:ext cx="60192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5"/>
            <a:endCxn id="142" idx="1"/>
          </p:cNvCxnSpPr>
          <p:nvPr/>
        </p:nvCxnSpPr>
        <p:spPr>
          <a:xfrm>
            <a:off x="5794200" y="4325760"/>
            <a:ext cx="62604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4842360" y="592452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5"/>
            <a:endCxn id="144" idx="1"/>
          </p:cNvCxnSpPr>
          <p:nvPr/>
        </p:nvCxnSpPr>
        <p:spPr>
          <a:xfrm>
            <a:off x="4784760" y="5710320"/>
            <a:ext cx="18000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768400" y="42480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3" idx="3"/>
            <a:endCxn id="147" idx="7"/>
          </p:cNvCxnSpPr>
          <p:nvPr/>
        </p:nvCxnSpPr>
        <p:spPr>
          <a:xfrm flipH="1">
            <a:off x="2751840" y="4935240"/>
            <a:ext cx="1486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3470760" y="5086440"/>
            <a:ext cx="6706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3" idx="5"/>
            <a:endCxn id="148" idx="1"/>
          </p:cNvCxnSpPr>
          <p:nvPr/>
        </p:nvCxnSpPr>
        <p:spPr>
          <a:xfrm>
            <a:off x="3285720" y="4935240"/>
            <a:ext cx="3067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1717920" y="5924520"/>
            <a:ext cx="6062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4880" y="5162400"/>
            <a:ext cx="64980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50" idx="7"/>
          </p:cNvCxnSpPr>
          <p:nvPr/>
        </p:nvCxnSpPr>
        <p:spPr>
          <a:xfrm flipH="1">
            <a:off x="2211480" y="5850000"/>
            <a:ext cx="1558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20600" y="5924520"/>
            <a:ext cx="44676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5"/>
            <a:endCxn id="152" idx="1"/>
          </p:cNvCxnSpPr>
          <p:nvPr/>
        </p:nvCxnSpPr>
        <p:spPr>
          <a:xfrm>
            <a:off x="2752200" y="5850000"/>
            <a:ext cx="1594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 flipH="1">
            <a:off x="2742840" y="5867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00240" y="57913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1956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352680" y="50292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" y="266652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80024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4190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38C-639D-49CA-9D04-B2FFE44EB9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pla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mory M = 101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2590920"/>
            <a:ext cx="255600" cy="169920"/>
            <a:chOff x="4419720" y="2590920"/>
            <a:chExt cx="255600" cy="169920"/>
          </a:xfrm>
        </p:grpSpPr>
        <p:sp>
          <p:nvSpPr>
            <p:cNvPr id="164" name=""/>
            <p:cNvSpPr/>
            <p:nvPr/>
          </p:nvSpPr>
          <p:spPr>
            <a:xfrm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675320" y="25909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19720" y="25909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3276720"/>
            <a:ext cx="255600" cy="169920"/>
            <a:chOff x="3581280" y="3276720"/>
            <a:chExt cx="255600" cy="169920"/>
          </a:xfrm>
        </p:grpSpPr>
        <p:sp>
          <p:nvSpPr>
            <p:cNvPr id="169" name=""/>
            <p:cNvSpPr/>
            <p:nvPr/>
          </p:nvSpPr>
          <p:spPr>
            <a:xfrm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36880" y="327672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81280" y="3276720"/>
              <a:ext cx="2556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175120" y="396252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w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8520" y="39625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48200" y="3276720"/>
            <a:ext cx="16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0988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718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8960" y="312408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AE7-E855-4BDD-8728-E8175C1C65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evalu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184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185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190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F44-A0B7-4143-B5BB-741D1E0C1F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hash R on x into 100 buckets, each of 50 block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hash S on x into 100 buckets;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read eac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emory (50 buffer) join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 buffer); hash result on y into 50 buckets (50 buffers)   -- here w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so far: 3B(R) + 3B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06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07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12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66F-ECAB-4FE6-B491-E09ECCD339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based Query Optimz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physical query plan: 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stimation: 1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4A3-35D3-45C3-9B84-971DA484C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arge are the 50 buckets on y ?  Answer: k/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k &lt;= 50 then keep all 50 buckets in Step 3 in memory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read U from disk, hash on y and join with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: 3B(R) + 3B(S) + B(U) = 5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28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34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482-0A51-4882-91C9-832B68173E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44953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50 &lt; k &lt;= 5000 then send the 50 buckets in Step 3 to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ucket has size k/50 &l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partition U into 50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ad each partition and joi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cost: 3B(R) + 3B(S) + 2k + 3B(U) = 75,000 + 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50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56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C17-F3D1-469B-9191-DE13163F3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k &gt; 5000 then materialize instead of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partitioned hash-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3B(R) + 3B(S) + 4k + 3B(U) = 75000 + 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83120" y="2438280"/>
            <a:ext cx="4388040" cy="2075400"/>
            <a:chOff x="2283120" y="2438280"/>
            <a:chExt cx="4388040" cy="2075400"/>
          </a:xfrm>
        </p:grpSpPr>
        <p:grpSp>
          <p:nvGrpSpPr>
            <p:cNvPr id="272" name=""/>
            <p:cNvGrpSpPr/>
            <p:nvPr/>
          </p:nvGrpSpPr>
          <p:grpSpPr>
            <a:xfrm>
              <a:off x="4527720" y="2438280"/>
              <a:ext cx="255600" cy="169920"/>
              <a:chOff x="4527720" y="2438280"/>
              <a:chExt cx="255600" cy="169920"/>
            </a:xfrm>
          </p:grpSpPr>
          <p:sp>
            <p:nvSpPr>
              <p:cNvPr id="273" name=""/>
              <p:cNvSpPr/>
              <p:nvPr/>
            </p:nvSpPr>
            <p:spPr>
              <a:xfrm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277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4783320" y="24382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4527720" y="24382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689280" y="3124080"/>
              <a:ext cx="255600" cy="169920"/>
              <a:chOff x="3689280" y="3124080"/>
              <a:chExt cx="255600" cy="169920"/>
            </a:xfrm>
          </p:grpSpPr>
          <p:sp>
            <p:nvSpPr>
              <p:cNvPr id="278" name=""/>
              <p:cNvSpPr/>
              <p:nvPr/>
            </p:nvSpPr>
            <p:spPr>
              <a:xfrm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892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944880" y="312408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689280" y="3124080"/>
                <a:ext cx="2556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2283120" y="3809880"/>
              <a:ext cx="148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(w,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46520" y="38098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(x,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56200" y="3124080"/>
              <a:ext cx="16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(y,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,000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917880" y="2666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32280" y="26668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079800" y="33526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420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16960" y="297144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2280" y="20224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11F-82B3-485D-A2B8-C5DA314EE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.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lt;= 5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5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50 &lt; k &lt;=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 &gt; 500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= 75,000 + 4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14-9C97-4741-A343-78E8105B8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(E) and V(E,a) in order to estimate cost and choose a good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hard without computing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‘estimate’ them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in large errors, when E is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se errors are uniform, and the optimizer will usually prefer a good plan over a poor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10F-6D26-47CD-89D4-957BA9EE26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: 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 projection doesn’t eliminate dupl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9D4-A441-4754-98D0-B18CE9D7BC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ng the size of a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san be anything from 0 to T(R) – V(R,A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value: T(S) = T(R)/V(R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&lt;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S) can be anything from 0 to T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s: T(S) = T(R)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66D-E852-445D-92D8-6AEF4C3FC4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the size of a natural join,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et of A values are disjoint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is a key in S and a foreign key in R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has a unique value, the same in R and S, then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T(R) 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E30-861C-4754-A580-E10ADE9FC3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inment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V(R,A) &lt;= V(S,A), then the set of A values of R is included in the set of A values of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ndeed holds when A is a foreign key in R, and a key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rvation of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or any other attribute B,  V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, B) = V(R, B)   (or V(S, 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D67-6973-4087-9327-49EB4FC25F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V(R,A) &lt;=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each tuple t in R jo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uple(s) 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 T(S)/V(S,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ill contribute T(S)/V(S,A) tuples in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V(S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T(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T(R) T(S) / max(V(R,A),V(S,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364-0460-433F-95CE-AFBD494219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the Search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inear trees v.s. Bushy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without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S(B,C) ⋈ T(C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: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T(C,D)) ⋈ S(B,C) has a cartesian product – most query optimizers will not conside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92B-5A42-4E73-95F5-BB8800883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(R) = 10000,  T(S) = 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(R,A) = 100,  V(S,A) 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arge is 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) = 10000 20000/200 = 1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646-09A0-4797-A559-71FDAAC3D8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s on more than one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,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)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R) T(S)/(max(V(R,A),V(S,A))*max(V(R,B),V(S,B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33B-5615-492F-A784-8FAD0709A6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on data maintained by the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ize estimation much more accurate (hence, cost estimations are more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AB0-19CC-4B48-9B80-FB56843E5A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mploye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salary, p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histogram on sa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Employee) = 25000, but now we know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838080" y="3429000"/>
          <a:ext cx="7848720" cy="1270080"/>
        </p:xfrm>
        <a:graphic>
          <a:graphicData uri="http://schemas.openxmlformats.org/drawingml/2006/table">
            <a:tbl>
              <a:tblPr/>
              <a:tblGrid>
                <a:gridCol w="1120680"/>
                <a:gridCol w="1121040"/>
                <a:gridCol w="1122120"/>
                <a:gridCol w="1122480"/>
                <a:gridCol w="1120680"/>
                <a:gridCol w="1120680"/>
                <a:gridCol w="112104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CC3-0220-4250-AB5B-72926FEECA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anks(rankName, sal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size of 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838080" y="3276720"/>
          <a:ext cx="7162920" cy="76176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38080" y="4343400"/>
          <a:ext cx="7162920" cy="762120"/>
        </p:xfrm>
        <a:graphic>
          <a:graphicData uri="http://schemas.openxmlformats.org/drawingml/2006/table">
            <a:tbl>
              <a:tblPr/>
              <a:tblGrid>
                <a:gridCol w="1024200"/>
                <a:gridCol w="1020600"/>
                <a:gridCol w="1025640"/>
                <a:gridCol w="1023840"/>
                <a:gridCol w="1023840"/>
                <a:gridCol w="1020960"/>
                <a:gridCol w="102384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..4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k..6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k..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k..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816-9F9A-459D-95D7-40EBCDF66B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Employee, Salary) =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(Ranks, Salary) =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=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uple t in Employe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ins with how many tuples in Rank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: with T(Employe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T(Employee) *  T(Employee)/250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(Employ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ks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,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/ 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00x8 + 800x20 + 5000x40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2000x80 + 6500x100 + 500x2)/2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846-5E20-48BE-A866-75C9D03244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th we 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ow many permutations are the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 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rmutations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4! = 4*3*2*1 = 24 permu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27D-3932-4B42-BC47-3071CF3C7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ath we need to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roduc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how many ways can we place parenthes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 1/(n+1)*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n)!/((n+1)*(n!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for n=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!/(4*3!*3!) = 5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B6C-9EAF-4820-87BD-CB222592E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bushy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+1)!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(n+1)*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2n)!/(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steps taken by dynamic programm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  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7160" y="1676520"/>
            <a:ext cx="7146000" cy="113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D42-F81A-4800-8927-E87AA74799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bushy trees w/o cartesian produ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(n+1)*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n)!/((n+1)*(n!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due to the fact that we may commute each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steps taken by dynamic programm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-k+1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840" y="219240"/>
            <a:ext cx="53953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21A-B422-484A-9652-BB1BFE0E2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number of left linear join trees i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+1)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steps taken by dynamic program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   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219240"/>
            <a:ext cx="53953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4AF-9458-4FE2-995F-4439E2FFA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left linear trees w/o cartesian product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(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R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R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0</a:t>
            </a:r>
            <a:br>
              <a:rPr sz="2800"/>
            </a:b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	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(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R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R</a:t>
            </a: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.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hence: it i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steps taken by dynamic program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=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(n-k+1) = n(n+1) =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5840" y="219240"/>
            <a:ext cx="53953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⋈ . . . ⋈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120-D399-492B-A214-AB85C1F33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mgubanov</cp:lastModifiedBy>
  <dcterms:modified xsi:type="dcterms:W3CDTF">2003-12-01T04:35:05Z</dcterms:modified>
  <cp:revision>455</cp:revision>
  <dc:subject/>
  <dc:title>Lecture 09:</dc:title>
</cp:coreProperties>
</file>