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BBCE-C496-49F8-B80F-E0D5DECB2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8EBA-FCAF-4945-A39E-9C350F008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4D79-016A-4B0B-96DB-E6DE69033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2D8A-E561-4C8C-8E9A-44FF56E24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339D-460B-48EB-85C2-B284507DE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BF28-EE29-49DA-8325-5369FD7E7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B43F-B15E-4D82-823E-EAFE7EEE5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C51F-18A5-48FB-AE99-A9318FF0E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117D-CEF3-4A3F-B666-04D34838A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3393-6F5A-4CF3-9FB3-9DA3DDCBF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CB03-3B2E-4E97-9432-36FD3187D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4017-2ED1-4DD1-B625-0D375005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4F552-F8DD-4816-9B94-1781E37CB4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25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 Optim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dnesday, November 26,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27F2-295A-42B4-8728-E2DE9636539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Joi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ght dee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352320" y="2666520"/>
            <a:ext cx="305280" cy="203760"/>
            <a:chOff x="3352320" y="2666520"/>
            <a:chExt cx="305280" cy="203760"/>
          </a:xfrm>
        </p:grpSpPr>
        <p:sp>
          <p:nvSpPr>
            <p:cNvPr id="153" name=""/>
            <p:cNvSpPr/>
            <p:nvPr/>
          </p:nvSpPr>
          <p:spPr>
            <a:xfrm>
              <a:off x="3352680" y="26668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352680" y="26668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3657600" y="26665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3352320" y="26668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4282560" y="3006720"/>
            <a:ext cx="305280" cy="203040"/>
            <a:chOff x="4282560" y="3006720"/>
            <a:chExt cx="305280" cy="203040"/>
          </a:xfrm>
        </p:grpSpPr>
        <p:sp>
          <p:nvSpPr>
            <p:cNvPr id="158" name=""/>
            <p:cNvSpPr/>
            <p:nvPr/>
          </p:nvSpPr>
          <p:spPr>
            <a:xfrm>
              <a:off x="4282920" y="30067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282920" y="30067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4587840" y="30067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4282560" y="30067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5105520" y="3580920"/>
            <a:ext cx="304560" cy="203760"/>
            <a:chOff x="5105520" y="3580920"/>
            <a:chExt cx="304560" cy="203760"/>
          </a:xfrm>
        </p:grpSpPr>
        <p:sp>
          <p:nvSpPr>
            <p:cNvPr id="163" name=""/>
            <p:cNvSpPr/>
            <p:nvPr/>
          </p:nvSpPr>
          <p:spPr>
            <a:xfrm>
              <a:off x="5105520" y="3581280"/>
              <a:ext cx="30456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105520" y="35812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5410080" y="35809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5105520" y="3581280"/>
              <a:ext cx="30456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5866920" y="4266720"/>
            <a:ext cx="305280" cy="203760"/>
            <a:chOff x="5866920" y="4266720"/>
            <a:chExt cx="305280" cy="203760"/>
          </a:xfrm>
        </p:grpSpPr>
        <p:sp>
          <p:nvSpPr>
            <p:cNvPr id="168" name=""/>
            <p:cNvSpPr/>
            <p:nvPr/>
          </p:nvSpPr>
          <p:spPr>
            <a:xfrm>
              <a:off x="5867280" y="42670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867280" y="42670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6172200" y="42667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5866920" y="42670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2440440" y="34290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354840" y="40384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192920" y="441972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259600" y="49528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326640" y="49528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895120" y="297180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09880" y="2895480"/>
            <a:ext cx="3812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809880" y="32767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724280" y="32767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4723920" y="388620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486400" y="38862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5562360" y="45720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248520" y="44956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B4C1-3D07-407E-A621-C1A86C32348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: a query  R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we have a function cost() that gives us the cost of every join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best join tree for the qu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4AF6-CFF6-4F4C-A0FF-2BAAA902EF6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a: for each subset of {R1, …, Rn}, compute the best plan for that sub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increasing order of set cardina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: for {R1}, {R2}, …, {Rn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: for {R1,R2}, {R1,R3}, …, {Rn-1, Rn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n: for {R1, …, Rn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a bottom-up strate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ubset of {R1, …, Rn} is also called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qu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6FAC-A08A-4CF0-9F83-681D57316A8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subquery Q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바탕"/>
              </a:rPr>
              <a:t>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{R1, …, Rn} compute the follow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(Q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est plan for Q: Plan(Q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st of that plan: Cost(Q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AA1A-CB22-48D0-8DC3-36414C84542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ep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For each {Ri} d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({Ri}) = B(R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({Ri}) = 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({Ri}) = (cost of scanning R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A299-8915-449D-947A-62AF5E4CBE0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ep 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For each Q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바탕"/>
              </a:rPr>
              <a:t>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{R1, …, Rn} of cardinality i d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 Size(Q)    (later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very pair of subqueries Q’, Q’’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.t. Q = Q’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Q’’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 cost(Plan(Q’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Plan(Q’’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(Q) = the smallest such c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(Q) = the corresponding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E19F-89AD-4085-9C90-593CE825DBC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 Plan({R1, …, Rn}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4D55-44E6-4B60-AB79-8BC34E896FB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illustrate, we will make the following simplif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(P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2) = Cost(P1) + Cost(P2) +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size(intermediate result(s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mediate resul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P1 = a join, then the size of the intermediate result is size(P1), otherwise the size is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ly for 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of a scan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687B-045F-4B22-B2F9-6F81A6E59CA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(R5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7)  = 0       (no intermediate resul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((R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1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7)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= Cost(R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1) + Cost(R7) + size(R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1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= size(R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CD16-1399-4917-9005-C3E8B35373A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s: R, S, T, 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tuples: 2000, 5000, 3000, 1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 estimation: T(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) = 0.01*T(A)*T(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C420-6496-491E-AD79-22208E40B56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-based optimization 16.5, 16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D5E9-F635-4945-83E2-E8115E16DD0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2209680" y="152280"/>
          <a:ext cx="5410080" cy="6454800"/>
        </p:xfrm>
        <a:graphic>
          <a:graphicData uri="http://schemas.openxmlformats.org/drawingml/2006/table">
            <a:tbl>
              <a:tblPr/>
              <a:tblGrid>
                <a:gridCol w="1352520"/>
                <a:gridCol w="1352520"/>
                <a:gridCol w="1352160"/>
                <a:gridCol w="1352880"/>
              </a:tblGrid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que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3357-7598-4763-AF98-F17345FA28E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2209680" y="152280"/>
          <a:ext cx="5486040" cy="6454800"/>
        </p:xfrm>
        <a:graphic>
          <a:graphicData uri="http://schemas.openxmlformats.org/drawingml/2006/table">
            <a:tbl>
              <a:tblPr/>
              <a:tblGrid>
                <a:gridCol w="1371600"/>
                <a:gridCol w="1371240"/>
                <a:gridCol w="1371600"/>
                <a:gridCol w="1371600"/>
              </a:tblGrid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que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RT)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RU)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RU)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TU)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k+50k=11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RT)(SU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F8EB-5542-4FB1-ADDB-477A1B1031D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mary: computes optimal plans for subquer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1: {R1},  {R2}, …, {Rn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2:  {R1, R2}, {R1, R3}, …, {Rn-1, Rn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n: {R1, …, Rn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d naïve size/cost estim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racti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realistic size/cost estimations (next ti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uristics for Reducing the Search Spa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trict to left linear tre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trict to trees “without cartesian produc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more than just one plan for each subquer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ing order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DC4E-24A8-4D5D-AC73-6666789B26E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ducing the Search Spa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-linear trees v.s. Bushy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s without cartesian 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 R(A,B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 S(B,C) ⋈ T(C,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lan: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(A,B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 T(C,D)) ⋈ S(B,C) has a cartesian product – most query optimizers will not consider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E7CE-FC1C-43F2-AA8A-07DD60AEC2B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nting the Number of Join Ord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thematics we need to know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...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how many permutations can we construct ?  Answer:  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permutations of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br>
              <a:rPr sz="2800"/>
            </a:b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br>
              <a:rPr sz="2800"/>
            </a:b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here are 4! = 4*3*2*1 = 24 permutati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0EE8-9E82-43B6-92C3-6DB953CE7BC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nting the Number of Join Ord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thematics we need to kn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the product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in how many ways can we place n pairs of parenthesis around them ? Answer:  1/(n+1)*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(2n)!/((n+1)*(n!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for n=3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</a:t>
            </a:r>
            <a:br>
              <a:rPr sz="2400"/>
            </a:b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400"/>
            </a:b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 </a:t>
            </a:r>
            <a:br>
              <a:rPr sz="2400"/>
            </a:b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400"/>
            </a:b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6!/(4*3!*3!) = 5 w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36F5-FF91-4F82-9320-E7759B6F99E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nting the Number of Join Orders (Exerci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 ⋈ . . . ⋈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n+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he number of left linear join trees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he number of left linear join trees without cartesian products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he number of bushy join trees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he number of bushy join trees without cartesian product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11BF-E763-4C8D-8821-2843D09E79A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mber of Subplans Inspected by 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 ⋈ . . . ⋈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n+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he number of left linear subplans inspected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he number of left linear subplans without cartesian products inspected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he number of bushy join subplans inspected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he number of bushy join subplans without cartesian produ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5B2C-641E-44F9-A200-807C5E0732F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194840" y="2808720"/>
            <a:ext cx="6615000" cy="1099440"/>
          </a:xfrm>
          <a:prstGeom prst="horizontalScrol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appy Thanksgivings 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CE78-C98E-4B26-BDBB-C2D92B3A342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-based Optimiz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idea: apply algebraic laws, until estimated cost is mini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ctically: start from partial plans, introduce operators one by 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see in a few sli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 there are too many ways to apply the laws, hence too many (partial) pl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96FD-612F-4F19-A33A-44AB8BE9613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-based Optimiz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roach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p-dow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the partial plan is a top fragment of the logical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ottom u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the partial plan is a bottom fragment of the logical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1D06-849C-4C25-AD90-9EDE99DC73C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arch Strateg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ranch-and-bou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ember the cheapest complete plan P seen so far and its cost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p generating partial plans whose cost is &gt;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cheaper complete plan is found, replace P,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ll climb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ember only the cheapest partial plan seen so f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ember the all cheapest partial pl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5D05-8E29-40A9-9805-AE006EA8643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t of Optimization: select-project-jo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sh selections down, pull projections 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BCFD-699A-41C9-AB24-15189DFA2FE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i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…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 tre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lan = a join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artial plan = a subtree of a join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96000" y="46134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643560" y="46134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091480" y="46134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463080" y="46134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971440" y="3733920"/>
            <a:ext cx="305280" cy="203040"/>
            <a:chOff x="2971440" y="3733920"/>
            <a:chExt cx="305280" cy="203040"/>
          </a:xfrm>
        </p:grpSpPr>
        <p:sp>
          <p:nvSpPr>
            <p:cNvPr id="60" name=""/>
            <p:cNvSpPr/>
            <p:nvPr/>
          </p:nvSpPr>
          <p:spPr>
            <a:xfrm>
              <a:off x="2971800" y="37339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71800" y="37339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3276720" y="37339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2971440" y="37339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5866920" y="3809520"/>
            <a:ext cx="305280" cy="203760"/>
            <a:chOff x="5866920" y="3809520"/>
            <a:chExt cx="305280" cy="203760"/>
          </a:xfrm>
        </p:grpSpPr>
        <p:sp>
          <p:nvSpPr>
            <p:cNvPr id="65" name=""/>
            <p:cNvSpPr/>
            <p:nvPr/>
          </p:nvSpPr>
          <p:spPr>
            <a:xfrm>
              <a:off x="5867280" y="38098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867280" y="38098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6172200" y="38095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5866920" y="38098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4571640" y="3048120"/>
            <a:ext cx="305280" cy="203040"/>
            <a:chOff x="4571640" y="3048120"/>
            <a:chExt cx="305280" cy="203040"/>
          </a:xfrm>
        </p:grpSpPr>
        <p:sp>
          <p:nvSpPr>
            <p:cNvPr id="70" name=""/>
            <p:cNvSpPr/>
            <p:nvPr/>
          </p:nvSpPr>
          <p:spPr>
            <a:xfrm>
              <a:off x="4572000" y="30481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572000" y="30481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4876920" y="30481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4571640" y="30481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 flipH="1">
            <a:off x="2514600" y="40384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76720" y="4038480"/>
            <a:ext cx="53316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409720" y="4038480"/>
            <a:ext cx="38124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48520" y="40384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352680" y="3200400"/>
            <a:ext cx="10670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029200" y="3276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50DF-0CA2-45A9-9EB6-414DCB1FE05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Joi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ft dee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876920" y="3048120"/>
            <a:ext cx="304560" cy="203040"/>
            <a:chOff x="4876920" y="3048120"/>
            <a:chExt cx="304560" cy="203040"/>
          </a:xfrm>
        </p:grpSpPr>
        <p:sp>
          <p:nvSpPr>
            <p:cNvPr id="83" name=""/>
            <p:cNvSpPr/>
            <p:nvPr/>
          </p:nvSpPr>
          <p:spPr>
            <a:xfrm>
              <a:off x="4876920" y="304812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6920" y="30481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5181480" y="30481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4876920" y="304812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4191120" y="3657600"/>
            <a:ext cx="304560" cy="203040"/>
            <a:chOff x="4191120" y="3657600"/>
            <a:chExt cx="304560" cy="203040"/>
          </a:xfrm>
        </p:grpSpPr>
        <p:sp>
          <p:nvSpPr>
            <p:cNvPr id="88" name=""/>
            <p:cNvSpPr/>
            <p:nvPr/>
          </p:nvSpPr>
          <p:spPr>
            <a:xfrm>
              <a:off x="4191120" y="365760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191120" y="365760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4495680" y="365760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4191120" y="365760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3352320" y="4191120"/>
            <a:ext cx="305280" cy="203040"/>
            <a:chOff x="3352320" y="4191120"/>
            <a:chExt cx="305280" cy="203040"/>
          </a:xfrm>
        </p:grpSpPr>
        <p:sp>
          <p:nvSpPr>
            <p:cNvPr id="93" name=""/>
            <p:cNvSpPr/>
            <p:nvPr/>
          </p:nvSpPr>
          <p:spPr>
            <a:xfrm>
              <a:off x="3352680" y="41911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52680" y="41911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657600" y="41911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3352320" y="41911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2514240" y="4723920"/>
            <a:ext cx="305280" cy="203760"/>
            <a:chOff x="2514240" y="4723920"/>
            <a:chExt cx="305280" cy="203760"/>
          </a:xfrm>
        </p:grpSpPr>
        <p:sp>
          <p:nvSpPr>
            <p:cNvPr id="98" name=""/>
            <p:cNvSpPr/>
            <p:nvPr/>
          </p:nvSpPr>
          <p:spPr>
            <a:xfrm>
              <a:off x="2514600" y="47242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514600" y="47242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2819520" y="47239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2514240" y="47242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1754640" y="54100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973600" y="54864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48480" y="468936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710600" y="40798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00960" y="33940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133720" y="502920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95480" y="502920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71440" y="44197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733920" y="441972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3733920" y="388620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38862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4571640" y="32767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57800" y="32767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E3C7-C1A3-461D-9E8C-1DCA5C7322C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Joi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sh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35520" y="45720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73600" y="556272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031000" y="45720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402600" y="45720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910960" y="3692520"/>
            <a:ext cx="305280" cy="203040"/>
            <a:chOff x="2910960" y="3692520"/>
            <a:chExt cx="305280" cy="203040"/>
          </a:xfrm>
        </p:grpSpPr>
        <p:sp>
          <p:nvSpPr>
            <p:cNvPr id="122" name=""/>
            <p:cNvSpPr/>
            <p:nvPr/>
          </p:nvSpPr>
          <p:spPr>
            <a:xfrm>
              <a:off x="2911320" y="36925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911320" y="36925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3216240" y="36925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2910960" y="36925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807160" y="3768840"/>
            <a:ext cx="304560" cy="203040"/>
            <a:chOff x="5807160" y="3768840"/>
            <a:chExt cx="304560" cy="203040"/>
          </a:xfrm>
        </p:grpSpPr>
        <p:sp>
          <p:nvSpPr>
            <p:cNvPr id="127" name=""/>
            <p:cNvSpPr/>
            <p:nvPr/>
          </p:nvSpPr>
          <p:spPr>
            <a:xfrm>
              <a:off x="5807160" y="376884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07160" y="376884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6111720" y="376884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5807160" y="376884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4511160" y="3006720"/>
            <a:ext cx="305280" cy="203040"/>
            <a:chOff x="4511160" y="3006720"/>
            <a:chExt cx="305280" cy="203040"/>
          </a:xfrm>
        </p:grpSpPr>
        <p:sp>
          <p:nvSpPr>
            <p:cNvPr id="132" name=""/>
            <p:cNvSpPr/>
            <p:nvPr/>
          </p:nvSpPr>
          <p:spPr>
            <a:xfrm>
              <a:off x="4511520" y="30067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11520" y="30067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4816440" y="30067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4511160" y="30067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 flipH="1">
            <a:off x="2454120" y="39974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16240" y="3997440"/>
            <a:ext cx="5335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5349960" y="3997440"/>
            <a:ext cx="3808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88040" y="39974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3292200" y="315900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32353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3657240" y="4723920"/>
            <a:ext cx="305280" cy="203760"/>
            <a:chOff x="3657240" y="4723920"/>
            <a:chExt cx="305280" cy="203760"/>
          </a:xfrm>
        </p:grpSpPr>
        <p:sp>
          <p:nvSpPr>
            <p:cNvPr id="143" name=""/>
            <p:cNvSpPr/>
            <p:nvPr/>
          </p:nvSpPr>
          <p:spPr>
            <a:xfrm>
              <a:off x="3657600" y="47242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657600" y="47242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3962520" y="47239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3657240" y="47242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177080" y="55278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3276720" y="502920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62520" y="502920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21E3-D4FF-4AB7-9D90-3DD8EF3811C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mgubanov</cp:lastModifiedBy>
  <dcterms:modified xsi:type="dcterms:W3CDTF">2003-11-26T00:15:27Z</dcterms:modified>
  <cp:revision>342</cp:revision>
  <dc:subject/>
  <dc:title>Lecture 09:</dc:title>
</cp:coreProperties>
</file>