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8B4-750E-4DBA-85A6-C9E3D7C2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983-D9A8-4F33-A5AA-543A477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76B-D8A3-4F3A-AB5C-3E4F0F8D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479-0EA5-4705-ADF8-B162F20B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032-ABCF-4B8B-A9E4-F4D656C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11A-2A48-42A2-9B1F-10D0874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157-D573-4994-A834-D0F9B649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1C4-A60C-4D49-B80D-1357B6F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85B-3084-4674-92C9-6464D2D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3B4-2964-424B-B872-07CDBFA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281-98AE-4F82-AC12-4CBE78E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DD3-8C33-497E-8CAC-1345DD3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E55-A90D-4CC6-A424-DA35FD20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xecution and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November 24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A96-0379-4991-BC55-0EF1597F3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2960" y="914400"/>
            <a:ext cx="8009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82480" y="347508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97240" y="4998960"/>
            <a:ext cx="58478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pends on the data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EE2-FC6C-4DDB-A389-121449CDA8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V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 &lt;&lt; T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40" y="1600200"/>
            <a:ext cx="7794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,000 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500      M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00,000   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assume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6000" y="3963960"/>
            <a:ext cx="3418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6000" y="5487840"/>
            <a:ext cx="303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214-63B2-4617-AB3B-7998290CCD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lan is Bes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200" y="2209680"/>
            <a:ext cx="7949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1:  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it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V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a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3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2b: B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T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680" y="4003560"/>
            <a:ext cx="10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D47-C9F8-4468-8649-F4AE1C229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consider several phys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one, simple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gic “best” plan: depends o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make the righ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’s, the T’s, the V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8DA-6F19-4028-8440-62A903AD8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components of an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ree things in an optim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st estim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178-7884-486C-A9C8-9FE7236A54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ative and Associa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 = S ∩ R,  R ∩ (S ∩ T) = (R ∩ S) ∩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, 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=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  = 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EE8-B3BB-484F-AADD-E1C230628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AND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OR 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 involves only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–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–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5BD-FBD7-4B82-935C-8BA99AC62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R(A, B, C, 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5 AND G=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000-C4A9-4CC6-8998-6965994541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involv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, P, Q are appropriate subsets of attribut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R(A,B,C,D), S(E, F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B,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D=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E4D-7F87-48A1-A77E-F27999897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ic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involving grouping and aggre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 if agg is “duplicate insen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“duplicate insensitive”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, count, avg, min,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(C,D)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B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, agg(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(C,D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is this tr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y would we do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303-8324-491B-BB4A-3A32B99A8B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query execution (re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optimization: algebraic laws 1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optimization 16.5, 1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9EB-1465-4F7C-AA56-9121B5FA3D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writing based on algebraic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better queries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selection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 number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push selections up, th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474-7FFE-4E63-8B3C-D4EF614F1A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20800" y="1917720"/>
            <a:ext cx="180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8280" y="1917720"/>
            <a:ext cx="1440" cy="173160"/>
          </a:xfrm>
          <a:custGeom>
            <a:avLst/>
            <a:gdLst/>
            <a:ahLst/>
            <a:rect l="l" t="t" r="r" b="b"/>
            <a:pathLst>
              <a:path w="1" h="109">
                <a:moveTo>
                  <a:pt x="0" y="0"/>
                </a:move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9400" y="1901880"/>
            <a:ext cx="174960" cy="1440"/>
          </a:xfrm>
          <a:custGeom>
            <a:avLst/>
            <a:gdLst/>
            <a:ahLst/>
            <a:rect l="l" t="t" r="r" b="b"/>
            <a:pathLst>
              <a:path w="110" h="1">
                <a:moveTo>
                  <a:pt x="0" y="0"/>
                </a:moveTo>
                <a:lnTo>
                  <a:pt x="10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816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85920" y="39146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8160" y="3914640"/>
            <a:ext cx="34956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43080" y="442584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920" y="4425840"/>
            <a:ext cx="68436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4560" y="3201840"/>
            <a:ext cx="1440" cy="56052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4560" y="2274840"/>
            <a:ext cx="1440" cy="51264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486576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69600" y="484992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6720" y="41241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20800" y="2895480"/>
            <a:ext cx="2544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ice&gt;100 AND city=“Seatt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3720" y="198612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00480" y="38098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1840" y="283536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70160" y="18288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7400" y="4200480"/>
            <a:ext cx="100080" cy="119160"/>
          </a:xfrm>
          <a:custGeom>
            <a:avLst/>
            <a:gdLst/>
            <a:ahLst/>
            <a:rect l="l" t="t" r="r" b="b"/>
            <a:pathLst>
              <a:path w="63" h="75">
                <a:moveTo>
                  <a:pt x="62" y="37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7"/>
                </a:lnTo>
                <a:lnTo>
                  <a:pt x="9" y="64"/>
                </a:lnTo>
                <a:lnTo>
                  <a:pt x="31" y="74"/>
                </a:lnTo>
                <a:lnTo>
                  <a:pt x="53" y="64"/>
                </a:lnTo>
                <a:lnTo>
                  <a:pt x="6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6720" y="4210200"/>
            <a:ext cx="87120" cy="144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4536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19880" y="2482920"/>
            <a:ext cx="144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8640" y="2470320"/>
            <a:ext cx="149400" cy="1440"/>
          </a:xfrm>
          <a:custGeom>
            <a:avLst/>
            <a:gdLst/>
            <a:ahLst/>
            <a:rect l="l" t="t" r="r" b="b"/>
            <a:pathLst>
              <a:path w="94" h="1">
                <a:moveTo>
                  <a:pt x="0" y="0"/>
                </a:moveTo>
                <a:lnTo>
                  <a:pt x="9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692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400560"/>
            <a:ext cx="1440" cy="98280"/>
          </a:xfrm>
          <a:custGeom>
            <a:avLst/>
            <a:gdLst/>
            <a:ahLst/>
            <a:rect l="l" t="t" r="r" b="b"/>
            <a:pathLst>
              <a:path w="1" h="62">
                <a:moveTo>
                  <a:pt x="0" y="0"/>
                </a:move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0"/>
                </a:moveTo>
                <a:lnTo>
                  <a:pt x="186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9200" y="3400560"/>
            <a:ext cx="296640" cy="98280"/>
          </a:xfrm>
          <a:custGeom>
            <a:avLst/>
            <a:gdLst/>
            <a:ahLst/>
            <a:rect l="l" t="t" r="r" b="b"/>
            <a:pathLst>
              <a:path w="187" h="62">
                <a:moveTo>
                  <a:pt x="0" y="61"/>
                </a:moveTo>
                <a:lnTo>
                  <a:pt x="186" y="0"/>
                </a:lnTo>
                <a:lnTo>
                  <a:pt x="0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61240" y="3794040"/>
            <a:ext cx="569880" cy="274680"/>
          </a:xfrm>
          <a:custGeom>
            <a:avLst/>
            <a:gdLst/>
            <a:ahLst/>
            <a:rect l="l" t="t" r="r" b="b"/>
            <a:pathLst>
              <a:path w="359" h="173">
                <a:moveTo>
                  <a:pt x="0" y="172"/>
                </a:moveTo>
                <a:lnTo>
                  <a:pt x="358" y="0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8840" y="3794040"/>
            <a:ext cx="581040" cy="274680"/>
          </a:xfrm>
          <a:custGeom>
            <a:avLst/>
            <a:gdLst/>
            <a:ahLst/>
            <a:rect l="l" t="t" r="r" b="b"/>
            <a:pathLst>
              <a:path w="366" h="173">
                <a:moveTo>
                  <a:pt x="0" y="0"/>
                </a:moveTo>
                <a:lnTo>
                  <a:pt x="365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67760" y="4425840"/>
            <a:ext cx="1440" cy="43200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lnTo>
                  <a:pt x="0" y="2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03840" y="2854440"/>
            <a:ext cx="1800" cy="392040"/>
          </a:xfrm>
          <a:custGeom>
            <a:avLst/>
            <a:gdLst/>
            <a:ahLst/>
            <a:rect l="l" t="t" r="r" b="b"/>
            <a:pathLst>
              <a:path w="1" h="247">
                <a:moveTo>
                  <a:pt x="0" y="0"/>
                </a:moveTo>
                <a:lnTo>
                  <a:pt x="0" y="2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86520" y="4175280"/>
            <a:ext cx="100080" cy="122040"/>
          </a:xfrm>
          <a:custGeom>
            <a:avLst/>
            <a:gdLst/>
            <a:ahLst/>
            <a:rect l="l" t="t" r="r" b="b"/>
            <a:pathLst>
              <a:path w="63" h="77">
                <a:moveTo>
                  <a:pt x="62" y="38"/>
                </a:moveTo>
                <a:lnTo>
                  <a:pt x="53" y="11"/>
                </a:lnTo>
                <a:lnTo>
                  <a:pt x="31" y="0"/>
                </a:lnTo>
                <a:lnTo>
                  <a:pt x="9" y="11"/>
                </a:lnTo>
                <a:lnTo>
                  <a:pt x="0" y="38"/>
                </a:lnTo>
                <a:lnTo>
                  <a:pt x="9" y="65"/>
                </a:lnTo>
                <a:lnTo>
                  <a:pt x="31" y="76"/>
                </a:lnTo>
                <a:lnTo>
                  <a:pt x="53" y="65"/>
                </a:lnTo>
                <a:lnTo>
                  <a:pt x="62" y="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35840" y="4186080"/>
            <a:ext cx="8712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4520" y="443700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0"/>
                </a:moveTo>
                <a:lnTo>
                  <a:pt x="0" y="27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3520" y="4818240"/>
            <a:ext cx="1003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40160" y="4830840"/>
            <a:ext cx="1172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97120" y="3546360"/>
            <a:ext cx="127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r=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28960" y="422424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&gt;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4160" y="25192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16680" y="236232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22880" y="42004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=“Seatt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42240" y="33051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240" y="5222880"/>
            <a:ext cx="868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earlier we process selections, less tuples we need to manip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r up in the tree (but may cause us to loose an important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the tuples, if we use index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BF4-FA5A-46ED-B9A0-C71A666525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ate Push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200" y="2133720"/>
            <a:ext cx="3807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 = y.na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6480" y="2286000"/>
            <a:ext cx="3807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name, Max(x.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roduct x, compan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.maker=y.nam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.price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up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(x.price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0520" y="4765680"/>
            <a:ext cx="84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or each company, find the maximal price of its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: the size of the join will be sma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ransformation rules specific to the grouping/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 work if we replace Max by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976-AE23-4380-9D9B-23DA085861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idea: apply algebraic laws, until estimated cost i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ly: start from partial plans, introduce operators one b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ee in a few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there are too many ways to apply the laws, hence too many (partial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FC3-3133-4BA7-B507-537A85F1FB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ased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top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partial plan is a bottom fragment of the logic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BED-F9D3-423A-A726-8AE39A7609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ch-and-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cheapest complete plan P seen so far and its c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generating partial plans whose cost is 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heaper complete plan is found, replace P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only the cheapest partial plan seen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e all cheapest parti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1E9-10A8-4D13-A253-609585B4F0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of Optimization: select-project-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selections down, pull projection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6CA-6B56-478F-8A7B-E54B1A497A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 =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al plan = a subtree of a joi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600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4356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914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63080" y="4613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971440" y="3733920"/>
            <a:ext cx="305280" cy="203040"/>
            <a:chOff x="2971440" y="3733920"/>
            <a:chExt cx="305280" cy="203040"/>
          </a:xfrm>
        </p:grpSpPr>
        <p:sp>
          <p:nvSpPr>
            <p:cNvPr id="205" name=""/>
            <p:cNvSpPr/>
            <p:nvPr/>
          </p:nvSpPr>
          <p:spPr>
            <a:xfrm>
              <a:off x="297180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7180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276720" y="37339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971440" y="37339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66920" y="3809520"/>
            <a:ext cx="305280" cy="203760"/>
            <a:chOff x="5866920" y="3809520"/>
            <a:chExt cx="305280" cy="203760"/>
          </a:xfrm>
        </p:grpSpPr>
        <p:sp>
          <p:nvSpPr>
            <p:cNvPr id="210" name=""/>
            <p:cNvSpPr/>
            <p:nvPr/>
          </p:nvSpPr>
          <p:spPr>
            <a:xfrm>
              <a:off x="586728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3809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172200" y="3809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866920" y="3809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71640" y="3048120"/>
            <a:ext cx="305280" cy="203040"/>
            <a:chOff x="4571640" y="3048120"/>
            <a:chExt cx="305280" cy="203040"/>
          </a:xfrm>
        </p:grpSpPr>
        <p:sp>
          <p:nvSpPr>
            <p:cNvPr id="215" name=""/>
            <p:cNvSpPr/>
            <p:nvPr/>
          </p:nvSpPr>
          <p:spPr>
            <a:xfrm>
              <a:off x="457200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571640" y="3048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>
            <a:off x="25146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09720" y="4038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352680" y="32004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276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59-650D-477B-AE05-6907FFDB03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76920" y="3048120"/>
            <a:ext cx="304560" cy="203040"/>
            <a:chOff x="4876920" y="3048120"/>
            <a:chExt cx="304560" cy="203040"/>
          </a:xfrm>
        </p:grpSpPr>
        <p:sp>
          <p:nvSpPr>
            <p:cNvPr id="228" name=""/>
            <p:cNvSpPr/>
            <p:nvPr/>
          </p:nvSpPr>
          <p:spPr>
            <a:xfrm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692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81480" y="3048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76920" y="304812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191120" y="3657600"/>
            <a:ext cx="304560" cy="203040"/>
            <a:chOff x="4191120" y="3657600"/>
            <a:chExt cx="304560" cy="203040"/>
          </a:xfrm>
        </p:grpSpPr>
        <p:sp>
          <p:nvSpPr>
            <p:cNvPr id="233" name=""/>
            <p:cNvSpPr/>
            <p:nvPr/>
          </p:nvSpPr>
          <p:spPr>
            <a:xfrm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365760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1120" y="365760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352320" y="4191120"/>
            <a:ext cx="305280" cy="203040"/>
            <a:chOff x="3352320" y="4191120"/>
            <a:chExt cx="305280" cy="203040"/>
          </a:xfrm>
        </p:grpSpPr>
        <p:sp>
          <p:nvSpPr>
            <p:cNvPr id="238" name=""/>
            <p:cNvSpPr/>
            <p:nvPr/>
          </p:nvSpPr>
          <p:spPr>
            <a:xfrm>
              <a:off x="335268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5268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657600" y="41911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352320" y="41911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14240" y="4723920"/>
            <a:ext cx="305280" cy="203760"/>
            <a:chOff x="2514240" y="4723920"/>
            <a:chExt cx="305280" cy="203760"/>
          </a:xfrm>
        </p:grpSpPr>
        <p:sp>
          <p:nvSpPr>
            <p:cNvPr id="243" name=""/>
            <p:cNvSpPr/>
            <p:nvPr/>
          </p:nvSpPr>
          <p:spPr>
            <a:xfrm>
              <a:off x="2514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4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819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514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75464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360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48480" y="4689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0600" y="407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00960" y="339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133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5029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7339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3276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96B-CFEA-4D3E-B789-7209132540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5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3600" y="5562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10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260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910960" y="3692520"/>
            <a:ext cx="305280" cy="203040"/>
            <a:chOff x="2910960" y="3692520"/>
            <a:chExt cx="305280" cy="203040"/>
          </a:xfrm>
        </p:grpSpPr>
        <p:sp>
          <p:nvSpPr>
            <p:cNvPr id="267" name=""/>
            <p:cNvSpPr/>
            <p:nvPr/>
          </p:nvSpPr>
          <p:spPr>
            <a:xfrm>
              <a:off x="291132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1132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216240" y="36925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910960" y="36925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807160" y="3768840"/>
            <a:ext cx="304560" cy="203040"/>
            <a:chOff x="5807160" y="3768840"/>
            <a:chExt cx="304560" cy="203040"/>
          </a:xfrm>
        </p:grpSpPr>
        <p:sp>
          <p:nvSpPr>
            <p:cNvPr id="272" name=""/>
            <p:cNvSpPr/>
            <p:nvPr/>
          </p:nvSpPr>
          <p:spPr>
            <a:xfrm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0716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111720" y="37688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807160" y="3768840"/>
              <a:ext cx="30456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511160" y="3006720"/>
            <a:ext cx="305280" cy="203040"/>
            <a:chOff x="4511160" y="3006720"/>
            <a:chExt cx="305280" cy="203040"/>
          </a:xfrm>
        </p:grpSpPr>
        <p:sp>
          <p:nvSpPr>
            <p:cNvPr id="277" name=""/>
            <p:cNvSpPr/>
            <p:nvPr/>
          </p:nvSpPr>
          <p:spPr>
            <a:xfrm>
              <a:off x="45115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115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164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5111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245412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16240" y="3997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49960" y="3997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88040" y="3997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92200" y="3159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68720" y="323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57240" y="4723920"/>
            <a:ext cx="305280" cy="203760"/>
            <a:chOff x="3657240" y="4723920"/>
            <a:chExt cx="305280" cy="203760"/>
          </a:xfrm>
        </p:grpSpPr>
        <p:sp>
          <p:nvSpPr>
            <p:cNvPr id="288" name=""/>
            <p:cNvSpPr/>
            <p:nvPr/>
          </p:nvSpPr>
          <p:spPr>
            <a:xfrm>
              <a:off x="365760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600" y="4724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62520" y="4723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657240" y="47242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17708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276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BBA-4CD5-4B0D-B838-08FCB0447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execute this que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2768760"/>
            <a:ext cx="6110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 = “Sea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9F7-5535-466F-A1C0-5153687C4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Joi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de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352320" y="2666520"/>
            <a:ext cx="305280" cy="203760"/>
            <a:chOff x="3352320" y="2666520"/>
            <a:chExt cx="305280" cy="203760"/>
          </a:xfrm>
        </p:grpSpPr>
        <p:sp>
          <p:nvSpPr>
            <p:cNvPr id="298" name=""/>
            <p:cNvSpPr/>
            <p:nvPr/>
          </p:nvSpPr>
          <p:spPr>
            <a:xfrm>
              <a:off x="335268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52680" y="2666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657600" y="26665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352320" y="26668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82560" y="3006720"/>
            <a:ext cx="305280" cy="203040"/>
            <a:chOff x="4282560" y="3006720"/>
            <a:chExt cx="305280" cy="203040"/>
          </a:xfrm>
        </p:grpSpPr>
        <p:sp>
          <p:nvSpPr>
            <p:cNvPr id="303" name=""/>
            <p:cNvSpPr/>
            <p:nvPr/>
          </p:nvSpPr>
          <p:spPr>
            <a:xfrm>
              <a:off x="428292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292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587840" y="300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282560" y="3006720"/>
              <a:ext cx="304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105520" y="3580920"/>
            <a:ext cx="304560" cy="203760"/>
            <a:chOff x="5105520" y="3580920"/>
            <a:chExt cx="304560" cy="203760"/>
          </a:xfrm>
        </p:grpSpPr>
        <p:sp>
          <p:nvSpPr>
            <p:cNvPr id="308" name=""/>
            <p:cNvSpPr/>
            <p:nvPr/>
          </p:nvSpPr>
          <p:spPr>
            <a:xfrm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5812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410080" y="35809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05520" y="3581280"/>
              <a:ext cx="304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866920" y="4266720"/>
            <a:ext cx="305280" cy="203760"/>
            <a:chOff x="5866920" y="4266720"/>
            <a:chExt cx="305280" cy="203760"/>
          </a:xfrm>
        </p:grpSpPr>
        <p:sp>
          <p:nvSpPr>
            <p:cNvPr id="313" name=""/>
            <p:cNvSpPr/>
            <p:nvPr/>
          </p:nvSpPr>
          <p:spPr>
            <a:xfrm>
              <a:off x="586728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42670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172200" y="42667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866920" y="4267080"/>
              <a:ext cx="30492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44044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4840" y="403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92920" y="4419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960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6640" y="4952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895120" y="2971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8098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723920" y="3886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3886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5623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BDA-1B79-49BF-A62C-6EE75B60AA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a query  R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function cost() that gives us the cost of every jo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best join tree for th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8CB-8278-4D4E-A5FB-3AC0E9ED49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aker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ed index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ak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663-F3FF-4398-894D-D231CC91EE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0006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9341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420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43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145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578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673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48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8880" y="10098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561-F062-467A-9367-BB9555FAD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8160" y="587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2B3-3916-483E-B9D2-6C41EDF48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1000" y="69840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136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00" y="2133720"/>
            <a:ext cx="5412240" cy="82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better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21A-3C61-47BD-A859-17C0F6D90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7652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04880" y="327672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5440" y="411480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040" y="411480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31240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90720" y="3048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072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=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520" y="6858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200" y="1676880"/>
            <a:ext cx="1805760" cy="891000"/>
          </a:xfrm>
          <a:prstGeom prst="wedgeRoundRectCallout">
            <a:avLst>
              <a:gd name="adj1" fmla="val -22694"/>
              <a:gd name="adj2" fmla="val 14414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5800" y="1371960"/>
            <a:ext cx="1805760" cy="891000"/>
          </a:xfrm>
          <a:prstGeom prst="wedgeRoundRectCallout">
            <a:avLst>
              <a:gd name="adj1" fmla="val -83064"/>
              <a:gd name="adj2" fmla="val 1056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7880" y="6005520"/>
            <a:ext cx="4458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8" y="5290"/>
                </a:moveTo>
                <a:lnTo>
                  <a:pt x="-3114" y="5290"/>
                </a:lnTo>
                <a:lnTo>
                  <a:pt x="-3114" y="-45257"/>
                </a:lnTo>
                <a:lnTo>
                  <a:pt x="-928" y="-11389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1120" y="685800"/>
            <a:ext cx="45669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6" y="5290"/>
                </a:moveTo>
                <a:lnTo>
                  <a:pt x="-12527" y="5290"/>
                </a:lnTo>
                <a:lnTo>
                  <a:pt x="-12527" y="47976"/>
                </a:lnTo>
                <a:lnTo>
                  <a:pt x="-10973" y="8567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8840" y="2743200"/>
            <a:ext cx="4566960" cy="134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V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116-64FE-4E68-A86E-48E655577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977080" y="2743200"/>
                <a:ext cx="365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gt;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910560" y="3124080"/>
            <a:ext cx="175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ity=“Seatt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32280" y="3962520"/>
            <a:ext cx="20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720" y="3962520"/>
            <a:ext cx="17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90920" y="31240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3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4376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1280" y="2819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r=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9680" y="79704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lans 2a and 2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3880" y="5128200"/>
            <a:ext cx="1055520" cy="891000"/>
          </a:xfrm>
          <a:prstGeom prst="wedgeRoundRectCallout">
            <a:avLst>
              <a:gd name="adj1" fmla="val -26273"/>
              <a:gd name="adj2" fmla="val -8464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7880" y="1721880"/>
            <a:ext cx="1679040" cy="496440"/>
          </a:xfrm>
          <a:prstGeom prst="wedgeRoundRectCallout">
            <a:avLst>
              <a:gd name="adj1" fmla="val -64231"/>
              <a:gd name="adj2" fmla="val 12883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840" y="5280480"/>
            <a:ext cx="2584440" cy="891000"/>
          </a:xfrm>
          <a:prstGeom prst="wedgeRoundRectCallout">
            <a:avLst>
              <a:gd name="adj1" fmla="val -19083"/>
              <a:gd name="adj2" fmla="val -8452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nd sort (2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scan (2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080" y="6172200"/>
            <a:ext cx="193320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5" y="5290"/>
                </a:moveTo>
                <a:lnTo>
                  <a:pt x="80872" y="5290"/>
                </a:lnTo>
                <a:lnTo>
                  <a:pt x="80872" y="-75673"/>
                </a:lnTo>
                <a:lnTo>
                  <a:pt x="72232" y="-10451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5080" y="3886200"/>
            <a:ext cx="1790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42467"/>
              <a:gd name="adj5" fmla="val 351407"/>
              <a:gd name="adj6" fmla="val 18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2600" y="4879800"/>
            <a:ext cx="162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72472"/>
              <a:gd name="adj5" fmla="val 215175"/>
              <a:gd name="adj6" fmla="val 2415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3320" y="2400480"/>
            <a:ext cx="18082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21046"/>
              <a:gd name="adj5" fmla="val -61245"/>
              <a:gd name="adj6" fmla="val 182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 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9600" y="380880"/>
            <a:ext cx="4520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): 3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b): 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161-9D7D-4F3A-9AD1-FC8B4B6DC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1-24T05:24:46Z</dcterms:modified>
  <cp:revision>340</cp:revision>
  <dc:subject/>
  <dc:title>Lecture 09:</dc:title>
</cp:coreProperties>
</file>