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840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2000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0FCD6B11-E863-4AB8-B6FD-CE99DDA89D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17C1DEB2-9623-4303-9494-B4066A1487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882000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0" y="882000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FC88B-FC21-4E84-B36C-7EBBBD22B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96D42-185F-45E2-96CB-989487DB9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A1A8D-EAEC-4963-BB7E-9F32DFDF4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9AC1E-F91D-4D83-A936-08ED53B98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1FD7C-5C94-4CA2-B4B1-E698D20BA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931B6-29C4-4B82-B575-A6FF70366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D7725-0598-4387-83FE-E16014378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C8D72-571B-448B-864F-3A77ED9E2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CA1F8-C616-4448-A68D-5E3D8726D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E41C2-B10D-4531-8353-A3C1B1777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B7856-54DD-4E51-A636-66087D1E2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1FF75-E1A7-4CF0-B9FD-A30037819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4EB78-0810-4A53-8817-42A1A43A27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cture 23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ry Executi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iday, November 21, 200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7A0BF-0800-4F72-A58E-56D3D184F35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ybrid Join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big should we choose k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verage bucket size for S is B(S)/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fit B(S)/k + (k-1) blocks in mem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(S)/k + (k-1) &lt;= 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 slightly smaller than B(S)/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26A71-6C8F-4B0A-AFA3-EE6A870C56D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ybrid Join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many I/Os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all: cost of partitioned hash joi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B(R) + 3B(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we save 2 disk operations for one buck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all there are k buck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nce we save 2/k(B(R) + B(S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(3-2/k)(B(R) + B(S)) =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(3-2M/B(S))(B(R) + B(S)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63A06-3011-43D9-B9D8-9418A6CFE6B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ybrid Join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estion in class: what is the real advantage of the hybrid algorithm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0584E-AAC6-406E-AAAF-0A00A2ED050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dexed Based Algorith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all that in a clustered index all tuples with the same value of the key are clustered on as few blocks as possi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e: book uses another term: “clustering index”.  Difference is minor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3" name=""/>
          <p:cNvGrpSpPr/>
          <p:nvPr/>
        </p:nvGrpSpPr>
        <p:grpSpPr>
          <a:xfrm>
            <a:off x="2139120" y="3965760"/>
            <a:ext cx="4113000" cy="459720"/>
            <a:chOff x="2139120" y="3965760"/>
            <a:chExt cx="4113000" cy="459720"/>
          </a:xfrm>
        </p:grpSpPr>
        <p:sp>
          <p:nvSpPr>
            <p:cNvPr id="244" name=""/>
            <p:cNvSpPr/>
            <p:nvPr/>
          </p:nvSpPr>
          <p:spPr>
            <a:xfrm>
              <a:off x="2139120" y="3965760"/>
              <a:ext cx="112104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 a 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643200" y="3965760"/>
              <a:ext cx="116388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 a a a 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190480" y="3965760"/>
              <a:ext cx="106164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 a  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815F5-117C-40C2-810C-019B879C118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dex Based Sel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lection on equality: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a=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ustered index on a:  cost B(R)/V(R,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clustered index on a: cost T(R)/V(R,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46E38-76F1-458A-B2B4-C0F7B3ADC3D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dex Based Sel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ble scan (assuming R is clustered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(R) = 2,000 I/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ex based selec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index is clustered: B(R)/V(R,a) = 100 I/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index is unclustered: T(R)/V(R,a) = 5,000 I/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sson: don’t build unclustered indexes when V(R,a) is small 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902320" y="1523880"/>
            <a:ext cx="2405880" cy="1373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(R) = 2000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(R) = 100,000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(R, a) = 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748120" y="1981080"/>
            <a:ext cx="2760840" cy="531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 of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a=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) =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17A25-4C94-47CC-BBD0-F14413A8727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dex Based Jo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       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me S has an index on the join attrib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erate over R, for each tuple fetch corresponding tuple(s) from 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me R is clustered. Cos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index is clustered:  B(R) + T(R)B(S)/V(S,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index is unclustered: B(R) + T(R)T(S)/V(S,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5" name=""/>
              <p:cNvSpPr txBox="1"/>
              <p:nvPr/>
            </p:nvSpPr>
            <p:spPr>
              <a:xfrm>
                <a:off x="1447920" y="2133720"/>
                <a:ext cx="576000" cy="34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&gt;&lt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B3CC2-FE75-43B6-AB52-AEAAC6A0D3F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dex Based Jo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me both R and S have a sorted index (B+ tree) on the join attrib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 perform a merge joi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lled zig-zag jo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st: B(R) + B(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6235B-1322-41CF-8B7C-817DDAB703A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pna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maker),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na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cit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do we execute this query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85880" y="2768760"/>
            <a:ext cx="6110640" cy="18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pna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maker=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cna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city = “Seattle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EC69E-60DE-4DA3-AB2B-CB793E93765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pna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maker),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na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cit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um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ustered index: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pna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na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clustered index: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maker,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c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A934E-4EA6-4853-9B79-4BDB2850A8D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ery execution: 15.1 – 15.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5FE36-F710-4E4F-9605-E2D4E00A27C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63" name=""/>
              <p:cNvSpPr txBox="1"/>
              <p:nvPr/>
            </p:nvSpPr>
            <p:spPr>
              <a:xfrm>
                <a:off x="4000680" y="2743200"/>
                <a:ext cx="365040" cy="2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&gt;&lt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4" name=""/>
          <p:cNvSpPr/>
          <p:nvPr/>
        </p:nvSpPr>
        <p:spPr>
          <a:xfrm>
            <a:off x="4934160" y="3124080"/>
            <a:ext cx="17568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city=“Seattle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84200" y="3962520"/>
            <a:ext cx="2038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mak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684320" y="3962520"/>
            <a:ext cx="1717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c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H="1">
            <a:off x="3314520" y="3124080"/>
            <a:ext cx="68580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457880" y="30481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06736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304880" y="2819520"/>
            <a:ext cx="148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ker=c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68880" y="1009800"/>
            <a:ext cx="236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gical Pla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D42A1-4D31-440D-A061-F3480C69B6A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72" name=""/>
              <p:cNvSpPr txBox="1"/>
              <p:nvPr/>
            </p:nvSpPr>
            <p:spPr>
              <a:xfrm>
                <a:off x="1676520" y="2743200"/>
                <a:ext cx="365040" cy="2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&gt;&lt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3" name=""/>
          <p:cNvSpPr/>
          <p:nvPr/>
        </p:nvSpPr>
        <p:spPr>
          <a:xfrm>
            <a:off x="704880" y="3276720"/>
            <a:ext cx="17568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city=“Seattle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665440" y="4114800"/>
            <a:ext cx="2038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mak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55040" y="4114800"/>
            <a:ext cx="1717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c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905120" y="3124080"/>
            <a:ext cx="106668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flipV="1">
            <a:off x="990720" y="3048120"/>
            <a:ext cx="53316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838080" y="3886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980720" y="2819520"/>
            <a:ext cx="148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name=mak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68160" y="587520"/>
            <a:ext cx="278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hysical plan 1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51200" y="1676880"/>
            <a:ext cx="1805760" cy="891000"/>
          </a:xfrm>
          <a:prstGeom prst="wedgeRoundRectCallout">
            <a:avLst>
              <a:gd name="adj1" fmla="val -22694"/>
              <a:gd name="adj2" fmla="val 144143"/>
              <a:gd name="adj3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ex-base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665800" y="1371960"/>
            <a:ext cx="1805760" cy="891000"/>
          </a:xfrm>
          <a:prstGeom prst="wedgeRoundRectCallout">
            <a:avLst>
              <a:gd name="adj1" fmla="val -83064"/>
              <a:gd name="adj2" fmla="val 105694"/>
              <a:gd name="adj3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ex-base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2C06A-2153-44A0-90CA-900608A7EC3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83" name=""/>
              <p:cNvSpPr txBox="1"/>
              <p:nvPr/>
            </p:nvSpPr>
            <p:spPr>
              <a:xfrm>
                <a:off x="5977080" y="2743200"/>
                <a:ext cx="365040" cy="2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&gt;&lt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4" name=""/>
          <p:cNvSpPr/>
          <p:nvPr/>
        </p:nvSpPr>
        <p:spPr>
          <a:xfrm>
            <a:off x="6910560" y="3124080"/>
            <a:ext cx="17568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city=“Seattle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832280" y="3962520"/>
            <a:ext cx="2038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mak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660720" y="3962520"/>
            <a:ext cx="1717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c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5290920" y="3124080"/>
            <a:ext cx="68580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434280" y="30481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704376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281280" y="2819520"/>
            <a:ext cx="148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ker=c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491000" y="698400"/>
            <a:ext cx="432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hysical plans 2a and 2b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7461360" y="5128200"/>
            <a:ext cx="1055520" cy="891000"/>
          </a:xfrm>
          <a:prstGeom prst="wedgeRoundRectCallout">
            <a:avLst>
              <a:gd name="adj1" fmla="val -26273"/>
              <a:gd name="adj2" fmla="val -84648"/>
              <a:gd name="adj3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ex-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617880" y="1721880"/>
            <a:ext cx="1679040" cy="496440"/>
          </a:xfrm>
          <a:prstGeom prst="wedgeRoundRectCallout">
            <a:avLst>
              <a:gd name="adj1" fmla="val -64231"/>
              <a:gd name="adj2" fmla="val 128837"/>
              <a:gd name="adj3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rge-jo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191840" y="5280480"/>
            <a:ext cx="2584440" cy="891000"/>
          </a:xfrm>
          <a:prstGeom prst="wedgeRoundRectCallout">
            <a:avLst>
              <a:gd name="adj1" fmla="val -19083"/>
              <a:gd name="adj2" fmla="val -84527"/>
              <a:gd name="adj3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an and sort (2a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ex scan (2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9600" y="2133720"/>
            <a:ext cx="5412240" cy="821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ich one is better 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E3731-A01E-489B-B209-7CF227C16C6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96" name=""/>
              <p:cNvSpPr txBox="1"/>
              <p:nvPr/>
            </p:nvSpPr>
            <p:spPr>
              <a:xfrm>
                <a:off x="1676520" y="2743200"/>
                <a:ext cx="365040" cy="2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&gt;&lt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7" name=""/>
          <p:cNvSpPr/>
          <p:nvPr/>
        </p:nvSpPr>
        <p:spPr>
          <a:xfrm>
            <a:off x="704880" y="3276720"/>
            <a:ext cx="17568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city=“Seattle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665440" y="4114800"/>
            <a:ext cx="2038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mak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55040" y="4114800"/>
            <a:ext cx="1717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c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905120" y="3124080"/>
            <a:ext cx="106668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V="1">
            <a:off x="990720" y="3048120"/>
            <a:ext cx="53316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838080" y="3886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980720" y="2819520"/>
            <a:ext cx="148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name=mak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68520" y="685800"/>
            <a:ext cx="213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ysical plan 1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51200" y="1676880"/>
            <a:ext cx="1805760" cy="891000"/>
          </a:xfrm>
          <a:prstGeom prst="wedgeRoundRectCallout">
            <a:avLst>
              <a:gd name="adj1" fmla="val -22694"/>
              <a:gd name="adj2" fmla="val 144143"/>
              <a:gd name="adj3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ex-base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665800" y="1371960"/>
            <a:ext cx="1805760" cy="891000"/>
          </a:xfrm>
          <a:prstGeom prst="wedgeRoundRectCallout">
            <a:avLst>
              <a:gd name="adj1" fmla="val -83064"/>
              <a:gd name="adj2" fmla="val 105694"/>
              <a:gd name="adj3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ex-base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767880" y="6005520"/>
            <a:ext cx="4458240" cy="459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368" y="5290"/>
                </a:moveTo>
                <a:lnTo>
                  <a:pt x="-3114" y="5290"/>
                </a:lnTo>
                <a:lnTo>
                  <a:pt x="-3114" y="-45257"/>
                </a:lnTo>
                <a:lnTo>
                  <a:pt x="-928" y="-113899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/ V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city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461120" y="685800"/>
            <a:ext cx="4566960" cy="459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366" y="5290"/>
                </a:moveTo>
                <a:lnTo>
                  <a:pt x="-12527" y="5290"/>
                </a:lnTo>
                <a:lnTo>
                  <a:pt x="-12527" y="47976"/>
                </a:lnTo>
                <a:lnTo>
                  <a:pt x="-10973" y="85673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/ V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mak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308840" y="2743200"/>
            <a:ext cx="4566960" cy="1343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tal co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/ V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city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/ V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mak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28BCC-8C4D-44BA-886F-B503BDBAAF0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10" name=""/>
              <p:cNvSpPr txBox="1"/>
              <p:nvPr/>
            </p:nvSpPr>
            <p:spPr>
              <a:xfrm>
                <a:off x="5977080" y="2743200"/>
                <a:ext cx="365040" cy="2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&gt;&lt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11" name=""/>
          <p:cNvSpPr/>
          <p:nvPr/>
        </p:nvSpPr>
        <p:spPr>
          <a:xfrm>
            <a:off x="6910560" y="3124080"/>
            <a:ext cx="17568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city=“Seattle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832280" y="3962520"/>
            <a:ext cx="2038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mak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660720" y="3962520"/>
            <a:ext cx="1717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c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 flipH="1">
            <a:off x="5290920" y="3124080"/>
            <a:ext cx="68580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434280" y="30481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04376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6281280" y="2819520"/>
            <a:ext cx="148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ker=c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179680" y="797040"/>
            <a:ext cx="328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ysical plans 2a and 2b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7463880" y="5128200"/>
            <a:ext cx="1055520" cy="891000"/>
          </a:xfrm>
          <a:prstGeom prst="wedgeRoundRectCallout">
            <a:avLst>
              <a:gd name="adj1" fmla="val -26273"/>
              <a:gd name="adj2" fmla="val -84648"/>
              <a:gd name="adj3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ble-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617880" y="1721880"/>
            <a:ext cx="1679040" cy="496440"/>
          </a:xfrm>
          <a:prstGeom prst="wedgeRoundRectCallout">
            <a:avLst>
              <a:gd name="adj1" fmla="val -64231"/>
              <a:gd name="adj2" fmla="val 128837"/>
              <a:gd name="adj3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rge-jo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191840" y="5280480"/>
            <a:ext cx="2584440" cy="891000"/>
          </a:xfrm>
          <a:prstGeom prst="wedgeRoundRectCallout">
            <a:avLst>
              <a:gd name="adj1" fmla="val -19083"/>
              <a:gd name="adj2" fmla="val -84527"/>
              <a:gd name="adj3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an and sort (2a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ex scan (2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531080" y="6172200"/>
            <a:ext cx="1933200" cy="459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2445" y="5290"/>
                </a:moveTo>
                <a:lnTo>
                  <a:pt x="80872" y="5290"/>
                </a:lnTo>
                <a:lnTo>
                  <a:pt x="80872" y="-75673"/>
                </a:lnTo>
                <a:lnTo>
                  <a:pt x="72232" y="-104518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225080" y="3886200"/>
            <a:ext cx="1790280" cy="459720"/>
          </a:xfrm>
          <a:prstGeom prst="borderCallout2">
            <a:avLst>
              <a:gd name="adj1" fmla="val 18750"/>
              <a:gd name="adj2" fmla="val -8333"/>
              <a:gd name="adj3" fmla="val 24490"/>
              <a:gd name="adj4" fmla="val 142467"/>
              <a:gd name="adj5" fmla="val 351407"/>
              <a:gd name="adj6" fmla="val 18162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B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62600" y="4879800"/>
            <a:ext cx="1621080" cy="459720"/>
          </a:xfrm>
          <a:prstGeom prst="borderCallout2">
            <a:avLst>
              <a:gd name="adj1" fmla="val 18750"/>
              <a:gd name="adj2" fmla="val -8333"/>
              <a:gd name="adj3" fmla="val 24490"/>
              <a:gd name="adj4" fmla="val 172472"/>
              <a:gd name="adj5" fmla="val 215175"/>
              <a:gd name="adj6" fmla="val 24151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343320" y="2400480"/>
            <a:ext cx="1808280" cy="825480"/>
          </a:xfrm>
          <a:prstGeom prst="borderCallout2">
            <a:avLst>
              <a:gd name="adj1" fmla="val 18750"/>
              <a:gd name="adj2" fmla="val -8333"/>
              <a:gd name="adj3" fmla="val 13740"/>
              <a:gd name="adj4" fmla="val 121046"/>
              <a:gd name="adj5" fmla="val -61245"/>
              <a:gd name="adj6" fmla="val 182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extra co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why 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09600" y="380880"/>
            <a:ext cx="452088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tal cost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2a): 3B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+ B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2b): T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+ B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8D44F-3796-41D8-8976-95A5B33CAB6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52960" y="914400"/>
            <a:ext cx="8009640" cy="18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n 1:   T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/V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city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         T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/V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maker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n 2a: B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+ 3B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n 2b: B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+ T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482480" y="3475080"/>
            <a:ext cx="5412240" cy="821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ich one is better 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497240" y="4998960"/>
            <a:ext cx="5847840" cy="821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depends on the data 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D2A5D-0FD7-4D74-92EA-26ABEA678F0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-360" y="3276360"/>
            <a:ext cx="80773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se 1: V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city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se 2: V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city) &lt;&lt; T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73840" y="1600200"/>
            <a:ext cx="779472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5,000     B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500      M =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100,000    B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= 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may assume V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maker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(why 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346000" y="3963960"/>
            <a:ext cx="341892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city) = 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346000" y="5487840"/>
            <a:ext cx="303804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city) = 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250D0-094A-48F9-A329-FE2049B32B67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ich Plan is Best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65200" y="2209680"/>
            <a:ext cx="7949880" cy="100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lan 1:   T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/V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city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/V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maker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lan 2a: B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+ 3B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lan 2b: B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+ T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70680" y="4003560"/>
            <a:ext cx="1087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se 1: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se 2: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79AD3-2FF5-44BF-A68D-03BF33ADF8A1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ss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consider several physical p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for one, simple logical p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magic “best” plan: depends on the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order to make the right cho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ed to have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tatistic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ver the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B’s, the T’s, the V’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0ADFF-1482-461E-8EDD-951EB7264DEF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 Pass Algorithms Based on Hash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ea: partition a relation R into buckets, on dis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bucket has size approx. B(R)/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each bucket fit in main memory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es if B(R)/M &lt;= M,   i.e. B(R) &lt;= 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1751760" y="2895480"/>
            <a:ext cx="5476320" cy="2820960"/>
            <a:chOff x="1751760" y="2895480"/>
            <a:chExt cx="5476320" cy="2820960"/>
          </a:xfrm>
        </p:grpSpPr>
        <p:sp>
          <p:nvSpPr>
            <p:cNvPr id="55" name=""/>
            <p:cNvSpPr/>
            <p:nvPr/>
          </p:nvSpPr>
          <p:spPr>
            <a:xfrm>
              <a:off x="2914560" y="5327280"/>
              <a:ext cx="25822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M main memory buffer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900400" y="5348160"/>
              <a:ext cx="6285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Dis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983600" y="5349600"/>
              <a:ext cx="6285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Dis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751760" y="2895480"/>
              <a:ext cx="12337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Relation 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398480" y="3180960"/>
              <a:ext cx="9255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OUTP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96240" y="4664880"/>
              <a:ext cx="40680" cy="59400"/>
            </a:xfrm>
            <a:custGeom>
              <a:avLst/>
              <a:gdLst/>
              <a:ahLst/>
              <a:rect l="l" t="t" r="r" b="b"/>
              <a:pathLst>
                <a:path w="27" h="40">
                  <a:moveTo>
                    <a:pt x="26" y="20"/>
                  </a:moveTo>
                  <a:lnTo>
                    <a:pt x="14" y="0"/>
                  </a:lnTo>
                  <a:lnTo>
                    <a:pt x="0" y="20"/>
                  </a:lnTo>
                  <a:lnTo>
                    <a:pt x="14" y="39"/>
                  </a:lnTo>
                  <a:lnTo>
                    <a:pt x="26" y="2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244200" y="4664880"/>
              <a:ext cx="40680" cy="59400"/>
            </a:xfrm>
            <a:custGeom>
              <a:avLst/>
              <a:gdLst/>
              <a:ahLst/>
              <a:rect l="l" t="t" r="r" b="b"/>
              <a:pathLst>
                <a:path w="27" h="40">
                  <a:moveTo>
                    <a:pt x="26" y="20"/>
                  </a:moveTo>
                  <a:lnTo>
                    <a:pt x="14" y="0"/>
                  </a:lnTo>
                  <a:lnTo>
                    <a:pt x="0" y="20"/>
                  </a:lnTo>
                  <a:lnTo>
                    <a:pt x="14" y="39"/>
                  </a:lnTo>
                  <a:lnTo>
                    <a:pt x="26" y="2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761200" y="3159720"/>
              <a:ext cx="2541960" cy="2156760"/>
            </a:xfrm>
            <a:custGeom>
              <a:avLst/>
              <a:gdLst/>
              <a:ahLst/>
              <a:rect l="l" t="t" r="r" b="b"/>
              <a:pathLst>
                <a:path w="1683" h="1442">
                  <a:moveTo>
                    <a:pt x="0" y="1441"/>
                  </a:moveTo>
                  <a:lnTo>
                    <a:pt x="0" y="0"/>
                  </a:lnTo>
                  <a:lnTo>
                    <a:pt x="1682" y="0"/>
                  </a:lnTo>
                  <a:lnTo>
                    <a:pt x="1682" y="1441"/>
                  </a:lnTo>
                  <a:lnTo>
                    <a:pt x="0" y="144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096360" y="4402800"/>
              <a:ext cx="318600" cy="253800"/>
            </a:xfrm>
            <a:custGeom>
              <a:avLst/>
              <a:gdLst/>
              <a:ahLst/>
              <a:rect l="l" t="t" r="r" b="b"/>
              <a:pathLst>
                <a:path w="211" h="170">
                  <a:moveTo>
                    <a:pt x="0" y="169"/>
                  </a:moveTo>
                  <a:lnTo>
                    <a:pt x="0" y="0"/>
                  </a:lnTo>
                  <a:lnTo>
                    <a:pt x="210" y="0"/>
                  </a:lnTo>
                  <a:lnTo>
                    <a:pt x="210" y="169"/>
                  </a:lnTo>
                  <a:lnTo>
                    <a:pt x="0" y="169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4" name=""/>
            <p:cNvGrpSpPr/>
            <p:nvPr/>
          </p:nvGrpSpPr>
          <p:grpSpPr>
            <a:xfrm>
              <a:off x="4764240" y="4583880"/>
              <a:ext cx="317880" cy="85320"/>
              <a:chOff x="4764240" y="4583880"/>
              <a:chExt cx="317880" cy="85320"/>
            </a:xfrm>
          </p:grpSpPr>
          <p:sp>
            <p:nvSpPr>
              <p:cNvPr id="65" name=""/>
              <p:cNvSpPr/>
              <p:nvPr/>
            </p:nvSpPr>
            <p:spPr>
              <a:xfrm>
                <a:off x="4764240" y="4583880"/>
                <a:ext cx="40680" cy="59760"/>
              </a:xfrm>
              <a:custGeom>
                <a:avLst/>
                <a:gdLst/>
                <a:ahLst/>
                <a:rect l="l" t="t" r="r" b="b"/>
                <a:pathLst>
                  <a:path w="27" h="40">
                    <a:moveTo>
                      <a:pt x="26" y="19"/>
                    </a:moveTo>
                    <a:lnTo>
                      <a:pt x="13" y="0"/>
                    </a:lnTo>
                    <a:lnTo>
                      <a:pt x="0" y="19"/>
                    </a:lnTo>
                    <a:lnTo>
                      <a:pt x="13" y="39"/>
                    </a:lnTo>
                    <a:lnTo>
                      <a:pt x="26" y="19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4901400" y="4583880"/>
                <a:ext cx="40680" cy="59760"/>
              </a:xfrm>
              <a:custGeom>
                <a:avLst/>
                <a:gdLst/>
                <a:ahLst/>
                <a:rect l="l" t="t" r="r" b="b"/>
                <a:pathLst>
                  <a:path w="27" h="40">
                    <a:moveTo>
                      <a:pt x="26" y="19"/>
                    </a:moveTo>
                    <a:lnTo>
                      <a:pt x="13" y="0"/>
                    </a:lnTo>
                    <a:lnTo>
                      <a:pt x="0" y="19"/>
                    </a:lnTo>
                    <a:lnTo>
                      <a:pt x="13" y="39"/>
                    </a:lnTo>
                    <a:lnTo>
                      <a:pt x="26" y="19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049000" y="4583880"/>
                <a:ext cx="33120" cy="85320"/>
              </a:xfrm>
              <a:custGeom>
                <a:avLst/>
                <a:gdLst/>
                <a:ahLst/>
                <a:rect l="l" t="t" r="r" b="b"/>
                <a:pathLst>
                  <a:path w="22" h="57">
                    <a:moveTo>
                      <a:pt x="21" y="27"/>
                    </a:moveTo>
                    <a:lnTo>
                      <a:pt x="11" y="0"/>
                    </a:lnTo>
                    <a:lnTo>
                      <a:pt x="0" y="27"/>
                    </a:lnTo>
                    <a:lnTo>
                      <a:pt x="11" y="56"/>
                    </a:lnTo>
                    <a:lnTo>
                      <a:pt x="21" y="2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8" name=""/>
            <p:cNvSpPr/>
            <p:nvPr/>
          </p:nvSpPr>
          <p:spPr>
            <a:xfrm>
              <a:off x="5723280" y="3768840"/>
              <a:ext cx="238680" cy="254160"/>
            </a:xfrm>
            <a:custGeom>
              <a:avLst/>
              <a:gdLst/>
              <a:ahLst/>
              <a:rect l="l" t="t" r="r" b="b"/>
              <a:pathLst>
                <a:path w="158" h="170">
                  <a:moveTo>
                    <a:pt x="0" y="169"/>
                  </a:moveTo>
                  <a:lnTo>
                    <a:pt x="0" y="0"/>
                  </a:lnTo>
                  <a:lnTo>
                    <a:pt x="157" y="0"/>
                  </a:lnTo>
                  <a:lnTo>
                    <a:pt x="157" y="169"/>
                  </a:lnTo>
                  <a:lnTo>
                    <a:pt x="0" y="169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999760" y="3768840"/>
              <a:ext cx="236880" cy="254160"/>
            </a:xfrm>
            <a:custGeom>
              <a:avLst/>
              <a:gdLst/>
              <a:ahLst/>
              <a:rect l="l" t="t" r="r" b="b"/>
              <a:pathLst>
                <a:path w="157" h="170">
                  <a:moveTo>
                    <a:pt x="0" y="169"/>
                  </a:moveTo>
                  <a:lnTo>
                    <a:pt x="0" y="0"/>
                  </a:lnTo>
                  <a:lnTo>
                    <a:pt x="156" y="0"/>
                  </a:lnTo>
                  <a:lnTo>
                    <a:pt x="156" y="169"/>
                  </a:lnTo>
                  <a:lnTo>
                    <a:pt x="0" y="169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723280" y="4208760"/>
              <a:ext cx="238680" cy="253800"/>
            </a:xfrm>
            <a:custGeom>
              <a:avLst/>
              <a:gdLst/>
              <a:ahLst/>
              <a:rect l="l" t="t" r="r" b="b"/>
              <a:pathLst>
                <a:path w="158" h="170">
                  <a:moveTo>
                    <a:pt x="0" y="169"/>
                  </a:moveTo>
                  <a:lnTo>
                    <a:pt x="0" y="0"/>
                  </a:lnTo>
                  <a:lnTo>
                    <a:pt x="157" y="0"/>
                  </a:lnTo>
                  <a:lnTo>
                    <a:pt x="157" y="169"/>
                  </a:lnTo>
                  <a:lnTo>
                    <a:pt x="0" y="169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008400" y="4208760"/>
              <a:ext cx="237240" cy="253800"/>
            </a:xfrm>
            <a:custGeom>
              <a:avLst/>
              <a:gdLst/>
              <a:ahLst/>
              <a:rect l="l" t="t" r="r" b="b"/>
              <a:pathLst>
                <a:path w="157" h="170">
                  <a:moveTo>
                    <a:pt x="0" y="169"/>
                  </a:moveTo>
                  <a:lnTo>
                    <a:pt x="0" y="0"/>
                  </a:lnTo>
                  <a:lnTo>
                    <a:pt x="156" y="0"/>
                  </a:lnTo>
                  <a:lnTo>
                    <a:pt x="156" y="169"/>
                  </a:lnTo>
                  <a:lnTo>
                    <a:pt x="0" y="169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960160" y="4664880"/>
              <a:ext cx="40680" cy="59400"/>
            </a:xfrm>
            <a:custGeom>
              <a:avLst/>
              <a:gdLst/>
              <a:ahLst/>
              <a:rect l="l" t="t" r="r" b="b"/>
              <a:pathLst>
                <a:path w="27" h="40">
                  <a:moveTo>
                    <a:pt x="26" y="20"/>
                  </a:moveTo>
                  <a:lnTo>
                    <a:pt x="13" y="0"/>
                  </a:lnTo>
                  <a:lnTo>
                    <a:pt x="0" y="20"/>
                  </a:lnTo>
                  <a:lnTo>
                    <a:pt x="13" y="39"/>
                  </a:lnTo>
                  <a:lnTo>
                    <a:pt x="26" y="2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294240" y="4208760"/>
              <a:ext cx="236880" cy="253800"/>
            </a:xfrm>
            <a:custGeom>
              <a:avLst/>
              <a:gdLst/>
              <a:ahLst/>
              <a:rect l="l" t="t" r="r" b="b"/>
              <a:pathLst>
                <a:path w="157" h="170">
                  <a:moveTo>
                    <a:pt x="0" y="169"/>
                  </a:moveTo>
                  <a:lnTo>
                    <a:pt x="0" y="0"/>
                  </a:lnTo>
                  <a:lnTo>
                    <a:pt x="156" y="0"/>
                  </a:lnTo>
                  <a:lnTo>
                    <a:pt x="156" y="169"/>
                  </a:lnTo>
                  <a:lnTo>
                    <a:pt x="0" y="169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750200" y="3946680"/>
              <a:ext cx="2750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723280" y="4995000"/>
              <a:ext cx="238680" cy="254160"/>
            </a:xfrm>
            <a:custGeom>
              <a:avLst/>
              <a:gdLst/>
              <a:ahLst/>
              <a:rect l="l" t="t" r="r" b="b"/>
              <a:pathLst>
                <a:path w="158" h="170">
                  <a:moveTo>
                    <a:pt x="0" y="169"/>
                  </a:moveTo>
                  <a:lnTo>
                    <a:pt x="0" y="0"/>
                  </a:lnTo>
                  <a:lnTo>
                    <a:pt x="157" y="0"/>
                  </a:lnTo>
                  <a:lnTo>
                    <a:pt x="157" y="169"/>
                  </a:lnTo>
                  <a:lnTo>
                    <a:pt x="0" y="169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718520" y="4954680"/>
              <a:ext cx="401760" cy="270360"/>
            </a:xfrm>
            <a:custGeom>
              <a:avLst/>
              <a:gdLst/>
              <a:ahLst/>
              <a:rect l="l" t="t" r="r" b="b"/>
              <a:pathLst>
                <a:path w="266" h="181">
                  <a:moveTo>
                    <a:pt x="0" y="180"/>
                  </a:moveTo>
                  <a:lnTo>
                    <a:pt x="0" y="0"/>
                  </a:lnTo>
                  <a:lnTo>
                    <a:pt x="265" y="0"/>
                  </a:lnTo>
                  <a:lnTo>
                    <a:pt x="265" y="180"/>
                  </a:lnTo>
                  <a:lnTo>
                    <a:pt x="0" y="180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874240" y="4012560"/>
              <a:ext cx="7383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INP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50200" y="3430440"/>
              <a:ext cx="2750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399840" y="4244400"/>
              <a:ext cx="820440" cy="71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has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func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661640" y="4687200"/>
              <a:ext cx="502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M-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577120" y="3170520"/>
              <a:ext cx="11512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Parti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675840" y="3746160"/>
              <a:ext cx="2995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666840" y="4145400"/>
              <a:ext cx="2995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636240" y="4892040"/>
              <a:ext cx="5918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M-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5" name=""/>
            <p:cNvGrpSpPr/>
            <p:nvPr/>
          </p:nvGrpSpPr>
          <p:grpSpPr>
            <a:xfrm>
              <a:off x="1812600" y="3524760"/>
              <a:ext cx="875880" cy="1838880"/>
              <a:chOff x="1812600" y="3524760"/>
              <a:chExt cx="875880" cy="1838880"/>
            </a:xfrm>
          </p:grpSpPr>
          <p:sp>
            <p:nvSpPr>
              <p:cNvPr id="86" name=""/>
              <p:cNvSpPr/>
              <p:nvPr/>
            </p:nvSpPr>
            <p:spPr>
              <a:xfrm>
                <a:off x="1826280" y="3524760"/>
                <a:ext cx="855720" cy="1270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1819800" y="3587760"/>
                <a:ext cx="0" cy="1658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2688480" y="3587760"/>
                <a:ext cx="0" cy="1658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1812600" y="5143320"/>
                <a:ext cx="867960" cy="220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96" y="10505"/>
                    </a:moveTo>
                    <a:arcTo wR="10800" hR="10800" stAng="-94011" swAng="1094069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96" y="10505"/>
                    </a:moveTo>
                    <a:arcTo wR="10800" hR="10800" stAng="-94011" swAng="1094069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0" name=""/>
            <p:cNvSpPr/>
            <p:nvPr/>
          </p:nvSpPr>
          <p:spPr>
            <a:xfrm>
              <a:off x="2114640" y="3740040"/>
              <a:ext cx="277560" cy="275400"/>
            </a:xfrm>
            <a:prstGeom prst="rect">
              <a:avLst/>
            </a:prstGeom>
            <a:solidFill>
              <a:srgbClr val="f6bf6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114640" y="4170960"/>
              <a:ext cx="277560" cy="275400"/>
            </a:xfrm>
            <a:prstGeom prst="rect">
              <a:avLst/>
            </a:prstGeom>
            <a:solidFill>
              <a:srgbClr val="f6bf6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114640" y="4889160"/>
              <a:ext cx="277560" cy="275040"/>
            </a:xfrm>
            <a:prstGeom prst="rect">
              <a:avLst/>
            </a:prstGeom>
            <a:solidFill>
              <a:srgbClr val="f6bf6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919880" y="4353480"/>
              <a:ext cx="74268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Book Antiqua"/>
                </a:rPr>
                <a:t>. . 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" name=""/>
            <p:cNvGrpSpPr/>
            <p:nvPr/>
          </p:nvGrpSpPr>
          <p:grpSpPr>
            <a:xfrm>
              <a:off x="5654880" y="3524760"/>
              <a:ext cx="1020960" cy="1859760"/>
              <a:chOff x="5654880" y="3524760"/>
              <a:chExt cx="1020960" cy="1859760"/>
            </a:xfrm>
          </p:grpSpPr>
          <p:sp>
            <p:nvSpPr>
              <p:cNvPr id="95" name=""/>
              <p:cNvSpPr/>
              <p:nvPr/>
            </p:nvSpPr>
            <p:spPr>
              <a:xfrm>
                <a:off x="5668560" y="3524760"/>
                <a:ext cx="1001160" cy="1285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5662080" y="3588840"/>
                <a:ext cx="0" cy="1677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6675840" y="3588840"/>
                <a:ext cx="0" cy="1677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5654880" y="5164200"/>
                <a:ext cx="1013040" cy="220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96" y="10507"/>
                    </a:moveTo>
                    <a:arcTo wR="10800" hR="10800" stAng="-93306" swAng="1089330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96" y="10507"/>
                    </a:moveTo>
                    <a:arcTo wR="10800" hR="10800" stAng="-93306" swAng="10893306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" name=""/>
            <p:cNvSpPr/>
            <p:nvPr/>
          </p:nvSpPr>
          <p:spPr>
            <a:xfrm>
              <a:off x="2688840" y="4524120"/>
              <a:ext cx="362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flipV="1">
              <a:off x="4211280" y="3949560"/>
              <a:ext cx="507240" cy="574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flipV="1">
              <a:off x="4211280" y="4380480"/>
              <a:ext cx="507240" cy="143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211280" y="4524120"/>
              <a:ext cx="507240" cy="574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153400" y="3877920"/>
              <a:ext cx="579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153400" y="4308840"/>
              <a:ext cx="579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153400" y="5098320"/>
              <a:ext cx="579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718520" y="4165200"/>
              <a:ext cx="401760" cy="270360"/>
            </a:xfrm>
            <a:custGeom>
              <a:avLst/>
              <a:gdLst/>
              <a:ahLst/>
              <a:rect l="l" t="t" r="r" b="b"/>
              <a:pathLst>
                <a:path w="266" h="181">
                  <a:moveTo>
                    <a:pt x="0" y="180"/>
                  </a:moveTo>
                  <a:lnTo>
                    <a:pt x="0" y="0"/>
                  </a:lnTo>
                  <a:lnTo>
                    <a:pt x="265" y="0"/>
                  </a:lnTo>
                  <a:lnTo>
                    <a:pt x="265" y="180"/>
                  </a:lnTo>
                  <a:lnTo>
                    <a:pt x="0" y="180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718520" y="3662640"/>
              <a:ext cx="401760" cy="270360"/>
            </a:xfrm>
            <a:custGeom>
              <a:avLst/>
              <a:gdLst/>
              <a:ahLst/>
              <a:rect l="l" t="t" r="r" b="b"/>
              <a:pathLst>
                <a:path w="266" h="181">
                  <a:moveTo>
                    <a:pt x="0" y="180"/>
                  </a:moveTo>
                  <a:lnTo>
                    <a:pt x="0" y="0"/>
                  </a:lnTo>
                  <a:lnTo>
                    <a:pt x="265" y="0"/>
                  </a:lnTo>
                  <a:lnTo>
                    <a:pt x="265" y="180"/>
                  </a:lnTo>
                  <a:lnTo>
                    <a:pt x="0" y="180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" name=""/>
          <p:cNvSpPr/>
          <p:nvPr/>
        </p:nvSpPr>
        <p:spPr>
          <a:xfrm>
            <a:off x="1509480" y="36194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509480" y="41529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144800" y="48736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(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120C9-8B22-4A03-8B0C-0B84011166A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sh Based Algorithms for 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all: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R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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uplicate elimin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ep 1. Partition R into buck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ep 2. Apply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each bucket (may read in main memor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st: 3B(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mption:B(R) &lt;= 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75563-DC6D-4702-8111-9B7FC5DE489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sh Based Algorithms for 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all: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R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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ouping and aggreg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ep 1. Partition R into buck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ep 2. Apply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each bucket (may read in main memor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st: 3B(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mption:B(R) &lt;= 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7FE14-0BE6-4DD5-891B-9CF322DAE0F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titioned Hash Jo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ep 1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sh S into M buc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d all buckets to di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ep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sh R into M buc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d all buckets to di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ep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in every pair of buc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CBC73-D3FB-418E-8342-1C619831407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sh-Jo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350532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ition both relations using hash fn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 R tuples in partition i will only match S tuples in partition 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4114800"/>
            <a:ext cx="32767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Read in a partition of R, hash it using </a:t>
            </a:r>
            <a:r>
              <a:rPr b="1" lang="en-US" sz="2400" spc="-1" strike="noStrike">
                <a:solidFill>
                  <a:srgbClr val="3365fb"/>
                </a:solidFill>
                <a:latin typeface="Book Antiqua"/>
              </a:rPr>
              <a:t>h2 (&lt;&gt; </a:t>
            </a:r>
            <a:r>
              <a:rPr b="1" lang="en-US" sz="2400" spc="-1" strike="noStrike">
                <a:solidFill>
                  <a:srgbClr val="3333cc"/>
                </a:solidFill>
                <a:latin typeface="Book Antiqua"/>
              </a:rPr>
              <a:t>h</a:t>
            </a:r>
            <a:r>
              <a:rPr b="1" lang="en-US" sz="2400" spc="-1" strike="noStrike">
                <a:solidFill>
                  <a:srgbClr val="3365fb"/>
                </a:solidFill>
                <a:latin typeface="Book Antiqua"/>
              </a:rPr>
              <a:t>!)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. Scan matching partition of S, search for match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505320" y="3429000"/>
            <a:ext cx="510516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3422520" y="3560760"/>
            <a:ext cx="5495040" cy="3030840"/>
            <a:chOff x="3422520" y="3560760"/>
            <a:chExt cx="5495040" cy="3030840"/>
          </a:xfrm>
        </p:grpSpPr>
        <p:sp>
          <p:nvSpPr>
            <p:cNvPr id="124" name=""/>
            <p:cNvSpPr/>
            <p:nvPr/>
          </p:nvSpPr>
          <p:spPr>
            <a:xfrm>
              <a:off x="3447360" y="3560760"/>
              <a:ext cx="115128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Parti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of R &amp; 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160240" y="5726160"/>
              <a:ext cx="1131480" cy="41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Input buff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for R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219280" y="4008600"/>
              <a:ext cx="224100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Hash table for part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Si ( &lt; M-1 pages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576760" y="5419800"/>
              <a:ext cx="230400" cy="247680"/>
            </a:xfrm>
            <a:custGeom>
              <a:avLst/>
              <a:gdLst/>
              <a:ahLst/>
              <a:rect l="l" t="t" r="r" b="b"/>
              <a:pathLst>
                <a:path w="145" h="156">
                  <a:moveTo>
                    <a:pt x="0" y="155"/>
                  </a:moveTo>
                  <a:lnTo>
                    <a:pt x="0" y="0"/>
                  </a:lnTo>
                  <a:lnTo>
                    <a:pt x="144" y="0"/>
                  </a:lnTo>
                  <a:lnTo>
                    <a:pt x="144" y="155"/>
                  </a:lnTo>
                  <a:lnTo>
                    <a:pt x="0" y="155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749760" y="5505480"/>
              <a:ext cx="39600" cy="57240"/>
            </a:xfrm>
            <a:custGeom>
              <a:avLst/>
              <a:gdLst/>
              <a:ahLst/>
              <a:rect l="l" t="t" r="r" b="b"/>
              <a:pathLst>
                <a:path w="25" h="36">
                  <a:moveTo>
                    <a:pt x="24" y="18"/>
                  </a:moveTo>
                  <a:lnTo>
                    <a:pt x="12" y="0"/>
                  </a:lnTo>
                  <a:lnTo>
                    <a:pt x="0" y="18"/>
                  </a:lnTo>
                  <a:lnTo>
                    <a:pt x="12" y="35"/>
                  </a:lnTo>
                  <a:lnTo>
                    <a:pt x="24" y="1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881520" y="5505480"/>
              <a:ext cx="39600" cy="57240"/>
            </a:xfrm>
            <a:custGeom>
              <a:avLst/>
              <a:gdLst/>
              <a:ahLst/>
              <a:rect l="l" t="t" r="r" b="b"/>
              <a:pathLst>
                <a:path w="25" h="36">
                  <a:moveTo>
                    <a:pt x="24" y="18"/>
                  </a:moveTo>
                  <a:lnTo>
                    <a:pt x="12" y="0"/>
                  </a:lnTo>
                  <a:lnTo>
                    <a:pt x="0" y="18"/>
                  </a:lnTo>
                  <a:lnTo>
                    <a:pt x="12" y="35"/>
                  </a:lnTo>
                  <a:lnTo>
                    <a:pt x="24" y="1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024440" y="5505480"/>
              <a:ext cx="39600" cy="57240"/>
            </a:xfrm>
            <a:custGeom>
              <a:avLst/>
              <a:gdLst/>
              <a:ahLst/>
              <a:rect l="l" t="t" r="r" b="b"/>
              <a:pathLst>
                <a:path w="25" h="36">
                  <a:moveTo>
                    <a:pt x="24" y="18"/>
                  </a:moveTo>
                  <a:lnTo>
                    <a:pt x="12" y="0"/>
                  </a:lnTo>
                  <a:lnTo>
                    <a:pt x="0" y="18"/>
                  </a:lnTo>
                  <a:lnTo>
                    <a:pt x="12" y="35"/>
                  </a:lnTo>
                  <a:lnTo>
                    <a:pt x="24" y="1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521160" y="4702320"/>
              <a:ext cx="230040" cy="247680"/>
            </a:xfrm>
            <a:custGeom>
              <a:avLst/>
              <a:gdLst/>
              <a:ahLst/>
              <a:rect l="l" t="t" r="r" b="b"/>
              <a:pathLst>
                <a:path w="145" h="156">
                  <a:moveTo>
                    <a:pt x="0" y="155"/>
                  </a:moveTo>
                  <a:lnTo>
                    <a:pt x="0" y="0"/>
                  </a:lnTo>
                  <a:lnTo>
                    <a:pt x="144" y="0"/>
                  </a:lnTo>
                  <a:lnTo>
                    <a:pt x="144" y="155"/>
                  </a:lnTo>
                  <a:lnTo>
                    <a:pt x="0" y="155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787920" y="4702320"/>
              <a:ext cx="228600" cy="247680"/>
            </a:xfrm>
            <a:custGeom>
              <a:avLst/>
              <a:gdLst/>
              <a:ahLst/>
              <a:rect l="l" t="t" r="r" b="b"/>
              <a:pathLst>
                <a:path w="144" h="156">
                  <a:moveTo>
                    <a:pt x="0" y="155"/>
                  </a:moveTo>
                  <a:lnTo>
                    <a:pt x="0" y="0"/>
                  </a:lnTo>
                  <a:lnTo>
                    <a:pt x="143" y="0"/>
                  </a:lnTo>
                  <a:lnTo>
                    <a:pt x="143" y="155"/>
                  </a:lnTo>
                  <a:lnTo>
                    <a:pt x="0" y="155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521160" y="5062680"/>
              <a:ext cx="230040" cy="245880"/>
            </a:xfrm>
            <a:custGeom>
              <a:avLst/>
              <a:gdLst/>
              <a:ahLst/>
              <a:rect l="l" t="t" r="r" b="b"/>
              <a:pathLst>
                <a:path w="145" h="155">
                  <a:moveTo>
                    <a:pt x="0" y="154"/>
                  </a:moveTo>
                  <a:lnTo>
                    <a:pt x="0" y="0"/>
                  </a:lnTo>
                  <a:lnTo>
                    <a:pt x="144" y="0"/>
                  </a:lnTo>
                  <a:lnTo>
                    <a:pt x="144" y="154"/>
                  </a:lnTo>
                  <a:lnTo>
                    <a:pt x="0" y="154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797280" y="5062680"/>
              <a:ext cx="228600" cy="245880"/>
            </a:xfrm>
            <a:custGeom>
              <a:avLst/>
              <a:gdLst/>
              <a:ahLst/>
              <a:rect l="l" t="t" r="r" b="b"/>
              <a:pathLst>
                <a:path w="144" h="155">
                  <a:moveTo>
                    <a:pt x="0" y="154"/>
                  </a:moveTo>
                  <a:lnTo>
                    <a:pt x="0" y="0"/>
                  </a:lnTo>
                  <a:lnTo>
                    <a:pt x="143" y="0"/>
                  </a:lnTo>
                  <a:lnTo>
                    <a:pt x="143" y="154"/>
                  </a:lnTo>
                  <a:lnTo>
                    <a:pt x="0" y="154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843360" y="5824440"/>
              <a:ext cx="228600" cy="246240"/>
            </a:xfrm>
            <a:custGeom>
              <a:avLst/>
              <a:gdLst/>
              <a:ahLst/>
              <a:rect l="l" t="t" r="r" b="b"/>
              <a:pathLst>
                <a:path w="144" h="155">
                  <a:moveTo>
                    <a:pt x="0" y="154"/>
                  </a:moveTo>
                  <a:lnTo>
                    <a:pt x="0" y="0"/>
                  </a:lnTo>
                  <a:lnTo>
                    <a:pt x="143" y="0"/>
                  </a:lnTo>
                  <a:lnTo>
                    <a:pt x="143" y="154"/>
                  </a:lnTo>
                  <a:lnTo>
                    <a:pt x="0" y="154"/>
                  </a:lnTo>
                </a:path>
              </a:pathLst>
            </a:custGeom>
            <a:solidFill>
              <a:srgbClr val="c0fef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521160" y="5826240"/>
              <a:ext cx="230040" cy="247680"/>
            </a:xfrm>
            <a:custGeom>
              <a:avLst/>
              <a:gdLst/>
              <a:ahLst/>
              <a:rect l="l" t="t" r="r" b="b"/>
              <a:pathLst>
                <a:path w="145" h="156">
                  <a:moveTo>
                    <a:pt x="0" y="155"/>
                  </a:moveTo>
                  <a:lnTo>
                    <a:pt x="0" y="0"/>
                  </a:lnTo>
                  <a:lnTo>
                    <a:pt x="144" y="0"/>
                  </a:lnTo>
                  <a:lnTo>
                    <a:pt x="144" y="155"/>
                  </a:lnTo>
                  <a:lnTo>
                    <a:pt x="0" y="155"/>
                  </a:lnTo>
                </a:path>
              </a:pathLst>
            </a:custGeom>
            <a:solidFill>
              <a:srgbClr val="c0fef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464080" y="4692600"/>
              <a:ext cx="228600" cy="247680"/>
            </a:xfrm>
            <a:custGeom>
              <a:avLst/>
              <a:gdLst/>
              <a:ahLst/>
              <a:rect l="l" t="t" r="r" b="b"/>
              <a:pathLst>
                <a:path w="144" h="156">
                  <a:moveTo>
                    <a:pt x="0" y="155"/>
                  </a:moveTo>
                  <a:lnTo>
                    <a:pt x="0" y="0"/>
                  </a:lnTo>
                  <a:lnTo>
                    <a:pt x="143" y="0"/>
                  </a:lnTo>
                  <a:lnTo>
                    <a:pt x="143" y="155"/>
                  </a:lnTo>
                  <a:lnTo>
                    <a:pt x="0" y="155"/>
                  </a:lnTo>
                </a:path>
              </a:pathLst>
            </a:custGeom>
            <a:solidFill>
              <a:srgbClr val="c0fef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784840" y="4702320"/>
              <a:ext cx="230040" cy="247680"/>
            </a:xfrm>
            <a:custGeom>
              <a:avLst/>
              <a:gdLst/>
              <a:ahLst/>
              <a:rect l="l" t="t" r="r" b="b"/>
              <a:pathLst>
                <a:path w="145" h="156">
                  <a:moveTo>
                    <a:pt x="0" y="155"/>
                  </a:moveTo>
                  <a:lnTo>
                    <a:pt x="0" y="0"/>
                  </a:lnTo>
                  <a:lnTo>
                    <a:pt x="144" y="0"/>
                  </a:lnTo>
                  <a:lnTo>
                    <a:pt x="144" y="155"/>
                  </a:lnTo>
                  <a:lnTo>
                    <a:pt x="0" y="155"/>
                  </a:lnTo>
                </a:path>
              </a:pathLst>
            </a:custGeom>
            <a:solidFill>
              <a:srgbClr val="c0fef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837480" y="4702320"/>
              <a:ext cx="228600" cy="247680"/>
            </a:xfrm>
            <a:custGeom>
              <a:avLst/>
              <a:gdLst/>
              <a:ahLst/>
              <a:rect l="l" t="t" r="r" b="b"/>
              <a:pathLst>
                <a:path w="144" h="156">
                  <a:moveTo>
                    <a:pt x="0" y="155"/>
                  </a:moveTo>
                  <a:lnTo>
                    <a:pt x="0" y="0"/>
                  </a:lnTo>
                  <a:lnTo>
                    <a:pt x="143" y="0"/>
                  </a:lnTo>
                  <a:lnTo>
                    <a:pt x="143" y="155"/>
                  </a:lnTo>
                  <a:lnTo>
                    <a:pt x="0" y="155"/>
                  </a:lnTo>
                </a:path>
              </a:pathLst>
            </a:custGeom>
            <a:solidFill>
              <a:srgbClr val="c0fef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288120" y="4807080"/>
              <a:ext cx="39600" cy="56880"/>
            </a:xfrm>
            <a:custGeom>
              <a:avLst/>
              <a:gdLst/>
              <a:ahLst/>
              <a:rect l="l" t="t" r="r" b="b"/>
              <a:pathLst>
                <a:path w="25" h="36">
                  <a:moveTo>
                    <a:pt x="24" y="18"/>
                  </a:moveTo>
                  <a:lnTo>
                    <a:pt x="11" y="0"/>
                  </a:lnTo>
                  <a:lnTo>
                    <a:pt x="0" y="18"/>
                  </a:lnTo>
                  <a:lnTo>
                    <a:pt x="11" y="35"/>
                  </a:lnTo>
                  <a:lnTo>
                    <a:pt x="24" y="18"/>
                  </a:lnTo>
                </a:path>
              </a:pathLst>
            </a:custGeom>
            <a:solidFill>
              <a:srgbClr val="c0fef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421320" y="4807080"/>
              <a:ext cx="38160" cy="56880"/>
            </a:xfrm>
            <a:custGeom>
              <a:avLst/>
              <a:gdLst/>
              <a:ahLst/>
              <a:rect l="l" t="t" r="r" b="b"/>
              <a:pathLst>
                <a:path w="24" h="36">
                  <a:moveTo>
                    <a:pt x="23" y="18"/>
                  </a:moveTo>
                  <a:lnTo>
                    <a:pt x="11" y="0"/>
                  </a:lnTo>
                  <a:lnTo>
                    <a:pt x="0" y="18"/>
                  </a:lnTo>
                  <a:lnTo>
                    <a:pt x="11" y="35"/>
                  </a:lnTo>
                  <a:lnTo>
                    <a:pt x="23" y="18"/>
                  </a:lnTo>
                </a:path>
              </a:pathLst>
            </a:custGeom>
            <a:solidFill>
              <a:srgbClr val="c0fef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562800" y="4807080"/>
              <a:ext cx="39600" cy="56880"/>
            </a:xfrm>
            <a:custGeom>
              <a:avLst/>
              <a:gdLst/>
              <a:ahLst/>
              <a:rect l="l" t="t" r="r" b="b"/>
              <a:pathLst>
                <a:path w="25" h="36">
                  <a:moveTo>
                    <a:pt x="24" y="18"/>
                  </a:moveTo>
                  <a:lnTo>
                    <a:pt x="11" y="0"/>
                  </a:lnTo>
                  <a:lnTo>
                    <a:pt x="0" y="18"/>
                  </a:lnTo>
                  <a:lnTo>
                    <a:pt x="11" y="35"/>
                  </a:lnTo>
                  <a:lnTo>
                    <a:pt x="24" y="18"/>
                  </a:lnTo>
                </a:path>
              </a:pathLst>
            </a:custGeom>
            <a:solidFill>
              <a:srgbClr val="c0fef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410080" y="4648320"/>
              <a:ext cx="1749600" cy="366480"/>
            </a:xfrm>
            <a:custGeom>
              <a:avLst/>
              <a:gdLst/>
              <a:ahLst/>
              <a:rect l="l" t="t" r="r" b="b"/>
              <a:pathLst>
                <a:path w="1102" h="231">
                  <a:moveTo>
                    <a:pt x="0" y="230"/>
                  </a:moveTo>
                  <a:lnTo>
                    <a:pt x="0" y="0"/>
                  </a:lnTo>
                  <a:lnTo>
                    <a:pt x="1101" y="0"/>
                  </a:lnTo>
                  <a:lnTo>
                    <a:pt x="1101" y="230"/>
                  </a:lnTo>
                  <a:lnTo>
                    <a:pt x="0" y="23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770520" y="5419800"/>
              <a:ext cx="230400" cy="247680"/>
            </a:xfrm>
            <a:custGeom>
              <a:avLst/>
              <a:gdLst/>
              <a:ahLst/>
              <a:rect l="l" t="t" r="r" b="b"/>
              <a:pathLst>
                <a:path w="145" h="156">
                  <a:moveTo>
                    <a:pt x="0" y="155"/>
                  </a:moveTo>
                  <a:lnTo>
                    <a:pt x="0" y="0"/>
                  </a:lnTo>
                  <a:lnTo>
                    <a:pt x="144" y="0"/>
                  </a:lnTo>
                  <a:lnTo>
                    <a:pt x="144" y="155"/>
                  </a:lnTo>
                  <a:lnTo>
                    <a:pt x="0" y="155"/>
                  </a:lnTo>
                </a:path>
              </a:pathLst>
            </a:custGeom>
            <a:solidFill>
              <a:srgbClr val="00cc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122800" y="3962520"/>
              <a:ext cx="2422440" cy="2211120"/>
            </a:xfrm>
            <a:custGeom>
              <a:avLst/>
              <a:gdLst/>
              <a:ahLst/>
              <a:rect l="l" t="t" r="r" b="b"/>
              <a:pathLst>
                <a:path w="1526" h="1393">
                  <a:moveTo>
                    <a:pt x="0" y="1392"/>
                  </a:moveTo>
                  <a:lnTo>
                    <a:pt x="0" y="0"/>
                  </a:lnTo>
                  <a:lnTo>
                    <a:pt x="1525" y="0"/>
                  </a:lnTo>
                  <a:lnTo>
                    <a:pt x="1525" y="1392"/>
                  </a:lnTo>
                  <a:lnTo>
                    <a:pt x="0" y="139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6" name=""/>
            <p:cNvGrpSpPr/>
            <p:nvPr/>
          </p:nvGrpSpPr>
          <p:grpSpPr>
            <a:xfrm>
              <a:off x="8088480" y="4552920"/>
              <a:ext cx="312480" cy="1368360"/>
              <a:chOff x="8088480" y="4552920"/>
              <a:chExt cx="312480" cy="1368360"/>
            </a:xfrm>
          </p:grpSpPr>
          <p:sp>
            <p:nvSpPr>
              <p:cNvPr id="147" name=""/>
              <p:cNvSpPr/>
              <p:nvPr/>
            </p:nvSpPr>
            <p:spPr>
              <a:xfrm>
                <a:off x="8088480" y="5391000"/>
                <a:ext cx="39600" cy="59040"/>
              </a:xfrm>
              <a:custGeom>
                <a:avLst/>
                <a:gdLst/>
                <a:ahLst/>
                <a:rect l="l" t="t" r="r" b="b"/>
                <a:pathLst>
                  <a:path w="25" h="37">
                    <a:moveTo>
                      <a:pt x="24" y="18"/>
                    </a:moveTo>
                    <a:lnTo>
                      <a:pt x="12" y="0"/>
                    </a:lnTo>
                    <a:lnTo>
                      <a:pt x="0" y="18"/>
                    </a:lnTo>
                    <a:lnTo>
                      <a:pt x="12" y="36"/>
                    </a:lnTo>
                    <a:lnTo>
                      <a:pt x="24" y="18"/>
                    </a:lnTo>
                  </a:path>
                </a:pathLst>
              </a:custGeom>
              <a:solidFill>
                <a:srgbClr val="00cc99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8220240" y="5391000"/>
                <a:ext cx="39600" cy="59040"/>
              </a:xfrm>
              <a:custGeom>
                <a:avLst/>
                <a:gdLst/>
                <a:ahLst/>
                <a:rect l="l" t="t" r="r" b="b"/>
                <a:pathLst>
                  <a:path w="25" h="37">
                    <a:moveTo>
                      <a:pt x="24" y="18"/>
                    </a:moveTo>
                    <a:lnTo>
                      <a:pt x="12" y="0"/>
                    </a:lnTo>
                    <a:lnTo>
                      <a:pt x="0" y="18"/>
                    </a:lnTo>
                    <a:lnTo>
                      <a:pt x="12" y="36"/>
                    </a:lnTo>
                    <a:lnTo>
                      <a:pt x="24" y="18"/>
                    </a:lnTo>
                  </a:path>
                </a:pathLst>
              </a:custGeom>
              <a:solidFill>
                <a:srgbClr val="00cc99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8362800" y="5391000"/>
                <a:ext cx="38160" cy="59040"/>
              </a:xfrm>
              <a:custGeom>
                <a:avLst/>
                <a:gdLst/>
                <a:ahLst/>
                <a:rect l="l" t="t" r="r" b="b"/>
                <a:pathLst>
                  <a:path w="24" h="37">
                    <a:moveTo>
                      <a:pt x="23" y="18"/>
                    </a:moveTo>
                    <a:lnTo>
                      <a:pt x="12" y="0"/>
                    </a:lnTo>
                    <a:lnTo>
                      <a:pt x="0" y="18"/>
                    </a:lnTo>
                    <a:lnTo>
                      <a:pt x="12" y="36"/>
                    </a:lnTo>
                    <a:lnTo>
                      <a:pt x="23" y="18"/>
                    </a:lnTo>
                  </a:path>
                </a:pathLst>
              </a:custGeom>
              <a:solidFill>
                <a:srgbClr val="00cc99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8145360" y="4552920"/>
                <a:ext cx="228600" cy="246240"/>
              </a:xfrm>
              <a:custGeom>
                <a:avLst/>
                <a:gdLst/>
                <a:ahLst/>
                <a:rect l="l" t="t" r="r" b="b"/>
                <a:pathLst>
                  <a:path w="144" h="155">
                    <a:moveTo>
                      <a:pt x="0" y="154"/>
                    </a:moveTo>
                    <a:lnTo>
                      <a:pt x="0" y="0"/>
                    </a:lnTo>
                    <a:lnTo>
                      <a:pt x="143" y="0"/>
                    </a:lnTo>
                    <a:lnTo>
                      <a:pt x="143" y="154"/>
                    </a:lnTo>
                    <a:lnTo>
                      <a:pt x="0" y="154"/>
                    </a:lnTo>
                  </a:path>
                </a:pathLst>
              </a:custGeom>
              <a:solidFill>
                <a:srgbClr val="00cc99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8145360" y="4910040"/>
                <a:ext cx="228600" cy="247680"/>
              </a:xfrm>
              <a:custGeom>
                <a:avLst/>
                <a:gdLst/>
                <a:ahLst/>
                <a:rect l="l" t="t" r="r" b="b"/>
                <a:pathLst>
                  <a:path w="144" h="156">
                    <a:moveTo>
                      <a:pt x="0" y="155"/>
                    </a:moveTo>
                    <a:lnTo>
                      <a:pt x="0" y="0"/>
                    </a:lnTo>
                    <a:lnTo>
                      <a:pt x="143" y="0"/>
                    </a:lnTo>
                    <a:lnTo>
                      <a:pt x="143" y="155"/>
                    </a:lnTo>
                    <a:lnTo>
                      <a:pt x="0" y="155"/>
                    </a:lnTo>
                  </a:path>
                </a:pathLst>
              </a:custGeom>
              <a:solidFill>
                <a:srgbClr val="00cc99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8145360" y="5675400"/>
                <a:ext cx="228600" cy="245880"/>
              </a:xfrm>
              <a:custGeom>
                <a:avLst/>
                <a:gdLst/>
                <a:ahLst/>
                <a:rect l="l" t="t" r="r" b="b"/>
                <a:pathLst>
                  <a:path w="144" h="155">
                    <a:moveTo>
                      <a:pt x="0" y="154"/>
                    </a:moveTo>
                    <a:lnTo>
                      <a:pt x="0" y="0"/>
                    </a:lnTo>
                    <a:lnTo>
                      <a:pt x="143" y="0"/>
                    </a:lnTo>
                    <a:lnTo>
                      <a:pt x="143" y="154"/>
                    </a:lnTo>
                    <a:lnTo>
                      <a:pt x="0" y="154"/>
                    </a:lnTo>
                  </a:path>
                </a:pathLst>
              </a:custGeom>
              <a:solidFill>
                <a:srgbClr val="00cc99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3" name=""/>
            <p:cNvSpPr/>
            <p:nvPr/>
          </p:nvSpPr>
          <p:spPr>
            <a:xfrm>
              <a:off x="5074920" y="6167520"/>
              <a:ext cx="25182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B main memory buffer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686040" y="6224760"/>
              <a:ext cx="6285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Dis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555600" y="5634000"/>
              <a:ext cx="7840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Output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buff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939080" y="6167520"/>
              <a:ext cx="6285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Dis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633800" y="3738600"/>
              <a:ext cx="12837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Join Resul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501440" y="4300560"/>
              <a:ext cx="5918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has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548240" y="4510080"/>
              <a:ext cx="3650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f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556160" y="4716360"/>
              <a:ext cx="4258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65fb"/>
                  </a:solidFill>
                  <a:latin typeface="Times New Roman"/>
                </a:rPr>
                <a:t>h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952240" y="5186520"/>
              <a:ext cx="3999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65fb"/>
                  </a:solidFill>
                  <a:latin typeface="Times New Roman"/>
                </a:rPr>
                <a:t>h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2" name=""/>
            <p:cNvGrpSpPr/>
            <p:nvPr/>
          </p:nvGrpSpPr>
          <p:grpSpPr>
            <a:xfrm>
              <a:off x="3422520" y="4197240"/>
              <a:ext cx="1073160" cy="2027160"/>
              <a:chOff x="3422520" y="4197240"/>
              <a:chExt cx="1073160" cy="2027160"/>
            </a:xfrm>
          </p:grpSpPr>
          <p:sp>
            <p:nvSpPr>
              <p:cNvPr id="163" name=""/>
              <p:cNvSpPr/>
              <p:nvPr/>
            </p:nvSpPr>
            <p:spPr>
              <a:xfrm>
                <a:off x="3436920" y="4197240"/>
                <a:ext cx="1052640" cy="1396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3430440" y="4267080"/>
                <a:ext cx="0" cy="1828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4495680" y="4267080"/>
                <a:ext cx="0" cy="1828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3422520" y="5983560"/>
                <a:ext cx="1064880" cy="240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96" y="10515"/>
                    </a:moveTo>
                    <a:arcTo wR="10800" hR="10800" stAng="-90852" swAng="1089085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96" y="10515"/>
                    </a:moveTo>
                    <a:arcTo wR="10800" hR="10800" stAng="-90852" swAng="1089085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7" name=""/>
            <p:cNvGrpSpPr/>
            <p:nvPr/>
          </p:nvGrpSpPr>
          <p:grpSpPr>
            <a:xfrm>
              <a:off x="7842240" y="4273560"/>
              <a:ext cx="844560" cy="1875960"/>
              <a:chOff x="7842240" y="4273560"/>
              <a:chExt cx="844560" cy="1875960"/>
            </a:xfrm>
          </p:grpSpPr>
          <p:sp>
            <p:nvSpPr>
              <p:cNvPr id="168" name=""/>
              <p:cNvSpPr/>
              <p:nvPr/>
            </p:nvSpPr>
            <p:spPr>
              <a:xfrm>
                <a:off x="7854840" y="4273560"/>
                <a:ext cx="825480" cy="1285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7848720" y="4336920"/>
                <a:ext cx="0" cy="1692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686800" y="4336920"/>
                <a:ext cx="0" cy="1692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7842240" y="5924520"/>
                <a:ext cx="837720" cy="225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96" y="10493"/>
                    </a:moveTo>
                    <a:arcTo wR="10800" hR="10800" stAng="-97869" swAng="1094662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96" y="10493"/>
                    </a:moveTo>
                    <a:arcTo wR="10800" hR="10800" stAng="-97869" swAng="10946628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2" name=""/>
            <p:cNvSpPr/>
            <p:nvPr/>
          </p:nvSpPr>
          <p:spPr>
            <a:xfrm>
              <a:off x="4495680" y="502920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495680" y="5562720"/>
              <a:ext cx="1067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715000" y="5029200"/>
              <a:ext cx="306360" cy="458640"/>
            </a:xfrm>
            <a:custGeom>
              <a:avLst/>
              <a:gdLst/>
              <a:ahLst/>
              <a:rect l="l" t="t" r="r" b="b"/>
              <a:pathLst>
                <a:path w="193" h="289">
                  <a:moveTo>
                    <a:pt x="0" y="288"/>
                  </a:moveTo>
                  <a:lnTo>
                    <a:pt x="192" y="173"/>
                  </a:lnTo>
                  <a:lnTo>
                    <a:pt x="188" y="145"/>
                  </a:lnTo>
                  <a:lnTo>
                    <a:pt x="0" y="115"/>
                  </a:lnTo>
                  <a:lnTo>
                    <a:pt x="192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010280" y="5562720"/>
              <a:ext cx="838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3433680" y="328680"/>
            <a:ext cx="5726880" cy="2971800"/>
            <a:chOff x="3433680" y="328680"/>
            <a:chExt cx="5726880" cy="2971800"/>
          </a:xfrm>
        </p:grpSpPr>
        <p:sp>
          <p:nvSpPr>
            <p:cNvPr id="177" name=""/>
            <p:cNvSpPr/>
            <p:nvPr/>
          </p:nvSpPr>
          <p:spPr>
            <a:xfrm>
              <a:off x="4659120" y="2909880"/>
              <a:ext cx="25182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B main memory buffer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794720" y="2932200"/>
              <a:ext cx="6285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Dis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678120" y="2933640"/>
              <a:ext cx="6285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Dis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433680" y="328680"/>
              <a:ext cx="107064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Origina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216480" y="631800"/>
              <a:ext cx="9255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OUTP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8001000" y="2206800"/>
              <a:ext cx="42840" cy="63360"/>
            </a:xfrm>
            <a:custGeom>
              <a:avLst/>
              <a:gdLst/>
              <a:ahLst/>
              <a:rect l="l" t="t" r="r" b="b"/>
              <a:pathLst>
                <a:path w="27" h="40">
                  <a:moveTo>
                    <a:pt x="26" y="20"/>
                  </a:moveTo>
                  <a:lnTo>
                    <a:pt x="14" y="0"/>
                  </a:lnTo>
                  <a:lnTo>
                    <a:pt x="0" y="20"/>
                  </a:lnTo>
                  <a:lnTo>
                    <a:pt x="14" y="39"/>
                  </a:lnTo>
                  <a:lnTo>
                    <a:pt x="26" y="2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8156520" y="2206800"/>
              <a:ext cx="42840" cy="63360"/>
            </a:xfrm>
            <a:custGeom>
              <a:avLst/>
              <a:gdLst/>
              <a:ahLst/>
              <a:rect l="l" t="t" r="r" b="b"/>
              <a:pathLst>
                <a:path w="27" h="40">
                  <a:moveTo>
                    <a:pt x="26" y="20"/>
                  </a:moveTo>
                  <a:lnTo>
                    <a:pt x="14" y="0"/>
                  </a:lnTo>
                  <a:lnTo>
                    <a:pt x="0" y="20"/>
                  </a:lnTo>
                  <a:lnTo>
                    <a:pt x="14" y="39"/>
                  </a:lnTo>
                  <a:lnTo>
                    <a:pt x="26" y="2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495680" y="609480"/>
              <a:ext cx="2671920" cy="2289240"/>
            </a:xfrm>
            <a:custGeom>
              <a:avLst/>
              <a:gdLst/>
              <a:ahLst/>
              <a:rect l="l" t="t" r="r" b="b"/>
              <a:pathLst>
                <a:path w="1683" h="1442">
                  <a:moveTo>
                    <a:pt x="0" y="1441"/>
                  </a:moveTo>
                  <a:lnTo>
                    <a:pt x="0" y="0"/>
                  </a:lnTo>
                  <a:lnTo>
                    <a:pt x="1682" y="0"/>
                  </a:lnTo>
                  <a:lnTo>
                    <a:pt x="1682" y="1441"/>
                  </a:lnTo>
                  <a:lnTo>
                    <a:pt x="0" y="144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848120" y="1928880"/>
              <a:ext cx="335160" cy="269640"/>
            </a:xfrm>
            <a:custGeom>
              <a:avLst/>
              <a:gdLst/>
              <a:ahLst/>
              <a:rect l="l" t="t" r="r" b="b"/>
              <a:pathLst>
                <a:path w="211" h="170">
                  <a:moveTo>
                    <a:pt x="0" y="169"/>
                  </a:moveTo>
                  <a:lnTo>
                    <a:pt x="0" y="0"/>
                  </a:lnTo>
                  <a:lnTo>
                    <a:pt x="210" y="0"/>
                  </a:lnTo>
                  <a:lnTo>
                    <a:pt x="210" y="169"/>
                  </a:lnTo>
                  <a:lnTo>
                    <a:pt x="0" y="169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6" name=""/>
            <p:cNvGrpSpPr/>
            <p:nvPr/>
          </p:nvGrpSpPr>
          <p:grpSpPr>
            <a:xfrm>
              <a:off x="6600960" y="2120760"/>
              <a:ext cx="334800" cy="90720"/>
              <a:chOff x="6600960" y="2120760"/>
              <a:chExt cx="334800" cy="90720"/>
            </a:xfrm>
          </p:grpSpPr>
          <p:sp>
            <p:nvSpPr>
              <p:cNvPr id="187" name=""/>
              <p:cNvSpPr/>
              <p:nvPr/>
            </p:nvSpPr>
            <p:spPr>
              <a:xfrm>
                <a:off x="6600960" y="2120760"/>
                <a:ext cx="42840" cy="63720"/>
              </a:xfrm>
              <a:custGeom>
                <a:avLst/>
                <a:gdLst/>
                <a:ahLst/>
                <a:rect l="l" t="t" r="r" b="b"/>
                <a:pathLst>
                  <a:path w="27" h="40">
                    <a:moveTo>
                      <a:pt x="26" y="19"/>
                    </a:moveTo>
                    <a:lnTo>
                      <a:pt x="13" y="0"/>
                    </a:lnTo>
                    <a:lnTo>
                      <a:pt x="0" y="19"/>
                    </a:lnTo>
                    <a:lnTo>
                      <a:pt x="13" y="39"/>
                    </a:lnTo>
                    <a:lnTo>
                      <a:pt x="26" y="19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6745320" y="2120760"/>
                <a:ext cx="42840" cy="63720"/>
              </a:xfrm>
              <a:custGeom>
                <a:avLst/>
                <a:gdLst/>
                <a:ahLst/>
                <a:rect l="l" t="t" r="r" b="b"/>
                <a:pathLst>
                  <a:path w="27" h="40">
                    <a:moveTo>
                      <a:pt x="26" y="19"/>
                    </a:moveTo>
                    <a:lnTo>
                      <a:pt x="13" y="0"/>
                    </a:lnTo>
                    <a:lnTo>
                      <a:pt x="0" y="19"/>
                    </a:lnTo>
                    <a:lnTo>
                      <a:pt x="13" y="39"/>
                    </a:lnTo>
                    <a:lnTo>
                      <a:pt x="26" y="19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6900840" y="2120760"/>
                <a:ext cx="34920" cy="90720"/>
              </a:xfrm>
              <a:custGeom>
                <a:avLst/>
                <a:gdLst/>
                <a:ahLst/>
                <a:rect l="l" t="t" r="r" b="b"/>
                <a:pathLst>
                  <a:path w="22" h="57">
                    <a:moveTo>
                      <a:pt x="21" y="27"/>
                    </a:moveTo>
                    <a:lnTo>
                      <a:pt x="11" y="0"/>
                    </a:lnTo>
                    <a:lnTo>
                      <a:pt x="0" y="27"/>
                    </a:lnTo>
                    <a:lnTo>
                      <a:pt x="11" y="56"/>
                    </a:lnTo>
                    <a:lnTo>
                      <a:pt x="21" y="2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0" name=""/>
            <p:cNvSpPr/>
            <p:nvPr/>
          </p:nvSpPr>
          <p:spPr>
            <a:xfrm>
              <a:off x="7608960" y="1255680"/>
              <a:ext cx="250920" cy="270000"/>
            </a:xfrm>
            <a:custGeom>
              <a:avLst/>
              <a:gdLst/>
              <a:ahLst/>
              <a:rect l="l" t="t" r="r" b="b"/>
              <a:pathLst>
                <a:path w="158" h="170">
                  <a:moveTo>
                    <a:pt x="0" y="169"/>
                  </a:moveTo>
                  <a:lnTo>
                    <a:pt x="0" y="0"/>
                  </a:lnTo>
                  <a:lnTo>
                    <a:pt x="157" y="0"/>
                  </a:lnTo>
                  <a:lnTo>
                    <a:pt x="157" y="169"/>
                  </a:lnTo>
                  <a:lnTo>
                    <a:pt x="0" y="169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899480" y="1255680"/>
              <a:ext cx="249120" cy="270000"/>
            </a:xfrm>
            <a:custGeom>
              <a:avLst/>
              <a:gdLst/>
              <a:ahLst/>
              <a:rect l="l" t="t" r="r" b="b"/>
              <a:pathLst>
                <a:path w="157" h="170">
                  <a:moveTo>
                    <a:pt x="0" y="169"/>
                  </a:moveTo>
                  <a:lnTo>
                    <a:pt x="0" y="0"/>
                  </a:lnTo>
                  <a:lnTo>
                    <a:pt x="156" y="0"/>
                  </a:lnTo>
                  <a:lnTo>
                    <a:pt x="156" y="169"/>
                  </a:lnTo>
                  <a:lnTo>
                    <a:pt x="0" y="169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608960" y="1722600"/>
              <a:ext cx="250920" cy="269640"/>
            </a:xfrm>
            <a:custGeom>
              <a:avLst/>
              <a:gdLst/>
              <a:ahLst/>
              <a:rect l="l" t="t" r="r" b="b"/>
              <a:pathLst>
                <a:path w="158" h="170">
                  <a:moveTo>
                    <a:pt x="0" y="169"/>
                  </a:moveTo>
                  <a:lnTo>
                    <a:pt x="0" y="0"/>
                  </a:lnTo>
                  <a:lnTo>
                    <a:pt x="157" y="0"/>
                  </a:lnTo>
                  <a:lnTo>
                    <a:pt x="157" y="169"/>
                  </a:lnTo>
                  <a:lnTo>
                    <a:pt x="0" y="169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908840" y="1722600"/>
              <a:ext cx="249480" cy="269640"/>
            </a:xfrm>
            <a:custGeom>
              <a:avLst/>
              <a:gdLst/>
              <a:ahLst/>
              <a:rect l="l" t="t" r="r" b="b"/>
              <a:pathLst>
                <a:path w="157" h="170">
                  <a:moveTo>
                    <a:pt x="0" y="169"/>
                  </a:moveTo>
                  <a:lnTo>
                    <a:pt x="0" y="0"/>
                  </a:lnTo>
                  <a:lnTo>
                    <a:pt x="156" y="0"/>
                  </a:lnTo>
                  <a:lnTo>
                    <a:pt x="156" y="169"/>
                  </a:lnTo>
                  <a:lnTo>
                    <a:pt x="0" y="169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858080" y="2206800"/>
              <a:ext cx="42840" cy="63360"/>
            </a:xfrm>
            <a:custGeom>
              <a:avLst/>
              <a:gdLst/>
              <a:ahLst/>
              <a:rect l="l" t="t" r="r" b="b"/>
              <a:pathLst>
                <a:path w="27" h="40">
                  <a:moveTo>
                    <a:pt x="26" y="20"/>
                  </a:moveTo>
                  <a:lnTo>
                    <a:pt x="13" y="0"/>
                  </a:lnTo>
                  <a:lnTo>
                    <a:pt x="0" y="20"/>
                  </a:lnTo>
                  <a:lnTo>
                    <a:pt x="13" y="39"/>
                  </a:lnTo>
                  <a:lnTo>
                    <a:pt x="26" y="2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8209080" y="1722600"/>
              <a:ext cx="249120" cy="269640"/>
            </a:xfrm>
            <a:custGeom>
              <a:avLst/>
              <a:gdLst/>
              <a:ahLst/>
              <a:rect l="l" t="t" r="r" b="b"/>
              <a:pathLst>
                <a:path w="157" h="170">
                  <a:moveTo>
                    <a:pt x="0" y="169"/>
                  </a:moveTo>
                  <a:lnTo>
                    <a:pt x="0" y="0"/>
                  </a:lnTo>
                  <a:lnTo>
                    <a:pt x="156" y="0"/>
                  </a:lnTo>
                  <a:lnTo>
                    <a:pt x="156" y="169"/>
                  </a:lnTo>
                  <a:lnTo>
                    <a:pt x="0" y="169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587280" y="1444680"/>
              <a:ext cx="2750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608960" y="2557440"/>
              <a:ext cx="250920" cy="270000"/>
            </a:xfrm>
            <a:custGeom>
              <a:avLst/>
              <a:gdLst/>
              <a:ahLst/>
              <a:rect l="l" t="t" r="r" b="b"/>
              <a:pathLst>
                <a:path w="158" h="170">
                  <a:moveTo>
                    <a:pt x="0" y="169"/>
                  </a:moveTo>
                  <a:lnTo>
                    <a:pt x="0" y="0"/>
                  </a:lnTo>
                  <a:lnTo>
                    <a:pt x="157" y="0"/>
                  </a:lnTo>
                  <a:lnTo>
                    <a:pt x="157" y="169"/>
                  </a:lnTo>
                  <a:lnTo>
                    <a:pt x="0" y="169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553080" y="2514600"/>
              <a:ext cx="422280" cy="287280"/>
            </a:xfrm>
            <a:custGeom>
              <a:avLst/>
              <a:gdLst/>
              <a:ahLst/>
              <a:rect l="l" t="t" r="r" b="b"/>
              <a:pathLst>
                <a:path w="266" h="181">
                  <a:moveTo>
                    <a:pt x="0" y="180"/>
                  </a:moveTo>
                  <a:lnTo>
                    <a:pt x="0" y="0"/>
                  </a:lnTo>
                  <a:lnTo>
                    <a:pt x="265" y="0"/>
                  </a:lnTo>
                  <a:lnTo>
                    <a:pt x="265" y="180"/>
                  </a:lnTo>
                  <a:lnTo>
                    <a:pt x="0" y="180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614120" y="1514520"/>
              <a:ext cx="7383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INP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587280" y="896760"/>
              <a:ext cx="2750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187240" y="1760400"/>
              <a:ext cx="820440" cy="71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has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func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491880" y="2230560"/>
              <a:ext cx="502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M-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455600" y="620640"/>
              <a:ext cx="11512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Parti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8610120" y="1231920"/>
              <a:ext cx="2995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8600760" y="1655640"/>
              <a:ext cx="2995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568720" y="2448000"/>
              <a:ext cx="5918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M-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7" name=""/>
            <p:cNvGrpSpPr/>
            <p:nvPr/>
          </p:nvGrpSpPr>
          <p:grpSpPr>
            <a:xfrm>
              <a:off x="3498840" y="996840"/>
              <a:ext cx="920880" cy="1952280"/>
              <a:chOff x="3498840" y="996840"/>
              <a:chExt cx="920880" cy="1952280"/>
            </a:xfrm>
          </p:grpSpPr>
          <p:sp>
            <p:nvSpPr>
              <p:cNvPr id="208" name=""/>
              <p:cNvSpPr/>
              <p:nvPr/>
            </p:nvSpPr>
            <p:spPr>
              <a:xfrm>
                <a:off x="3513240" y="996840"/>
                <a:ext cx="900000" cy="135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3506760" y="1063800"/>
                <a:ext cx="0" cy="1760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419720" y="1063800"/>
                <a:ext cx="0" cy="1760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3498840" y="2714760"/>
                <a:ext cx="912600" cy="234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96" y="10505"/>
                    </a:moveTo>
                    <a:arcTo wR="10800" hR="10800" stAng="-94011" swAng="1094069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96" y="10505"/>
                    </a:moveTo>
                    <a:arcTo wR="10800" hR="10800" stAng="-94011" swAng="1094069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2" name=""/>
            <p:cNvSpPr/>
            <p:nvPr/>
          </p:nvSpPr>
          <p:spPr>
            <a:xfrm>
              <a:off x="3816360" y="1225440"/>
              <a:ext cx="291960" cy="292320"/>
            </a:xfrm>
            <a:prstGeom prst="rect">
              <a:avLst/>
            </a:prstGeom>
            <a:solidFill>
              <a:srgbClr val="f6bf6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816360" y="1682640"/>
              <a:ext cx="291960" cy="292320"/>
            </a:xfrm>
            <a:prstGeom prst="rect">
              <a:avLst/>
            </a:prstGeom>
            <a:solidFill>
              <a:srgbClr val="f6bf6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816360" y="2444760"/>
              <a:ext cx="291960" cy="291960"/>
            </a:xfrm>
            <a:prstGeom prst="rect">
              <a:avLst/>
            </a:prstGeom>
            <a:solidFill>
              <a:srgbClr val="f6bf6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613320" y="1876320"/>
              <a:ext cx="74268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Book Antiqua"/>
                </a:rPr>
                <a:t>. . 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6" name=""/>
            <p:cNvGrpSpPr/>
            <p:nvPr/>
          </p:nvGrpSpPr>
          <p:grpSpPr>
            <a:xfrm>
              <a:off x="7537320" y="996840"/>
              <a:ext cx="1073160" cy="1974600"/>
              <a:chOff x="7537320" y="996840"/>
              <a:chExt cx="1073160" cy="1974600"/>
            </a:xfrm>
          </p:grpSpPr>
          <p:sp>
            <p:nvSpPr>
              <p:cNvPr id="217" name=""/>
              <p:cNvSpPr/>
              <p:nvPr/>
            </p:nvSpPr>
            <p:spPr>
              <a:xfrm>
                <a:off x="7551720" y="996840"/>
                <a:ext cx="1052640" cy="1368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7545240" y="1065240"/>
                <a:ext cx="0" cy="1781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8610480" y="1065240"/>
                <a:ext cx="0" cy="1781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7537320" y="2737080"/>
                <a:ext cx="1064880" cy="234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96" y="10507"/>
                    </a:moveTo>
                    <a:arcTo wR="10800" hR="10800" stAng="-93306" swAng="1089330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96" y="10507"/>
                    </a:moveTo>
                    <a:arcTo wR="10800" hR="10800" stAng="-93306" swAng="10893306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1" name=""/>
            <p:cNvSpPr/>
            <p:nvPr/>
          </p:nvSpPr>
          <p:spPr>
            <a:xfrm>
              <a:off x="4419720" y="2057400"/>
              <a:ext cx="38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V="1">
              <a:off x="6019920" y="1447560"/>
              <a:ext cx="53316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V="1">
              <a:off x="6019920" y="1904760"/>
              <a:ext cx="53316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019920" y="2057400"/>
              <a:ext cx="53316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010280" y="1371600"/>
              <a:ext cx="609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10280" y="1828800"/>
              <a:ext cx="609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010280" y="2666880"/>
              <a:ext cx="609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553080" y="1676520"/>
              <a:ext cx="422280" cy="287280"/>
            </a:xfrm>
            <a:custGeom>
              <a:avLst/>
              <a:gdLst/>
              <a:ahLst/>
              <a:rect l="l" t="t" r="r" b="b"/>
              <a:pathLst>
                <a:path w="266" h="181">
                  <a:moveTo>
                    <a:pt x="0" y="180"/>
                  </a:moveTo>
                  <a:lnTo>
                    <a:pt x="0" y="0"/>
                  </a:lnTo>
                  <a:lnTo>
                    <a:pt x="265" y="0"/>
                  </a:lnTo>
                  <a:lnTo>
                    <a:pt x="265" y="180"/>
                  </a:lnTo>
                  <a:lnTo>
                    <a:pt x="0" y="180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553080" y="1143000"/>
              <a:ext cx="422280" cy="287280"/>
            </a:xfrm>
            <a:custGeom>
              <a:avLst/>
              <a:gdLst/>
              <a:ahLst/>
              <a:rect l="l" t="t" r="r" b="b"/>
              <a:pathLst>
                <a:path w="266" h="181">
                  <a:moveTo>
                    <a:pt x="0" y="180"/>
                  </a:moveTo>
                  <a:lnTo>
                    <a:pt x="0" y="0"/>
                  </a:lnTo>
                  <a:lnTo>
                    <a:pt x="265" y="0"/>
                  </a:lnTo>
                  <a:lnTo>
                    <a:pt x="265" y="180"/>
                  </a:lnTo>
                  <a:lnTo>
                    <a:pt x="0" y="180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0" y="4038480"/>
            <a:ext cx="32767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70172-DB2D-4CFD-AF04-E9E34F81D149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titioned Hash Jo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st: 3B(R) + 3B(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mption: min(B(R), B(S)) &lt;= 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0B30C-E32C-434A-805E-07EE91F02D4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ybrid Hash Join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tition S into k buck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t keep first bucket 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 memory, k-1 buckets to dis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tition R into k buck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rst bucket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joined immediately with 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k-1 buckets go to dis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ally, join k-1 pairs of bucket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(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…, (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660CF-AA0F-427B-A532-3E5B1776F1B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6T03:41:53Z</dcterms:created>
  <dc:creator>Dan</dc:creator>
  <dc:description/>
  <dc:language>en-US</dc:language>
  <cp:lastModifiedBy>mgubanov</cp:lastModifiedBy>
  <dcterms:modified xsi:type="dcterms:W3CDTF">2003-11-21T05:58:52Z</dcterms:modified>
  <cp:revision>342</cp:revision>
  <dc:subject/>
  <dc:title>Lecture 09:</dc:title>
</cp:coreProperties>
</file>