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6F46968-874F-4DB5-9FE9-AE1E8E3763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7174346-1DBC-4C7B-9B25-25EE39A42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2889-2325-4B8C-821D-CFAA23D95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E7BF-4BB8-4EC6-9C24-237848AE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8298-32FD-4B53-883C-531F93C9C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6380-B2E7-4E2F-B6F1-88C924D61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694B-3EBC-44EC-92D7-687B85957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100C-D1AC-4FCC-8376-F0E3CC462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CA46-829A-4C3C-A8F6-9D551F32F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6469-07B4-4B7E-B2DD-0F56F5261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9686-702F-4467-929F-A7C229D50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1075-048F-4D4D-8B37-3727C232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F77D-66FB-4DA0-B4CF-7632B44E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4078-5B7D-4480-BCDC-3548A0BA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C7082-297A-49FA-B1FF-69844789FF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22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Execu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November 19,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190D-FCA7-46DF-96C6-D8E0759349C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, sum(b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as before: sort, then compute the sum(b) for each group of a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cost: 3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B(R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D0DC-BB75-4F19-8E0E-DC341597796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18080" y="2133720"/>
            <a:ext cx="108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∪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13840" y="1828800"/>
            <a:ext cx="3875040" cy="448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first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first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(_______________) d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  case x &lt; y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output(x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x = next(R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case x=y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case x &gt; y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8280" y="3881520"/>
            <a:ext cx="190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la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1827-7C54-43FE-B233-E5DA11739B4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38960" y="2133720"/>
            <a:ext cx="10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13840" y="1828800"/>
            <a:ext cx="3875040" cy="448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first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first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(_______________) d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  case x &lt; y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x=y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case x &gt; y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8280" y="3881520"/>
            <a:ext cx="190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la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7576-17F7-41BE-8334-E2697414D14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9200" y="2128680"/>
            <a:ext cx="91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8280" y="3881520"/>
            <a:ext cx="190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la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22000" y="1828800"/>
            <a:ext cx="3875040" cy="484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first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first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(_______________) d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  case x &lt; y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x=y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case x &gt; y;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DE5D-BB26-4B71-8A06-6708AF43A78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operations: 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∪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, 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, R –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: sort R, sort S, then do the right 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loser loo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: split R into runs of size M, then split S into runs of size M.  Cost: 2B(R) + 2B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: merge M/2 runs from R; merge M/2 runs from S; ouput a tuple on a case by cases b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cost: 3B(R)+3B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ption: B(R)+B(S)&lt;=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12D5-75B1-4D12-BFFF-B3EF2054D1C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6520" y="2895480"/>
            <a:ext cx="184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R.A =S.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13840" y="1828800"/>
            <a:ext cx="3875040" cy="484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first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first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(_______________) d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  case x.A &lt; y.B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x.A=y.B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case x.A &gt; y.B;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8280" y="3881520"/>
            <a:ext cx="190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la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14560" y="1336680"/>
            <a:ext cx="258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(A,C) sorted on 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(B,D) sorted on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8DE8-12F5-4FFF-BED6-53431E4C61D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 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by sorting both R and S on the join attribu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4B(R)+4B(S)  (because need to write to dis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both relations in sorted order, match tu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B(R)+B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iculty: many tuples in R may match many in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t least one set of tuples fits in M, we are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wise need nested loop, higher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cost: 5B(R)+5B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ption: B(R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B(S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68D7-2DE1-4D35-A4A1-3A82755E399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in 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number of tuples in R matching those in S is small (or vice versa) we can compute the join during the merge ph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cost: 3B(R)+3B(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B(R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B(S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5AB5-06D9-4968-98A5-972E0588737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Pass Algorithms Based on Has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: partition a relation R into buckets, on d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bucket has size approx. B(R)/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each bucket fit in main memor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 if B(R)/M &lt;= M,   i.e. B(R) &lt;=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751760" y="2895480"/>
            <a:ext cx="5476320" cy="2820960"/>
            <a:chOff x="1751760" y="2895480"/>
            <a:chExt cx="5476320" cy="2820960"/>
          </a:xfrm>
        </p:grpSpPr>
        <p:sp>
          <p:nvSpPr>
            <p:cNvPr id="132" name=""/>
            <p:cNvSpPr/>
            <p:nvPr/>
          </p:nvSpPr>
          <p:spPr>
            <a:xfrm>
              <a:off x="2914560" y="5327280"/>
              <a:ext cx="2582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 main memory buff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900400" y="534816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83600" y="534960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51760" y="2895480"/>
              <a:ext cx="1233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lation 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98480" y="3180960"/>
              <a:ext cx="925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96240" y="4664880"/>
              <a:ext cx="40680" cy="5940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4" y="0"/>
                  </a:lnTo>
                  <a:lnTo>
                    <a:pt x="0" y="20"/>
                  </a:lnTo>
                  <a:lnTo>
                    <a:pt x="14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244200" y="4664880"/>
              <a:ext cx="40680" cy="5940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4" y="0"/>
                  </a:lnTo>
                  <a:lnTo>
                    <a:pt x="0" y="20"/>
                  </a:lnTo>
                  <a:lnTo>
                    <a:pt x="14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761200" y="3159720"/>
              <a:ext cx="2541960" cy="2156760"/>
            </a:xfrm>
            <a:custGeom>
              <a:avLst/>
              <a:gdLst/>
              <a:ahLst/>
              <a:rect l="l" t="t" r="r" b="b"/>
              <a:pathLst>
                <a:path w="1683" h="1442">
                  <a:moveTo>
                    <a:pt x="0" y="1441"/>
                  </a:moveTo>
                  <a:lnTo>
                    <a:pt x="0" y="0"/>
                  </a:lnTo>
                  <a:lnTo>
                    <a:pt x="1682" y="0"/>
                  </a:lnTo>
                  <a:lnTo>
                    <a:pt x="1682" y="1441"/>
                  </a:lnTo>
                  <a:lnTo>
                    <a:pt x="0" y="144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096360" y="4402800"/>
              <a:ext cx="318600" cy="253800"/>
            </a:xfrm>
            <a:custGeom>
              <a:avLst/>
              <a:gdLst/>
              <a:ahLst/>
              <a:rect l="l" t="t" r="r" b="b"/>
              <a:pathLst>
                <a:path w="211" h="170">
                  <a:moveTo>
                    <a:pt x="0" y="169"/>
                  </a:moveTo>
                  <a:lnTo>
                    <a:pt x="0" y="0"/>
                  </a:lnTo>
                  <a:lnTo>
                    <a:pt x="210" y="0"/>
                  </a:lnTo>
                  <a:lnTo>
                    <a:pt x="210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4764240" y="4583880"/>
              <a:ext cx="317880" cy="85320"/>
              <a:chOff x="4764240" y="4583880"/>
              <a:chExt cx="317880" cy="85320"/>
            </a:xfrm>
          </p:grpSpPr>
          <p:sp>
            <p:nvSpPr>
              <p:cNvPr id="142" name=""/>
              <p:cNvSpPr/>
              <p:nvPr/>
            </p:nvSpPr>
            <p:spPr>
              <a:xfrm>
                <a:off x="4764240" y="4583880"/>
                <a:ext cx="40680" cy="59760"/>
              </a:xfrm>
              <a:custGeom>
                <a:avLst/>
                <a:gdLst/>
                <a:ahLst/>
                <a:rect l="l" t="t" r="r" b="b"/>
                <a:pathLst>
                  <a:path w="27" h="40">
                    <a:moveTo>
                      <a:pt x="26" y="19"/>
                    </a:moveTo>
                    <a:lnTo>
                      <a:pt x="13" y="0"/>
                    </a:lnTo>
                    <a:lnTo>
                      <a:pt x="0" y="19"/>
                    </a:lnTo>
                    <a:lnTo>
                      <a:pt x="13" y="39"/>
                    </a:lnTo>
                    <a:lnTo>
                      <a:pt x="26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901400" y="4583880"/>
                <a:ext cx="40680" cy="59760"/>
              </a:xfrm>
              <a:custGeom>
                <a:avLst/>
                <a:gdLst/>
                <a:ahLst/>
                <a:rect l="l" t="t" r="r" b="b"/>
                <a:pathLst>
                  <a:path w="27" h="40">
                    <a:moveTo>
                      <a:pt x="26" y="19"/>
                    </a:moveTo>
                    <a:lnTo>
                      <a:pt x="13" y="0"/>
                    </a:lnTo>
                    <a:lnTo>
                      <a:pt x="0" y="19"/>
                    </a:lnTo>
                    <a:lnTo>
                      <a:pt x="13" y="39"/>
                    </a:lnTo>
                    <a:lnTo>
                      <a:pt x="26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049000" y="4583880"/>
                <a:ext cx="33120" cy="85320"/>
              </a:xfrm>
              <a:custGeom>
                <a:avLst/>
                <a:gdLst/>
                <a:ahLst/>
                <a:rect l="l" t="t" r="r" b="b"/>
                <a:pathLst>
                  <a:path w="22" h="57">
                    <a:moveTo>
                      <a:pt x="21" y="27"/>
                    </a:moveTo>
                    <a:lnTo>
                      <a:pt x="11" y="0"/>
                    </a:lnTo>
                    <a:lnTo>
                      <a:pt x="0" y="27"/>
                    </a:lnTo>
                    <a:lnTo>
                      <a:pt x="11" y="56"/>
                    </a:lnTo>
                    <a:lnTo>
                      <a:pt x="21" y="2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5723280" y="3768840"/>
              <a:ext cx="238680" cy="25416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99760" y="3768840"/>
              <a:ext cx="236880" cy="25416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23280" y="4208760"/>
              <a:ext cx="238680" cy="25380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08400" y="4208760"/>
              <a:ext cx="237240" cy="25380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60160" y="4664880"/>
              <a:ext cx="40680" cy="5940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3" y="0"/>
                  </a:lnTo>
                  <a:lnTo>
                    <a:pt x="0" y="20"/>
                  </a:lnTo>
                  <a:lnTo>
                    <a:pt x="13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94240" y="4208760"/>
              <a:ext cx="236880" cy="25380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750200" y="394668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723280" y="4995000"/>
              <a:ext cx="238680" cy="25416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718520" y="4954680"/>
              <a:ext cx="401760" cy="27036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74240" y="4012560"/>
              <a:ext cx="738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750200" y="343044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99840" y="4244400"/>
              <a:ext cx="82044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has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un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61640" y="4687200"/>
              <a:ext cx="502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577120" y="3170520"/>
              <a:ext cx="1151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rti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675840" y="3746160"/>
              <a:ext cx="29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66840" y="4145400"/>
              <a:ext cx="29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636240" y="4892040"/>
              <a:ext cx="591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1812600" y="3524760"/>
              <a:ext cx="875880" cy="1838880"/>
              <a:chOff x="1812600" y="3524760"/>
              <a:chExt cx="875880" cy="1838880"/>
            </a:xfrm>
          </p:grpSpPr>
          <p:sp>
            <p:nvSpPr>
              <p:cNvPr id="163" name=""/>
              <p:cNvSpPr/>
              <p:nvPr/>
            </p:nvSpPr>
            <p:spPr>
              <a:xfrm>
                <a:off x="1826280" y="3524760"/>
                <a:ext cx="855720" cy="127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819800" y="3587760"/>
                <a:ext cx="0" cy="165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688480" y="3587760"/>
                <a:ext cx="0" cy="165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812600" y="5143320"/>
                <a:ext cx="867960" cy="220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05"/>
                    </a:moveTo>
                    <a:arcTo wR="10800" hR="10800" stAng="-94011" swAng="1094069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05"/>
                    </a:moveTo>
                    <a:arcTo wR="10800" hR="10800" stAng="-94011" swAng="1094069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2114640" y="3740040"/>
              <a:ext cx="277560" cy="27540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114640" y="4170960"/>
              <a:ext cx="277560" cy="27540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114640" y="4889160"/>
              <a:ext cx="277560" cy="27504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919880" y="4353480"/>
              <a:ext cx="742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Book Antiqua"/>
                </a:rPr>
                <a:t>. . 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654880" y="3524760"/>
              <a:ext cx="1020960" cy="1859760"/>
              <a:chOff x="5654880" y="3524760"/>
              <a:chExt cx="1020960" cy="1859760"/>
            </a:xfrm>
          </p:grpSpPr>
          <p:sp>
            <p:nvSpPr>
              <p:cNvPr id="172" name=""/>
              <p:cNvSpPr/>
              <p:nvPr/>
            </p:nvSpPr>
            <p:spPr>
              <a:xfrm>
                <a:off x="5668560" y="3524760"/>
                <a:ext cx="1001160" cy="128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662080" y="3588840"/>
                <a:ext cx="0" cy="1677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675840" y="3588840"/>
                <a:ext cx="0" cy="1677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654880" y="5164200"/>
                <a:ext cx="1013040" cy="220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07"/>
                    </a:moveTo>
                    <a:arcTo wR="10800" hR="10800" stAng="-93306" swAng="1089330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07"/>
                    </a:moveTo>
                    <a:arcTo wR="10800" hR="10800" stAng="-93306" swAng="10893306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2688840" y="4524120"/>
              <a:ext cx="362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4211280" y="3949560"/>
              <a:ext cx="507240" cy="57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4211280" y="4380480"/>
              <a:ext cx="507240" cy="14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211280" y="4524120"/>
              <a:ext cx="507240" cy="57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153400" y="3877920"/>
              <a:ext cx="57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53400" y="4308840"/>
              <a:ext cx="57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53400" y="5098320"/>
              <a:ext cx="57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718520" y="4165200"/>
              <a:ext cx="401760" cy="27036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718520" y="3662640"/>
              <a:ext cx="401760" cy="27036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1509480" y="3619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09480" y="4152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144800" y="48736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(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42F9-4C68-4B78-AEAF-981BF97A234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 Based Algorithms for 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: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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plicate elimin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1. Partition R into buc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2. Appl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each bucket (may read in main memo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3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B(R) 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728B-F40D-4F84-9302-ECF857A709E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y execution: 15.1 – 15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4640-8DE9-483C-BA74-5E2F6B4C22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 Based Algorithms for 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: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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 and aggre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1. Partition R into buc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2. Appl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each bucket (may read in main memo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3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B(R) 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2972-02E4-48D6-8E06-C149EDB42C8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tioned Hash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1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h S into M bu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all buckets to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h R into M bu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all buckets to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 every pair of bu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27F9-5FFB-48D4-8E49-2693E9AFCAA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-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350532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tion both relations using hash fn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R tuples in partition i will only match S tuples in partition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411480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ead in a partition of R, hash it using </a:t>
            </a:r>
            <a:r>
              <a:rPr b="1" lang="en-US" sz="2400" spc="-1" strike="noStrike">
                <a:solidFill>
                  <a:srgbClr val="3365fb"/>
                </a:solidFill>
                <a:latin typeface="Book Antiqua"/>
              </a:rPr>
              <a:t>h2 (&lt;&gt; </a:t>
            </a:r>
            <a:r>
              <a:rPr b="1" lang="en-US" sz="2400" spc="-1" strike="noStrike">
                <a:solidFill>
                  <a:srgbClr val="3333cc"/>
                </a:solidFill>
                <a:latin typeface="Book Antiqua"/>
              </a:rPr>
              <a:t>h</a:t>
            </a:r>
            <a:r>
              <a:rPr b="1" lang="en-US" sz="2400" spc="-1" strike="noStrike">
                <a:solidFill>
                  <a:srgbClr val="3365fb"/>
                </a:solidFill>
                <a:latin typeface="Book Antiqua"/>
              </a:rPr>
              <a:t>!)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. Scan matching partition of S, search for matc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3429000"/>
            <a:ext cx="51051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3422520" y="3560760"/>
            <a:ext cx="5495040" cy="3030840"/>
            <a:chOff x="3422520" y="3560760"/>
            <a:chExt cx="5495040" cy="3030840"/>
          </a:xfrm>
        </p:grpSpPr>
        <p:sp>
          <p:nvSpPr>
            <p:cNvPr id="201" name=""/>
            <p:cNvSpPr/>
            <p:nvPr/>
          </p:nvSpPr>
          <p:spPr>
            <a:xfrm>
              <a:off x="3447360" y="3560760"/>
              <a:ext cx="1151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rti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f R &amp; 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60240" y="5726160"/>
              <a:ext cx="1131480" cy="4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put buff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or R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219280" y="4008600"/>
              <a:ext cx="22410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ash table for part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i ( &lt; M-1 page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576760" y="5419800"/>
              <a:ext cx="23040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0" y="155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5"/>
                  </a:lnTo>
                  <a:lnTo>
                    <a:pt x="0" y="155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749760" y="5505480"/>
              <a:ext cx="39600" cy="5724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4" y="18"/>
                  </a:moveTo>
                  <a:lnTo>
                    <a:pt x="12" y="0"/>
                  </a:lnTo>
                  <a:lnTo>
                    <a:pt x="0" y="18"/>
                  </a:lnTo>
                  <a:lnTo>
                    <a:pt x="12" y="35"/>
                  </a:lnTo>
                  <a:lnTo>
                    <a:pt x="24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881520" y="5505480"/>
              <a:ext cx="39600" cy="5724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4" y="18"/>
                  </a:moveTo>
                  <a:lnTo>
                    <a:pt x="12" y="0"/>
                  </a:lnTo>
                  <a:lnTo>
                    <a:pt x="0" y="18"/>
                  </a:lnTo>
                  <a:lnTo>
                    <a:pt x="12" y="35"/>
                  </a:lnTo>
                  <a:lnTo>
                    <a:pt x="24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024440" y="5505480"/>
              <a:ext cx="39600" cy="5724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4" y="18"/>
                  </a:moveTo>
                  <a:lnTo>
                    <a:pt x="12" y="0"/>
                  </a:lnTo>
                  <a:lnTo>
                    <a:pt x="0" y="18"/>
                  </a:lnTo>
                  <a:lnTo>
                    <a:pt x="12" y="35"/>
                  </a:lnTo>
                  <a:lnTo>
                    <a:pt x="24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521160" y="4702320"/>
              <a:ext cx="23004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0" y="155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5"/>
                  </a:lnTo>
                  <a:lnTo>
                    <a:pt x="0" y="155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787920" y="4702320"/>
              <a:ext cx="228600" cy="24768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0" y="155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155"/>
                  </a:lnTo>
                  <a:lnTo>
                    <a:pt x="0" y="155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521160" y="5062680"/>
              <a:ext cx="230040" cy="245880"/>
            </a:xfrm>
            <a:custGeom>
              <a:avLst/>
              <a:gdLst/>
              <a:ahLst/>
              <a:rect l="l" t="t" r="r" b="b"/>
              <a:pathLst>
                <a:path w="145" h="155">
                  <a:moveTo>
                    <a:pt x="0" y="154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4"/>
                  </a:lnTo>
                  <a:lnTo>
                    <a:pt x="0" y="154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797280" y="5062680"/>
              <a:ext cx="228600" cy="245880"/>
            </a:xfrm>
            <a:custGeom>
              <a:avLst/>
              <a:gdLst/>
              <a:ahLst/>
              <a:rect l="l" t="t" r="r" b="b"/>
              <a:pathLst>
                <a:path w="144" h="155">
                  <a:moveTo>
                    <a:pt x="0" y="154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154"/>
                  </a:lnTo>
                  <a:lnTo>
                    <a:pt x="0" y="154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43360" y="5824440"/>
              <a:ext cx="228600" cy="246240"/>
            </a:xfrm>
            <a:custGeom>
              <a:avLst/>
              <a:gdLst/>
              <a:ahLst/>
              <a:rect l="l" t="t" r="r" b="b"/>
              <a:pathLst>
                <a:path w="144" h="155">
                  <a:moveTo>
                    <a:pt x="0" y="154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154"/>
                  </a:lnTo>
                  <a:lnTo>
                    <a:pt x="0" y="154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21160" y="5826240"/>
              <a:ext cx="23004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0" y="155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5"/>
                  </a:lnTo>
                  <a:lnTo>
                    <a:pt x="0" y="155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464080" y="4692600"/>
              <a:ext cx="228600" cy="24768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0" y="155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155"/>
                  </a:lnTo>
                  <a:lnTo>
                    <a:pt x="0" y="155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784840" y="4702320"/>
              <a:ext cx="23004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0" y="155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5"/>
                  </a:lnTo>
                  <a:lnTo>
                    <a:pt x="0" y="155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837480" y="4702320"/>
              <a:ext cx="228600" cy="24768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0" y="155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155"/>
                  </a:lnTo>
                  <a:lnTo>
                    <a:pt x="0" y="155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288120" y="4807080"/>
              <a:ext cx="39600" cy="5688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4" y="18"/>
                  </a:moveTo>
                  <a:lnTo>
                    <a:pt x="11" y="0"/>
                  </a:lnTo>
                  <a:lnTo>
                    <a:pt x="0" y="18"/>
                  </a:lnTo>
                  <a:lnTo>
                    <a:pt x="11" y="35"/>
                  </a:lnTo>
                  <a:lnTo>
                    <a:pt x="24" y="18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421320" y="4807080"/>
              <a:ext cx="38160" cy="56880"/>
            </a:xfrm>
            <a:custGeom>
              <a:avLst/>
              <a:gdLst/>
              <a:ahLst/>
              <a:rect l="l" t="t" r="r" b="b"/>
              <a:pathLst>
                <a:path w="24" h="36">
                  <a:moveTo>
                    <a:pt x="23" y="18"/>
                  </a:moveTo>
                  <a:lnTo>
                    <a:pt x="11" y="0"/>
                  </a:lnTo>
                  <a:lnTo>
                    <a:pt x="0" y="18"/>
                  </a:lnTo>
                  <a:lnTo>
                    <a:pt x="11" y="35"/>
                  </a:lnTo>
                  <a:lnTo>
                    <a:pt x="23" y="18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562800" y="4807080"/>
              <a:ext cx="39600" cy="5688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4" y="18"/>
                  </a:moveTo>
                  <a:lnTo>
                    <a:pt x="11" y="0"/>
                  </a:lnTo>
                  <a:lnTo>
                    <a:pt x="0" y="18"/>
                  </a:lnTo>
                  <a:lnTo>
                    <a:pt x="11" y="35"/>
                  </a:lnTo>
                  <a:lnTo>
                    <a:pt x="24" y="18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410080" y="4648320"/>
              <a:ext cx="1749600" cy="366480"/>
            </a:xfrm>
            <a:custGeom>
              <a:avLst/>
              <a:gdLst/>
              <a:ahLst/>
              <a:rect l="l" t="t" r="r" b="b"/>
              <a:pathLst>
                <a:path w="1102" h="231">
                  <a:moveTo>
                    <a:pt x="0" y="230"/>
                  </a:moveTo>
                  <a:lnTo>
                    <a:pt x="0" y="0"/>
                  </a:lnTo>
                  <a:lnTo>
                    <a:pt x="1101" y="0"/>
                  </a:lnTo>
                  <a:lnTo>
                    <a:pt x="1101" y="230"/>
                  </a:lnTo>
                  <a:lnTo>
                    <a:pt x="0" y="23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770520" y="5419800"/>
              <a:ext cx="23040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0" y="155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5"/>
                  </a:lnTo>
                  <a:lnTo>
                    <a:pt x="0" y="155"/>
                  </a:lnTo>
                </a:path>
              </a:pathLst>
            </a:custGeom>
            <a:solidFill>
              <a:srgbClr val="00cc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122800" y="3962520"/>
              <a:ext cx="2422440" cy="2211120"/>
            </a:xfrm>
            <a:custGeom>
              <a:avLst/>
              <a:gdLst/>
              <a:ahLst/>
              <a:rect l="l" t="t" r="r" b="b"/>
              <a:pathLst>
                <a:path w="1526" h="1393">
                  <a:moveTo>
                    <a:pt x="0" y="1392"/>
                  </a:moveTo>
                  <a:lnTo>
                    <a:pt x="0" y="0"/>
                  </a:lnTo>
                  <a:lnTo>
                    <a:pt x="1525" y="0"/>
                  </a:lnTo>
                  <a:lnTo>
                    <a:pt x="1525" y="1392"/>
                  </a:lnTo>
                  <a:lnTo>
                    <a:pt x="0" y="13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8088480" y="4552920"/>
              <a:ext cx="312480" cy="1368360"/>
              <a:chOff x="8088480" y="4552920"/>
              <a:chExt cx="312480" cy="1368360"/>
            </a:xfrm>
          </p:grpSpPr>
          <p:sp>
            <p:nvSpPr>
              <p:cNvPr id="224" name=""/>
              <p:cNvSpPr/>
              <p:nvPr/>
            </p:nvSpPr>
            <p:spPr>
              <a:xfrm>
                <a:off x="8088480" y="5391000"/>
                <a:ext cx="39600" cy="59040"/>
              </a:xfrm>
              <a:custGeom>
                <a:avLst/>
                <a:gdLst/>
                <a:ahLst/>
                <a:rect l="l" t="t" r="r" b="b"/>
                <a:pathLst>
                  <a:path w="25" h="37">
                    <a:moveTo>
                      <a:pt x="24" y="18"/>
                    </a:moveTo>
                    <a:lnTo>
                      <a:pt x="12" y="0"/>
                    </a:lnTo>
                    <a:lnTo>
                      <a:pt x="0" y="18"/>
                    </a:lnTo>
                    <a:lnTo>
                      <a:pt x="12" y="36"/>
                    </a:lnTo>
                    <a:lnTo>
                      <a:pt x="24" y="18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220240" y="5391000"/>
                <a:ext cx="39600" cy="59040"/>
              </a:xfrm>
              <a:custGeom>
                <a:avLst/>
                <a:gdLst/>
                <a:ahLst/>
                <a:rect l="l" t="t" r="r" b="b"/>
                <a:pathLst>
                  <a:path w="25" h="37">
                    <a:moveTo>
                      <a:pt x="24" y="18"/>
                    </a:moveTo>
                    <a:lnTo>
                      <a:pt x="12" y="0"/>
                    </a:lnTo>
                    <a:lnTo>
                      <a:pt x="0" y="18"/>
                    </a:lnTo>
                    <a:lnTo>
                      <a:pt x="12" y="36"/>
                    </a:lnTo>
                    <a:lnTo>
                      <a:pt x="24" y="18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362800" y="5391000"/>
                <a:ext cx="38160" cy="59040"/>
              </a:xfrm>
              <a:custGeom>
                <a:avLst/>
                <a:gdLst/>
                <a:ahLst/>
                <a:rect l="l" t="t" r="r" b="b"/>
                <a:pathLst>
                  <a:path w="24" h="37">
                    <a:moveTo>
                      <a:pt x="23" y="18"/>
                    </a:moveTo>
                    <a:lnTo>
                      <a:pt x="12" y="0"/>
                    </a:lnTo>
                    <a:lnTo>
                      <a:pt x="0" y="18"/>
                    </a:lnTo>
                    <a:lnTo>
                      <a:pt x="12" y="36"/>
                    </a:lnTo>
                    <a:lnTo>
                      <a:pt x="23" y="18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145360" y="4552920"/>
                <a:ext cx="228600" cy="246240"/>
              </a:xfrm>
              <a:custGeom>
                <a:avLst/>
                <a:gdLst/>
                <a:ahLst/>
                <a:rect l="l" t="t" r="r" b="b"/>
                <a:pathLst>
                  <a:path w="144" h="155">
                    <a:moveTo>
                      <a:pt x="0" y="154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43" y="154"/>
                    </a:lnTo>
                    <a:lnTo>
                      <a:pt x="0" y="154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145360" y="4910040"/>
                <a:ext cx="228600" cy="247680"/>
              </a:xfrm>
              <a:custGeom>
                <a:avLst/>
                <a:gdLst/>
                <a:ahLst/>
                <a:rect l="l" t="t" r="r" b="b"/>
                <a:pathLst>
                  <a:path w="144" h="156">
                    <a:moveTo>
                      <a:pt x="0" y="155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43" y="155"/>
                    </a:lnTo>
                    <a:lnTo>
                      <a:pt x="0" y="155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145360" y="5675400"/>
                <a:ext cx="228600" cy="245880"/>
              </a:xfrm>
              <a:custGeom>
                <a:avLst/>
                <a:gdLst/>
                <a:ahLst/>
                <a:rect l="l" t="t" r="r" b="b"/>
                <a:pathLst>
                  <a:path w="144" h="155">
                    <a:moveTo>
                      <a:pt x="0" y="154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43" y="154"/>
                    </a:lnTo>
                    <a:lnTo>
                      <a:pt x="0" y="154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5074920" y="6167520"/>
              <a:ext cx="2518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 main memory buff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86040" y="622476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555600" y="5634000"/>
              <a:ext cx="7840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utput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uff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939080" y="616752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633800" y="3738600"/>
              <a:ext cx="1283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Join Resul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501440" y="4300560"/>
              <a:ext cx="591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as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548240" y="4510080"/>
              <a:ext cx="365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f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556160" y="4716360"/>
              <a:ext cx="425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5fb"/>
                  </a:solidFill>
                  <a:latin typeface="Times New Roman"/>
                </a:rPr>
                <a:t>h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952240" y="5186520"/>
              <a:ext cx="399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65fb"/>
                  </a:solidFill>
                  <a:latin typeface="Times New Roman"/>
                </a:rPr>
                <a:t>h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422520" y="4197240"/>
              <a:ext cx="1073160" cy="2027160"/>
              <a:chOff x="3422520" y="4197240"/>
              <a:chExt cx="1073160" cy="2027160"/>
            </a:xfrm>
          </p:grpSpPr>
          <p:sp>
            <p:nvSpPr>
              <p:cNvPr id="240" name=""/>
              <p:cNvSpPr/>
              <p:nvPr/>
            </p:nvSpPr>
            <p:spPr>
              <a:xfrm>
                <a:off x="3436920" y="4197240"/>
                <a:ext cx="1052640" cy="139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430440" y="426708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495680" y="426708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422520" y="5983560"/>
                <a:ext cx="1064880" cy="240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15"/>
                    </a:moveTo>
                    <a:arcTo wR="10800" hR="10800" stAng="-90852" swAng="1089085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15"/>
                    </a:moveTo>
                    <a:arcTo wR="10800" hR="10800" stAng="-90852" swAng="1089085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7842240" y="4273560"/>
              <a:ext cx="844560" cy="1875960"/>
              <a:chOff x="7842240" y="4273560"/>
              <a:chExt cx="844560" cy="1875960"/>
            </a:xfrm>
          </p:grpSpPr>
          <p:sp>
            <p:nvSpPr>
              <p:cNvPr id="245" name=""/>
              <p:cNvSpPr/>
              <p:nvPr/>
            </p:nvSpPr>
            <p:spPr>
              <a:xfrm>
                <a:off x="7854840" y="4273560"/>
                <a:ext cx="825480" cy="128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848720" y="4336920"/>
                <a:ext cx="0" cy="169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8686800" y="4336920"/>
                <a:ext cx="0" cy="169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842240" y="5924520"/>
                <a:ext cx="837720" cy="22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493"/>
                    </a:moveTo>
                    <a:arcTo wR="10800" hR="10800" stAng="-97869" swAng="1094662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493"/>
                    </a:moveTo>
                    <a:arcTo wR="10800" hR="10800" stAng="-97869" swAng="10946628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>
              <a:off x="4495680" y="50292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495680" y="5562720"/>
              <a:ext cx="106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715000" y="5029200"/>
              <a:ext cx="306360" cy="458640"/>
            </a:xfrm>
            <a:custGeom>
              <a:avLst/>
              <a:gdLst/>
              <a:ahLst/>
              <a:rect l="l" t="t" r="r" b="b"/>
              <a:pathLst>
                <a:path w="193" h="289">
                  <a:moveTo>
                    <a:pt x="0" y="288"/>
                  </a:moveTo>
                  <a:lnTo>
                    <a:pt x="192" y="173"/>
                  </a:lnTo>
                  <a:lnTo>
                    <a:pt x="188" y="145"/>
                  </a:lnTo>
                  <a:lnTo>
                    <a:pt x="0" y="115"/>
                  </a:lnTo>
                  <a:lnTo>
                    <a:pt x="19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010280" y="5562720"/>
              <a:ext cx="83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3433680" y="328680"/>
            <a:ext cx="5726880" cy="2971800"/>
            <a:chOff x="3433680" y="328680"/>
            <a:chExt cx="5726880" cy="2971800"/>
          </a:xfrm>
        </p:grpSpPr>
        <p:sp>
          <p:nvSpPr>
            <p:cNvPr id="254" name=""/>
            <p:cNvSpPr/>
            <p:nvPr/>
          </p:nvSpPr>
          <p:spPr>
            <a:xfrm>
              <a:off x="4659120" y="2909880"/>
              <a:ext cx="2518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 main memory buff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794720" y="293220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678120" y="293364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433680" y="328680"/>
              <a:ext cx="1070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rigina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216480" y="631800"/>
              <a:ext cx="925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001000" y="2206800"/>
              <a:ext cx="42840" cy="633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4" y="0"/>
                  </a:lnTo>
                  <a:lnTo>
                    <a:pt x="0" y="20"/>
                  </a:lnTo>
                  <a:lnTo>
                    <a:pt x="14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156520" y="2206800"/>
              <a:ext cx="42840" cy="633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4" y="0"/>
                  </a:lnTo>
                  <a:lnTo>
                    <a:pt x="0" y="20"/>
                  </a:lnTo>
                  <a:lnTo>
                    <a:pt x="14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495680" y="609480"/>
              <a:ext cx="2671920" cy="2289240"/>
            </a:xfrm>
            <a:custGeom>
              <a:avLst/>
              <a:gdLst/>
              <a:ahLst/>
              <a:rect l="l" t="t" r="r" b="b"/>
              <a:pathLst>
                <a:path w="1683" h="1442">
                  <a:moveTo>
                    <a:pt x="0" y="1441"/>
                  </a:moveTo>
                  <a:lnTo>
                    <a:pt x="0" y="0"/>
                  </a:lnTo>
                  <a:lnTo>
                    <a:pt x="1682" y="0"/>
                  </a:lnTo>
                  <a:lnTo>
                    <a:pt x="1682" y="1441"/>
                  </a:lnTo>
                  <a:lnTo>
                    <a:pt x="0" y="144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848120" y="1928880"/>
              <a:ext cx="335160" cy="269640"/>
            </a:xfrm>
            <a:custGeom>
              <a:avLst/>
              <a:gdLst/>
              <a:ahLst/>
              <a:rect l="l" t="t" r="r" b="b"/>
              <a:pathLst>
                <a:path w="211" h="170">
                  <a:moveTo>
                    <a:pt x="0" y="169"/>
                  </a:moveTo>
                  <a:lnTo>
                    <a:pt x="0" y="0"/>
                  </a:lnTo>
                  <a:lnTo>
                    <a:pt x="210" y="0"/>
                  </a:lnTo>
                  <a:lnTo>
                    <a:pt x="210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6600960" y="2120760"/>
              <a:ext cx="334800" cy="90720"/>
              <a:chOff x="6600960" y="2120760"/>
              <a:chExt cx="334800" cy="90720"/>
            </a:xfrm>
          </p:grpSpPr>
          <p:sp>
            <p:nvSpPr>
              <p:cNvPr id="264" name=""/>
              <p:cNvSpPr/>
              <p:nvPr/>
            </p:nvSpPr>
            <p:spPr>
              <a:xfrm>
                <a:off x="6600960" y="2120760"/>
                <a:ext cx="42840" cy="63720"/>
              </a:xfrm>
              <a:custGeom>
                <a:avLst/>
                <a:gdLst/>
                <a:ahLst/>
                <a:rect l="l" t="t" r="r" b="b"/>
                <a:pathLst>
                  <a:path w="27" h="40">
                    <a:moveTo>
                      <a:pt x="26" y="19"/>
                    </a:moveTo>
                    <a:lnTo>
                      <a:pt x="13" y="0"/>
                    </a:lnTo>
                    <a:lnTo>
                      <a:pt x="0" y="19"/>
                    </a:lnTo>
                    <a:lnTo>
                      <a:pt x="13" y="39"/>
                    </a:lnTo>
                    <a:lnTo>
                      <a:pt x="26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745320" y="2120760"/>
                <a:ext cx="42840" cy="63720"/>
              </a:xfrm>
              <a:custGeom>
                <a:avLst/>
                <a:gdLst/>
                <a:ahLst/>
                <a:rect l="l" t="t" r="r" b="b"/>
                <a:pathLst>
                  <a:path w="27" h="40">
                    <a:moveTo>
                      <a:pt x="26" y="19"/>
                    </a:moveTo>
                    <a:lnTo>
                      <a:pt x="13" y="0"/>
                    </a:lnTo>
                    <a:lnTo>
                      <a:pt x="0" y="19"/>
                    </a:lnTo>
                    <a:lnTo>
                      <a:pt x="13" y="39"/>
                    </a:lnTo>
                    <a:lnTo>
                      <a:pt x="26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900840" y="2120760"/>
                <a:ext cx="34920" cy="90720"/>
              </a:xfrm>
              <a:custGeom>
                <a:avLst/>
                <a:gdLst/>
                <a:ahLst/>
                <a:rect l="l" t="t" r="r" b="b"/>
                <a:pathLst>
                  <a:path w="22" h="57">
                    <a:moveTo>
                      <a:pt x="21" y="27"/>
                    </a:moveTo>
                    <a:lnTo>
                      <a:pt x="11" y="0"/>
                    </a:lnTo>
                    <a:lnTo>
                      <a:pt x="0" y="27"/>
                    </a:lnTo>
                    <a:lnTo>
                      <a:pt x="11" y="56"/>
                    </a:lnTo>
                    <a:lnTo>
                      <a:pt x="21" y="2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7608960" y="1255680"/>
              <a:ext cx="250920" cy="27000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899480" y="1255680"/>
              <a:ext cx="249120" cy="27000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608960" y="1722600"/>
              <a:ext cx="250920" cy="26964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908840" y="1722600"/>
              <a:ext cx="249480" cy="26964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858080" y="2206800"/>
              <a:ext cx="42840" cy="633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3" y="0"/>
                  </a:lnTo>
                  <a:lnTo>
                    <a:pt x="0" y="20"/>
                  </a:lnTo>
                  <a:lnTo>
                    <a:pt x="13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209080" y="1722600"/>
              <a:ext cx="249120" cy="26964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587280" y="144468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608960" y="2557440"/>
              <a:ext cx="250920" cy="27000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553080" y="2514600"/>
              <a:ext cx="422280" cy="28728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614120" y="1514520"/>
              <a:ext cx="738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587280" y="89676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187240" y="1760400"/>
              <a:ext cx="82044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has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un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491880" y="2230560"/>
              <a:ext cx="502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455600" y="620640"/>
              <a:ext cx="1151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rti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610120" y="1231920"/>
              <a:ext cx="29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600760" y="1655640"/>
              <a:ext cx="29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568720" y="2448000"/>
              <a:ext cx="591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4" name=""/>
            <p:cNvGrpSpPr/>
            <p:nvPr/>
          </p:nvGrpSpPr>
          <p:grpSpPr>
            <a:xfrm>
              <a:off x="3498840" y="996840"/>
              <a:ext cx="920880" cy="1952280"/>
              <a:chOff x="3498840" y="996840"/>
              <a:chExt cx="920880" cy="1952280"/>
            </a:xfrm>
          </p:grpSpPr>
          <p:sp>
            <p:nvSpPr>
              <p:cNvPr id="285" name=""/>
              <p:cNvSpPr/>
              <p:nvPr/>
            </p:nvSpPr>
            <p:spPr>
              <a:xfrm>
                <a:off x="3513240" y="996840"/>
                <a:ext cx="900000" cy="135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506760" y="1063800"/>
                <a:ext cx="0" cy="176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419720" y="1063800"/>
                <a:ext cx="0" cy="176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498840" y="2714760"/>
                <a:ext cx="912600" cy="23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05"/>
                    </a:moveTo>
                    <a:arcTo wR="10800" hR="10800" stAng="-94011" swAng="1094069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05"/>
                    </a:moveTo>
                    <a:arcTo wR="10800" hR="10800" stAng="-94011" swAng="1094069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9" name=""/>
            <p:cNvSpPr/>
            <p:nvPr/>
          </p:nvSpPr>
          <p:spPr>
            <a:xfrm>
              <a:off x="3816360" y="1225440"/>
              <a:ext cx="291960" cy="29232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816360" y="1682640"/>
              <a:ext cx="291960" cy="29232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816360" y="2444760"/>
              <a:ext cx="291960" cy="29196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613320" y="1876320"/>
              <a:ext cx="742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Book Antiqua"/>
                </a:rPr>
                <a:t>. . 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7537320" y="996840"/>
              <a:ext cx="1073160" cy="1974600"/>
              <a:chOff x="7537320" y="996840"/>
              <a:chExt cx="1073160" cy="1974600"/>
            </a:xfrm>
          </p:grpSpPr>
          <p:sp>
            <p:nvSpPr>
              <p:cNvPr id="294" name=""/>
              <p:cNvSpPr/>
              <p:nvPr/>
            </p:nvSpPr>
            <p:spPr>
              <a:xfrm>
                <a:off x="7551720" y="996840"/>
                <a:ext cx="1052640" cy="136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545240" y="1065240"/>
                <a:ext cx="0" cy="17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8610480" y="1065240"/>
                <a:ext cx="0" cy="17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537320" y="2737080"/>
                <a:ext cx="1064880" cy="23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07"/>
                    </a:moveTo>
                    <a:arcTo wR="10800" hR="10800" stAng="-93306" swAng="1089330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07"/>
                    </a:moveTo>
                    <a:arcTo wR="10800" hR="10800" stAng="-93306" swAng="10893306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4419720" y="20574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6019920" y="1447560"/>
              <a:ext cx="53316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6019920" y="1904760"/>
              <a:ext cx="5331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019920" y="2057400"/>
              <a:ext cx="53316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010280" y="1371600"/>
              <a:ext cx="60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010280" y="1828800"/>
              <a:ext cx="60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010280" y="2666880"/>
              <a:ext cx="60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553080" y="1676520"/>
              <a:ext cx="422280" cy="28728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553080" y="1143000"/>
              <a:ext cx="422280" cy="28728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0" y="403848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6331-EE79-446A-8C43-3ADCC441CC06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tioned Hash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3B(R) + 3B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min(B(R), B(S)) 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113A-0884-4ABE-9F21-A288D7C9A8C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brid Hash Join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tion S into k buc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keep first bucket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memory, k-1 buckets to d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tion R into k buc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bucket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joined immediately with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k-1 buckets go to d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ly, join k-1 pairs of bucke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…, 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9511-4BA0-414C-B85C-C24C8A16C78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brid Join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big should we choose k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erage bucket size for S is B(S)/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fit B(S)/k + (k-1) blocks in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(S)/k + (k-1) &lt;=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 slightly smaller than B(S)/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70D4-4C76-4D14-84AA-0EA96587991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brid Join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many I/O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all: cost of partitioned hash jo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B(R) + 3B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save 2 disk operations for one buc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all there are k buc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we save 2/k(B(R) + B(S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(3-2/k)(B(R) + B(S)) =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(3-2M/B(S))(B(R) + B(S)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8995-DE5C-4C69-B8D3-766CECC34E7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brid Join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stion in class: what is the real advantage of the hybrid algorithm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74FA-817E-45D1-9A63-A740693FB94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ed 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 that in a clustered index all tuples with the same value of the key are clustered on as few blocks as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book uses another term: “clustering index”.  Difference is minor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2139120" y="3965760"/>
            <a:ext cx="4113000" cy="459720"/>
            <a:chOff x="2139120" y="3965760"/>
            <a:chExt cx="4113000" cy="459720"/>
          </a:xfrm>
        </p:grpSpPr>
        <p:sp>
          <p:nvSpPr>
            <p:cNvPr id="321" name=""/>
            <p:cNvSpPr/>
            <p:nvPr/>
          </p:nvSpPr>
          <p:spPr>
            <a:xfrm>
              <a:off x="2139120" y="3965760"/>
              <a:ext cx="11210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a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643200" y="3965760"/>
              <a:ext cx="11638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a a a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190480" y="3965760"/>
              <a:ext cx="10616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a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CFA3-9CAB-4A5B-A9B8-F1F738F2E90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Based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on on equality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=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ustered index on a:  cost B(R)/V(R,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clustered index on a: cost T(R)/V(R,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6EC0-D9DC-40A9-834E-58C291936F4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ed Loop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ple-based nested loop 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(R) B(S) when S is clust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(R) T(S) when S is unclust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19280" y="3048120"/>
            <a:ext cx="6475320" cy="175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tuple r in R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tuple s in 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 and s join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utput (r,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4EEE-4589-4447-AC7E-B916F776A3C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Based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B(R) = 2000,  T(R) = 100,000, V(R, a) = 20, compute the cost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=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of table sca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R is clustered: B(R) = 2000 I/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R is unclustered: T(R) = 100,000 I/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of index based sele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index is clustered: B(R)/V(R,a) =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index is unclustered: T(R)/V(R,a) = 5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ice: when V(R,a) is small, then unclustered index is use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4374-854D-405B-81E6-A5E17DB71CD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Based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S has an index on the join at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rate over R, for each tuple fetch corresponding tuple(s) from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R is clustered. Co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index is clustered:  B(R) + T(R)B(S)/V(S,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index is unclustered: B(R) + T(R)T(S)/V(S,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D1EA-3C58-42D1-BB77-1BA2685717E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Based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both R and S have a sorted index (B+ tree) on the join at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perform a merge join (called zig-zag jo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B(R) + B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EB64-8D73-4967-8987-53715A3B0DB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in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(Product), B(Company) are la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join method would you us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 bozo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.s. 100…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 coo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ni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.s. 100…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507120" y="3200400"/>
            <a:ext cx="537588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Product.name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Company.cit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   Product, Compan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Product.maker = Company.nam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and Product.category = ‘bozo’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Company.rating = ‘cool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8ABA-F5F8-4197-8249-AA95854723D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ed Loop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be much more cle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Ques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how would you compute the join in the following cases ? What is the cost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(R) = 1000, B(S) = 2, M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(R) = 1000, B(S) = 3, M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(R) = 1000, B(S) = 6, M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C36C-FE31-4E32-8221-91D2490C130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ed Loop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ck-based Nested Loop Jo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7800" y="2743200"/>
            <a:ext cx="7598520" cy="29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(M-2) blocks bs of S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block br of R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tuple s in 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tuple r in br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 and s join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utput(r,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3495-0C81-4856-978E-B59DFC6BD92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ed Loop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59040" y="50306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1457280" y="2979720"/>
            <a:ext cx="844560" cy="2026440"/>
            <a:chOff x="1457280" y="2979720"/>
            <a:chExt cx="844560" cy="2026440"/>
          </a:xfrm>
        </p:grpSpPr>
        <p:sp>
          <p:nvSpPr>
            <p:cNvPr id="63" name=""/>
            <p:cNvSpPr/>
            <p:nvPr/>
          </p:nvSpPr>
          <p:spPr>
            <a:xfrm>
              <a:off x="1470240" y="2979720"/>
              <a:ext cx="825480" cy="139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463760" y="3049200"/>
              <a:ext cx="0" cy="18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301840" y="3049200"/>
              <a:ext cx="0" cy="18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457280" y="4766040"/>
              <a:ext cx="838080" cy="24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6" y="10515"/>
                  </a:moveTo>
                  <a:arcTo wR="10800" hR="10800" stAng="-90790" swAng="1089079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6" y="10515"/>
                  </a:moveTo>
                  <a:arcTo wR="10800" hR="10800" stAng="-90790" swAng="1089079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2536920" y="2827440"/>
            <a:ext cx="3416040" cy="219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98480" y="3284640"/>
            <a:ext cx="292320" cy="291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98480" y="3741840"/>
            <a:ext cx="292320" cy="29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98480" y="4503600"/>
            <a:ext cx="292320" cy="292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97240" y="3935520"/>
            <a:ext cx="742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146400" y="3360600"/>
            <a:ext cx="2197080" cy="52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22720" y="343692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679920" y="343692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88160" y="3247920"/>
            <a:ext cx="742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22920" y="343692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146400" y="435132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51520" y="435132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01840" y="35830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01840" y="44974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49960" y="449748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51520" y="2625840"/>
            <a:ext cx="800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R &amp;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219840" y="2819520"/>
            <a:ext cx="2331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h table for block of 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M-2 pag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670120" y="4651200"/>
            <a:ext cx="1765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put buffer for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4520" y="4648320"/>
            <a:ext cx="1404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bu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16240" y="3811680"/>
            <a:ext cx="306360" cy="534960"/>
          </a:xfrm>
          <a:custGeom>
            <a:avLst/>
            <a:gdLst/>
            <a:ahLst/>
            <a:rect l="l" t="t" r="r" b="b"/>
            <a:pathLst>
              <a:path w="193" h="337">
                <a:moveTo>
                  <a:pt x="48" y="336"/>
                </a:moveTo>
                <a:lnTo>
                  <a:pt x="144" y="144"/>
                </a:lnTo>
                <a:lnTo>
                  <a:pt x="0" y="192"/>
                </a:lnTo>
                <a:lnTo>
                  <a:pt x="2" y="166"/>
                </a:lnTo>
                <a:lnTo>
                  <a:pt x="19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334200" y="2979720"/>
            <a:ext cx="858600" cy="2026440"/>
            <a:chOff x="6334200" y="2979720"/>
            <a:chExt cx="858600" cy="2026440"/>
          </a:xfrm>
        </p:grpSpPr>
        <p:grpSp>
          <p:nvGrpSpPr>
            <p:cNvPr id="88" name=""/>
            <p:cNvGrpSpPr/>
            <p:nvPr/>
          </p:nvGrpSpPr>
          <p:grpSpPr>
            <a:xfrm>
              <a:off x="6334200" y="2979720"/>
              <a:ext cx="844560" cy="2026440"/>
              <a:chOff x="6334200" y="2979720"/>
              <a:chExt cx="844560" cy="2026440"/>
            </a:xfrm>
          </p:grpSpPr>
          <p:sp>
            <p:nvSpPr>
              <p:cNvPr id="89" name=""/>
              <p:cNvSpPr/>
              <p:nvPr/>
            </p:nvSpPr>
            <p:spPr>
              <a:xfrm>
                <a:off x="6346800" y="2979720"/>
                <a:ext cx="825480" cy="139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340680" y="3049200"/>
                <a:ext cx="0" cy="182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178760" y="3049200"/>
                <a:ext cx="0" cy="182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334200" y="4766040"/>
                <a:ext cx="837720" cy="240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15"/>
                    </a:moveTo>
                    <a:arcTo wR="10800" hR="10800" stAng="-90790" swAng="108907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15"/>
                    </a:moveTo>
                    <a:arcTo wR="10800" hR="10800" stAng="-90790" swAng="1089079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6651720" y="3284280"/>
              <a:ext cx="291960" cy="291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651720" y="3741480"/>
              <a:ext cx="291960" cy="291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651720" y="4503600"/>
              <a:ext cx="291960" cy="2916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450120" y="3933720"/>
              <a:ext cx="742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Book Antiqua"/>
                </a:rPr>
                <a:t>. . 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6001920" y="2624040"/>
            <a:ext cx="1434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Join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E0A7-1BE7-4344-B8A6-5C0B6222AA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ed Loop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ck-based Nested Loop Jo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S once: cost B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er loop runs B(S)/(M-2) times, and each time need to read R: costs B(S)B(R)/(M-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cost:  B(S)  +  B(S)B(R)/(M-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ice: it is better to iterate over the smaller relation fir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:  R=outer relation, S=inner re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019C-031E-4334-BE55-05D3800D0A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: multi-way merge sort needs only two passes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B(R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for sorting: 3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92C6-7EA5-458C-840B-E6AA23A460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plicate eliminatio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vial idea: sort first, then eliminate duplic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1: sort chunks of size M, wr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2B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2: merge M-1 runs, but include each tuple only o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B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cost: 3B(R), Assumption: B(R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BC91-192A-4E46-B03C-6E45B9CC825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mgubanov</cp:lastModifiedBy>
  <dcterms:modified xsi:type="dcterms:W3CDTF">2003-11-19T04:33:59Z</dcterms:modified>
  <cp:revision>303</cp:revision>
  <dc:subject/>
  <dc:title>Lecture 09:</dc:title>
</cp:coreProperties>
</file>