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3DA1679-EBC8-4C1D-A368-BCAE2BE9E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185A00C-1E5F-48C0-9410-6D668E3BF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540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6B54-F0F7-4B7A-A6C3-EF962AA4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26B2-6B21-4B13-BB25-9D629412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7707-21BA-4C72-A6B8-0E3A6C41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1BA4-6233-4659-95C9-38AEBEBC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941C-C8FC-4921-B170-2EAE15A7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C2B5-F4E5-4766-8339-3A1688D6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7DD2-AE2B-4812-89AE-B6C48E4B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1AB9-4E85-40F6-858E-F0538F39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0E77-382D-428E-A5EE-5C75EE9F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1908-06B7-4365-BA5D-061E0E61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D555-95ED-452A-8C03-DB8909E5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931-567C-4A15-9669-8BD832AC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F380-8E10-4DAE-8571-FD4300765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1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ec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November 17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FE4A-464C-4FA0-8D8C-06BF826938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ble 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s consists only of records from this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R) / block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clu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ble 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records are placed on blocks with other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clust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(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is a key, V(R,a) = T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is not a key, V(R,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E9C7-359E-4021-B0AC-D40642D2A5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an operation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disk I/Os needed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the oper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the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writing the result to disk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inclu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the following sl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cost of sorting a table with B block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6F18-C59F-4F81-9E8F-2B049A9D02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ing a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ed re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sc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 may be unsorted:  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 needs to be sorted:    3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orted: 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ed: B(R) or 3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lustered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orted: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d: T(R) + 2B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9839-0F5C-4E72-81D9-BDD20996B1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, 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uple-at-a-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9600" y="4499280"/>
            <a:ext cx="164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62480" y="4499280"/>
            <a:ext cx="1851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434340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8E33-D98A-4A21-BFCF-B0EC89E015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join: 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S, build buckets i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scan R and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S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D9FC-D5D8-4973-886E-F7A87C1FCF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keep tuple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ew tuple arrives, need to compare it with previously seen tu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d search tree, or hash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867E-BE1A-4302-961A-E215C4911C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(name, department, quant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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department, sum(quantit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duct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(department,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: how do you compute it in main memor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0229-4D32-4074-9D9E-2FD77EF3D0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department, sum(quantit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store all department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tore the sum(quantity) for each depar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d search tree or hash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number of departments fit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6996-44D2-4958-92D7-4413ED146A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pass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operations: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R –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min(B(R), B(S)) &lt;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n one table first, then the next, eliminate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: B(R)+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F3A5-EA57-4FCF-8CD2-DBA2B4A670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64080" y="1676520"/>
            <a:ext cx="399060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ptyHashTabl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scan R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x in R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insert(H,  x 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scan 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y in S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_________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collect result *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z in H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1920" y="1676520"/>
            <a:ext cx="268668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w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in each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ca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R –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A874-A3DB-426F-A66B-F75FCBA496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ecution: 15.1 – 1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5AD0-EBA1-4E54-9366-8AB171A2CF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-based nested loop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(R) B(S) when S is clus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(R) T(S) when S is unclus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9280" y="3048120"/>
            <a:ext cx="6475320" cy="175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and s join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 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6187-FE4A-4F49-B65C-3EAA58BB35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be much more cl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ow would you compute the join in the following cases ? What is the co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2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4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1000, B(S) = 6, 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CCF6-B4F4-4625-A340-B39EE4C6C9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based Nested Loop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800" y="2743200"/>
            <a:ext cx="7598520" cy="29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(M-2) blocks bs of S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block br of 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s in 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uple r in b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and s join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(r,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09A5-46CB-4EE1-B4B7-8056A6B3AE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59040" y="5030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457280" y="2979720"/>
            <a:ext cx="844560" cy="2026440"/>
            <a:chOff x="1457280" y="2979720"/>
            <a:chExt cx="844560" cy="2026440"/>
          </a:xfrm>
        </p:grpSpPr>
        <p:sp>
          <p:nvSpPr>
            <p:cNvPr id="155" name=""/>
            <p:cNvSpPr/>
            <p:nvPr/>
          </p:nvSpPr>
          <p:spPr>
            <a:xfrm>
              <a:off x="1470240" y="2979720"/>
              <a:ext cx="825480" cy="13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6376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01840" y="304920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7280" y="4766040"/>
              <a:ext cx="838080" cy="24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6" y="10515"/>
                  </a:moveTo>
                  <a:arcTo wR="10800" hR="10800" stAng="-90790" swAng="10890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6" y="10515"/>
                  </a:moveTo>
                  <a:arcTo wR="10800" hR="10800" stAng="-90790" swAng="1089079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536920" y="2827440"/>
            <a:ext cx="3416040" cy="219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98480" y="3284640"/>
            <a:ext cx="292320" cy="29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98480" y="3741840"/>
            <a:ext cx="292320" cy="29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98480" y="4503600"/>
            <a:ext cx="292320" cy="292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97240" y="3935520"/>
            <a:ext cx="74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46400" y="3360600"/>
            <a:ext cx="21970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227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79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88160" y="3247920"/>
            <a:ext cx="74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22920" y="34369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4640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51520" y="435132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01840" y="3583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01840" y="4497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49960" y="44974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51520" y="2625840"/>
            <a:ext cx="800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 &amp;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19840" y="2819520"/>
            <a:ext cx="2331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h table for block of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M-2 pag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70120" y="4651200"/>
            <a:ext cx="176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put buffer for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4520" y="46483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16240" y="3811680"/>
            <a:ext cx="306360" cy="534960"/>
          </a:xfrm>
          <a:custGeom>
            <a:avLst/>
            <a:gdLst/>
            <a:ahLst/>
            <a:rect l="l" t="t" r="r" b="b"/>
            <a:pathLst>
              <a:path w="193" h="337">
                <a:moveTo>
                  <a:pt x="48" y="336"/>
                </a:moveTo>
                <a:lnTo>
                  <a:pt x="144" y="144"/>
                </a:lnTo>
                <a:lnTo>
                  <a:pt x="0" y="192"/>
                </a:lnTo>
                <a:lnTo>
                  <a:pt x="2" y="166"/>
                </a:lnTo>
                <a:lnTo>
                  <a:pt x="19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334200" y="2979720"/>
            <a:ext cx="858600" cy="2026440"/>
            <a:chOff x="6334200" y="2979720"/>
            <a:chExt cx="858600" cy="2026440"/>
          </a:xfrm>
        </p:grpSpPr>
        <p:grpSp>
          <p:nvGrpSpPr>
            <p:cNvPr id="180" name=""/>
            <p:cNvGrpSpPr/>
            <p:nvPr/>
          </p:nvGrpSpPr>
          <p:grpSpPr>
            <a:xfrm>
              <a:off x="6334200" y="2979720"/>
              <a:ext cx="844560" cy="2026440"/>
              <a:chOff x="6334200" y="2979720"/>
              <a:chExt cx="844560" cy="2026440"/>
            </a:xfrm>
          </p:grpSpPr>
          <p:sp>
            <p:nvSpPr>
              <p:cNvPr id="181" name=""/>
              <p:cNvSpPr/>
              <p:nvPr/>
            </p:nvSpPr>
            <p:spPr>
              <a:xfrm>
                <a:off x="6346800" y="2979720"/>
                <a:ext cx="825480" cy="139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34068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78760" y="3049200"/>
                <a:ext cx="0" cy="18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334200" y="4766040"/>
                <a:ext cx="837720" cy="24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790" swAng="108907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790" swAng="1089079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6651720" y="3284280"/>
              <a:ext cx="291960" cy="291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51720" y="3741480"/>
              <a:ext cx="291960" cy="291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51720" y="4503600"/>
              <a:ext cx="291960" cy="291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50120" y="393372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001920" y="2624040"/>
            <a:ext cx="143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Join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225C-54FB-4506-AEAD-78DE5DE7FC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Loop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based Nested Loop 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S once: cost 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loop runs B(S)/(M-2) times, and each time need to read R: costs B(S)B(R)/(M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 B(S)  +  B(S)B(R)/(M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: it is better to iterate over the smaller relation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:  R=outer relation, S=inner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78B1-66FE-4879-ACE9-61911B4BD6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multi-way merge sort needs only two pass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for sorting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C841-7E1A-4F3C-B768-E554569D76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vial idea: sort first, then eliminate dupl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sort chunks of size M,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2B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merge M-1 runs, but include each tuple only o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B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3B(R), Assumption: B(R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80B8-5420-40DA-96C1-7C00D4FAB3D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, sum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before: sort, then compute the sum(b) for each group of a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998C-0406-4EBC-A96F-A9066B7337F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operations: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, R –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sort R, sort S, then do the right 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oser loo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split R into runs of size M, then split S into runs of size M.  Cost: 2B(R) + 2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merge M/2 runs from R; merge M/2 runs from S; ouput a tuple on a case by cases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3B(R)+3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: B(R)+B(S)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F8E6-97F1-4708-B55C-57DAC66E6F3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by sorting both R and S on the join attribu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4B(R)+4B(S)  (because need to write to dis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both relations in sorted order, match tu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B(R)+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y: many tuples in R may match many 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t least one set of tuples fits in M, we are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need nested loop, highe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: 5B(R)+5B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(S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35F2-380D-4709-AC3D-6E8F2B7703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Operators in the Bag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, intersection, 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81480" y="1981080"/>
            <a:ext cx="1828800" cy="2286000"/>
          </a:xfrm>
          <a:custGeom>
            <a:avLst/>
            <a:gdLst>
              <a:gd name="textAreaLeft" fmla="*/ 0 w 1828800"/>
              <a:gd name="textAreaRight" fmla="*/ 660240 w 1828800"/>
              <a:gd name="textAreaTop" fmla="*/ 47880 h 2286000"/>
              <a:gd name="textAreaBottom" fmla="*/ 223812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8"/>
                  <a:pt x="10800" y="1455"/>
                </a:cubicBezTo>
                <a:lnTo>
                  <a:pt x="10800" y="9345"/>
                </a:lnTo>
                <a:cubicBezTo>
                  <a:pt x="10800" y="10073"/>
                  <a:pt x="16200" y="10800"/>
                  <a:pt x="21600" y="10800"/>
                </a:cubicBezTo>
                <a:cubicBezTo>
                  <a:pt x="16200" y="10800"/>
                  <a:pt x="10800" y="11528"/>
                  <a:pt x="10800" y="12255"/>
                </a:cubicBezTo>
                <a:lnTo>
                  <a:pt x="10800" y="20145"/>
                </a:lnTo>
                <a:cubicBezTo>
                  <a:pt x="10800" y="2087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(on ba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F4E6-69E8-417A-8FA9-BAC11B2BE6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ass Algorithms Based on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umber of tuples in R matching those in S is small (or vice versa) we can compute the join during the merge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 3B(R)+3B(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B(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B(S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BD1E-5D37-4FFC-BDB8-43ED0F0F378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Pass Algorithms Based on Ha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partition a relation R into buckets,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ucket has size approx. B(R)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each bucket fit in main memor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 if B(R)/M &lt;= M,   i.e. B(R) 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751760" y="2895480"/>
            <a:ext cx="5476320" cy="2820960"/>
            <a:chOff x="1751760" y="2895480"/>
            <a:chExt cx="5476320" cy="2820960"/>
          </a:xfrm>
        </p:grpSpPr>
        <p:sp>
          <p:nvSpPr>
            <p:cNvPr id="207" name=""/>
            <p:cNvSpPr/>
            <p:nvPr/>
          </p:nvSpPr>
          <p:spPr>
            <a:xfrm>
              <a:off x="2914560" y="5327280"/>
              <a:ext cx="2582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00400" y="53481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83600" y="53496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51760" y="2895480"/>
              <a:ext cx="1233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 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98480" y="318096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9624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4420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61200" y="3159720"/>
              <a:ext cx="2541960" cy="215676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96360" y="4402800"/>
              <a:ext cx="318600" cy="25380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4764240" y="4583880"/>
              <a:ext cx="317880" cy="85320"/>
              <a:chOff x="4764240" y="4583880"/>
              <a:chExt cx="317880" cy="85320"/>
            </a:xfrm>
          </p:grpSpPr>
          <p:sp>
            <p:nvSpPr>
              <p:cNvPr id="217" name=""/>
              <p:cNvSpPr/>
              <p:nvPr/>
            </p:nvSpPr>
            <p:spPr>
              <a:xfrm>
                <a:off x="476424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90140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049000" y="4583880"/>
                <a:ext cx="33120" cy="853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5723280" y="376884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99760" y="3768840"/>
              <a:ext cx="236880" cy="25416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23280" y="4208760"/>
              <a:ext cx="238680" cy="2538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8400" y="4208760"/>
              <a:ext cx="23724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6016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94240" y="4208760"/>
              <a:ext cx="23688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50200" y="3946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23280" y="499500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18520" y="495468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74240" y="401256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50200" y="34304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99840" y="4244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61640" y="468720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77120" y="317052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75840" y="374616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66840" y="414540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36240" y="489204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1812600" y="3524760"/>
              <a:ext cx="875880" cy="1838880"/>
              <a:chOff x="1812600" y="3524760"/>
              <a:chExt cx="875880" cy="1838880"/>
            </a:xfrm>
          </p:grpSpPr>
          <p:sp>
            <p:nvSpPr>
              <p:cNvPr id="238" name=""/>
              <p:cNvSpPr/>
              <p:nvPr/>
            </p:nvSpPr>
            <p:spPr>
              <a:xfrm>
                <a:off x="1826280" y="3524760"/>
                <a:ext cx="855720" cy="127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81980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68848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812600" y="5143320"/>
                <a:ext cx="86796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114640" y="374004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14640" y="417096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14640" y="4889160"/>
              <a:ext cx="277560" cy="27504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19880" y="435348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5654880" y="3524760"/>
              <a:ext cx="1020960" cy="1859760"/>
              <a:chOff x="5654880" y="3524760"/>
              <a:chExt cx="1020960" cy="1859760"/>
            </a:xfrm>
          </p:grpSpPr>
          <p:sp>
            <p:nvSpPr>
              <p:cNvPr id="247" name=""/>
              <p:cNvSpPr/>
              <p:nvPr/>
            </p:nvSpPr>
            <p:spPr>
              <a:xfrm>
                <a:off x="5668560" y="3524760"/>
                <a:ext cx="100116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66208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67584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654880" y="5164200"/>
                <a:ext cx="101304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688840" y="4524120"/>
              <a:ext cx="36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211280" y="394956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211280" y="4380480"/>
              <a:ext cx="507240" cy="14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211280" y="452412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53400" y="38779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53400" y="430884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53400" y="50983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18520" y="416520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18520" y="366264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509480" y="3619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09480" y="4152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44800" y="4873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0949-95F4-41D7-82F8-CF2C2B1C852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Based Algorithms for 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7634-AA9F-48B5-B739-3220F27E570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Based Algorithms for 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E3C8-D26C-4251-BADF-281AB9712F6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S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R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every pair of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DAA2-BECC-44DC-808D-AD545C8B457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505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 both relations using hash f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R tuples in partition i will only match S tuples in partition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411480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ad in a partition of R, hash it using 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h2 (&lt;&gt; </a:t>
            </a:r>
            <a:r>
              <a:rPr b="1" lang="en-US" sz="2400" spc="-1" strike="noStrike">
                <a:solidFill>
                  <a:srgbClr val="3333cc"/>
                </a:solidFill>
                <a:latin typeface="Book Antiqua"/>
              </a:rPr>
              <a:t>h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!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 Scan matching partition of S, search for mat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05320" y="34290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422520" y="3560760"/>
            <a:ext cx="5495040" cy="3030840"/>
            <a:chOff x="3422520" y="3560760"/>
            <a:chExt cx="5495040" cy="3030840"/>
          </a:xfrm>
        </p:grpSpPr>
        <p:sp>
          <p:nvSpPr>
            <p:cNvPr id="276" name=""/>
            <p:cNvSpPr/>
            <p:nvPr/>
          </p:nvSpPr>
          <p:spPr>
            <a:xfrm>
              <a:off x="3447360" y="3560760"/>
              <a:ext cx="1151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f R &amp; 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160240" y="5726160"/>
              <a:ext cx="113148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 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or 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19280" y="4008600"/>
              <a:ext cx="2241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 table for part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i ( &lt; M-1 pag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7676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4976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8152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2444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2116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8792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21160" y="5062680"/>
              <a:ext cx="230040" cy="2458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0" y="15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97280" y="5062680"/>
              <a:ext cx="228600" cy="24588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43360" y="5824440"/>
              <a:ext cx="228600" cy="24624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21160" y="582624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464080" y="469260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8484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3748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8812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21320" y="4807080"/>
              <a:ext cx="38160" cy="5688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23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3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6280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10080" y="4648320"/>
              <a:ext cx="1749600" cy="366480"/>
            </a:xfrm>
            <a:custGeom>
              <a:avLst/>
              <a:gdLst/>
              <a:ahLst/>
              <a:rect l="l" t="t" r="r" b="b"/>
              <a:pathLst>
                <a:path w="1102" h="231">
                  <a:moveTo>
                    <a:pt x="0" y="230"/>
                  </a:moveTo>
                  <a:lnTo>
                    <a:pt x="0" y="0"/>
                  </a:lnTo>
                  <a:lnTo>
                    <a:pt x="1101" y="0"/>
                  </a:lnTo>
                  <a:lnTo>
                    <a:pt x="1101" y="230"/>
                  </a:lnTo>
                  <a:lnTo>
                    <a:pt x="0" y="2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7052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122800" y="3962520"/>
              <a:ext cx="2422440" cy="2211120"/>
            </a:xfrm>
            <a:custGeom>
              <a:avLst/>
              <a:gdLst/>
              <a:ahLst/>
              <a:rect l="l" t="t" r="r" b="b"/>
              <a:pathLst>
                <a:path w="1526" h="1393">
                  <a:moveTo>
                    <a:pt x="0" y="1392"/>
                  </a:moveTo>
                  <a:lnTo>
                    <a:pt x="0" y="0"/>
                  </a:lnTo>
                  <a:lnTo>
                    <a:pt x="1525" y="0"/>
                  </a:lnTo>
                  <a:lnTo>
                    <a:pt x="1525" y="1392"/>
                  </a:lnTo>
                  <a:lnTo>
                    <a:pt x="0" y="13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8088480" y="4552920"/>
              <a:ext cx="312480" cy="1368360"/>
              <a:chOff x="8088480" y="4552920"/>
              <a:chExt cx="312480" cy="1368360"/>
            </a:xfrm>
          </p:grpSpPr>
          <p:sp>
            <p:nvSpPr>
              <p:cNvPr id="299" name=""/>
              <p:cNvSpPr/>
              <p:nvPr/>
            </p:nvSpPr>
            <p:spPr>
              <a:xfrm>
                <a:off x="808848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22024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362800" y="5391000"/>
                <a:ext cx="38160" cy="5904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23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3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145360" y="4552920"/>
                <a:ext cx="228600" cy="24624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145360" y="4910040"/>
                <a:ext cx="228600" cy="247680"/>
              </a:xfrm>
              <a:custGeom>
                <a:avLst/>
                <a:gdLst/>
                <a:ahLst/>
                <a:rect l="l" t="t" r="r" b="b"/>
                <a:pathLst>
                  <a:path w="144" h="156">
                    <a:moveTo>
                      <a:pt x="0" y="155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5"/>
                    </a:lnTo>
                    <a:lnTo>
                      <a:pt x="0" y="155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145360" y="5675400"/>
                <a:ext cx="228600" cy="24588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5074920" y="616752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686040" y="62247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555600" y="5634000"/>
              <a:ext cx="784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39080" y="616752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33800" y="3738600"/>
              <a:ext cx="1283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oin 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01440" y="4300560"/>
              <a:ext cx="591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48240" y="4510080"/>
              <a:ext cx="36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56160" y="4716360"/>
              <a:ext cx="425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952240" y="51865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3422520" y="4197240"/>
              <a:ext cx="1073160" cy="2027160"/>
              <a:chOff x="3422520" y="4197240"/>
              <a:chExt cx="1073160" cy="2027160"/>
            </a:xfrm>
          </p:grpSpPr>
          <p:sp>
            <p:nvSpPr>
              <p:cNvPr id="315" name=""/>
              <p:cNvSpPr/>
              <p:nvPr/>
            </p:nvSpPr>
            <p:spPr>
              <a:xfrm>
                <a:off x="3436920" y="4197240"/>
                <a:ext cx="1052640" cy="139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43044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49568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22520" y="5983560"/>
                <a:ext cx="1064880" cy="24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852" swAng="108908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852" swAng="1089085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7842240" y="4273560"/>
              <a:ext cx="844560" cy="1875960"/>
              <a:chOff x="7842240" y="4273560"/>
              <a:chExt cx="844560" cy="1875960"/>
            </a:xfrm>
          </p:grpSpPr>
          <p:sp>
            <p:nvSpPr>
              <p:cNvPr id="320" name=""/>
              <p:cNvSpPr/>
              <p:nvPr/>
            </p:nvSpPr>
            <p:spPr>
              <a:xfrm>
                <a:off x="7854840" y="4273560"/>
                <a:ext cx="82548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84872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68680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842240" y="5924520"/>
                <a:ext cx="837720" cy="22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493"/>
                    </a:moveTo>
                    <a:arcTo wR="10800" hR="10800" stAng="-97869" swAng="109466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493"/>
                    </a:moveTo>
                    <a:arcTo wR="10800" hR="10800" stAng="-97869" swAng="1094662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4495680" y="5029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495680" y="55627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715000" y="5029200"/>
              <a:ext cx="306360" cy="458640"/>
            </a:xfrm>
            <a:custGeom>
              <a:avLst/>
              <a:gdLst/>
              <a:ahLst/>
              <a:rect l="l" t="t" r="r" b="b"/>
              <a:pathLst>
                <a:path w="193" h="289">
                  <a:moveTo>
                    <a:pt x="0" y="288"/>
                  </a:moveTo>
                  <a:lnTo>
                    <a:pt x="192" y="173"/>
                  </a:lnTo>
                  <a:lnTo>
                    <a:pt x="188" y="145"/>
                  </a:lnTo>
                  <a:lnTo>
                    <a:pt x="0" y="115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10280" y="5562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433680" y="328680"/>
            <a:ext cx="5726880" cy="2971800"/>
            <a:chOff x="3433680" y="328680"/>
            <a:chExt cx="5726880" cy="2971800"/>
          </a:xfrm>
        </p:grpSpPr>
        <p:sp>
          <p:nvSpPr>
            <p:cNvPr id="329" name=""/>
            <p:cNvSpPr/>
            <p:nvPr/>
          </p:nvSpPr>
          <p:spPr>
            <a:xfrm>
              <a:off x="4659120" y="290988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794720" y="29322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78120" y="293364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33680" y="328680"/>
              <a:ext cx="1070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igin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16480" y="63180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00100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15652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95680" y="609480"/>
              <a:ext cx="2671920" cy="228924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848120" y="1928880"/>
              <a:ext cx="335160" cy="26964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6600960" y="2120760"/>
              <a:ext cx="334800" cy="90720"/>
              <a:chOff x="6600960" y="2120760"/>
              <a:chExt cx="334800" cy="90720"/>
            </a:xfrm>
          </p:grpSpPr>
          <p:sp>
            <p:nvSpPr>
              <p:cNvPr id="339" name=""/>
              <p:cNvSpPr/>
              <p:nvPr/>
            </p:nvSpPr>
            <p:spPr>
              <a:xfrm>
                <a:off x="660096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74532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00840" y="2120760"/>
                <a:ext cx="34920" cy="907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7608960" y="125568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99480" y="1255680"/>
              <a:ext cx="249120" cy="2700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08960" y="1722600"/>
              <a:ext cx="250920" cy="26964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08840" y="1722600"/>
              <a:ext cx="24948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5808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209080" y="1722600"/>
              <a:ext cx="24912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587280" y="1444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08960" y="255744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53080" y="25146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614120" y="151452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587280" y="8967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87240" y="1760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491880" y="223056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55600" y="62064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610120" y="123192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600760" y="165564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568720" y="244800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3498840" y="996840"/>
              <a:ext cx="920880" cy="1952280"/>
              <a:chOff x="3498840" y="996840"/>
              <a:chExt cx="920880" cy="1952280"/>
            </a:xfrm>
          </p:grpSpPr>
          <p:sp>
            <p:nvSpPr>
              <p:cNvPr id="360" name=""/>
              <p:cNvSpPr/>
              <p:nvPr/>
            </p:nvSpPr>
            <p:spPr>
              <a:xfrm>
                <a:off x="3513240" y="996840"/>
                <a:ext cx="900000" cy="135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0676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41972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498840" y="2714760"/>
                <a:ext cx="91260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3816360" y="12254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16360" y="16826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16360" y="2444760"/>
              <a:ext cx="291960" cy="291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13320" y="187632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7537320" y="996840"/>
              <a:ext cx="1073160" cy="1974600"/>
              <a:chOff x="7537320" y="996840"/>
              <a:chExt cx="1073160" cy="1974600"/>
            </a:xfrm>
          </p:grpSpPr>
          <p:sp>
            <p:nvSpPr>
              <p:cNvPr id="369" name=""/>
              <p:cNvSpPr/>
              <p:nvPr/>
            </p:nvSpPr>
            <p:spPr>
              <a:xfrm>
                <a:off x="7551720" y="996840"/>
                <a:ext cx="1052640" cy="136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54524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61048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537320" y="2737080"/>
                <a:ext cx="106488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4419720" y="2057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6019920" y="144756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019920" y="1904760"/>
              <a:ext cx="5331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19920" y="205740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10280" y="13716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10280" y="18288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10280" y="266688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553080" y="167652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553080" y="11430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0" y="40384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B5C7-55F6-4114-838E-978048B46C6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 + 3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min(B(R), B(S)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C830-99A7-48D0-AF2F-FB1F8072836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Hash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S into k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keep first bucket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memory, k-1 buckets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R into k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bucket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joined immediately with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k-1 buckets go to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, join k-1 pairs of bucke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…,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93D8-1A33-4BB3-A87B-25AEBC3DD55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big should we choose k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bucket size for S is B(S)/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fit B(S)/k + (k-1) block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S)/k + (k-1) &lt;=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slightly smaller than B(S)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C3F8-6C3F-43D0-BC61-154683E50F9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I/O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: cost of partitioned hash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(R) + 3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save 2 disk operations for one bu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 there are k bu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we save 2/k(B(R) + B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(3-2/k)(B(R) + B(S))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(3-2M/B(S))(B(R) + B(S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9B81-FF6A-45F4-A422-2C8FFB5A406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81000" y="2251080"/>
            <a:ext cx="35625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price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99520" y="552780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4519440"/>
            <a:ext cx="32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sum(price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→p, count(*) →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71240" y="3452760"/>
            <a:ext cx="105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86280" y="2438280"/>
            <a:ext cx="100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0958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09588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09588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07920" y="407988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city,p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2FC1-600B-4868-B270-B4091AB344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d 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at in a clustered index all tuples with the same value of the key are clustered on as few blocks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book uses another term: “clustering index”.  Difference is min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2139120" y="3965760"/>
            <a:ext cx="4113000" cy="459720"/>
            <a:chOff x="2139120" y="3965760"/>
            <a:chExt cx="4113000" cy="459720"/>
          </a:xfrm>
        </p:grpSpPr>
        <p:sp>
          <p:nvSpPr>
            <p:cNvPr id="394" name=""/>
            <p:cNvSpPr/>
            <p:nvPr/>
          </p:nvSpPr>
          <p:spPr>
            <a:xfrm>
              <a:off x="2139120" y="3965760"/>
              <a:ext cx="11210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43200" y="3965760"/>
              <a:ext cx="116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190480" y="3965760"/>
              <a:ext cx="10616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45AC-D3D9-48A8-BDAA-32B95F8E954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on equality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index on a:  cost B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lustered index on a: cost T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B39B-A53A-47A9-B437-B08ECADB203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B(R) = 2000,  T(R) = 100,000, V(R, a) = 20, compute the cost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table sc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 is clustered: B(R) = 2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 is unclustered: T(R) = 100,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index based se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clustered: B(R)/V(R,a)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unclustered: T(R)/V(R,a) = 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ce: when V(R,a) is small, then unclustered index is us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10FD-E608-4707-9CE7-E7036280D6E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S has an index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e over R, for each tuple fetch corresponding tuple(s) from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R is clustered. 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clustered:  B(R) + T(R)B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unclustered: B(R) + T(R)T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03FE-6772-463A-A2EB-1B895E4CEA2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both R and S have a sorted index (B+ tree)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perform a merge join (called zig-zag jo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3B73-A4D7-4EA5-BD21-205D06A200E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5240" y="1295280"/>
            <a:ext cx="3734640" cy="179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city=‘seattle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200400"/>
            <a:ext cx="3292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uery Pl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choice at every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ing of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105080" y="1447920"/>
            <a:ext cx="5040720" cy="3802320"/>
            <a:chOff x="4105080" y="1447920"/>
            <a:chExt cx="5040720" cy="3802320"/>
          </a:xfrm>
        </p:grpSpPr>
        <p:sp>
          <p:nvSpPr>
            <p:cNvPr id="69" name=""/>
            <p:cNvSpPr/>
            <p:nvPr/>
          </p:nvSpPr>
          <p:spPr>
            <a:xfrm>
              <a:off x="5421240" y="1536840"/>
              <a:ext cx="144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508360" y="1536840"/>
              <a:ext cx="180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79840" y="1521000"/>
              <a:ext cx="174600" cy="1800"/>
            </a:xfrm>
            <a:custGeom>
              <a:avLst/>
              <a:gdLst/>
              <a:ahLst/>
              <a:rect l="l" t="t" r="r" b="b"/>
              <a:pathLst>
                <a:path w="110" h="1">
                  <a:moveTo>
                    <a:pt x="0" y="0"/>
                  </a:moveTo>
                  <a:lnTo>
                    <a:pt x="10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5538600" y="3534120"/>
              <a:ext cx="349200" cy="123840"/>
              <a:chOff x="5538600" y="3534120"/>
              <a:chExt cx="349200" cy="123840"/>
            </a:xfrm>
          </p:grpSpPr>
          <p:sp>
            <p:nvSpPr>
              <p:cNvPr id="73" name=""/>
              <p:cNvSpPr/>
              <p:nvPr/>
            </p:nvSpPr>
            <p:spPr>
              <a:xfrm>
                <a:off x="5538600" y="353412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886360" y="353412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38600" y="353412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0"/>
                    </a:moveTo>
                    <a:lnTo>
                      <a:pt x="219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538600" y="353412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77"/>
                    </a:moveTo>
                    <a:lnTo>
                      <a:pt x="219" y="0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4943160" y="4045320"/>
              <a:ext cx="669960" cy="357120"/>
            </a:xfrm>
            <a:custGeom>
              <a:avLst/>
              <a:gdLst/>
              <a:ahLst/>
              <a:rect l="l" t="t" r="r" b="b"/>
              <a:pathLst>
                <a:path w="422" h="225">
                  <a:moveTo>
                    <a:pt x="0" y="224"/>
                  </a:moveTo>
                  <a:lnTo>
                    <a:pt x="421" y="0"/>
                  </a:lnTo>
                  <a:lnTo>
                    <a:pt x="0" y="2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859360" y="4045320"/>
              <a:ext cx="684000" cy="357120"/>
            </a:xfrm>
            <a:custGeom>
              <a:avLst/>
              <a:gdLst/>
              <a:ahLst/>
              <a:rect l="l" t="t" r="r" b="b"/>
              <a:pathLst>
                <a:path w="431" h="225">
                  <a:moveTo>
                    <a:pt x="0" y="0"/>
                  </a:moveTo>
                  <a:lnTo>
                    <a:pt x="430" y="2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15000" y="2821320"/>
              <a:ext cx="1440" cy="560160"/>
            </a:xfrm>
            <a:custGeom>
              <a:avLst/>
              <a:gdLst/>
              <a:ahLst/>
              <a:rect l="l" t="t" r="r" b="b"/>
              <a:pathLst>
                <a:path w="1" h="353">
                  <a:moveTo>
                    <a:pt x="0" y="0"/>
                  </a:moveTo>
                  <a:lnTo>
                    <a:pt x="0" y="3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15000" y="1894320"/>
              <a:ext cx="1440" cy="51264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0360" y="2534040"/>
              <a:ext cx="87480" cy="15876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0" y="99"/>
                  </a:moveTo>
                  <a:lnTo>
                    <a:pt x="54" y="0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6040" y="2546640"/>
              <a:ext cx="76320" cy="14616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0" y="0"/>
                  </a:moveTo>
                  <a:lnTo>
                    <a:pt x="47" y="9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385520" y="4484880"/>
              <a:ext cx="11602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urchas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171120" y="4469040"/>
              <a:ext cx="9194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68520" y="3738960"/>
              <a:ext cx="1257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yer=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57160" y="2514960"/>
              <a:ext cx="1291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ty=‘seattle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52080" y="2514960"/>
              <a:ext cx="171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ne&gt;’5430000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73800" y="1605240"/>
              <a:ext cx="669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16800" y="3738960"/>
              <a:ext cx="2529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(Simple Nested Loop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02280" y="2454480"/>
              <a:ext cx="1843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70600" y="1447920"/>
              <a:ext cx="1839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11360" y="22100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05080" y="488196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Table s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10200" y="488196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Index s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16040" y="5486400"/>
            <a:ext cx="48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ome operators are from rel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lgebra, and others (e.g., sc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re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A0CB-E256-47F8-B9B5-900DB7A4E0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 of a Database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13320" y="2208960"/>
            <a:ext cx="17301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75920" y="3066480"/>
            <a:ext cx="26049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Logic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5520" y="3923640"/>
            <a:ext cx="270684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hysic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26040" y="4780800"/>
            <a:ext cx="23061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98960" y="5638680"/>
            <a:ext cx="762120" cy="914400"/>
          </a:xfrm>
          <a:prstGeom prst="can">
            <a:avLst>
              <a:gd name="adj" fmla="val 359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97" idx="2"/>
            <a:endCxn id="98" idx="0"/>
          </p:cNvCxnSpPr>
          <p:nvPr/>
        </p:nvCxnSpPr>
        <p:spPr>
          <a:xfrm>
            <a:off x="4478040" y="2717280"/>
            <a:ext cx="1080" cy="35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8" idx="2"/>
            <a:endCxn id="99" idx="0"/>
          </p:cNvCxnSpPr>
          <p:nvPr/>
        </p:nvCxnSpPr>
        <p:spPr>
          <a:xfrm>
            <a:off x="4478400" y="3575160"/>
            <a:ext cx="21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9" idx="2"/>
            <a:endCxn id="100" idx="0"/>
          </p:cNvCxnSpPr>
          <p:nvPr/>
        </p:nvCxnSpPr>
        <p:spPr>
          <a:xfrm>
            <a:off x="4479480" y="4432320"/>
            <a:ext cx="10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0" idx="2"/>
            <a:endCxn id="101" idx="1"/>
          </p:cNvCxnSpPr>
          <p:nvPr/>
        </p:nvCxnSpPr>
        <p:spPr>
          <a:xfrm>
            <a:off x="4479480" y="5289480"/>
            <a:ext cx="10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3716640" y="144792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6" idx="2"/>
            <a:endCxn id="97" idx="0"/>
          </p:cNvCxnSpPr>
          <p:nvPr/>
        </p:nvCxnSpPr>
        <p:spPr>
          <a:xfrm flipH="1">
            <a:off x="4478040" y="1905120"/>
            <a:ext cx="21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2666880" y="2971800"/>
            <a:ext cx="533520" cy="15238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2360" y="3241800"/>
            <a:ext cx="17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26920" y="2725200"/>
            <a:ext cx="1581480" cy="1172520"/>
          </a:xfrm>
          <a:prstGeom prst="wedgeEllipseCallout">
            <a:avLst>
              <a:gd name="adj1" fmla="val -157805"/>
              <a:gd name="adj2" fmla="val 36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57080" y="4096800"/>
            <a:ext cx="1726560" cy="1172520"/>
          </a:xfrm>
          <a:prstGeom prst="wedgeEllipseCallout">
            <a:avLst>
              <a:gd name="adj1" fmla="val -156939"/>
              <a:gd name="adj2" fmla="val -5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A30E-DD43-48F3-BFCB-882F5E84EA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opera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(pname, cname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Company(cname, 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pose three physical operators for the join, assuming the tables are in main memo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683A-FE6B-4DFA-8253-22793A2AE1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(pname, cnam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Company(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00000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00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time do the following physical operators take if the data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main 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ested loop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ort and merge = merge-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ash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3DB0-7A79-4F1D-891B-426BE38127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database systems the data is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t in ma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n operation = total number of I/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 = number of blocks for relation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= number of tuples in relation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, a) = number of distinct values of attribut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A2FA-E305-418E-8E1E-A54B444059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mgubanov</cp:lastModifiedBy>
  <dcterms:modified xsi:type="dcterms:W3CDTF">2003-11-17T05:30:56Z</dcterms:modified>
  <cp:revision>300</cp:revision>
  <dc:subject/>
  <dc:title>Lecture 09:</dc:title>
</cp:coreProperties>
</file>