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A17D-A4E4-43DB-B66B-3B129457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0FA1-9C4C-4C3B-874F-F9F3B40D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DFB4-E8D0-4CE4-9655-604C9786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3A9E-6B99-4CAD-B715-2DC839FD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265C-FCF8-4323-AA39-69A55AD8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3AE7-C968-46C8-9305-BCE537BB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BEAB-94E8-4C72-A378-B1BF7D99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9F9C-4B98-45F2-800C-7A6E455C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497A-282B-4DCD-86B1-42C82BA8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D16-F589-4429-AC90-5C667579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E43F-4648-4922-91E1-32DC91C8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3997-87CB-4316-9926-02666C23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3A64-D0AC-4F64-B16D-CF68A0029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11/14/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E257-8E53-4A2A-9525-76105F11D0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582480"/>
            <a:ext cx="8077320" cy="5589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6600" y="3800520"/>
            <a:ext cx="73983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nd all employees with salary more than $40,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Salary &gt; 40000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6C33-DEAF-4024-A964-C6CBAF3C3A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columns, then removes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project social-security number and na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SN, Na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chema: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(SSN, 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A741-8250-42CA-838B-A500CFD4F2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584280"/>
            <a:ext cx="7391520" cy="5306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96240" y="3429000"/>
            <a:ext cx="33678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SN, Na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77F9-14CB-4B68-A22D-2B0660C348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Cartesian Pro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uple in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each tuple in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epen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rare in practice; mainly used to express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72AC-86BE-433D-8987-19BC86C002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74840" y="274680"/>
            <a:ext cx="6357960" cy="62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6A2-18E2-4C7A-9C86-8153215798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he schema, not the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1,…,B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LastName, SocSocN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chema: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(LastName, SocSoc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C5F6-2523-4387-B650-16B0E7EB21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am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9400" y="194616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9400" y="231768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06080" y="231768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22874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24360" y="22874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6680" y="22874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0480" y="26719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05000" y="26719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265284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24360" y="26528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35520" y="265284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0120" y="30160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05000" y="30160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335268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24360" y="33526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46680" y="335268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0960" y="5060880"/>
            <a:ext cx="125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57640" y="5060880"/>
            <a:ext cx="128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Soc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503064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76640" y="50306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98960" y="503064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2760" y="541512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57280" y="541512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396040"/>
            <a:ext cx="33145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76640" y="539604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87800" y="5396040"/>
            <a:ext cx="330372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2760" y="57592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57280" y="57592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6095880"/>
            <a:ext cx="33145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76640" y="609588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98960" y="6095880"/>
            <a:ext cx="329256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3505320"/>
            <a:ext cx="74674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Symbol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astName, SocSocN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mploye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A90C-1A86-43C6-9CEB-1E8C864E81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aning: 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⋈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selec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hecks equality of all commo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projection eliminates the duplicate commo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72F5-123C-4DF6-996E-A5330DD67B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543960" y="4191120"/>
            <a:ext cx="7895520" cy="782280"/>
            <a:chOff x="543960" y="4191120"/>
            <a:chExt cx="7895520" cy="782280"/>
          </a:xfrm>
        </p:grpSpPr>
        <p:sp>
          <p:nvSpPr>
            <p:cNvPr id="108" name=""/>
            <p:cNvSpPr/>
            <p:nvPr/>
          </p:nvSpPr>
          <p:spPr>
            <a:xfrm>
              <a:off x="543960" y="4191120"/>
              <a:ext cx="789552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mployee         Dependents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ame, SSN, Dnam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=SSN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Employee x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SN2, Dnam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Dependents)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1848600" y="4247280"/>
              <a:ext cx="193680" cy="38556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222560" y="407880"/>
            <a:ext cx="288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 Join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62440" y="878040"/>
            <a:ext cx="128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62440" y="124920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79120" y="12492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82520" y="121932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97400" y="121932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121932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63520" y="160344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78040" y="160344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82520" y="1584360"/>
            <a:ext cx="331488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97400" y="1584360"/>
            <a:ext cx="111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08560" y="1584360"/>
            <a:ext cx="3303360" cy="11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63160" y="194796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78040" y="1947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82520" y="2284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97400" y="2284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2284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63880" y="2654280"/>
            <a:ext cx="152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64600" y="302580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77320" y="302580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82520" y="2995560"/>
            <a:ext cx="331488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97400" y="299556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2995560"/>
            <a:ext cx="329220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63160" y="33796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6240" y="337968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82520" y="3363840"/>
            <a:ext cx="331488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97400" y="336384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08560" y="3363840"/>
            <a:ext cx="33033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63160" y="372420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78040" y="372420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82520" y="4062240"/>
            <a:ext cx="331488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97400" y="4062240"/>
            <a:ext cx="2232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4062240"/>
            <a:ext cx="3292200" cy="2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82320" y="5022720"/>
            <a:ext cx="72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48880" y="5022720"/>
            <a:ext cx="55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67800" y="502272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499284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05240" y="499284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25760" y="499284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87880" y="499284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10200" y="499284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84840" y="537696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48160" y="537696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29360" y="5376960"/>
            <a:ext cx="74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5359320"/>
            <a:ext cx="13622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5240" y="5359320"/>
            <a:ext cx="1080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16040" y="5359320"/>
            <a:ext cx="167184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87880" y="5359320"/>
            <a:ext cx="1116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9040" y="5359320"/>
            <a:ext cx="1647720" cy="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87720" y="57214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48160" y="5721480"/>
            <a:ext cx="137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77777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29360" y="5721480"/>
            <a:ext cx="40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6058080"/>
            <a:ext cx="136224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5240" y="6058080"/>
            <a:ext cx="205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25760" y="6058080"/>
            <a:ext cx="16621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87880" y="6058080"/>
            <a:ext cx="2232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10200" y="6058080"/>
            <a:ext cx="1636560" cy="2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B343-15EF-48B5-A92E-7B209E9D92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=                               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752480" y="2133720"/>
          <a:ext cx="2514600" cy="182556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410080" y="2133720"/>
          <a:ext cx="2514600" cy="1460520"/>
        </p:xfrm>
        <a:graphic>
          <a:graphicData uri="http://schemas.openxmlformats.org/drawingml/2006/table">
            <a:tbl>
              <a:tblPr/>
              <a:tblGrid>
                <a:gridCol w="1257480"/>
                <a:gridCol w="1257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2590920" y="4191120"/>
          <a:ext cx="4495680" cy="2371680"/>
        </p:xfrm>
        <a:graphic>
          <a:graphicData uri="http://schemas.openxmlformats.org/drawingml/2006/table">
            <a:tbl>
              <a:tblPr/>
              <a:tblGrid>
                <a:gridCol w="1498320"/>
                <a:gridCol w="1498680"/>
                <a:gridCol w="14986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E26-0B53-4AD2-B5D4-E053B75543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Algebra: 5.2, 5.3, 5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ssign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ble hash tables: 13.4.5, 13.4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hash tables: 13.4.7, 13.4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75E-703D-4EC1-BDD7-31619D4A58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he schemas R(A, B, C, D), S(A, C, E), what is the schema of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, C),  S(D, E), what is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R(A, B),  S(A, B),  what is 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4544-791A-4545-BBE5-1F3C70EBC5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ta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oin that involves a 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  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any condition: =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C843-B6B2-44BB-9E69-C006C733A8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heta join 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=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=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SN=SS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epen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useful join in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1D09-14C2-4B4C-A34F-195F8C770E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he attributes in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epen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12B8-9135-4BCD-95B2-7B8C6FB269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joins in Distributed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joins are used in distributed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219320" y="3581280"/>
          <a:ext cx="1904760" cy="73008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181480" y="3200400"/>
          <a:ext cx="2857680" cy="7300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838080" y="2743200"/>
            <a:ext cx="266724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2590920"/>
            <a:ext cx="3886200" cy="1904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4" idx="6"/>
            <a:endCxn id="185" idx="2"/>
          </p:cNvCxnSpPr>
          <p:nvPr/>
        </p:nvCxnSpPr>
        <p:spPr>
          <a:xfrm flipV="1">
            <a:off x="3505320" y="3542760"/>
            <a:ext cx="1296000" cy="22932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1279440" y="293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28480" y="2556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95120" y="377496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36560" y="4876920"/>
            <a:ext cx="6720120" cy="6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sn=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ts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53680" y="5638680"/>
            <a:ext cx="39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ge&gt;7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68400" y="591192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Employ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⋉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98320" y="6267600"/>
            <a:ext cx="3457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=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657600" y="586728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624852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2344-6AB8-4A11-8547-1C42B60ACC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RA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         Purchase          Person         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98520" y="5029200"/>
            <a:ext cx="1647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=f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17320" y="5029200"/>
            <a:ext cx="1857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=giz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0496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22800" y="4267080"/>
            <a:ext cx="90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809880" y="3581280"/>
            <a:ext cx="1707120" cy="461160"/>
            <a:chOff x="3809880" y="3581280"/>
            <a:chExt cx="1707120" cy="461160"/>
          </a:xfrm>
        </p:grpSpPr>
        <p:sp>
          <p:nvSpPr>
            <p:cNvPr id="203" name=""/>
            <p:cNvSpPr/>
            <p:nvPr/>
          </p:nvSpPr>
          <p:spPr>
            <a:xfrm rot="16200000">
              <a:off x="3906000" y="348516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4720" y="3705120"/>
              <a:ext cx="13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ll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019920" y="2743200"/>
            <a:ext cx="1198080" cy="461160"/>
            <a:chOff x="6019920" y="2743200"/>
            <a:chExt cx="1198080" cy="461160"/>
          </a:xfrm>
        </p:grpSpPr>
        <p:sp>
          <p:nvSpPr>
            <p:cNvPr id="206" name=""/>
            <p:cNvSpPr/>
            <p:nvPr/>
          </p:nvSpPr>
          <p:spPr>
            <a:xfrm rot="16200000">
              <a:off x="6115680" y="2647080"/>
              <a:ext cx="193680" cy="38556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01880" y="2867040"/>
              <a:ext cx="81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id=p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352680" y="2057400"/>
            <a:ext cx="1729800" cy="461160"/>
            <a:chOff x="3352680" y="2057400"/>
            <a:chExt cx="1729800" cy="461160"/>
          </a:xfrm>
        </p:grpSpPr>
        <p:sp>
          <p:nvSpPr>
            <p:cNvPr id="209" name=""/>
            <p:cNvSpPr/>
            <p:nvPr/>
          </p:nvSpPr>
          <p:spPr>
            <a:xfrm rot="16200000">
              <a:off x="3448800" y="1961280"/>
              <a:ext cx="193680" cy="3859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35720" y="2181240"/>
              <a:ext cx="134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uyer-ssn=ss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309480" y="1066680"/>
            <a:ext cx="111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5627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6201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5627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620120" y="4952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505320" y="4038480"/>
            <a:ext cx="53316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4038120" y="40381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038480" y="30481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6324480" y="30481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3733920" y="251424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600200" y="2514240"/>
            <a:ext cx="167652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5053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CD7D-5739-43E3-9202-AE521CC7F7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on B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set with repeated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Engines work on bags, not set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perations need to be defined carefully on b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a,b,b,c}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a,b,b,b,e,f,f}={a,a,b,b,b,b,b,c,e,f,f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a,b,b,b,c,c} – {b,c,c,c,d} = {a,b,b,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: preserve the number of occur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: no duplicate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tesian product, join: no duplicate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7315-64A5-4F23-8B70-A3C3189F814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Operators in the Bag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, intersection,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1981080"/>
            <a:ext cx="1828800" cy="2286000"/>
          </a:xfrm>
          <a:custGeom>
            <a:avLst/>
            <a:gdLst>
              <a:gd name="textAreaLeft" fmla="*/ 0 w 1828800"/>
              <a:gd name="textAreaRight" fmla="*/ 660240 w 1828800"/>
              <a:gd name="textAreaTop" fmla="*/ 47880 h 2286000"/>
              <a:gd name="textAreaBottom" fmla="*/ 223812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8"/>
                  <a:pt x="10800" y="1455"/>
                </a:cubicBezTo>
                <a:lnTo>
                  <a:pt x="10800" y="9345"/>
                </a:lnTo>
                <a:cubicBezTo>
                  <a:pt x="10800" y="10073"/>
                  <a:pt x="16200" y="10800"/>
                  <a:pt x="21600" y="10800"/>
                </a:cubicBezTo>
                <a:cubicBezTo>
                  <a:pt x="16200" y="10800"/>
                  <a:pt x="10800" y="11528"/>
                  <a:pt x="10800" y="12255"/>
                </a:cubicBezTo>
                <a:lnTo>
                  <a:pt x="10800" y="20145"/>
                </a:lnTo>
                <a:cubicBezTo>
                  <a:pt x="10800" y="2087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(on ba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FC0-2DDD-4AAC-83E7-46DCFBCFEBB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81000" y="2251080"/>
            <a:ext cx="35625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m(price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99520" y="55278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4519440"/>
            <a:ext cx="32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sum(price)→p, count(*) →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71240" y="345276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86280" y="2438280"/>
            <a:ext cx="100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ty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0958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0958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09588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07920" y="407988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city,p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871A-DEC4-489B-AD70-D52DBD32045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5240" y="1295280"/>
            <a:ext cx="3734640" cy="179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S.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urchase P, Perso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.buyer=Q.nam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seattle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phone &gt; ‘5430000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00400"/>
            <a:ext cx="3292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ery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choice at every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ing of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105080" y="1447920"/>
            <a:ext cx="5040720" cy="3802320"/>
            <a:chOff x="4105080" y="1447920"/>
            <a:chExt cx="5040720" cy="3802320"/>
          </a:xfrm>
        </p:grpSpPr>
        <p:sp>
          <p:nvSpPr>
            <p:cNvPr id="242" name=""/>
            <p:cNvSpPr/>
            <p:nvPr/>
          </p:nvSpPr>
          <p:spPr>
            <a:xfrm>
              <a:off x="5421240" y="1536840"/>
              <a:ext cx="144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08360" y="1536840"/>
              <a:ext cx="180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79840" y="1521000"/>
              <a:ext cx="174600" cy="1800"/>
            </a:xfrm>
            <a:custGeom>
              <a:avLst/>
              <a:gdLst/>
              <a:ahLst/>
              <a:rect l="l" t="t" r="r" b="b"/>
              <a:pathLst>
                <a:path w="110" h="1">
                  <a:moveTo>
                    <a:pt x="0" y="0"/>
                  </a:moveTo>
                  <a:lnTo>
                    <a:pt x="10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5538600" y="3534120"/>
              <a:ext cx="349200" cy="123840"/>
              <a:chOff x="5538600" y="3534120"/>
              <a:chExt cx="349200" cy="123840"/>
            </a:xfrm>
          </p:grpSpPr>
          <p:sp>
            <p:nvSpPr>
              <p:cNvPr id="246" name=""/>
              <p:cNvSpPr/>
              <p:nvPr/>
            </p:nvSpPr>
            <p:spPr>
              <a:xfrm>
                <a:off x="5538600" y="353412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886360" y="3534120"/>
                <a:ext cx="1440" cy="123840"/>
              </a:xfrm>
              <a:custGeom>
                <a:avLst/>
                <a:gdLst/>
                <a:ahLst/>
                <a:rect l="l" t="t" r="r" b="b"/>
                <a:pathLst>
                  <a:path w="1" h="78">
                    <a:moveTo>
                      <a:pt x="0" y="0"/>
                    </a:moveTo>
                    <a:lnTo>
                      <a:pt x="0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538600" y="353412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0"/>
                    </a:moveTo>
                    <a:lnTo>
                      <a:pt x="219" y="7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538600" y="353412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0" y="77"/>
                    </a:moveTo>
                    <a:lnTo>
                      <a:pt x="219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943160" y="4045320"/>
              <a:ext cx="669960" cy="357120"/>
            </a:xfrm>
            <a:custGeom>
              <a:avLst/>
              <a:gdLst/>
              <a:ahLst/>
              <a:rect l="l" t="t" r="r" b="b"/>
              <a:pathLst>
                <a:path w="422" h="225">
                  <a:moveTo>
                    <a:pt x="0" y="224"/>
                  </a:moveTo>
                  <a:lnTo>
                    <a:pt x="421" y="0"/>
                  </a:lnTo>
                  <a:lnTo>
                    <a:pt x="0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59360" y="4045320"/>
              <a:ext cx="684000" cy="357120"/>
            </a:xfrm>
            <a:custGeom>
              <a:avLst/>
              <a:gdLst/>
              <a:ahLst/>
              <a:rect l="l" t="t" r="r" b="b"/>
              <a:pathLst>
                <a:path w="431" h="225">
                  <a:moveTo>
                    <a:pt x="0" y="0"/>
                  </a:moveTo>
                  <a:lnTo>
                    <a:pt x="430" y="2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5000" y="2821320"/>
              <a:ext cx="1440" cy="560160"/>
            </a:xfrm>
            <a:custGeom>
              <a:avLst/>
              <a:gdLst/>
              <a:ahLst/>
              <a:rect l="l" t="t" r="r" b="b"/>
              <a:pathLst>
                <a:path w="1" h="353">
                  <a:moveTo>
                    <a:pt x="0" y="0"/>
                  </a:moveTo>
                  <a:lnTo>
                    <a:pt x="0" y="3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15000" y="1894320"/>
              <a:ext cx="144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70360" y="2534040"/>
              <a:ext cx="87480" cy="15876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0" y="99"/>
                  </a:moveTo>
                  <a:lnTo>
                    <a:pt x="54" y="0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56040" y="2546640"/>
              <a:ext cx="76320" cy="14616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0" y="0"/>
                  </a:moveTo>
                  <a:lnTo>
                    <a:pt x="47" y="9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85520" y="4484880"/>
              <a:ext cx="11602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urcha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71120" y="4469040"/>
              <a:ext cx="9194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68520" y="3738960"/>
              <a:ext cx="1257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yer=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57160" y="2514960"/>
              <a:ext cx="1291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ty=‘seattle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52080" y="2514960"/>
              <a:ext cx="171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ne&gt;’5430000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73800" y="1605240"/>
              <a:ext cx="66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16800" y="3738960"/>
              <a:ext cx="2529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(Simple Nested Loop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02280" y="2454480"/>
              <a:ext cx="1843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70600" y="1447920"/>
              <a:ext cx="1839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11360" y="22100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05080" y="48819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Table s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10200" y="488196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Index sc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416040" y="548640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ome operators are from 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lgebra, and others (e.g., sc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re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22A6-E649-4C17-8668-3059DD63F8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al Data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nted by Ted Codd, circa 19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= mathematical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ies = mathematical formulas (“abstract SQL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gant, c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practica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B1F-1CF9-4CD9-A59B-7EC4F41F6E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of a Database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13320" y="2208960"/>
            <a:ext cx="1730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75920" y="3066480"/>
            <a:ext cx="26049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Log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5520" y="3923640"/>
            <a:ext cx="270684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hys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26040" y="4780800"/>
            <a:ext cx="2306160" cy="50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98960" y="5638680"/>
            <a:ext cx="762120" cy="914400"/>
          </a:xfrm>
          <a:prstGeom prst="can">
            <a:avLst>
              <a:gd name="adj" fmla="val 35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0" idx="2"/>
            <a:endCxn id="271" idx="0"/>
          </p:cNvCxnSpPr>
          <p:nvPr/>
        </p:nvCxnSpPr>
        <p:spPr>
          <a:xfrm>
            <a:off x="4478040" y="2717280"/>
            <a:ext cx="1080" cy="35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1" idx="2"/>
            <a:endCxn id="272" idx="0"/>
          </p:cNvCxnSpPr>
          <p:nvPr/>
        </p:nvCxnSpPr>
        <p:spPr>
          <a:xfrm>
            <a:off x="4478400" y="3575160"/>
            <a:ext cx="21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2"/>
            <a:endCxn id="273" idx="0"/>
          </p:cNvCxnSpPr>
          <p:nvPr/>
        </p:nvCxnSpPr>
        <p:spPr>
          <a:xfrm>
            <a:off x="4479480" y="4432320"/>
            <a:ext cx="10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3" idx="2"/>
            <a:endCxn id="274" idx="1"/>
          </p:cNvCxnSpPr>
          <p:nvPr/>
        </p:nvCxnSpPr>
        <p:spPr>
          <a:xfrm>
            <a:off x="4479480" y="5289480"/>
            <a:ext cx="10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3716640" y="144792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9" idx="2"/>
            <a:endCxn id="270" idx="0"/>
          </p:cNvCxnSpPr>
          <p:nvPr/>
        </p:nvCxnSpPr>
        <p:spPr>
          <a:xfrm flipH="1">
            <a:off x="4478040" y="1905120"/>
            <a:ext cx="21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2666880" y="2971800"/>
            <a:ext cx="533520" cy="1523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72360" y="3241800"/>
            <a:ext cx="17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126920" y="2725200"/>
            <a:ext cx="1581480" cy="1172520"/>
          </a:xfrm>
          <a:prstGeom prst="wedgeEllipseCallout">
            <a:avLst>
              <a:gd name="adj1" fmla="val -157805"/>
              <a:gd name="adj2" fmla="val 36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57080" y="4096800"/>
            <a:ext cx="1726560" cy="1172520"/>
          </a:xfrm>
          <a:prstGeom prst="wedgeEllipseCallout">
            <a:avLst>
              <a:gd name="adj1" fmla="val -156939"/>
              <a:gd name="adj2" fmla="val -5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1F75-5370-4C76-906F-34DDA1CE815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opera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(pname, cname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Company(cname, 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pose three physical operators for the join, assuming the tables are in main memo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DE0-E42A-43E2-AB56-01D42CB4A49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(pname, cnam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Company(cname, 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000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00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time do the following physical operators take if the data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main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ested loop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ort and merge = merge-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ash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DC6B-544E-4E48-B20F-FAEE16A1EAE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atabase systems the data is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t in ma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n operation = total number of I/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number of blocks for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number of tuples in relation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number of distinct values of attribut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EED6-44D0-4AB2-8E3D-406850D420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consists only of records from this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R) / block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records are placed on blocks with other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(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a key, V(R,a) = T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is not a key, V(R,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8E97-9793-4B08-85CF-622B2DDFABF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an operation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disk I/Os needed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the oper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th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writing the result to disk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inclu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the following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cost of sorting a table with B block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A33B-63BC-41E0-91A6-14DB68504D8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ing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bl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uste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-scan: if we know where the block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scan: if we have a sparse index to find the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bl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cluste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eed one read for each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5B5C-82FA-4626-A08A-EB212814461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While Sc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useful to have the output s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ways to scan it sor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is a primary or secondary index on it, use it during s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fits in memory, sort 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, use multi-way merge 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546E-D789-400E-9344-90AAEFA8CEF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the Scan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ed re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sc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orted:  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ed:    3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orted: 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ed: B(R) or 3B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lustered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orted: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d: T(R) + 2B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CDA3-9AEB-43EC-8F17-90E125E261B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of the art in databases in 1970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BOL/CODASYL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= a file of records, with po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queries, only pointer navi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hard to write queries/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64A5-ED67-4BB0-ADAC-35CC4B8F0E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relational model to prove itself it needed to show how to implement mathematical “queries” efficientl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id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diate language = relational alg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implementation of each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roof of concept: System R  (197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AADD-C453-48A1-88BF-A71D0C9ADE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es on relations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: we discuss how to extend thi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esian Produc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or auxili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, co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s (natural,equi-join, theta join, semi-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6F0E-A35C-4921-9EE4-0BB247EC37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Union and 2. Dif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Employee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Employees –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2B5C-725D-4392-9BF1-47A8520FD6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Intersec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derived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(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expressed as a join (will see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onizedEmployee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tired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6FE0-2DC7-446A-9FA1-B717456AC5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all tuples which satisfy a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Salary &gt; 400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ame = “Smithh”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mploy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dition c can be =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&g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&lt;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8A77-27C7-401C-9D6E-4621F4D1E0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2T01:38:40Z</dcterms:created>
  <dc:creator>uw</dc:creator>
  <dc:description/>
  <dc:language>en-US</dc:language>
  <cp:lastModifiedBy>mgubanov</cp:lastModifiedBy>
  <dcterms:modified xsi:type="dcterms:W3CDTF">2003-11-14T03:45:36Z</dcterms:modified>
  <cp:revision>44</cp:revision>
  <dc:subject/>
  <dc:title>Relational Algebra</dc:title>
</cp:coreProperties>
</file>