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75ED1A-2319-4D33-83AC-A74079164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184987-0A8A-48C7-BC22-5C716492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E9F-C654-4A2C-A5AA-4F44F261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84E-8D0E-4BEA-8D24-70F4CDE0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71F-5BA0-477E-BAC7-024E8D9D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9EB-BCAB-4069-B41C-9B370BE0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199-9F9A-4D82-A8A9-E047388B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454-1442-4E11-90D1-83757C90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DB7-F5E9-4F2B-A33C-75454D2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3B6-E900-40E7-B90C-DB31E43B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731-75C9-446F-A6CD-A3C728F3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F82-8052-4A8F-9552-B2CD27D9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E3D-00D9-478B-B3B9-398F76E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AA1-F4EA-4D68-826A-7624F86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C392-DA60-4726-A5F0-B199887EC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-trees and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12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D02-4353-4CEA-AF7B-DEC217F1AA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8920" y="16416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K=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7ED-3430-4539-9605-5C96747AC1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840" y="17175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033-5D0E-4B5E-9271-BA3C64C71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1040" y="1565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nsert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DBB-E7BE-4E6C-955D-CE869F7ACE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8520" y="1565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0BA-4E6C-40AC-90A9-0D888BC3B9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438280" y="4572000"/>
          <a:ext cx="192420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9200"/>
                <a:gridCol w="169200"/>
                <a:gridCol w="204120"/>
                <a:gridCol w="169200"/>
                <a:gridCol w="169200"/>
                <a:gridCol w="166680"/>
                <a:gridCol w="16668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5720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6324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36576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3657600"/>
            <a:ext cx="1218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5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3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152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296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6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44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7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1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51460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4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638320" y="5105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17184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70572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2464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8880" y="156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have to spl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724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5105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085-99FC-442D-A695-9FC60E78C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8160" y="1565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A6C-D8D7-4D86-BD0F-9C7AB8AAB2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249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19520" y="5105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35232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9960" y="1565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5105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9A9-A05F-4790-901E-D2EA827D6E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844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160"/>
                <a:gridCol w="164160"/>
                <a:gridCol w="16416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8520" y="1565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2280" y="2133720"/>
            <a:ext cx="2210040" cy="761760"/>
          </a:xfrm>
          <a:prstGeom prst="wedgeEllipseCallout">
            <a:avLst>
              <a:gd name="adj1" fmla="val 45689"/>
              <a:gd name="adj2" fmla="val 79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change to 40,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CA7-5955-4A42-A6F6-13DE92D311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677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3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E94-D50E-41FB-A663-1E6AFD7A67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8880"/>
                <a:gridCol w="216000"/>
                <a:gridCol w="181800"/>
                <a:gridCol w="181800"/>
                <a:gridCol w="219240"/>
                <a:gridCol w="181800"/>
                <a:gridCol w="181800"/>
                <a:gridCol w="21888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9810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9528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8520" y="1565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re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3886200"/>
            <a:ext cx="1062000" cy="685800"/>
          </a:xfrm>
          <a:custGeom>
            <a:avLst/>
            <a:gdLst>
              <a:gd name="textAreaLeft" fmla="*/ 194400 w 1062000"/>
              <a:gd name="textAreaRight" fmla="*/ 7304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6" hR="21600" stAng="10800000" swAng="5400000"/>
                <a:lnTo>
                  <a:pt x="10900" y="0"/>
                </a:lnTo>
                <a:arcTo wR="7906" hR="21600" stAng="-5400000" swAng="2321647"/>
                <a:lnTo>
                  <a:pt x="20885" y="12623"/>
                </a:lnTo>
                <a:lnTo>
                  <a:pt x="17308" y="21600"/>
                </a:lnTo>
                <a:lnTo>
                  <a:pt x="12301" y="12623"/>
                </a:lnTo>
                <a:lnTo>
                  <a:pt x="15096" y="12623"/>
                </a:lnTo>
                <a:arcTo wR="7906" hR="21600" stAng="-3078353" swAng="-2079404"/>
                <a:lnTo>
                  <a:pt x="9403" y="391"/>
                </a:lnTo>
                <a:arcTo wR="7906" hR="21600" stAng="-5642243" swAng="-5157757"/>
                <a:close/>
              </a:path>
              <a:path fill="darkenLess" w="21600" h="21600">
                <a:moveTo>
                  <a:pt x="0" y="21600"/>
                </a:moveTo>
                <a:arcTo wR="7906" hR="21600" stAng="10800000" swAng="5400000"/>
                <a:lnTo>
                  <a:pt x="7906" y="0"/>
                </a:lnTo>
                <a:arcTo wR="7906" hR="21600" stAng="-5400000" swAng="242243"/>
                <a:lnTo>
                  <a:pt x="9403" y="391"/>
                </a:lnTo>
                <a:arcTo wR="7906" hR="21600" stAng="-5642243" swAng="-51577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7EF-BBF9-4CCC-8AB0-6028352DA2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(13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 (13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171-EA1A-41E2-BAA7-FB663BC96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82120" y="5947200"/>
            <a:ext cx="3607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352320" y="51055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0680" y="156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lete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5105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424-09E8-4843-B671-65880A3F5A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8120" y="365760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52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7800" y="156528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leting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33920" y="51055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581280" y="4572000"/>
          <a:ext cx="152424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400"/>
                <a:gridCol w="167400"/>
                <a:gridCol w="164520"/>
                <a:gridCol w="164520"/>
                <a:gridCol w="164520"/>
                <a:gridCol w="21600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"/>
          <p:cNvSpPr/>
          <p:nvPr/>
        </p:nvSpPr>
        <p:spPr>
          <a:xfrm>
            <a:off x="5029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0920" y="365760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828800" y="4267080"/>
            <a:ext cx="3352680" cy="1295640"/>
          </a:xfrm>
          <a:custGeom>
            <a:avLst/>
            <a:gdLst/>
            <a:ahLst/>
            <a:rect l="l" t="t" r="r" b="b"/>
            <a:pathLst>
              <a:path w="2112" h="816">
                <a:moveTo>
                  <a:pt x="17" y="114"/>
                </a:moveTo>
                <a:cubicBezTo>
                  <a:pt x="39" y="106"/>
                  <a:pt x="28" y="108"/>
                  <a:pt x="50" y="108"/>
                </a:cubicBezTo>
                <a:lnTo>
                  <a:pt x="720" y="0"/>
                </a:lnTo>
                <a:lnTo>
                  <a:pt x="1680" y="0"/>
                </a:lnTo>
                <a:lnTo>
                  <a:pt x="2112" y="144"/>
                </a:lnTo>
                <a:lnTo>
                  <a:pt x="2112" y="720"/>
                </a:lnTo>
                <a:lnTo>
                  <a:pt x="1728" y="816"/>
                </a:lnTo>
                <a:lnTo>
                  <a:pt x="624" y="768"/>
                </a:lnTo>
                <a:lnTo>
                  <a:pt x="48" y="720"/>
                </a:lnTo>
                <a:lnTo>
                  <a:pt x="0" y="384"/>
                </a:lnTo>
                <a:lnTo>
                  <a:pt x="17" y="1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3F7-3F24-4F43-870C-53CA019699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on from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76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1905120" y="4572000"/>
          <a:ext cx="1523880" cy="685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040"/>
                <a:gridCol w="167040"/>
                <a:gridCol w="164160"/>
                <a:gridCol w="164160"/>
                <a:gridCol w="164520"/>
                <a:gridCol w="21600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5181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69343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90920" y="3657600"/>
            <a:ext cx="2590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36576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600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526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1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72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10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395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53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787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20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96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520" y="510552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1440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98072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41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6272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24852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6781680" y="51055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31520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911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523880" y="5105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68880" y="1565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823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1055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635-AB6F-4548-8AB6-4F4079D64D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B+ tree has depth 4 and degree d=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records does the relation have (maximum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ndex blocks do we need to read and/or write du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ey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958-2672-4C15-93E7-01D993F38E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hash tables are much like main memory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bas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function f(k) maps a key k to {0, 1, …, n-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in bucket f(k) a pointer to record with key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: bucket = block, use overflow block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229-7C15-437C-8A5F-2E1ECC93CD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1 bucket (block) stores 2 keys +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e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b)=h(f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g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(a)=h(c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4FE-20DC-4516-9C8D-A048CAF370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h(a)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ucke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disk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in a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03C-3A78-4086-956B-B384E97239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 right bucket, i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d)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5486400" y="2971800"/>
          <a:ext cx="2057400" cy="30322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8" name=""/>
          <p:cNvSpPr/>
          <p:nvPr/>
        </p:nvSpPr>
        <p:spPr>
          <a:xfrm>
            <a:off x="471024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10240" y="38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10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1024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EA4-91F9-4F92-B3CB-8B8B011198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overflow block, if n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h(k)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v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3962520" y="304812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"/>
          <p:cNvSpPr/>
          <p:nvPr/>
        </p:nvSpPr>
        <p:spPr>
          <a:xfrm>
            <a:off x="31863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863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86360" y="464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8636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19920" y="3809880"/>
            <a:ext cx="309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670572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"/>
          <p:cNvSpPr/>
          <p:nvPr/>
        </p:nvSpPr>
        <p:spPr>
          <a:xfrm>
            <a:off x="6172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ACE-C8D0-44FE-8C04-0C572B1A8E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, if no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es considerably when number of keys exceeds the number of buckets (I.e. many overflow block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703-FFF0-4D75-89A4-9595B56DCA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  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 node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in B+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eaves into a linked list (range queries are eas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1BD-C2AC-4441-8A6B-3DC422077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as table to grow, to avoid performanc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 hash function h that returns numbers in {0, …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n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nly look at first i most significant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D2C-4713-4B5C-B384-0C160DEDD6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i=1, n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, k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only look at the first bit (0 or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9F7-A820-4A65-8D1B-4482249248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2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4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645-8C99-4D86-8124-5BB47CBD0E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end table, spli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become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3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110), 1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3809880" y="3581280"/>
          <a:ext cx="914400" cy="757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5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6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4114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6232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85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F4D-C56C-4EA9-A925-0473EA0A83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5791320" y="26668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7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DBA-7415-4314-B7F6-47BCF4B16D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sert 0000, then 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lit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5791320" y="2666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(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(000), 0(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5791320" y="3962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848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4343400" y="289512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E20-496C-4C00-8127-1EBED36D62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itting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(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809880" y="3581280"/>
          <a:ext cx="914400" cy="1513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3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4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623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5791320" y="5029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>
            <a:off x="78487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267080" y="487692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(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908-E8AF-4A70-8980-EE0C342A35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buckets (blocks)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ntries in the hash table do we need to touch after an inser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C9D-0BA1-4A64-8F6D-F72D7908E8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Extensible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verflow blocks: access always on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can be costly and disru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n extension table may no longer fit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673-5A1A-4F4E-8094-1E9D4AC142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extend only one entry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n= no longer a power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i be such th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n &lt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puting h(k), use last i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ast i bits represent a number &gt; n, change msb from 1 to 0 (get a number &lt;=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EB0-BD39-4537-A1D0-0525C739B0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d =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&gt;= d and &lt;= 2d keys (except 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af has &gt;=d and &lt;= 2d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00400" y="307980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>
            <a:off x="2666520" y="3613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3613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3613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6133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4019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k &lt;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69640" y="41720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30&lt;=k&lt;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2800" y="4146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120&lt;=k&lt;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7440" y="41464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s 240&lt;=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76720" y="5079960"/>
          <a:ext cx="1828800" cy="685800"/>
        </p:xfrm>
        <a:graphic>
          <a:graphicData uri="http://schemas.openxmlformats.org/drawingml/2006/table">
            <a:tbl>
              <a:tblPr/>
              <a:tblGrid>
                <a:gridCol w="431640"/>
                <a:gridCol w="216000"/>
                <a:gridCol w="322200"/>
                <a:gridCol w="236160"/>
                <a:gridCol w="237600"/>
                <a:gridCol w="38520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H="1">
            <a:off x="2742840" y="56134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613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5613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5613480"/>
            <a:ext cx="12956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7720" y="602352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630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400" y="60994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4960" y="54482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e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216-20A8-408A-ABE1-39F5DD979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5791320" y="2362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579132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3809880" y="358128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3809880" y="266688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"/>
          <p:cNvSpPr/>
          <p:nvPr/>
        </p:nvSpPr>
        <p:spPr>
          <a:xfrm flipV="1">
            <a:off x="4267080" y="28191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2670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848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6232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2623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26232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4343400" y="3352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579132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(01)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BIT F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9" name=""/>
          <p:cNvSpPr/>
          <p:nvPr/>
        </p:nvSpPr>
        <p:spPr>
          <a:xfrm>
            <a:off x="7848720" y="3200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A21-F689-42C7-A56F-00EB3D756A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000: overflow bloc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36576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3657600" y="48769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1676520" y="44197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1676520" y="35053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"/>
          <p:cNvSpPr/>
          <p:nvPr/>
        </p:nvSpPr>
        <p:spPr>
          <a:xfrm flipV="1">
            <a:off x="2133720" y="3657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1337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150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128600" y="430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28600" y="46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128600" y="50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2209680" y="41911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3657600" y="40384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6400800" y="3200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"/>
          <p:cNvSpPr/>
          <p:nvPr/>
        </p:nvSpPr>
        <p:spPr>
          <a:xfrm>
            <a:off x="8458200" y="3200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867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E13-34D8-47EC-9CE5-6616CC5A2F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: independent on overflow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n:=n+1 when average number of records per block exceeds (say) 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36B-EDEA-459E-8390-F75484A8F2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=3 to n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eed to to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lock (which one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2530440" y="27432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4" name=""/>
          <p:cNvGraphicFramePr/>
          <p:nvPr/>
        </p:nvGraphicFramePr>
        <p:xfrm>
          <a:off x="2530440" y="44197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549360" y="3962520"/>
          <a:ext cx="914400" cy="11350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6" name=""/>
          <p:cNvGraphicFramePr/>
          <p:nvPr/>
        </p:nvGraphicFramePr>
        <p:xfrm>
          <a:off x="549360" y="304812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7" name=""/>
          <p:cNvSpPr/>
          <p:nvPr/>
        </p:nvSpPr>
        <p:spPr>
          <a:xfrm flipV="1">
            <a:off x="1006560" y="32004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00656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8784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44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0" y="423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4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1082520" y="37339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2530440" y="358128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6" name=""/>
          <p:cNvSpPr/>
          <p:nvPr/>
        </p:nvSpPr>
        <p:spPr>
          <a:xfrm>
            <a:off x="45878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8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0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1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02080" y="60958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5400000">
            <a:off x="7002720" y="4426560"/>
            <a:ext cx="1828800" cy="900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2701" y="11029"/>
                </a:moveTo>
                <a:arcTo wR="-8102" hR="-8102" stAng="10702823" swAng="-10702823"/>
                <a:lnTo>
                  <a:pt x="0" y="10800"/>
                </a:lnTo>
                <a:arcTo wR="10800" hR="10800" stAng="10800000" swAng="10702823"/>
                <a:lnTo>
                  <a:pt x="24295" y="10418"/>
                </a:lnTo>
                <a:lnTo>
                  <a:pt x="20362" y="14580"/>
                </a:lnTo>
                <a:lnTo>
                  <a:pt x="16200" y="1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C8A-1CF0-446C-A2AE-BCEFAA98F4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Hash Tabl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n=3 to n=4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from n=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n=5 (new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ouch eve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block (why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6629400" y="3809880"/>
          <a:ext cx="2057400" cy="757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9" name=""/>
          <p:cNvGraphicFramePr/>
          <p:nvPr/>
        </p:nvGraphicFramePr>
        <p:xfrm>
          <a:off x="6629400" y="548640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0" name=""/>
          <p:cNvGraphicFramePr/>
          <p:nvPr/>
        </p:nvGraphicFramePr>
        <p:xfrm>
          <a:off x="5257800" y="5029200"/>
          <a:ext cx="914400" cy="1512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1" name=""/>
          <p:cNvGraphicFramePr/>
          <p:nvPr/>
        </p:nvGraphicFramePr>
        <p:xfrm>
          <a:off x="5257800" y="4114800"/>
          <a:ext cx="914400" cy="37944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2" name=""/>
          <p:cNvSpPr/>
          <p:nvPr/>
        </p:nvSpPr>
        <p:spPr>
          <a:xfrm>
            <a:off x="86868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68680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709880" y="491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0988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70988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7" name=""/>
          <p:cNvGraphicFramePr/>
          <p:nvPr/>
        </p:nvGraphicFramePr>
        <p:xfrm>
          <a:off x="6629400" y="46483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8" name=""/>
          <p:cNvSpPr/>
          <p:nvPr/>
        </p:nvSpPr>
        <p:spPr>
          <a:xfrm>
            <a:off x="86868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6629400" y="2819520"/>
          <a:ext cx="2057400" cy="7570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)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0" name=""/>
          <p:cNvSpPr/>
          <p:nvPr/>
        </p:nvSpPr>
        <p:spPr>
          <a:xfrm>
            <a:off x="86868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260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15000" y="297180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150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15000" y="4800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91320" y="5790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4ED-89EE-4B14-A3C1-D8B993D780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352680" y="22096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3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952880" y="3124080"/>
          <a:ext cx="2133720" cy="685800"/>
        </p:xfrm>
        <a:graphic>
          <a:graphicData uri="http://schemas.openxmlformats.org/drawingml/2006/table">
            <a:tbl>
              <a:tblPr/>
              <a:tblGrid>
                <a:gridCol w="297720"/>
                <a:gridCol w="247320"/>
                <a:gridCol w="249120"/>
                <a:gridCol w="247320"/>
                <a:gridCol w="298080"/>
                <a:gridCol w="249120"/>
                <a:gridCol w="247320"/>
                <a:gridCol w="2977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43828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19112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43600" y="4572000"/>
          <a:ext cx="1600200" cy="685800"/>
        </p:xfrm>
        <a:graphic>
          <a:graphicData uri="http://schemas.openxmlformats.org/drawingml/2006/table">
            <a:tbl>
              <a:tblPr/>
              <a:tblGrid>
                <a:gridCol w="219240"/>
                <a:gridCol w="216000"/>
                <a:gridCol w="181800"/>
                <a:gridCol w="181800"/>
                <a:gridCol w="219240"/>
                <a:gridCol w="181800"/>
                <a:gridCol w="181800"/>
                <a:gridCol w="21852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 flipH="1">
            <a:off x="1523880" y="27432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743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9480" y="3657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657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65760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6576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7339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365760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8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19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914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0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80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916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88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0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6320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72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59472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105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1055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1055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51055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1055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029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257800" y="5105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90960" y="5105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324480" y="5105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641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63440" y="1865160"/>
            <a:ext cx="1133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Find the key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55400" y="2581200"/>
            <a:ext cx="68184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8920" y="39574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9640" y="5329080"/>
            <a:ext cx="9957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0 &lt;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40 </a:t>
            </a:r>
            <a:r>
              <a:rPr b="0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E6F-9A79-4918-A465-E08E6A2AA5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ize =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size = 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= 4096 b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x 4  + (2d+1) x 8  &lt;=  40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503-B071-4716-8A0B-BA82B63D36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key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 down, to the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qu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quential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23880" y="2286000"/>
            <a:ext cx="212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e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9480" y="4191120"/>
            <a:ext cx="2296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&lt;=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age &lt;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8CD-B3CD-422A-B802-5DDD08C82B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+ Tree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order: 100.  Typical fill-factor: 6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anout 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apa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4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12,900,700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3: 1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 2,352,637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ften hold top levels in buffer p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 =           1 page  =     8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=      133 pages =     1 M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 = 17,689 pages = 133 MByt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in a B+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(K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leaf where K belongs, 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overflow (2d keys or less),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verflow (2d+1 keys), split node, insert in pa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eaf, keep K3 too in righ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oot splits, new root has 1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4572000"/>
          <a:ext cx="2895480" cy="685800"/>
        </p:xfrm>
        <a:graphic>
          <a:graphicData uri="http://schemas.openxmlformats.org/drawingml/2006/table">
            <a:tbl>
              <a:tblPr/>
              <a:tblGrid>
                <a:gridCol w="399960"/>
                <a:gridCol w="216000"/>
                <a:gridCol w="241200"/>
                <a:gridCol w="261360"/>
                <a:gridCol w="313200"/>
                <a:gridCol w="261360"/>
                <a:gridCol w="258840"/>
                <a:gridCol w="313200"/>
                <a:gridCol w="192240"/>
                <a:gridCol w="438120"/>
              </a:tblGrid>
              <a:tr h="34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11480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553080" y="4572000"/>
          <a:ext cx="2286000" cy="685800"/>
        </p:xfrm>
        <a:graphic>
          <a:graphicData uri="http://schemas.openxmlformats.org/drawingml/2006/table">
            <a:tbl>
              <a:tblPr/>
              <a:tblGrid>
                <a:gridCol w="450720"/>
                <a:gridCol w="246240"/>
                <a:gridCol w="249120"/>
                <a:gridCol w="247680"/>
                <a:gridCol w="298440"/>
                <a:gridCol w="249120"/>
                <a:gridCol w="246240"/>
                <a:gridCol w="298440"/>
              </a:tblGrid>
              <a:tr h="34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408280" y="365760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4191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4952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600" y="4038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74880" y="3672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440" y="4191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07C-2BE8-4C05-AF67-1914EE5C6B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12T08:57:06Z</dcterms:modified>
  <cp:revision>253</cp:revision>
  <dc:subject/>
  <dc:title>Lecture 09:</dc:title>
</cp:coreProperties>
</file>