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F911-440B-4FA9-AC0A-9A91CDA0E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4122-B7F4-44C0-A109-B39BA626C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CE6A-DAB2-4675-BA05-B05148E20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441F-2FDA-4DC3-B88B-61DB89192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5F90-B51B-49D3-89FD-11D6ED2BF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0AB4-0405-4790-844D-D88B3B03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8DEC-BD97-4849-BF03-7B46F43D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CC0A-D8B3-407A-A80D-5D37B74F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6333-C811-42A8-8EA0-11E7FC85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47D-2F47-4DE3-9F12-F651752C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F216-403A-4F60-B274-00CEE656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97CE-B367-4AC6-985D-9A44A202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D59C-0634-4746-B1AF-978BFF0E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B3F-A5BE-4276-B6FA-7884CB8C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8644-6D8F-48EA-8054-6D2716D1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8AD-AD4B-4BAD-8FD1-342E91A7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AC55-8C98-43A0-BF7C-57F70A7B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BB80-2161-4839-90A3-998F06CEC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8: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ember 10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42FC-40D0-441C-AB87-EC1339031D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structures (13.1, 13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-trees (13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2 of the project due Monday, 11/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W3 due on Friday, 11/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7DB2-786E-4B7D-907C-7300C1DECA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de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file speeds up selections on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earch key fiel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ubset of the fields of a relation can be the search key for an index on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earch k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ame a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nimal set of fields that uniquely identify a record in a rel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ex contains a collection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ata ent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supports efficient retrieval of all data entries with a given key valu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/seco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= may reorder data according to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y = cannot reorde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ed = records close in the index are close in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lustered = records close in the index may be far in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e/s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se = every key in the data appears in the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rse = the index contains only some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 tree / Hash table /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FD2-CB9D-4861-B970-AE7A404662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s sorted on the index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: sequence of (key,pointer)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44792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44792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96252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96252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96252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96252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V="1">
            <a:off x="213372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403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26708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50292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5181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54864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571500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9C7-8216-4E28-B04C-D691B89A03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a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52480" y="31240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752480" y="43434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267080" y="3048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267080" y="38098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267080" y="46483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267080" y="5486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 flipV="1">
            <a:off x="2438280" y="32004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35053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373392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3962520"/>
            <a:ext cx="18288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495680"/>
            <a:ext cx="175248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5839-2E7C-4716-AF29-D25A91C6B3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e ind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05120" y="33526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905120" y="45720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419720" y="32767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419720" y="4038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419720" y="4876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419720" y="5715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 flipV="1">
            <a:off x="2590920" y="34290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37339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962520"/>
            <a:ext cx="182880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4191120"/>
            <a:ext cx="18288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816E-5A93-4107-806F-4C34A76596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rse index: pointer to lowest search key in each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05740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57200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572000" y="43434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57200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57200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 flipV="1">
            <a:off x="2743200" y="3733560"/>
            <a:ext cx="1828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4038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4267080"/>
            <a:ext cx="1828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44956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4114800"/>
            <a:ext cx="914400" cy="609480"/>
          </a:xfrm>
          <a:prstGeom prst="wedgeRoundRectCallout">
            <a:avLst>
              <a:gd name="adj1" fmla="val 118402"/>
              <a:gd name="adj2" fmla="val -3203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is he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8720" y="2666880"/>
            <a:ext cx="1066680" cy="1143000"/>
          </a:xfrm>
          <a:prstGeom prst="wedgeRoundRectCallout">
            <a:avLst>
              <a:gd name="adj1" fmla="val -88986"/>
              <a:gd name="adj2" fmla="val 9652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but need to search here t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39B-CED4-4711-A40E-5675D01B26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: pointer t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west new search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each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15 ? 35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Index with Duplic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057400" y="365760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057400" y="48769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572000" y="28195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572000" y="3581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572000" y="44197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572000" y="60199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 flipV="1">
            <a:off x="2743200" y="2819160"/>
            <a:ext cx="18288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43200" y="35812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42670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44956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4114800"/>
            <a:ext cx="914400" cy="609480"/>
          </a:xfrm>
          <a:prstGeom prst="wedgeRoundRectCallout">
            <a:avLst>
              <a:gd name="adj1" fmla="val 127259"/>
              <a:gd name="adj2" fmla="val -583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is he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4191120"/>
            <a:ext cx="1066680" cy="838080"/>
          </a:xfrm>
          <a:prstGeom prst="wedgeRoundRectCallout">
            <a:avLst>
              <a:gd name="adj1" fmla="val -88986"/>
              <a:gd name="adj2" fmla="val -1229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ok to search from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0" y="51814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0FCA-9DAD-444F-B105-27262F2EF6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dex other attributes than primary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dense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828800" y="3505320"/>
          <a:ext cx="914400" cy="99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828800" y="4724280"/>
          <a:ext cx="914400" cy="990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343400" y="34290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4343400" y="4191120"/>
          <a:ext cx="2819160" cy="60624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343400" y="502920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343400" y="5867280"/>
          <a:ext cx="2819160" cy="606600"/>
        </p:xfrm>
        <a:graphic>
          <a:graphicData uri="http://schemas.openxmlformats.org/drawingml/2006/table">
            <a:tbl>
              <a:tblPr/>
              <a:tblGrid>
                <a:gridCol w="380880"/>
                <a:gridCol w="243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2514600" y="3657600"/>
            <a:ext cx="1828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14600" y="388620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514600" y="35812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4343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487692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514600" y="388584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14600" y="434304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5562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55FB-15D7-43E0-B1F2-514A9FCAD4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/Unclus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indexes = usually 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indexes = usually unclu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2F58-3336-4FBE-A1FD-7E9DEF40F3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1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42120" y="3124080"/>
            <a:ext cx="57816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lect student.sname, avg(takes.grad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rom student, tak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ere student.sid = takes.si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roup by student.sid, student.s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4191120"/>
            <a:ext cx="221004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971800"/>
            <a:ext cx="221004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15E4-FBE5-406C-A627-AA9F310429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 vs. Un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0400" y="382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29040" y="3822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576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424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41280" y="3670200"/>
            <a:ext cx="40032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71560" y="36702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00400" y="36702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744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5920" y="36702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46080" y="2589120"/>
            <a:ext cx="1724040" cy="180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46080" y="161460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54360" y="161460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1000" y="1528920"/>
            <a:ext cx="334800" cy="8712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7520" y="1566720"/>
            <a:ext cx="9828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848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540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5400" y="2986200"/>
            <a:ext cx="28080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0024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74760" y="28479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4132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41320" y="2986200"/>
            <a:ext cx="23364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98640" y="29671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5392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2774880"/>
            <a:ext cx="6048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06600" y="2570040"/>
            <a:ext cx="144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88960" y="277344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33680" y="2847960"/>
            <a:ext cx="46656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01840" y="2967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01840" y="298620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59160" y="29671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79760" y="25700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09720" y="2774880"/>
            <a:ext cx="5904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1600" y="3170160"/>
            <a:ext cx="374760" cy="50976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1600" y="3608280"/>
            <a:ext cx="60480" cy="7164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3080" y="3170160"/>
            <a:ext cx="280800" cy="50976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3080" y="360504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960" y="3170160"/>
            <a:ext cx="189000" cy="50976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0960" y="3603600"/>
            <a:ext cx="46080" cy="7632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040" y="3170160"/>
            <a:ext cx="47520" cy="50976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6560" y="3603600"/>
            <a:ext cx="3816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22280" y="3170160"/>
            <a:ext cx="1800" cy="50976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3200" y="3605040"/>
            <a:ext cx="38160" cy="7488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66920" y="3170160"/>
            <a:ext cx="48960" cy="50976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89240" y="3603600"/>
            <a:ext cx="39600" cy="7632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14440" y="3170160"/>
            <a:ext cx="93600" cy="50976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76360" y="3602160"/>
            <a:ext cx="3816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60520" y="3170160"/>
            <a:ext cx="141120" cy="50976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62040" y="360216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79760" y="3170160"/>
            <a:ext cx="468360" cy="50976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81160" y="3611520"/>
            <a:ext cx="66960" cy="6840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73360" y="3170160"/>
            <a:ext cx="514440" cy="50976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19400" y="3613320"/>
            <a:ext cx="68400" cy="6660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4480" y="3170160"/>
            <a:ext cx="559080" cy="50976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05160" y="3614760"/>
            <a:ext cx="68400" cy="6516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52720" y="3170160"/>
            <a:ext cx="608040" cy="50976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90920" y="3616200"/>
            <a:ext cx="69840" cy="6372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42440" y="2843280"/>
            <a:ext cx="147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62360" y="1612800"/>
            <a:ext cx="169920" cy="1481400"/>
          </a:xfrm>
          <a:custGeom>
            <a:avLst/>
            <a:gdLst/>
            <a:ahLst/>
            <a:rect l="l" t="t" r="r" b="b"/>
            <a:pathLst>
              <a:path w="107" h="933">
                <a:moveTo>
                  <a:pt x="0" y="0"/>
                </a:moveTo>
                <a:lnTo>
                  <a:pt x="106" y="0"/>
                </a:lnTo>
                <a:lnTo>
                  <a:pt x="106" y="932"/>
                </a:lnTo>
                <a:lnTo>
                  <a:pt x="0" y="9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62360" y="3689280"/>
            <a:ext cx="169920" cy="557280"/>
          </a:xfrm>
          <a:custGeom>
            <a:avLst/>
            <a:gdLst/>
            <a:ahLst/>
            <a:rect l="l" t="t" r="r" b="b"/>
            <a:pathLst>
              <a:path w="107" h="351">
                <a:moveTo>
                  <a:pt x="0" y="0"/>
                </a:moveTo>
                <a:lnTo>
                  <a:pt x="106" y="0"/>
                </a:lnTo>
                <a:lnTo>
                  <a:pt x="106" y="350"/>
                </a:lnTo>
                <a:lnTo>
                  <a:pt x="0" y="35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68880" y="3124080"/>
            <a:ext cx="122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Index File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5200" y="3367080"/>
            <a:ext cx="107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ata file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98040" y="4071960"/>
            <a:ext cx="163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42000" y="369108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97760" y="3691080"/>
            <a:ext cx="344160" cy="35064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56400" y="3691080"/>
            <a:ext cx="338040" cy="35064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12160" y="3691080"/>
            <a:ext cx="339480" cy="35064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66120" y="3691080"/>
            <a:ext cx="345960" cy="35064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0215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478720" y="369108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97560" y="2522520"/>
            <a:ext cx="1490760" cy="144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97560" y="1476360"/>
            <a:ext cx="785880" cy="104760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82000" y="1476360"/>
            <a:ext cx="712800" cy="104760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91480" y="1384200"/>
            <a:ext cx="291960" cy="9360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101000" y="1425600"/>
            <a:ext cx="82440" cy="5220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39000" y="2803680"/>
            <a:ext cx="404640" cy="34740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42200" y="2930400"/>
            <a:ext cx="6336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42200" y="2954160"/>
            <a:ext cx="241200" cy="180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61824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8196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833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33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23040" y="293040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21600" y="2506680"/>
            <a:ext cx="15840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1600" y="272736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81760" y="2506680"/>
            <a:ext cx="180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67360" y="2725560"/>
            <a:ext cx="30240" cy="7956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67720" y="280368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67560" y="29304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67560" y="29541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02560" y="29304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810560" y="250668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920000" y="272736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78600" y="3149640"/>
            <a:ext cx="201600" cy="49860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35560" y="3568680"/>
            <a:ext cx="44640" cy="7956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94200" y="3149640"/>
            <a:ext cx="366840" cy="54936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94200" y="3624120"/>
            <a:ext cx="57240" cy="7488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97760" y="3149640"/>
            <a:ext cx="566640" cy="54936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99240" y="363384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97600" y="3149640"/>
            <a:ext cx="282600" cy="49860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997600" y="357336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21600" y="3149640"/>
            <a:ext cx="1407960" cy="49860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61160" y="3605040"/>
            <a:ext cx="68400" cy="4320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78600" y="3149640"/>
            <a:ext cx="685800" cy="49860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78600" y="3589200"/>
            <a:ext cx="65160" cy="5904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99320" y="3149640"/>
            <a:ext cx="1778040" cy="49860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507520" y="360828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99320" y="3149640"/>
            <a:ext cx="164880" cy="54936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99320" y="3616200"/>
            <a:ext cx="42840" cy="8280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24600" y="3149640"/>
            <a:ext cx="322200" cy="49860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89920" y="3575160"/>
            <a:ext cx="5688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26360" y="3149640"/>
            <a:ext cx="565200" cy="54936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26360" y="3633840"/>
            <a:ext cx="58680" cy="651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29720" y="3149640"/>
            <a:ext cx="322200" cy="54936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01160" y="36226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10560" y="3149640"/>
            <a:ext cx="241200" cy="49860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810560" y="3571920"/>
            <a:ext cx="4752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89920" y="3149640"/>
            <a:ext cx="1440" cy="54936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72280" y="3619440"/>
            <a:ext cx="36720" cy="7956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240" y="3365640"/>
            <a:ext cx="883908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83680" y="2471760"/>
            <a:ext cx="14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22120" y="41482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1960" y="4605480"/>
            <a:ext cx="189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55920" y="4681440"/>
            <a:ext cx="237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5638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other attributes than primary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unsorted files (heap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cluste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1D7-A510-46BA-8740-3F46E493AD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 of Secondary 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indexes needed fo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ap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fo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lustered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any(name, city), Product(pid, mak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5200" y="3708360"/>
            <a:ext cx="271224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any,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=ma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pid=“p045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47240" y="3666960"/>
            <a:ext cx="271224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any,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=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city=“Seattl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5715000"/>
            <a:ext cx="7924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90720" y="5715000"/>
            <a:ext cx="15238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5715000"/>
            <a:ext cx="15238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553080" y="5715000"/>
            <a:ext cx="15242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8128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7220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0592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61048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5400000">
            <a:off x="312408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5400000">
            <a:off x="5905080" y="499104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5400000">
            <a:off x="8381880" y="510516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136960" y="51055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s of company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80160" y="502920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s of company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80480" y="502920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s of company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E20-264A-4C0F-9C4D-D26BC544B7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site Search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mposite Search Key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on a combination of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ity query: Every field value is equal to a constant value. E.g. wrt &lt;sal,age&gt; ind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=20 and sal =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query: Some field value is not a constant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=20; or age=20 and sal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79880" y="4237200"/>
            <a:ext cx="723960" cy="1201680"/>
          </a:xfrm>
          <a:custGeom>
            <a:avLst/>
            <a:gdLst/>
            <a:ahLst/>
            <a:rect l="l" t="t" r="r" b="b"/>
            <a:pathLst>
              <a:path w="456" h="757">
                <a:moveTo>
                  <a:pt x="0" y="0"/>
                </a:moveTo>
                <a:lnTo>
                  <a:pt x="455" y="0"/>
                </a:lnTo>
                <a:lnTo>
                  <a:pt x="455" y="756"/>
                </a:lnTo>
                <a:lnTo>
                  <a:pt x="0" y="7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79880" y="453708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79880" y="483876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79880" y="5135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79880" y="2438280"/>
            <a:ext cx="723960" cy="1200240"/>
          </a:xfrm>
          <a:custGeom>
            <a:avLst/>
            <a:gdLst/>
            <a:ahLst/>
            <a:rect l="l" t="t" r="r" b="b"/>
            <a:pathLst>
              <a:path w="456" h="756">
                <a:moveTo>
                  <a:pt x="0" y="0"/>
                </a:moveTo>
                <a:lnTo>
                  <a:pt x="455" y="0"/>
                </a:lnTo>
                <a:lnTo>
                  <a:pt x="455" y="755"/>
                </a:lnTo>
                <a:lnTo>
                  <a:pt x="0" y="7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79880" y="273996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79880" y="3038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79880" y="333864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35800" y="2438280"/>
            <a:ext cx="723960" cy="1200240"/>
          </a:xfrm>
          <a:custGeom>
            <a:avLst/>
            <a:gdLst/>
            <a:ahLst/>
            <a:rect l="l" t="t" r="r" b="b"/>
            <a:pathLst>
              <a:path w="456" h="756">
                <a:moveTo>
                  <a:pt x="0" y="0"/>
                </a:moveTo>
                <a:lnTo>
                  <a:pt x="455" y="0"/>
                </a:lnTo>
                <a:lnTo>
                  <a:pt x="455" y="755"/>
                </a:lnTo>
                <a:lnTo>
                  <a:pt x="0" y="7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35800" y="273996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35800" y="3038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35800" y="333864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46960" y="4237200"/>
            <a:ext cx="723960" cy="1201680"/>
          </a:xfrm>
          <a:custGeom>
            <a:avLst/>
            <a:gdLst/>
            <a:ahLst/>
            <a:rect l="l" t="t" r="r" b="b"/>
            <a:pathLst>
              <a:path w="456" h="757">
                <a:moveTo>
                  <a:pt x="0" y="0"/>
                </a:moveTo>
                <a:lnTo>
                  <a:pt x="455" y="0"/>
                </a:lnTo>
                <a:lnTo>
                  <a:pt x="455" y="756"/>
                </a:lnTo>
                <a:lnTo>
                  <a:pt x="0" y="7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46960" y="453708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46960" y="4838760"/>
            <a:ext cx="723960" cy="144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46960" y="5135400"/>
            <a:ext cx="723960" cy="1800"/>
          </a:xfrm>
          <a:custGeom>
            <a:avLst/>
            <a:gdLst/>
            <a:ahLst/>
            <a:rect l="l" t="t" r="r" b="b"/>
            <a:pathLst>
              <a:path w="456" h="1">
                <a:moveTo>
                  <a:pt x="0" y="0"/>
                </a:moveTo>
                <a:lnTo>
                  <a:pt x="45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580000" y="2589120"/>
            <a:ext cx="844560" cy="1127160"/>
          </a:xfrm>
          <a:custGeom>
            <a:avLst/>
            <a:gdLst/>
            <a:ahLst/>
            <a:rect l="l" t="t" r="r" b="b"/>
            <a:pathLst>
              <a:path w="532" h="710">
                <a:moveTo>
                  <a:pt x="0" y="0"/>
                </a:moveTo>
                <a:lnTo>
                  <a:pt x="531" y="70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40320" y="3605040"/>
            <a:ext cx="84240" cy="111240"/>
          </a:xfrm>
          <a:custGeom>
            <a:avLst/>
            <a:gdLst/>
            <a:ahLst/>
            <a:rect l="l" t="t" r="r" b="b"/>
            <a:pathLst>
              <a:path w="53" h="70">
                <a:moveTo>
                  <a:pt x="22" y="0"/>
                </a:moveTo>
                <a:lnTo>
                  <a:pt x="52" y="69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80000" y="2887560"/>
            <a:ext cx="844560" cy="528840"/>
          </a:xfrm>
          <a:custGeom>
            <a:avLst/>
            <a:gdLst/>
            <a:ahLst/>
            <a:rect l="l" t="t" r="r" b="b"/>
            <a:pathLst>
              <a:path w="532" h="333">
                <a:moveTo>
                  <a:pt x="0" y="0"/>
                </a:moveTo>
                <a:lnTo>
                  <a:pt x="531" y="3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26280" y="3332160"/>
            <a:ext cx="98280" cy="84240"/>
          </a:xfrm>
          <a:custGeom>
            <a:avLst/>
            <a:gdLst/>
            <a:ahLst/>
            <a:rect l="l" t="t" r="r" b="b"/>
            <a:pathLst>
              <a:path w="62" h="53">
                <a:moveTo>
                  <a:pt x="14" y="0"/>
                </a:moveTo>
                <a:lnTo>
                  <a:pt x="61" y="52"/>
                </a:lnTo>
                <a:lnTo>
                  <a:pt x="0" y="3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580000" y="3191040"/>
            <a:ext cx="844560" cy="822240"/>
          </a:xfrm>
          <a:custGeom>
            <a:avLst/>
            <a:gdLst/>
            <a:ahLst/>
            <a:rect l="l" t="t" r="r" b="b"/>
            <a:pathLst>
              <a:path w="532" h="518">
                <a:moveTo>
                  <a:pt x="0" y="0"/>
                </a:moveTo>
                <a:lnTo>
                  <a:pt x="531" y="5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32400" y="3914640"/>
            <a:ext cx="92160" cy="98640"/>
          </a:xfrm>
          <a:custGeom>
            <a:avLst/>
            <a:gdLst/>
            <a:ahLst/>
            <a:rect l="l" t="t" r="r" b="b"/>
            <a:pathLst>
              <a:path w="58" h="62">
                <a:moveTo>
                  <a:pt x="18" y="0"/>
                </a:moveTo>
                <a:lnTo>
                  <a:pt x="57" y="61"/>
                </a:lnTo>
                <a:lnTo>
                  <a:pt x="0" y="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580000" y="3490920"/>
            <a:ext cx="844560" cy="822240"/>
          </a:xfrm>
          <a:custGeom>
            <a:avLst/>
            <a:gdLst/>
            <a:ahLst/>
            <a:rect l="l" t="t" r="r" b="b"/>
            <a:pathLst>
              <a:path w="532" h="518">
                <a:moveTo>
                  <a:pt x="0" y="0"/>
                </a:moveTo>
                <a:lnTo>
                  <a:pt x="531" y="5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332400" y="4218120"/>
            <a:ext cx="92160" cy="95040"/>
          </a:xfrm>
          <a:custGeom>
            <a:avLst/>
            <a:gdLst/>
            <a:ahLst/>
            <a:rect l="l" t="t" r="r" b="b"/>
            <a:pathLst>
              <a:path w="58" h="60">
                <a:moveTo>
                  <a:pt x="18" y="0"/>
                </a:moveTo>
                <a:lnTo>
                  <a:pt x="57" y="59"/>
                </a:lnTo>
                <a:lnTo>
                  <a:pt x="0" y="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80000" y="4089240"/>
            <a:ext cx="844560" cy="601920"/>
          </a:xfrm>
          <a:custGeom>
            <a:avLst/>
            <a:gdLst/>
            <a:ahLst/>
            <a:rect l="l" t="t" r="r" b="b"/>
            <a:pathLst>
              <a:path w="532" h="379">
                <a:moveTo>
                  <a:pt x="0" y="378"/>
                </a:moveTo>
                <a:lnTo>
                  <a:pt x="531" y="0"/>
                </a:lnTo>
                <a:lnTo>
                  <a:pt x="0" y="3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327720" y="4089240"/>
            <a:ext cx="96840" cy="88920"/>
          </a:xfrm>
          <a:custGeom>
            <a:avLst/>
            <a:gdLst/>
            <a:ahLst/>
            <a:rect l="l" t="t" r="r" b="b"/>
            <a:pathLst>
              <a:path w="61" h="56">
                <a:moveTo>
                  <a:pt x="0" y="22"/>
                </a:moveTo>
                <a:lnTo>
                  <a:pt x="60" y="0"/>
                </a:lnTo>
                <a:lnTo>
                  <a:pt x="15" y="5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80000" y="4464000"/>
            <a:ext cx="844560" cy="523800"/>
          </a:xfrm>
          <a:custGeom>
            <a:avLst/>
            <a:gdLst/>
            <a:ahLst/>
            <a:rect l="l" t="t" r="r" b="b"/>
            <a:pathLst>
              <a:path w="532" h="330">
                <a:moveTo>
                  <a:pt x="0" y="329"/>
                </a:moveTo>
                <a:lnTo>
                  <a:pt x="531" y="0"/>
                </a:lnTo>
                <a:lnTo>
                  <a:pt x="0" y="3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26280" y="4464000"/>
            <a:ext cx="98280" cy="81000"/>
          </a:xfrm>
          <a:custGeom>
            <a:avLst/>
            <a:gdLst/>
            <a:ahLst/>
            <a:rect l="l" t="t" r="r" b="b"/>
            <a:pathLst>
              <a:path w="62" h="51">
                <a:moveTo>
                  <a:pt x="0" y="17"/>
                </a:moveTo>
                <a:lnTo>
                  <a:pt x="61" y="0"/>
                </a:lnTo>
                <a:lnTo>
                  <a:pt x="14" y="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80000" y="3714840"/>
            <a:ext cx="844560" cy="1573200"/>
          </a:xfrm>
          <a:custGeom>
            <a:avLst/>
            <a:gdLst/>
            <a:ahLst/>
            <a:rect l="l" t="t" r="r" b="b"/>
            <a:pathLst>
              <a:path w="532" h="991">
                <a:moveTo>
                  <a:pt x="0" y="990"/>
                </a:moveTo>
                <a:lnTo>
                  <a:pt x="531" y="0"/>
                </a:lnTo>
                <a:lnTo>
                  <a:pt x="0" y="99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350040" y="3714840"/>
            <a:ext cx="74520" cy="118800"/>
          </a:xfrm>
          <a:custGeom>
            <a:avLst/>
            <a:gdLst/>
            <a:ahLst/>
            <a:rect l="l" t="t" r="r" b="b"/>
            <a:pathLst>
              <a:path w="47" h="75">
                <a:moveTo>
                  <a:pt x="0" y="52"/>
                </a:moveTo>
                <a:lnTo>
                  <a:pt x="46" y="0"/>
                </a:lnTo>
                <a:lnTo>
                  <a:pt x="25" y="7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580000" y="3414600"/>
            <a:ext cx="844560" cy="973080"/>
          </a:xfrm>
          <a:custGeom>
            <a:avLst/>
            <a:gdLst/>
            <a:ahLst/>
            <a:rect l="l" t="t" r="r" b="b"/>
            <a:pathLst>
              <a:path w="532" h="613">
                <a:moveTo>
                  <a:pt x="0" y="612"/>
                </a:moveTo>
                <a:lnTo>
                  <a:pt x="531" y="0"/>
                </a:lnTo>
                <a:lnTo>
                  <a:pt x="0" y="6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37440" y="3414600"/>
            <a:ext cx="87120" cy="103320"/>
          </a:xfrm>
          <a:custGeom>
            <a:avLst/>
            <a:gdLst/>
            <a:ahLst/>
            <a:rect l="l" t="t" r="r" b="b"/>
            <a:pathLst>
              <a:path w="55" h="65">
                <a:moveTo>
                  <a:pt x="0" y="36"/>
                </a:moveTo>
                <a:lnTo>
                  <a:pt x="54" y="0"/>
                </a:lnTo>
                <a:lnTo>
                  <a:pt x="20" y="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8040" y="2589120"/>
            <a:ext cx="841320" cy="1127160"/>
          </a:xfrm>
          <a:custGeom>
            <a:avLst/>
            <a:gdLst/>
            <a:ahLst/>
            <a:rect l="l" t="t" r="r" b="b"/>
            <a:pathLst>
              <a:path w="530" h="710">
                <a:moveTo>
                  <a:pt x="529" y="0"/>
                </a:moveTo>
                <a:lnTo>
                  <a:pt x="0" y="709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28040" y="3605040"/>
            <a:ext cx="82440" cy="111240"/>
          </a:xfrm>
          <a:custGeom>
            <a:avLst/>
            <a:gdLst/>
            <a:ahLst/>
            <a:rect l="l" t="t" r="r" b="b"/>
            <a:pathLst>
              <a:path w="52" h="70">
                <a:moveTo>
                  <a:pt x="51" y="26"/>
                </a:moveTo>
                <a:lnTo>
                  <a:pt x="0" y="69"/>
                </a:lnTo>
                <a:lnTo>
                  <a:pt x="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8040" y="2887560"/>
            <a:ext cx="841320" cy="528840"/>
          </a:xfrm>
          <a:custGeom>
            <a:avLst/>
            <a:gdLst/>
            <a:ahLst/>
            <a:rect l="l" t="t" r="r" b="b"/>
            <a:pathLst>
              <a:path w="530" h="333">
                <a:moveTo>
                  <a:pt x="529" y="0"/>
                </a:moveTo>
                <a:lnTo>
                  <a:pt x="0" y="332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628040" y="333216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60" y="35"/>
                </a:moveTo>
                <a:lnTo>
                  <a:pt x="0" y="5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8040" y="3191040"/>
            <a:ext cx="841320" cy="822240"/>
          </a:xfrm>
          <a:custGeom>
            <a:avLst/>
            <a:gdLst/>
            <a:ahLst/>
            <a:rect l="l" t="t" r="r" b="b"/>
            <a:pathLst>
              <a:path w="530" h="518">
                <a:moveTo>
                  <a:pt x="529" y="0"/>
                </a:moveTo>
                <a:lnTo>
                  <a:pt x="0" y="517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8040" y="3914640"/>
            <a:ext cx="88920" cy="98640"/>
          </a:xfrm>
          <a:custGeom>
            <a:avLst/>
            <a:gdLst/>
            <a:ahLst/>
            <a:rect l="l" t="t" r="r" b="b"/>
            <a:pathLst>
              <a:path w="56" h="62">
                <a:moveTo>
                  <a:pt x="55" y="29"/>
                </a:moveTo>
                <a:lnTo>
                  <a:pt x="0" y="61"/>
                </a:lnTo>
                <a:lnTo>
                  <a:pt x="3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28040" y="3490920"/>
            <a:ext cx="841320" cy="822240"/>
          </a:xfrm>
          <a:custGeom>
            <a:avLst/>
            <a:gdLst/>
            <a:ahLst/>
            <a:rect l="l" t="t" r="r" b="b"/>
            <a:pathLst>
              <a:path w="530" h="518">
                <a:moveTo>
                  <a:pt x="529" y="0"/>
                </a:moveTo>
                <a:lnTo>
                  <a:pt x="0" y="517"/>
                </a:lnTo>
                <a:lnTo>
                  <a:pt x="5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28040" y="4218120"/>
            <a:ext cx="88920" cy="95040"/>
          </a:xfrm>
          <a:custGeom>
            <a:avLst/>
            <a:gdLst/>
            <a:ahLst/>
            <a:rect l="l" t="t" r="r" b="b"/>
            <a:pathLst>
              <a:path w="56" h="60">
                <a:moveTo>
                  <a:pt x="55" y="29"/>
                </a:moveTo>
                <a:lnTo>
                  <a:pt x="0" y="59"/>
                </a:lnTo>
                <a:lnTo>
                  <a:pt x="3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28040" y="3414600"/>
            <a:ext cx="841320" cy="973080"/>
          </a:xfrm>
          <a:custGeom>
            <a:avLst/>
            <a:gdLst/>
            <a:ahLst/>
            <a:rect l="l" t="t" r="r" b="b"/>
            <a:pathLst>
              <a:path w="530" h="613">
                <a:moveTo>
                  <a:pt x="529" y="612"/>
                </a:moveTo>
                <a:lnTo>
                  <a:pt x="0" y="0"/>
                </a:lnTo>
                <a:lnTo>
                  <a:pt x="529" y="6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28040" y="3414600"/>
            <a:ext cx="87120" cy="103320"/>
          </a:xfrm>
          <a:custGeom>
            <a:avLst/>
            <a:gdLst/>
            <a:ahLst/>
            <a:rect l="l" t="t" r="r" b="b"/>
            <a:pathLst>
              <a:path w="55" h="65">
                <a:moveTo>
                  <a:pt x="34" y="64"/>
                </a:moveTo>
                <a:lnTo>
                  <a:pt x="0" y="0"/>
                </a:lnTo>
                <a:lnTo>
                  <a:pt x="54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28040" y="4089240"/>
            <a:ext cx="841320" cy="601920"/>
          </a:xfrm>
          <a:custGeom>
            <a:avLst/>
            <a:gdLst/>
            <a:ahLst/>
            <a:rect l="l" t="t" r="r" b="b"/>
            <a:pathLst>
              <a:path w="530" h="379">
                <a:moveTo>
                  <a:pt x="529" y="378"/>
                </a:moveTo>
                <a:lnTo>
                  <a:pt x="0" y="0"/>
                </a:lnTo>
                <a:lnTo>
                  <a:pt x="529" y="3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28040" y="4089240"/>
            <a:ext cx="95040" cy="88920"/>
          </a:xfrm>
          <a:custGeom>
            <a:avLst/>
            <a:gdLst/>
            <a:ahLst/>
            <a:rect l="l" t="t" r="r" b="b"/>
            <a:pathLst>
              <a:path w="60" h="56">
                <a:moveTo>
                  <a:pt x="44" y="55"/>
                </a:moveTo>
                <a:lnTo>
                  <a:pt x="0" y="0"/>
                </a:lnTo>
                <a:lnTo>
                  <a:pt x="59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28040" y="4386240"/>
            <a:ext cx="841320" cy="601560"/>
          </a:xfrm>
          <a:custGeom>
            <a:avLst/>
            <a:gdLst/>
            <a:ahLst/>
            <a:rect l="l" t="t" r="r" b="b"/>
            <a:pathLst>
              <a:path w="530" h="379">
                <a:moveTo>
                  <a:pt x="529" y="378"/>
                </a:moveTo>
                <a:lnTo>
                  <a:pt x="0" y="0"/>
                </a:lnTo>
                <a:lnTo>
                  <a:pt x="529" y="3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28040" y="4386240"/>
            <a:ext cx="95040" cy="87480"/>
          </a:xfrm>
          <a:custGeom>
            <a:avLst/>
            <a:gdLst/>
            <a:ahLst/>
            <a:rect l="l" t="t" r="r" b="b"/>
            <a:pathLst>
              <a:path w="60" h="55">
                <a:moveTo>
                  <a:pt x="44" y="54"/>
                </a:moveTo>
                <a:lnTo>
                  <a:pt x="0" y="0"/>
                </a:lnTo>
                <a:lnTo>
                  <a:pt x="59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28040" y="3714840"/>
            <a:ext cx="841320" cy="1573200"/>
          </a:xfrm>
          <a:custGeom>
            <a:avLst/>
            <a:gdLst/>
            <a:ahLst/>
            <a:rect l="l" t="t" r="r" b="b"/>
            <a:pathLst>
              <a:path w="530" h="991">
                <a:moveTo>
                  <a:pt x="529" y="990"/>
                </a:moveTo>
                <a:lnTo>
                  <a:pt x="0" y="0"/>
                </a:lnTo>
                <a:lnTo>
                  <a:pt x="529" y="99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28040" y="3714840"/>
            <a:ext cx="73080" cy="118800"/>
          </a:xfrm>
          <a:custGeom>
            <a:avLst/>
            <a:gdLst/>
            <a:ahLst/>
            <a:rect l="l" t="t" r="r" b="b"/>
            <a:pathLst>
              <a:path w="46" h="75">
                <a:moveTo>
                  <a:pt x="21" y="74"/>
                </a:moveTo>
                <a:lnTo>
                  <a:pt x="0" y="0"/>
                </a:lnTo>
                <a:lnTo>
                  <a:pt x="45" y="5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389280" y="430848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s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13360" y="43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232400" y="43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423120" y="3338640"/>
            <a:ext cx="1206360" cy="1199880"/>
          </a:xfrm>
          <a:custGeom>
            <a:avLst/>
            <a:gdLst/>
            <a:ahLst/>
            <a:rect l="l" t="t" r="r" b="b"/>
            <a:pathLst>
              <a:path w="760" h="756">
                <a:moveTo>
                  <a:pt x="0" y="0"/>
                </a:moveTo>
                <a:lnTo>
                  <a:pt x="759" y="0"/>
                </a:lnTo>
                <a:lnTo>
                  <a:pt x="759" y="755"/>
                </a:lnTo>
                <a:lnTo>
                  <a:pt x="0" y="75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23120" y="3637080"/>
            <a:ext cx="1206360" cy="1440"/>
          </a:xfrm>
          <a:custGeom>
            <a:avLst/>
            <a:gdLst/>
            <a:ahLst/>
            <a:rect l="l" t="t" r="r" b="b"/>
            <a:pathLst>
              <a:path w="760" h="1">
                <a:moveTo>
                  <a:pt x="0" y="0"/>
                </a:moveTo>
                <a:lnTo>
                  <a:pt x="75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23120" y="3936960"/>
            <a:ext cx="1206360" cy="1800"/>
          </a:xfrm>
          <a:custGeom>
            <a:avLst/>
            <a:gdLst/>
            <a:ahLst/>
            <a:rect l="l" t="t" r="r" b="b"/>
            <a:pathLst>
              <a:path w="760" h="1">
                <a:moveTo>
                  <a:pt x="0" y="0"/>
                </a:moveTo>
                <a:lnTo>
                  <a:pt x="75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23120" y="4237200"/>
            <a:ext cx="1206360" cy="1440"/>
          </a:xfrm>
          <a:custGeom>
            <a:avLst/>
            <a:gdLst/>
            <a:ahLst/>
            <a:rect l="l" t="t" r="r" b="b"/>
            <a:pathLst>
              <a:path w="760" h="1">
                <a:moveTo>
                  <a:pt x="0" y="0"/>
                </a:moveTo>
                <a:lnTo>
                  <a:pt x="75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389640" y="3408480"/>
            <a:ext cx="50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bo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88920" y="370512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88560" y="4010040"/>
            <a:ext cx="44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j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13360" y="40100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32400" y="34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2400" y="40100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2400" y="37051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13360" y="37051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13360" y="34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311880" y="3032280"/>
            <a:ext cx="64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11560" y="3032280"/>
            <a:ext cx="49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29520" y="30322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68280" y="550692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&lt;sal, ag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68280" y="3705120"/>
            <a:ext cx="104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&lt;age, sa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59920" y="3705120"/>
            <a:ext cx="698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&lt;ag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57760" y="5506920"/>
            <a:ext cx="64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&lt;sa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80240" y="310824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2,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92840" y="282564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2,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992840" y="250992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1,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81680" y="340848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3,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94640" y="462456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20,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994640" y="430848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10,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981680" y="490680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75,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81680" y="5207040"/>
            <a:ext cx="6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80,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613720" y="25099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613720" y="280656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613720" y="31082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615160" y="34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15160" y="430848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615160" y="460836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615160" y="490680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15160" y="520704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34db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43480" y="4646520"/>
            <a:ext cx="1646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Book Antiqua"/>
              </a:rPr>
              <a:t>Data rec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Book Antiqua"/>
              </a:rPr>
              <a:t>sorted by </a:t>
            </a:r>
            <a:r>
              <a:rPr b="0" i="1" lang="en-US" sz="1600" spc="-1" strike="noStrike">
                <a:solidFill>
                  <a:srgbClr val="b2b2b2"/>
                </a:solidFill>
                <a:latin typeface="Book Antiqua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6160" y="5789520"/>
            <a:ext cx="2153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Data entries in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orted by </a:t>
            </a: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&lt;sal,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466400" y="5789520"/>
            <a:ext cx="1622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234db"/>
                </a:solidFill>
                <a:latin typeface="Book Antiqua"/>
              </a:rPr>
              <a:t>Data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234db"/>
                </a:solidFill>
                <a:latin typeface="Book Antiqua"/>
              </a:rPr>
              <a:t>sorted by </a:t>
            </a:r>
            <a:r>
              <a:rPr b="0" i="1" lang="en-US" sz="1600" spc="-1" strike="noStrike">
                <a:solidFill>
                  <a:srgbClr val="9234db"/>
                </a:solidFill>
                <a:latin typeface="Book Antiqua"/>
              </a:rPr>
              <a:t>&lt;sa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55840" y="1576440"/>
            <a:ext cx="3876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Examples of composite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indexes using lexicographic or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  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1 node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+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leaves into a linked list (range queries are eas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5E3A-0694-4B8E-9213-A46995384B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d =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&gt;= d and &lt;= 2d keys (except 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eaf has &gt;=d and &lt;= 2d ke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3200400" y="307980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 flipH="1">
            <a:off x="2666520" y="3613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6200" y="3613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19720" y="36133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76920" y="3613320"/>
            <a:ext cx="1295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52480" y="40194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k &lt;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69640" y="417204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30&lt;=k&lt;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92800" y="41464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120&lt;=k&lt;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247440" y="41464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240&lt;=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276720" y="507996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"/>
          <p:cNvSpPr/>
          <p:nvPr/>
        </p:nvSpPr>
        <p:spPr>
          <a:xfrm flipH="1">
            <a:off x="2742840" y="561348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62520" y="5613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95680" y="56134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52880" y="5613480"/>
            <a:ext cx="129564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367720" y="602352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630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74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84960" y="54482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 le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61B-A9EB-4E1D-8132-2AD3D95A8E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16416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63440" y="1865160"/>
            <a:ext cx="113328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Find the key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55400" y="2581200"/>
            <a:ext cx="68184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888920" y="39574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2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879640" y="53290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3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E6B-204B-41AC-B35B-A1592084FA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size = 4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size = 8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ize = 4096 b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x 4  + (2d+1) x 8  &lt;=  40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1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651-E2EA-4C47-AE68-F3CAF32448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ct key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at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ed down, to the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qu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quential tra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23880" y="2286000"/>
            <a:ext cx="212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9480" y="4191120"/>
            <a:ext cx="2296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 &lt;=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age &lt;=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CAD-5314-412F-95D7-D6E492410A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order: 100.  Typical fill-factor: 6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fanout = 1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capac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4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12,900,700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3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  2,352,637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ften hold top levels in buffer po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1 =           1 page  =     8 K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2 =      133 pages =     1 M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3 = 17,689 pages = 133 MBytes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1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solution: use “not i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2971800"/>
            <a:ext cx="6499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lect student.sna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rom stud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ere 3.0 &lt; all (select takes.si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                   from tak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                   where student.sid = takes.s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A48-078B-4439-8ED0-332E44AF74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(K,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leaf where K belongs, 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overflow (2d keys or less), 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verflow (2d+1 keys), split node, insert in par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eaf, keep K3 too in righ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oot splits, new root has 1 key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228600" y="4572000"/>
          <a:ext cx="2895480" cy="685800"/>
        </p:xfrm>
        <a:graphic>
          <a:graphicData uri="http://schemas.openxmlformats.org/drawingml/2006/table">
            <a:tbl>
              <a:tblPr/>
              <a:tblGrid>
                <a:gridCol w="399960"/>
                <a:gridCol w="216000"/>
                <a:gridCol w="241200"/>
                <a:gridCol w="261360"/>
                <a:gridCol w="313200"/>
                <a:gridCol w="261360"/>
                <a:gridCol w="258840"/>
                <a:gridCol w="313200"/>
                <a:gridCol w="192240"/>
                <a:gridCol w="43812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411480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655308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5" name=""/>
          <p:cNvSpPr/>
          <p:nvPr/>
        </p:nvSpPr>
        <p:spPr>
          <a:xfrm>
            <a:off x="5408280" y="3657600"/>
            <a:ext cx="10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ent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3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248520" y="4191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352680" y="4952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28600" y="4038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74880" y="3672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4114440" y="41911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A859-930C-4C4F-B63E-C8A4490465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98920" y="164160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K=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128-703D-4CBF-B9A2-81F7672880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3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5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44840" y="17175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97F0-E618-479A-ADEF-2471C4C09FB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71040" y="156528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nsert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E94A-A78D-4424-96F3-9C726476722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9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68520" y="15652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543-F7AA-43C0-AB4A-1C55E30F9DB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8880" y="15652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w have to spl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A2CB-D42D-4E82-8978-E2DEFB7BEB1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7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8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9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68160" y="15652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3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4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67F2-FF53-4604-829A-438C890170C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8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9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0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1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2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3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69960" y="15652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7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0654-CBCE-4AF8-8142-CEF1532E977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1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2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3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4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5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6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7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68520" y="1565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7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8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52280" y="2133720"/>
            <a:ext cx="2210040" cy="761760"/>
          </a:xfrm>
          <a:prstGeom prst="wedgeEllipseCallout">
            <a:avLst>
              <a:gd name="adj1" fmla="val 45689"/>
              <a:gd name="adj2" fmla="val 79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change to 40, or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30A0-6AB8-4C2D-92B2-FF78631D0DA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2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3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4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5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6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7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8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9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7068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9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0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5E4-F643-4B5F-B6A1-4300E12D45C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1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solution: “student.dept = ALL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people got SQL right, or almost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6320" y="2743200"/>
            <a:ext cx="81878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lect na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rom stud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ere sid not in (select takes.si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                    from takes, cours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                    where takes.cid = courses.ci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                               and courses.dept &lt;&gt; student.dep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E96-9BF6-471B-8DA7-1FDD1344D2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4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5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6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7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8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9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0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68520" y="1565280"/>
            <a:ext cx="23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re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8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9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371600" y="3886200"/>
            <a:ext cx="1062000" cy="685800"/>
          </a:xfrm>
          <a:custGeom>
            <a:avLst/>
            <a:gdLst>
              <a:gd name="textAreaLeft" fmla="*/ 194400 w 1062000"/>
              <a:gd name="textAreaRight" fmla="*/ 730440 w 10620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06" hR="21600" stAng="10800000" swAng="5400000"/>
                <a:lnTo>
                  <a:pt x="10900" y="0"/>
                </a:lnTo>
                <a:arcTo wR="7906" hR="21600" stAng="-5400000" swAng="2321647"/>
                <a:lnTo>
                  <a:pt x="20885" y="12623"/>
                </a:lnTo>
                <a:lnTo>
                  <a:pt x="17308" y="21600"/>
                </a:lnTo>
                <a:lnTo>
                  <a:pt x="12301" y="12623"/>
                </a:lnTo>
                <a:lnTo>
                  <a:pt x="15096" y="12623"/>
                </a:lnTo>
                <a:arcTo wR="7906" hR="21600" stAng="-3078353" swAng="-2079404"/>
                <a:lnTo>
                  <a:pt x="9403" y="391"/>
                </a:lnTo>
                <a:arcTo wR="7906" hR="21600" stAng="-5642243" swAng="-5157757"/>
                <a:close/>
              </a:path>
              <a:path fill="darkenLess" w="21600" h="21600">
                <a:moveTo>
                  <a:pt x="0" y="21600"/>
                </a:moveTo>
                <a:arcTo wR="7906" hR="21600" stAng="10800000" swAng="5400000"/>
                <a:lnTo>
                  <a:pt x="7906" y="0"/>
                </a:lnTo>
                <a:arcTo wR="7906" hR="21600" stAng="-5400000" swAng="242243"/>
                <a:lnTo>
                  <a:pt x="9403" y="391"/>
                </a:lnTo>
                <a:arcTo wR="7906" hR="21600" stAng="-5642243" swAng="-5157757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64B2-80A2-477E-8A83-A215C2A5B63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3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4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5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6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7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8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9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0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7068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8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9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A727-EE80-4A00-AE95-DBA3B06C943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3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4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5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6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7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8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9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67800" y="156528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510552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5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6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828800" y="4267080"/>
            <a:ext cx="3352680" cy="1295640"/>
          </a:xfrm>
          <a:custGeom>
            <a:avLst/>
            <a:gdLst/>
            <a:ahLst/>
            <a:rect l="l" t="t" r="r" b="b"/>
            <a:pathLst>
              <a:path w="2112" h="816">
                <a:moveTo>
                  <a:pt x="17" y="114"/>
                </a:moveTo>
                <a:cubicBezTo>
                  <a:pt x="39" y="106"/>
                  <a:pt x="28" y="108"/>
                  <a:pt x="50" y="108"/>
                </a:cubicBezTo>
                <a:lnTo>
                  <a:pt x="720" y="0"/>
                </a:lnTo>
                <a:lnTo>
                  <a:pt x="1680" y="0"/>
                </a:lnTo>
                <a:lnTo>
                  <a:pt x="2112" y="144"/>
                </a:lnTo>
                <a:lnTo>
                  <a:pt x="2112" y="720"/>
                </a:lnTo>
                <a:lnTo>
                  <a:pt x="1728" y="816"/>
                </a:lnTo>
                <a:lnTo>
                  <a:pt x="624" y="768"/>
                </a:lnTo>
                <a:lnTo>
                  <a:pt x="48" y="720"/>
                </a:lnTo>
                <a:lnTo>
                  <a:pt x="0" y="384"/>
                </a:lnTo>
                <a:lnTo>
                  <a:pt x="17" y="11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F6C-695B-4563-89DC-3ADF857441E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0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1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2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3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4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5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6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7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590920" y="36576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352680" y="5105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68880" y="156528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666880" y="51055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9DE-3007-47C7-BE7B-DFC9DDCDB5D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few people got this detail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29718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49920" y="5023080"/>
            <a:ext cx="85896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35600" y="4343400"/>
            <a:ext cx="130716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3505320"/>
            <a:ext cx="2286000" cy="14158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67000" y="2289240"/>
            <a:ext cx="92736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10280" y="29718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648320" y="2742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4" idx="0"/>
            <a:endCxn id="63" idx="3"/>
          </p:cNvCxnSpPr>
          <p:nvPr/>
        </p:nvCxnSpPr>
        <p:spPr>
          <a:xfrm flipH="1" flipV="1">
            <a:off x="1676160" y="3615480"/>
            <a:ext cx="3600" cy="140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5" idx="0"/>
            <a:endCxn id="68" idx="3"/>
          </p:cNvCxnSpPr>
          <p:nvPr/>
        </p:nvCxnSpPr>
        <p:spPr>
          <a:xfrm flipV="1">
            <a:off x="7389360" y="3616200"/>
            <a:ext cx="252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63" idx="0"/>
            <a:endCxn id="67" idx="1"/>
          </p:cNvCxnSpPr>
          <p:nvPr/>
        </p:nvCxnSpPr>
        <p:spPr>
          <a:xfrm flipH="1" flipV="1" rot="5400000">
            <a:off x="2692800" y="1501920"/>
            <a:ext cx="453240" cy="248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" name=""/>
          <p:cNvCxnSpPr>
            <a:stCxn id="68" idx="0"/>
            <a:endCxn id="67" idx="3"/>
          </p:cNvCxnSpPr>
          <p:nvPr/>
        </p:nvCxnSpPr>
        <p:spPr>
          <a:xfrm flipV="1" rot="16200000">
            <a:off x="6018480" y="1598400"/>
            <a:ext cx="453240" cy="2293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" name=""/>
          <p:cNvCxnSpPr>
            <a:stCxn id="64" idx="3"/>
            <a:endCxn id="66" idx="2"/>
          </p:cNvCxnSpPr>
          <p:nvPr/>
        </p:nvCxnSpPr>
        <p:spPr>
          <a:xfrm flipV="1">
            <a:off x="2114640" y="4920840"/>
            <a:ext cx="2534400" cy="332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" name=""/>
          <p:cNvSpPr/>
          <p:nvPr/>
        </p:nvSpPr>
        <p:spPr>
          <a:xfrm>
            <a:off x="5415840" y="1508760"/>
            <a:ext cx="1190520" cy="649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7" idx="0"/>
            <a:endCxn id="75" idx="2"/>
          </p:cNvCxnSpPr>
          <p:nvPr/>
        </p:nvCxnSpPr>
        <p:spPr>
          <a:xfrm flipV="1">
            <a:off x="4630320" y="1832760"/>
            <a:ext cx="81828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107-CB47-4F44-8945-AD0FBF89D7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3a:  Custom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3b: AC, BC, B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people got it right !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4F5-7F5A-4082-86B9-3AD741B0E6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4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880" y="2743200"/>
            <a:ext cx="7970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/db/website[document/author/text()="John Smith"]/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9437-9C5A-44DE-8DB8-357A818292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4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was the hard question: very few got it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: the question had a second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4440" y="2438280"/>
            <a:ext cx="572652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r $r in /db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t $a = distinct-values(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for $w in $r/websit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$x in $w/document/auhtor/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where count(distinct-values($w/docu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                 [author/text()=$x]/word/text())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            &gt; 5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return $x 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r $z in $a return &lt;author&gt; $z &lt;/author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1CBF-286A-471B-8202-FBC24E6A88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4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was easy, yet few got it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 of tim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71920" y="2971800"/>
            <a:ext cx="4392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ebsite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url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ocument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docI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, url, auth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ord(docID, 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ref(docID, h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52C6-F6B6-4345-A019-890A721BF0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mgubanov</cp:lastModifiedBy>
  <dcterms:modified xsi:type="dcterms:W3CDTF">2003-11-10T06:27:57Z</dcterms:modified>
  <cp:revision>283</cp:revision>
  <dc:subject/>
  <dc:title>Lecture 09:</dc:title>
</cp:coreProperties>
</file>