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F718-1F0C-4099-A7B6-9FD44F86E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6A5-BDFC-410D-980F-46FC0034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C54-0255-437A-8C92-F907C694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11CB-480B-4D54-953B-9B4EDA1FF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E10-229C-4440-8240-214B2134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FDD-C150-42AC-9334-6D078EC3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D505-9E27-41D2-AF8C-FB800CB5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C63-CF4C-4240-9F78-7AE438FFC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7D7A-FF1F-4032-9630-2403C187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D40-3E06-4989-AA10-0E12EAC0E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A99-88E8-409F-8CEB-3BD97778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E57-B726-4C28-AF7C-99E40942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4E1-0709-4C5E-95DF-6743158D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230C-5D39-4BB1-83DC-378ED1DBC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6587-3E7E-4B17-AFF5-98886626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C74-249B-4A15-AA00-82430B3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92B-6B25-4353-843F-B4978BBA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736-02AD-4D5E-8B08-CDE93522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3B4-7748-49AA-98E7-60419341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D63-AD19-4E47-A1C5-B7ED91A5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AFE-908D-4749-9D5E-731D62A2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F62-873F-4F9B-9767-49DEE7F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E28-F5DC-4180-BACF-2963A36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5EE-2060-43D8-93C4-F39ACC7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C0C-BAD0-4C91-9FE3-5D93860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6C8-E34C-4DA1-A6CD-564BA89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8EB-CADF-48B0-BF78-0455710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A23-CB85-4C1B-9113-A1A98DDD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7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7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9E7-2FD4-410A-9354-F947945E65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50*250MB = 625GB – larger than the 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94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97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4560" y="6099480"/>
            <a:ext cx="600552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3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30C-2ECE-45A8-A33C-17F493FEDC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19C-3D03-4E1C-A333-A38E464B78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C68-BD77-40B2-93AD-62A1A6CEF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Data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is represented as a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8920" y="2819520"/>
            <a:ext cx="7858800" cy="23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INT PRIMARY 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VARCHAR(2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r CHAR(10) REFERENCES Company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AE1-86CA-4481-8B92-DE271B53C8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attributes inside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records inside the bl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3CA-2DF8-4545-9DFC-E1E08C6A4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Formats:  Fixed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field types same for all records in a file; stored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ta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requires scan of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e the importance of schema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3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H="1" flipV="1">
            <a:off x="18284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80880" y="3863880"/>
            <a:ext cx="254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4571640" y="327636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40920" y="3862440"/>
            <a:ext cx="28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558-5F47-47EF-9F12-D253BA2345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55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1430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447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3480" y="133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32080" y="179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30280" y="35463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00120" y="4308480"/>
            <a:ext cx="57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head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ma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hile new+old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from different relations may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6160" y="3200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6DA-D1DB-478E-8DD9-D610FD5DB9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284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8100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8100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88800" y="4800600"/>
            <a:ext cx="58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xed fields first: 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variable length fields: F2, F3, F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values take 2 by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y take 0 bytes (when at the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44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895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8954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3"/>
            <a:endCxn id="286" idx="3"/>
          </p:cNvCxnSpPr>
          <p:nvPr/>
        </p:nvCxnSpPr>
        <p:spPr>
          <a:xfrm flipH="1" flipV="1" rot="5400000">
            <a:off x="3969000" y="612360"/>
            <a:ext cx="65520" cy="4631040"/>
          </a:xfrm>
          <a:prstGeom prst="bentConnector4">
            <a:avLst>
              <a:gd name="adj1" fmla="val -830939"/>
              <a:gd name="adj2" fmla="val 100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endCxn id="285" idx="3"/>
          </p:cNvCxnSpPr>
          <p:nvPr/>
        </p:nvCxnSpPr>
        <p:spPr>
          <a:xfrm flipV="1">
            <a:off x="1424160" y="2895120"/>
            <a:ext cx="3142080" cy="65520"/>
          </a:xfrm>
          <a:prstGeom prst="bentConnector5">
            <a:avLst>
              <a:gd name="adj1" fmla="val 550"/>
              <a:gd name="adj2" fmla="val -1517679"/>
              <a:gd name="adj3" fmla="val 995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161-0FD2-4320-A7C1-9A8FE8B94EE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s With Repeating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35280" y="2521080"/>
            <a:ext cx="5244840" cy="749160"/>
            <a:chOff x="1835280" y="2521080"/>
            <a:chExt cx="5244840" cy="749160"/>
          </a:xfrm>
        </p:grpSpPr>
        <p:sp>
          <p:nvSpPr>
            <p:cNvPr id="318" name=""/>
            <p:cNvSpPr/>
            <p:nvPr/>
          </p:nvSpPr>
          <p:spPr>
            <a:xfrm>
              <a:off x="18352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6880" y="2521080"/>
              <a:ext cx="135864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8480" y="2521080"/>
              <a:ext cx="173988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0960" y="2521080"/>
              <a:ext cx="74916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26620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8288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61480" y="26528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5720" y="26510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252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61480" y="204300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85720" y="204156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990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14400" y="1752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43000" y="29710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87480" y="1371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hea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3733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3886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40080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61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0862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73911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620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724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108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18520" y="5375160"/>
            <a:ext cx="66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e.g. in Object Relational system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ancy representations of many-man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E32-AB57-4300-B7B2-6A24F9020C0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Records in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s have fixed size (typically 4k – 8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3429000"/>
            <a:ext cx="7467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337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429000"/>
            <a:ext cx="213336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4876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5638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15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57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15328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39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7256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5360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6400" y="286056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784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EEC-6A41-483B-B39B-56DC3BFF41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 (chapter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CE7-19D1-4B33-8C66-087A95442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nning Records Across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cords are very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medium size: saves space in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290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3429000"/>
            <a:ext cx="3505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81280" y="3429000"/>
            <a:ext cx="914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3429000"/>
            <a:ext cx="3812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7000" y="2705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1320" y="27432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14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5776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48680" y="3622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91680" y="3546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4290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19520" y="4724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864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74320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486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2CD-9974-4DBA-ACF9-C4E0A356F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larg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by modern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mages, s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: attempt to cluster block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B = character large obj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only restricted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176-03A6-48D7-B73E-D62581EA11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unsorted: add it to the end (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the right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: we are lucky, store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space in a neighboring blo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1-2 blocks to the left/right, shift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thing else fails, crea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flow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E07-BE19-4B66-AAA8-70A7FB1C6F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while the file starts being dominated by overflow blocks: time to reorga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86400" y="2286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8098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322-360A-4623-8C41-3DE92AE12B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in block, shift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 be able to eliminate an overflow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ever really eliminate the record, because others may point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a tombstone instead (a NULL rec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88A-39DA-4FC7-B561-E7E07344FC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s: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w record is shorter than previous, eas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longer, need to shift records, create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C00-073E-4FAD-A677-3D6270D075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and each record have a physical address that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ck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ck with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cords: an offset 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this is in the block’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EB2-56C9-479C-A8D2-4A916CD6A2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ddress: a string of bytes (10-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: can blocks/records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eed translation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523880" y="396252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5C5-1C47-4FA5-A001-700766C577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 Add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block is read in main memory, it receives a main memory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nother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523880" y="4114800"/>
          <a:ext cx="5715000" cy="207000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al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0B8-C00C-4B21-BDD2-C8C1AE1946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: 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he process of replacing a physical/logical pointer with a main memory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 translation table, but subsequent references are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E02-B560-4E0A-8D9A-8EF050C8D9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475-9F42-4730-A7DA-839AB2EC658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91120" y="25909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212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000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05240" y="27050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6840" y="270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65960" y="2022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56880" y="19461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3000" y="510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67080" y="48006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4844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86320" y="491508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67280" y="3657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78600" y="3851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49840" y="2502000"/>
            <a:ext cx="58428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276720"/>
            <a:ext cx="2819520" cy="53316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1776" y="0"/>
                </a:moveTo>
                <a:cubicBezTo>
                  <a:pt x="1704" y="120"/>
                  <a:pt x="1632" y="240"/>
                  <a:pt x="1392" y="288"/>
                </a:cubicBezTo>
                <a:cubicBezTo>
                  <a:pt x="1152" y="336"/>
                  <a:pt x="568" y="328"/>
                  <a:pt x="336" y="288"/>
                </a:cubicBezTo>
                <a:cubicBezTo>
                  <a:pt x="104" y="248"/>
                  <a:pt x="52" y="1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7242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368" y="200"/>
                </a:moveTo>
                <a:cubicBezTo>
                  <a:pt x="324" y="108"/>
                  <a:pt x="280" y="16"/>
                  <a:pt x="224" y="8"/>
                </a:cubicBezTo>
                <a:cubicBezTo>
                  <a:pt x="168" y="0"/>
                  <a:pt x="64" y="120"/>
                  <a:pt x="32" y="152"/>
                </a:cubicBezTo>
                <a:cubicBezTo>
                  <a:pt x="0" y="184"/>
                  <a:pt x="16" y="192"/>
                  <a:pt x="3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3429000"/>
            <a:ext cx="2819520" cy="2171880"/>
          </a:xfrm>
          <a:custGeom>
            <a:avLst/>
            <a:gdLst/>
            <a:ahLst/>
            <a:rect l="l" t="t" r="r" b="b"/>
            <a:pathLst>
              <a:path w="1776" h="1368">
                <a:moveTo>
                  <a:pt x="1776" y="1296"/>
                </a:moveTo>
                <a:cubicBezTo>
                  <a:pt x="1348" y="1332"/>
                  <a:pt x="920" y="1368"/>
                  <a:pt x="624" y="1152"/>
                </a:cubicBezTo>
                <a:cubicBezTo>
                  <a:pt x="328" y="936"/>
                  <a:pt x="164" y="4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90920" y="5334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wizz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190512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19320" y="4343400"/>
            <a:ext cx="586728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E4F-21D7-44B9-8044-FA6BCDAE97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block is read in main memory, swizzle all pointers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dem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wizzle only when user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wizz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ways use transl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77E-9644-4AE1-8412-8D42764F45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er Swizz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blocks return to disk: pointers need unswizz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: someone else may point to this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ned blocks: we don’t allow it to retur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 list of references to thi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D7C-1DD9-4295-BCAC-4EE0D2950C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3B3-C484-4BAD-B14B-54E411755B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D42-BDB3-46CD-A2DA-E79EB938CB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205-36F3-4EB2-8570-05D454E270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CA5-B0FE-4EC5-9B7B-D9FDCC93FE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85B-2213-4BE5-80AD-5C9598E9D9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3B3-E157-4A16-B377-C60B16D887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81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84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3040" y="3200400"/>
            <a:ext cx="3182040" cy="652680"/>
          </a:xfrm>
          <a:prstGeom prst="wedgeEllipseCallout">
            <a:avLst>
              <a:gd name="adj1" fmla="val 960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880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B36-C5FC-47DA-AC61-59967290C9EE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93A-65A0-43D2-8051-F0A389ED89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CE6-2627-4536-BD72-06BC058748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F2D-653A-4149-B90B-7290844F05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0600" y="32418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52640" y="3200400"/>
            <a:ext cx="320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=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0CF-930C-45FB-BB3D-860D4D4166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Search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of length L = 2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of length L = 4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of length L = 1GB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860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0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766-7B9E-4C41-AEA5-3F351AB3A7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56E-4E17-43C2-BC5B-7DAD23D6F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9EF-A2BA-44C9-B12D-FA6A8FA43E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23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26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703-B64B-4A1E-9D86-750DDD69D0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154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157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DD2-B90E-47E5-AD41-BEA2455A28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07T04:57:59Z</dcterms:modified>
  <cp:revision>238</cp:revision>
  <dc:subject/>
  <dc:title>Lecture 09:</dc:title>
</cp:coreProperties>
</file>