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CF4D-982D-46D1-A669-4BF7FF3E7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CE22-822B-442D-BD88-FE848129B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D0CB-0425-4450-AA7D-0202294BC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4319-0C90-4931-A6E2-2D5C1DE68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ACE1-0FE0-4EDB-8C8B-1FAD0A0C5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14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C90E-5355-4CEF-AA55-2841B91A3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0EFF-B8DF-4768-9A70-4CDD332D9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549A-49AE-40E7-971C-29B86FC02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1106-FF0D-4059-85FC-C5EEF92AE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2531-499B-40EF-B952-E1A030628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DB5A-F77A-44C5-9B89-AE27E3047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-1440" y="8685360"/>
            <a:ext cx="297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-1440" y="-144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A123-307C-42B7-A9DB-62650A6D7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BBC-9E13-44B9-9DC8-8290FC2E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DE7-CA11-4303-A1E4-97C4D33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ED7-B543-4BBC-A890-83EC69FC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374-C52E-49F1-B53F-ED1A178D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B4F-88EA-4DC9-A4C8-5E084818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D90-B377-452F-BE81-7C87674C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A3F-F5A6-43EA-A0BF-E156693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7F5-5E32-4950-B6EE-56E55ED7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662-5EA6-4223-B1E2-8FDAFF19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7C1-B894-417A-AC37-713D787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8F4-9EB4-4294-AE5B-DA405AFE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267-12A2-4F6E-B6E3-1DDD58DD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773B-60ED-485F-BC64-2B75CDE73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6: 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November 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F20-D875-42F6-8301-E80D3059DE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0480" y="1828800"/>
            <a:ext cx="8701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ages buffer poo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pool provides space for a lim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ges from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decide on page replacement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he higher levels of the DBMS to assume th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data is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242-299F-4110-BD97-88B6165E97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6880" y="1600200"/>
            <a:ext cx="7239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y not use the Operating System for the tas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may be able to anticipat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ccess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nce, may also be able to perfor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BMS needs the ability t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to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C35-D891-417B-8D51-453EF2CAA1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ti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es or optical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slow: used for long term archiving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CCF-0C47-4BE1-AC30-EDA69EC02D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s of D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speed (5400R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latters (1-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cks (&lt;=10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ytes/track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208480" y="2787480"/>
            <a:ext cx="3149640" cy="1801800"/>
            <a:chOff x="5208480" y="2787480"/>
            <a:chExt cx="3149640" cy="1801800"/>
          </a:xfrm>
        </p:grpSpPr>
        <p:sp>
          <p:nvSpPr>
            <p:cNvPr id="150" name=""/>
            <p:cNvSpPr/>
            <p:nvPr/>
          </p:nvSpPr>
          <p:spPr>
            <a:xfrm>
              <a:off x="5208480" y="337464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8480" y="278748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81480" y="2057400"/>
            <a:ext cx="3176640" cy="4594320"/>
            <a:chOff x="5181480" y="2057400"/>
            <a:chExt cx="3176640" cy="4594320"/>
          </a:xfrm>
        </p:grpSpPr>
        <p:grpSp>
          <p:nvGrpSpPr>
            <p:cNvPr id="153" name=""/>
            <p:cNvGrpSpPr/>
            <p:nvPr/>
          </p:nvGrpSpPr>
          <p:grpSpPr>
            <a:xfrm>
              <a:off x="5181480" y="2735280"/>
              <a:ext cx="3176640" cy="3916440"/>
              <a:chOff x="5181480" y="2735280"/>
              <a:chExt cx="3176640" cy="39164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208480" y="3322800"/>
                <a:ext cx="3149640" cy="1214280"/>
                <a:chOff x="5208480" y="3322800"/>
                <a:chExt cx="3149640" cy="1214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208480" y="33228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299200" y="34146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43560" y="35179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208480" y="2735280"/>
                <a:ext cx="3149640" cy="1216080"/>
                <a:chOff x="5208480" y="2735280"/>
                <a:chExt cx="3149640" cy="1216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208480" y="27352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299200" y="28274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443560" y="29322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5181480" y="54356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181480" y="5370480"/>
              <a:ext cx="3164040" cy="1216080"/>
              <a:chOff x="5181480" y="5370480"/>
              <a:chExt cx="3164040" cy="1216080"/>
            </a:xfrm>
          </p:grpSpPr>
          <p:sp>
            <p:nvSpPr>
              <p:cNvPr id="164" name=""/>
              <p:cNvSpPr/>
              <p:nvPr/>
            </p:nvSpPr>
            <p:spPr>
              <a:xfrm>
                <a:off x="5181480" y="53704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86240" y="54752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29160" y="55674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462720" y="2057400"/>
              <a:ext cx="681120" cy="3994200"/>
              <a:chOff x="6462720" y="2057400"/>
              <a:chExt cx="681120" cy="3994200"/>
            </a:xfrm>
          </p:grpSpPr>
          <p:sp>
            <p:nvSpPr>
              <p:cNvPr id="168" name=""/>
              <p:cNvSpPr/>
              <p:nvPr/>
            </p:nvSpPr>
            <p:spPr>
              <a:xfrm>
                <a:off x="6553080" y="22399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53080" y="20574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53080" y="45878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62720" y="23446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7050240" y="2344680"/>
            <a:ext cx="171360" cy="17136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94320" y="33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94320" y="39355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94320" y="60228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94320" y="44974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594320" y="33224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78400" y="59850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78400" y="32828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78400" y="39099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38960" y="4776840"/>
            <a:ext cx="834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21600" y="43005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121600" y="5084640"/>
            <a:ext cx="39204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79800" y="2049480"/>
            <a:ext cx="823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46920" y="21844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67320" y="2365200"/>
            <a:ext cx="1036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889160" y="4708440"/>
            <a:ext cx="1480320" cy="519480"/>
            <a:chOff x="4889160" y="4708440"/>
            <a:chExt cx="1480320" cy="519480"/>
          </a:xfrm>
        </p:grpSpPr>
        <p:sp>
          <p:nvSpPr>
            <p:cNvPr id="188" name=""/>
            <p:cNvSpPr/>
            <p:nvPr/>
          </p:nvSpPr>
          <p:spPr>
            <a:xfrm>
              <a:off x="4943520" y="47084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89160" y="4907160"/>
              <a:ext cx="1480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731760" y="5670720"/>
            <a:ext cx="1396800" cy="798480"/>
            <a:chOff x="3731760" y="5670720"/>
            <a:chExt cx="1396800" cy="798480"/>
          </a:xfrm>
        </p:grpSpPr>
        <p:sp>
          <p:nvSpPr>
            <p:cNvPr id="191" name=""/>
            <p:cNvSpPr/>
            <p:nvPr/>
          </p:nvSpPr>
          <p:spPr>
            <a:xfrm>
              <a:off x="3731760" y="6148440"/>
              <a:ext cx="1396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1120" y="56707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183280" y="25923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675560" y="2255760"/>
            <a:ext cx="1291320" cy="792360"/>
            <a:chOff x="7675560" y="2255760"/>
            <a:chExt cx="1291320" cy="792360"/>
          </a:xfrm>
        </p:grpSpPr>
        <p:sp>
          <p:nvSpPr>
            <p:cNvPr id="195" name=""/>
            <p:cNvSpPr/>
            <p:nvPr/>
          </p:nvSpPr>
          <p:spPr>
            <a:xfrm>
              <a:off x="7765920" y="25639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675560" y="2255760"/>
              <a:ext cx="1291320" cy="701640"/>
              <a:chOff x="7675560" y="2255760"/>
              <a:chExt cx="1291320" cy="701640"/>
            </a:xfrm>
          </p:grpSpPr>
          <p:sp>
            <p:nvSpPr>
              <p:cNvPr id="197" name=""/>
              <p:cNvSpPr/>
              <p:nvPr/>
            </p:nvSpPr>
            <p:spPr>
              <a:xfrm>
                <a:off x="8207280" y="2255760"/>
                <a:ext cx="7596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75560" y="25639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8199360" y="31273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07440" y="3200400"/>
            <a:ext cx="738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46920" y="31273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72520" y="30751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09360" y="1676520"/>
            <a:ext cx="887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2057400"/>
            <a:ext cx="7632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8DE-0387-446E-B9F3-157CCA6862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Access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Disk lat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ime between when command is issued and when data is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latency = seek time + rotational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time = time for the head to reach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 – 4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latency = time for the sector to 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time = 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latency = 10m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time = typically 4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s read/write one block at a time (typically 4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9D3-C911-4119-8DA8-BF1964D1FF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have N tracks, what is the average seek ti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from cylinder x to y takes time |x-y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419200" y="3781440"/>
                <a:ext cx="362124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CD2-A82E-4A79-AA54-8D7EBD34B4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/O Model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in memory: CPU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nota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atabases time is dominated by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O too, but for I/O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big O becomes a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need to redesign certai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orting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C52-FA80-4159-9595-72CE94994E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sort 1 GB of data with 1MB of 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we need th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(ORDER 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group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ep in sort-merge joi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loading of B+-tree index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743-02A0-4BAA-8114-31A814A30D4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0" y="449568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245200"/>
            <a:ext cx="457200" cy="228600"/>
          </a:xfrm>
          <a:prstGeom prst="rect">
            <a:avLst/>
          </a:prstGeom>
          <a:solidFill>
            <a:srgbClr val="f6bf69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Way Merge-so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s 3 Buffers in 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1: Read a page, sort it, wri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2, 3, …, etc.: merge two runs, writ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93000" y="413856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7720" y="453564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47720" y="528336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09840" y="416736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35200" y="5603760"/>
            <a:ext cx="27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02440" y="4834080"/>
            <a:ext cx="1055880" cy="13788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16840" y="5065560"/>
            <a:ext cx="1055520" cy="12564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428148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475776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0600" y="512460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62520"/>
            <a:ext cx="3434040" cy="228600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20880" y="431964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20880" y="5164200"/>
            <a:ext cx="99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64360" y="4767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41840" y="57164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90280" y="574524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447920" y="5334120"/>
            <a:ext cx="1449000" cy="304200"/>
            <a:chOff x="1447920" y="5334120"/>
            <a:chExt cx="1449000" cy="304200"/>
          </a:xfrm>
        </p:grpSpPr>
        <p:sp>
          <p:nvSpPr>
            <p:cNvPr id="241" name=""/>
            <p:cNvSpPr/>
            <p:nvPr/>
          </p:nvSpPr>
          <p:spPr>
            <a:xfrm>
              <a:off x="15256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479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934320" y="5334120"/>
            <a:ext cx="1449000" cy="304200"/>
            <a:chOff x="6934320" y="5334120"/>
            <a:chExt cx="1449000" cy="304200"/>
          </a:xfrm>
        </p:grpSpPr>
        <p:sp>
          <p:nvSpPr>
            <p:cNvPr id="244" name=""/>
            <p:cNvSpPr/>
            <p:nvPr/>
          </p:nvSpPr>
          <p:spPr>
            <a:xfrm>
              <a:off x="701208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4320" y="533412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01028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4267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5334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800600" y="50288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3040" y="3200400"/>
            <a:ext cx="3182040" cy="652680"/>
          </a:xfrm>
          <a:prstGeom prst="wedgeEllipseCallout">
            <a:avLst>
              <a:gd name="adj1" fmla="val 9601"/>
              <a:gd name="adj2" fmla="val 855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8800" y="2895480"/>
            <a:ext cx="3398760" cy="652680"/>
          </a:xfrm>
          <a:prstGeom prst="wedgeEllipseCallout">
            <a:avLst>
              <a:gd name="adj1" fmla="val 12009"/>
              <a:gd name="adj2" fmla="val 13588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length 2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9EE-2EFA-416A-8785-EB6A4FDC2840}" type="slidenum">
              <a:t>1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144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Way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block size is B = 4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ns of length L = 4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ns of length L = 8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ns of length L = 16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9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ns of length L = 1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9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ns of length L = 1GB   (why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8600" y="6099480"/>
            <a:ext cx="6157800" cy="4597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19 iterations over the disk data to sort 1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848-BCC9-483F-A953-B722AE3DBC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ory hierarchy – 1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 –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– 1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2964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14040" tIns="-913680" bIns="-913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182-0FA2-4DA0-8589-669718622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Do Bet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nt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1MB of main memory, but only used 12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2DE-E7EE-4F18-977F-FB1A4FF9E0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size  (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= 4K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main memory  (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= 1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ecords in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one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3B1-2A38-4114-9DB1-59DC59D8ACF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-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ne: load M bytes in memory,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runs of length M bytes (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1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283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286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8520" y="3921120"/>
            <a:ext cx="100188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867280" y="4474800"/>
            <a:ext cx="917640" cy="2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3429000"/>
            <a:ext cx="2590560" cy="205740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47B-622C-45EE-ABA4-217E9C57BA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  (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50 ru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 bytes (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50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314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317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7C9-1963-4EFC-8EC4-DB9A13D9979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M/B – 1 runs into a new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runs of length M (M/B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 (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625G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61160" y="3487680"/>
            <a:ext cx="1393920" cy="254160"/>
          </a:xfrm>
          <a:custGeom>
            <a:avLst/>
            <a:gdLst/>
            <a:ahLst/>
            <a:rect l="l" t="t" r="r" b="b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22480" y="387684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22480" y="4876920"/>
            <a:ext cx="1128600" cy="166680"/>
          </a:xfrm>
          <a:custGeom>
            <a:avLst/>
            <a:gdLst/>
            <a:ahLst/>
            <a:rect l="l" t="t" r="r" b="b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76320" y="3522600"/>
            <a:ext cx="1387440" cy="265320"/>
          </a:xfrm>
          <a:custGeom>
            <a:avLst/>
            <a:gdLst/>
            <a:ahLst/>
            <a:rect l="l" t="t" r="r" b="b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5459400"/>
            <a:ext cx="325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 bytes of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7080" y="3962520"/>
            <a:ext cx="1119240" cy="156960"/>
          </a:xfrm>
          <a:custGeom>
            <a:avLst/>
            <a:gdLst/>
            <a:ahLst/>
            <a:rect l="l" t="t" r="r" b="b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91480" y="424332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1520" y="3276720"/>
            <a:ext cx="3625920" cy="2492280"/>
          </a:xfrm>
          <a:custGeom>
            <a:avLst/>
            <a:gdLst/>
            <a:ahLst/>
            <a:rect l="l" t="t" r="r" b="b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84520" y="531972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21920" y="5353200"/>
            <a:ext cx="68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216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59080" y="364500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911160" y="4940640"/>
            <a:ext cx="1530000" cy="367200"/>
            <a:chOff x="911160" y="4940640"/>
            <a:chExt cx="1530000" cy="367200"/>
          </a:xfrm>
        </p:grpSpPr>
        <p:sp>
          <p:nvSpPr>
            <p:cNvPr id="354" name=""/>
            <p:cNvSpPr/>
            <p:nvPr/>
          </p:nvSpPr>
          <p:spPr>
            <a:xfrm>
              <a:off x="99360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11160" y="4940640"/>
              <a:ext cx="1447560" cy="36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7"/>
                  </a:moveTo>
                  <a:arcTo wR="10800" hR="10800" stAng="-29507" swAng="542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7"/>
                  </a:moveTo>
                  <a:arcTo wR="10800" hR="10800" stAng="-29507" swAng="5429507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697440" y="4874040"/>
            <a:ext cx="1536120" cy="348480"/>
            <a:chOff x="6697440" y="4874040"/>
            <a:chExt cx="1536120" cy="348480"/>
          </a:xfrm>
        </p:grpSpPr>
        <p:sp>
          <p:nvSpPr>
            <p:cNvPr id="357" name=""/>
            <p:cNvSpPr/>
            <p:nvPr/>
          </p:nvSpPr>
          <p:spPr>
            <a:xfrm>
              <a:off x="6780240" y="4874040"/>
              <a:ext cx="145332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97440" y="4874040"/>
              <a:ext cx="1454040" cy="34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02"/>
                  </a:moveTo>
                  <a:arcTo wR="10800" hR="10800" stAng="-31110" swAng="543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02"/>
                  </a:moveTo>
                  <a:arcTo wR="10800" hR="10800" stAng="-31110" swAng="5431110"/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78492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51840" y="3645000"/>
            <a:ext cx="0" cy="139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198520" y="3736800"/>
            <a:ext cx="10461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98520" y="429084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51400" y="3921120"/>
            <a:ext cx="64296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451400" y="4568400"/>
            <a:ext cx="642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40520" y="447516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22480" y="4154400"/>
            <a:ext cx="1098360" cy="182520"/>
          </a:xfrm>
          <a:custGeom>
            <a:avLst/>
            <a:gdLst/>
            <a:ahLst/>
            <a:rect l="l" t="t" r="r" b="b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9520" y="4937040"/>
            <a:ext cx="9651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51400" y="4290840"/>
            <a:ext cx="642960" cy="18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10280" y="4060800"/>
            <a:ext cx="822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91480" y="4797360"/>
            <a:ext cx="1120680" cy="142920"/>
          </a:xfrm>
          <a:custGeom>
            <a:avLst/>
            <a:gdLst/>
            <a:ahLst/>
            <a:rect l="l" t="t" r="r" b="b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01680" y="4062240"/>
            <a:ext cx="857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1760" y="4956480"/>
            <a:ext cx="146088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M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34322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4118040"/>
            <a:ext cx="14475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66880" y="44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25320" y="4194360"/>
            <a:ext cx="1028160" cy="459720"/>
          </a:xfrm>
          <a:prstGeom prst="rect">
            <a:avLst/>
          </a:prstGeom>
          <a:solidFill>
            <a:srgbClr val="f6bf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C0B-655B-4E16-BF5D-CBE2C67906A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ata can we sort with 10MB 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MB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s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5GB data    (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/B = 25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everything in 2 or 3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590840" y="2209680"/>
                <a:ext cx="36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/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ze/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D25-3E33-4D29-9C83-5C493378A7A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l in the XML toolkit sorts using thi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ort 1GB of XML data in about 8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D97-43A9-4639-AA4B-1227E59275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on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organization (brie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E4A-8EA8-4559-92A3-BC76679414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age and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store efficiently large amounts of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ropriate storage depends on what kind of accesses we expect to have to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storage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indexes (very very importa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EA4-1A58-42E9-8F9F-645FF0CACC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Model for Ou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ood approximation, we ignore CPU c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data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records per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verage) time to read or write disk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ing number of page I/O’s ignores gains of pre-fetching blocks of pages; thus, even I/O cost is only approximate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-case analysis; based on several simplistic assum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960" y="1828800"/>
            <a:ext cx="95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a DBM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large amoun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queries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multiple users to access the database concurrently and saf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durability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will we do all thi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4B2-82A5-43B8-B244-E3CBD24DE1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Organizations and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quality selection on key; exactly one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sert always at end of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ed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iles compacted after dele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lections on sort field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ed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No overflow buckets, 80% page occupanc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Single record insert and de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Oper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47800" y="2274840"/>
          <a:ext cx="8175600" cy="32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274840"/>
                    <a:ext cx="817560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052640" y="5775480"/>
            <a:ext cx="26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2286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i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4320" y="1217880"/>
            <a:ext cx="3362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compiler/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19810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38862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2895480"/>
            <a:ext cx="2438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87692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5791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62485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4760" y="2057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68920" y="30132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/record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7400" y="39625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1080" y="4952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32480" y="6213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9840"/>
            <a:ext cx="198108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8360" y="6858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360" y="60948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181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1800" y="1488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960" y="198108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2160" y="33177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4760" y="434340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9144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173040"/>
            <a:ext cx="2971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mana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ging/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9810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3962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124080" y="25905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EFD-5EDA-4204-8207-9B7D74724B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800" y="179388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 Memor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s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514600"/>
            <a:ext cx="23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-10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2362320"/>
            <a:ext cx="295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s GB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ti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 a bl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-15 m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, ro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ecords “clo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6200" y="2438280"/>
            <a:ext cx="32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MB/S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 GB typ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sequent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or 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120" y="54864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s time 10 nan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1A8-8C49-442C-9365-F8B2375C8D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est, most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 2GB are common on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atabases could fit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industry trend: Main Memor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 TimesTen, DataBl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ssue is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eed to store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E76-1A1E-4412-888C-1AAB0CBB0F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, cheaper tha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ith a main memory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031-F999-44C2-9E56-10EBEE8CFF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Storage 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705360" cy="46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42F-EF3B-4828-BE59-32ABBAE5B2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anagement in a 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ust be in RAM for DBMS to operate on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&lt;frame#, pageid&gt; pair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RU is not always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2095560"/>
            <a:ext cx="4230720" cy="1720800"/>
            <a:chOff x="2529000" y="2095560"/>
            <a:chExt cx="4230720" cy="1720800"/>
          </a:xfrm>
        </p:grpSpPr>
        <p:sp>
          <p:nvSpPr>
            <p:cNvPr id="109" name=""/>
            <p:cNvSpPr/>
            <p:nvPr/>
          </p:nvSpPr>
          <p:spPr>
            <a:xfrm>
              <a:off x="2541600" y="2108160"/>
              <a:ext cx="4205160" cy="1695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35120" y="2102040"/>
              <a:ext cx="67968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27400" y="2102040"/>
              <a:ext cx="68256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2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16640" y="2102040"/>
              <a:ext cx="6793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08560" y="2102040"/>
              <a:ext cx="681120" cy="17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29000" y="26463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29000" y="326556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9000" y="2095560"/>
              <a:ext cx="6919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6440" y="2095560"/>
              <a:ext cx="69372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10160" y="3265560"/>
              <a:ext cx="692280" cy="55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916440" y="4394160"/>
            <a:ext cx="1317600" cy="689040"/>
            <a:chOff x="3916440" y="4394160"/>
            <a:chExt cx="1317600" cy="689040"/>
          </a:xfrm>
        </p:grpSpPr>
        <p:grpSp>
          <p:nvGrpSpPr>
            <p:cNvPr id="121" name=""/>
            <p:cNvGrpSpPr/>
            <p:nvPr/>
          </p:nvGrpSpPr>
          <p:grpSpPr>
            <a:xfrm>
              <a:off x="3916440" y="4394160"/>
              <a:ext cx="1317600" cy="689040"/>
              <a:chOff x="3916440" y="4394160"/>
              <a:chExt cx="1317600" cy="689040"/>
            </a:xfrm>
          </p:grpSpPr>
          <p:sp>
            <p:nvSpPr>
              <p:cNvPr id="122" name=""/>
              <p:cNvSpPr/>
              <p:nvPr/>
            </p:nvSpPr>
            <p:spPr>
              <a:xfrm>
                <a:off x="3929040" y="439416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29040" y="4929120"/>
                <a:ext cx="1292400" cy="154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164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34040" y="447192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232160" y="4500720"/>
              <a:ext cx="63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488960" y="4167360"/>
            <a:ext cx="2981520" cy="0"/>
          </a:xfrm>
          <a:prstGeom prst="line">
            <a:avLst/>
          </a:prstGeom>
          <a:ln w="1260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0240" y="379080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02320" y="4289400"/>
            <a:ext cx="6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60f9"/>
                </a:solidFill>
                <a:latin typeface="Book Antiqua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54040" y="2270160"/>
            <a:ext cx="1041480" cy="301680"/>
          </a:xfrm>
          <a:custGeom>
            <a:avLst/>
            <a:gdLst/>
            <a:ahLst/>
            <a:rect l="l" t="t" r="r" b="b"/>
            <a:pathLst>
              <a:path w="656" h="190">
                <a:moveTo>
                  <a:pt x="0" y="189"/>
                </a:moveTo>
                <a:lnTo>
                  <a:pt x="3" y="155"/>
                </a:lnTo>
                <a:lnTo>
                  <a:pt x="16" y="135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6" y="6"/>
                </a:lnTo>
                <a:lnTo>
                  <a:pt x="146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8"/>
                </a:lnTo>
                <a:lnTo>
                  <a:pt x="289" y="87"/>
                </a:lnTo>
                <a:lnTo>
                  <a:pt x="317" y="101"/>
                </a:lnTo>
                <a:lnTo>
                  <a:pt x="344" y="114"/>
                </a:lnTo>
                <a:lnTo>
                  <a:pt x="364" y="114"/>
                </a:lnTo>
                <a:lnTo>
                  <a:pt x="391" y="114"/>
                </a:lnTo>
                <a:lnTo>
                  <a:pt x="412" y="114"/>
                </a:lnTo>
                <a:lnTo>
                  <a:pt x="439" y="114"/>
                </a:lnTo>
                <a:lnTo>
                  <a:pt x="467" y="114"/>
                </a:lnTo>
                <a:lnTo>
                  <a:pt x="494" y="108"/>
                </a:lnTo>
                <a:lnTo>
                  <a:pt x="514" y="101"/>
                </a:lnTo>
                <a:lnTo>
                  <a:pt x="549" y="95"/>
                </a:lnTo>
                <a:lnTo>
                  <a:pt x="576" y="81"/>
                </a:lnTo>
                <a:lnTo>
                  <a:pt x="596" y="68"/>
                </a:lnTo>
                <a:lnTo>
                  <a:pt x="617" y="54"/>
                </a:lnTo>
                <a:lnTo>
                  <a:pt x="637" y="41"/>
                </a:lnTo>
                <a:lnTo>
                  <a:pt x="65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5920" y="254808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k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7040" y="2967120"/>
            <a:ext cx="1039680" cy="299880"/>
          </a:xfrm>
          <a:custGeom>
            <a:avLst/>
            <a:gdLst/>
            <a:ahLst/>
            <a:rect l="l" t="t" r="r" b="b"/>
            <a:pathLst>
              <a:path w="655" h="189">
                <a:moveTo>
                  <a:pt x="0" y="188"/>
                </a:moveTo>
                <a:lnTo>
                  <a:pt x="3" y="154"/>
                </a:lnTo>
                <a:lnTo>
                  <a:pt x="16" y="134"/>
                </a:lnTo>
                <a:lnTo>
                  <a:pt x="23" y="114"/>
                </a:lnTo>
                <a:lnTo>
                  <a:pt x="50" y="81"/>
                </a:lnTo>
                <a:lnTo>
                  <a:pt x="71" y="54"/>
                </a:lnTo>
                <a:lnTo>
                  <a:pt x="98" y="33"/>
                </a:lnTo>
                <a:lnTo>
                  <a:pt x="125" y="6"/>
                </a:lnTo>
                <a:lnTo>
                  <a:pt x="145" y="0"/>
                </a:lnTo>
                <a:lnTo>
                  <a:pt x="166" y="0"/>
                </a:lnTo>
                <a:lnTo>
                  <a:pt x="186" y="6"/>
                </a:lnTo>
                <a:lnTo>
                  <a:pt x="207" y="20"/>
                </a:lnTo>
                <a:lnTo>
                  <a:pt x="227" y="33"/>
                </a:lnTo>
                <a:lnTo>
                  <a:pt x="248" y="54"/>
                </a:lnTo>
                <a:lnTo>
                  <a:pt x="268" y="67"/>
                </a:lnTo>
                <a:lnTo>
                  <a:pt x="289" y="87"/>
                </a:lnTo>
                <a:lnTo>
                  <a:pt x="316" y="100"/>
                </a:lnTo>
                <a:lnTo>
                  <a:pt x="343" y="114"/>
                </a:lnTo>
                <a:lnTo>
                  <a:pt x="363" y="114"/>
                </a:lnTo>
                <a:lnTo>
                  <a:pt x="391" y="114"/>
                </a:lnTo>
                <a:lnTo>
                  <a:pt x="411" y="114"/>
                </a:lnTo>
                <a:lnTo>
                  <a:pt x="439" y="114"/>
                </a:lnTo>
                <a:lnTo>
                  <a:pt x="466" y="114"/>
                </a:lnTo>
                <a:lnTo>
                  <a:pt x="493" y="107"/>
                </a:lnTo>
                <a:lnTo>
                  <a:pt x="513" y="100"/>
                </a:lnTo>
                <a:lnTo>
                  <a:pt x="548" y="94"/>
                </a:lnTo>
                <a:lnTo>
                  <a:pt x="575" y="81"/>
                </a:lnTo>
                <a:lnTo>
                  <a:pt x="595" y="67"/>
                </a:lnTo>
                <a:lnTo>
                  <a:pt x="616" y="54"/>
                </a:lnTo>
                <a:lnTo>
                  <a:pt x="636" y="40"/>
                </a:lnTo>
                <a:lnTo>
                  <a:pt x="65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61720" y="32418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147780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98000" y="1038240"/>
            <a:ext cx="509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 Requests from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2960" y="179856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62440" y="4105440"/>
            <a:ext cx="1022400" cy="153720"/>
          </a:xfrm>
          <a:custGeom>
            <a:avLst/>
            <a:gdLst/>
            <a:ahLst/>
            <a:rect l="l" t="t" r="r" b="b"/>
            <a:pathLst>
              <a:path w="644" h="97">
                <a:moveTo>
                  <a:pt x="643" y="96"/>
                </a:moveTo>
                <a:lnTo>
                  <a:pt x="640" y="79"/>
                </a:lnTo>
                <a:lnTo>
                  <a:pt x="627" y="69"/>
                </a:lnTo>
                <a:lnTo>
                  <a:pt x="621" y="58"/>
                </a:lnTo>
                <a:lnTo>
                  <a:pt x="594" y="41"/>
                </a:lnTo>
                <a:lnTo>
                  <a:pt x="573" y="27"/>
                </a:lnTo>
                <a:lnTo>
                  <a:pt x="547" y="17"/>
                </a:lnTo>
                <a:lnTo>
                  <a:pt x="520" y="3"/>
                </a:lnTo>
                <a:lnTo>
                  <a:pt x="500" y="0"/>
                </a:lnTo>
                <a:lnTo>
                  <a:pt x="480" y="0"/>
                </a:lnTo>
                <a:lnTo>
                  <a:pt x="460" y="3"/>
                </a:lnTo>
                <a:lnTo>
                  <a:pt x="439" y="10"/>
                </a:lnTo>
                <a:lnTo>
                  <a:pt x="420" y="17"/>
                </a:lnTo>
                <a:lnTo>
                  <a:pt x="399" y="27"/>
                </a:lnTo>
                <a:lnTo>
                  <a:pt x="380" y="34"/>
                </a:lnTo>
                <a:lnTo>
                  <a:pt x="359" y="44"/>
                </a:lnTo>
                <a:lnTo>
                  <a:pt x="332" y="51"/>
                </a:lnTo>
                <a:lnTo>
                  <a:pt x="305" y="58"/>
                </a:lnTo>
                <a:lnTo>
                  <a:pt x="286" y="58"/>
                </a:lnTo>
                <a:lnTo>
                  <a:pt x="259" y="58"/>
                </a:lnTo>
                <a:lnTo>
                  <a:pt x="238" y="58"/>
                </a:lnTo>
                <a:lnTo>
                  <a:pt x="212" y="58"/>
                </a:lnTo>
                <a:lnTo>
                  <a:pt x="185" y="58"/>
                </a:lnTo>
                <a:lnTo>
                  <a:pt x="158" y="55"/>
                </a:lnTo>
                <a:lnTo>
                  <a:pt x="138" y="51"/>
                </a:lnTo>
                <a:lnTo>
                  <a:pt x="104" y="48"/>
                </a:lnTo>
                <a:lnTo>
                  <a:pt x="78" y="41"/>
                </a:lnTo>
                <a:lnTo>
                  <a:pt x="58" y="34"/>
                </a:lnTo>
                <a:lnTo>
                  <a:pt x="38" y="27"/>
                </a:lnTo>
                <a:lnTo>
                  <a:pt x="18" y="21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3440" y="4343400"/>
            <a:ext cx="278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hoice of frame dic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by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eplac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10160" y="3840120"/>
            <a:ext cx="0" cy="549360"/>
          </a:xfrm>
          <a:prstGeom prst="line">
            <a:avLst/>
          </a:prstGeom>
          <a:ln w="255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2B2-AFFB-4A9A-B8F6-303B8D69A4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1-05T05:18:44Z</dcterms:modified>
  <cp:revision>274</cp:revision>
  <dc:subject/>
  <dc:title>Lecture 09:</dc:title>
</cp:coreProperties>
</file>