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FBCA-7B3D-45C2-8098-1399BF38A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9B05-82F7-401B-BCF6-82C8D997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5F70-4A33-48EA-BC58-31AF98AB1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77C7-5E5C-4A5A-A55E-03DECF841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9205-E55D-45D2-8385-91192BDA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D642-6B04-4F16-B2A0-C105B40C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D529-2EFB-4AD3-8BCD-56E13F8F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D6BE-BB04-435E-A5A0-B70577BB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A62F-429E-49EF-AC08-43960AAD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E19F-11FD-4383-84AA-64D29D70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0937-0F03-4DFF-9437-E8F761E1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A4B3-4738-4FCD-A2E5-AD0F1846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27D0-1C3E-4250-8BE2-87383205C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term 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day, October 31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5590-79BD-4C50-98D8-897D171FD58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ng XML as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72000" y="2022480"/>
            <a:ext cx="32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to que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5720" y="2847960"/>
            <a:ext cx="74343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text()=“Chamberlin”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]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/ti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16200000">
            <a:off x="1361880" y="4657320"/>
            <a:ext cx="771480" cy="1209600"/>
          </a:xfrm>
          <a:prstGeom prst="downArrow">
            <a:avLst>
              <a:gd name="adj1" fmla="val 50000"/>
              <a:gd name="adj2" fmla="val 391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30400" y="4252320"/>
            <a:ext cx="57852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94320" y="5014440"/>
            <a:ext cx="9014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698560" y="5591160"/>
            <a:ext cx="10828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54960" y="5623920"/>
            <a:ext cx="76212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68" idx="4"/>
            <a:endCxn id="169" idx="0"/>
          </p:cNvCxnSpPr>
          <p:nvPr/>
        </p:nvCxnSpPr>
        <p:spPr>
          <a:xfrm>
            <a:off x="4119120" y="4757760"/>
            <a:ext cx="2628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9" idx="3"/>
            <a:endCxn id="170" idx="7"/>
          </p:cNvCxnSpPr>
          <p:nvPr/>
        </p:nvCxnSpPr>
        <p:spPr>
          <a:xfrm flipH="1">
            <a:off x="3601440" y="5447880"/>
            <a:ext cx="2466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69" idx="5"/>
            <a:endCxn id="171" idx="1"/>
          </p:cNvCxnSpPr>
          <p:nvPr/>
        </p:nvCxnSpPr>
        <p:spPr>
          <a:xfrm>
            <a:off x="4441320" y="5448240"/>
            <a:ext cx="546480" cy="26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>
            <a:off x="2589840" y="6095880"/>
            <a:ext cx="118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mberlin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99520" y="6095880"/>
            <a:ext cx="11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endCxn id="168" idx="0"/>
          </p:cNvCxnSpPr>
          <p:nvPr/>
        </p:nvCxnSpPr>
        <p:spPr>
          <a:xfrm>
            <a:off x="4114440" y="3962520"/>
            <a:ext cx="540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78" name=""/>
          <p:cNvGrpSpPr/>
          <p:nvPr/>
        </p:nvGrpSpPr>
        <p:grpSpPr>
          <a:xfrm>
            <a:off x="2821320" y="3962520"/>
            <a:ext cx="2809440" cy="2743920"/>
            <a:chOff x="2821320" y="3962520"/>
            <a:chExt cx="2809440" cy="2743920"/>
          </a:xfrm>
        </p:grpSpPr>
        <p:sp>
          <p:nvSpPr>
            <p:cNvPr id="179" name=""/>
            <p:cNvSpPr/>
            <p:nvPr/>
          </p:nvSpPr>
          <p:spPr>
            <a:xfrm>
              <a:off x="4344480" y="3962520"/>
              <a:ext cx="48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xd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96400" y="4648320"/>
              <a:ext cx="69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x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821320" y="5181480"/>
              <a:ext cx="80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xauth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7880" y="5181480"/>
              <a:ext cx="59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xtit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97640" y="6369120"/>
              <a:ext cx="80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vauth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32440" y="6324480"/>
              <a:ext cx="59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vtit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rot="16200000">
            <a:off x="6476760" y="4657320"/>
            <a:ext cx="771480" cy="1209600"/>
          </a:xfrm>
          <a:prstGeom prst="downArrow">
            <a:avLst>
              <a:gd name="adj1" fmla="val 50000"/>
              <a:gd name="adj2" fmla="val 391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3BD9-B6D2-4534-B9AC-F5C4EC690C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ng XML as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4320" y="1828800"/>
            <a:ext cx="32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to que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6040" y="3352680"/>
            <a:ext cx="851544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   Edg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d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dg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dg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dg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Valu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alu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ti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d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source = 0                  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d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tag = ‘db’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d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dest =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source  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tag = ‘book’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dest =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source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tag = ‘author’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dest =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source 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tag = ‘title’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dest =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source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value = ‘Chamberlin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dest =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36800" y="2438280"/>
            <a:ext cx="1521000" cy="58752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980680" y="1828800"/>
            <a:ext cx="3087000" cy="652680"/>
          </a:xfrm>
          <a:prstGeom prst="wedgeEllipseCallout">
            <a:avLst>
              <a:gd name="adj1" fmla="val -27601"/>
              <a:gd name="adj2" fmla="val 17993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6-way join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BC47-8368-4D26-AD58-5BD019FA93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ng XML as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 relation summ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e relational schema for every XML docu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dge(Source, Tag, De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(Source, 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ic: work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ML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ineffici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tags multiple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many joins to reconstruc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87E2-6BFC-4056-8A0E-77FE9BB52C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XML 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 sp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AP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 = “Document Object Mode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languag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link, XPoi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6120" y="5105520"/>
            <a:ext cx="415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r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ww.w3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ut don’t spend rest of your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ing those standards 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8A59-9F9C-4A61-9E08-4B14ADE187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earch on XML Data Management at U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ry languages (XML-QL, a precursor of XQue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kwi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 upd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publishing/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lkRoute:    silkroute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 Compressor: Xm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 Toolkit (xsort, xagg, xgrep, xtransf, etc): xmltk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che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path, Xquery contai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7DCD-BAC1-487E-91BD-F00787E809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idte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 ques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/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a design (BCNF/3N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0995-2472-421B-80E8-6AAFBD9E94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idte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book exam (books,/notebooks,/lectur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 comp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reta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scor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(midterm-score,100 – 1.2(100 – final-sco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retakes on final: you *must* take it on Dec.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E0F2-9BD5-4A82-8DE1-8FB53FDB6E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/project/j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well duplic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ate 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 nested queries when a GROUP BY suff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sted 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ifficult: ANY, ALL,  NOT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s, table creations, 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F506-B000-410B-84DA-9CD8123A4B8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E/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/many v.s. many/many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lation to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mber: no table for one/many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EB50-EDFF-4080-AAEB-8AFB4259C6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chema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es AB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D mea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 {AB}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 all k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ompose in BCNF or 3N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57B6-5E2F-4ECB-8113-67820BA4EC7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often the XML data is 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a SOAP 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d directly into the application (DOM AP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XML data is l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store/process it in a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XML storage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we choose the schema of the databas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9042-44CD-46C5-96C9-F32CA40D92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syntax: elements +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TDs: elements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re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onical XML view of a relation (&lt;row&gt;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P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principles in publishing/storing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B027-BE69-49A3-9D30-3D03C014F67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read the book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ex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question(s) may be hard(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 first the questions that are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nswers should not be very compl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7F77-C631-4255-9493-F6111A59CA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, C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, D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, D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ompose in BCN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28800" y="3352680"/>
            <a:ext cx="492480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strategy: find X s.t.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003B-2061-4C32-8338-8543FDF92F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C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=    ABCDE    nop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CDBE  yep…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ompose CDBE,  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 in CDBE: try 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DBE  yep…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ompose DBE, D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 in DBE: try 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DE yep…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ompose DE, D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CA, DC, DE, D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7360" y="228600"/>
            <a:ext cx="4315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, C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 D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, D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99160" y="6095880"/>
            <a:ext cx="8434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: AB is a key, but A and B are separated.  Cleary 3NF dif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A15B-14E3-4969-9CD7-D2A4494DD85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l keys: AB, AC, 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CDBE  y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:  D,B part of ke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decompose on C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 only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,  CAB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 in CAB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l keys: AB, AC, 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 nope…  Try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B nope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BCD nope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CDB yes, but B, D part of ke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DB again B part of a key   Try others… no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:  CE, CABD.   Notice: DE, DABC also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97360" y="228600"/>
            <a:ext cx="4315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, C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 D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, D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763A-7499-4991-9EC2-7ADD763F279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solu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a derived from DT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ing XML as a graph: “Edge relat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 it as a BL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, boring, in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n’t discuss in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AB5F-1796-4264-9EA9-47C021D9EC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ing a Schema from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a relational schema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23040" y="3200400"/>
            <a:ext cx="6272280" cy="277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DOCTYPE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[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((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erson|produc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?,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offi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hon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roduc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((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r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availabil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|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descrip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i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descrip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47DB-DE34-43F2-AC23-1B94AA72F0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ing a Schema from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1600" y="1905120"/>
            <a:ext cx="211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, constr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TD grap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87640" y="2435760"/>
            <a:ext cx="183708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53640" y="4070880"/>
            <a:ext cx="140580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88120" y="4070880"/>
            <a:ext cx="157428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360" y="5436360"/>
            <a:ext cx="80712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61200" y="5436360"/>
            <a:ext cx="119052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07800" y="5434560"/>
            <a:ext cx="126324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29280" y="5434560"/>
            <a:ext cx="130896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97920" y="5434560"/>
            <a:ext cx="80712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62920" y="5434560"/>
            <a:ext cx="111960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37160" y="5434560"/>
            <a:ext cx="120348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v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596360" y="5434560"/>
            <a:ext cx="127440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desc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2" idx="3"/>
            <a:endCxn id="53" idx="0"/>
          </p:cNvCxnSpPr>
          <p:nvPr/>
        </p:nvCxnSpPr>
        <p:spPr>
          <a:xfrm flipH="1">
            <a:off x="3455280" y="2979720"/>
            <a:ext cx="724680" cy="110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2" idx="5"/>
            <a:endCxn id="54" idx="0"/>
          </p:cNvCxnSpPr>
          <p:nvPr/>
        </p:nvCxnSpPr>
        <p:spPr>
          <a:xfrm flipH="1">
            <a:off x="5275080" y="2979720"/>
            <a:ext cx="157680" cy="110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53" idx="2"/>
            <a:endCxn id="55" idx="0"/>
          </p:cNvCxnSpPr>
          <p:nvPr/>
        </p:nvCxnSpPr>
        <p:spPr>
          <a:xfrm flipH="1">
            <a:off x="600840" y="4395960"/>
            <a:ext cx="2181960" cy="105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3" idx="3"/>
            <a:endCxn id="56" idx="0"/>
          </p:cNvCxnSpPr>
          <p:nvPr/>
        </p:nvCxnSpPr>
        <p:spPr>
          <a:xfrm flipH="1">
            <a:off x="1556640" y="4614840"/>
            <a:ext cx="1423080" cy="83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3" idx="4"/>
            <a:endCxn id="57" idx="0"/>
          </p:cNvCxnSpPr>
          <p:nvPr/>
        </p:nvCxnSpPr>
        <p:spPr>
          <a:xfrm flipH="1">
            <a:off x="2739240" y="4704840"/>
            <a:ext cx="716760" cy="74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3" idx="5"/>
            <a:endCxn id="58" idx="0"/>
          </p:cNvCxnSpPr>
          <p:nvPr/>
        </p:nvCxnSpPr>
        <p:spPr>
          <a:xfrm>
            <a:off x="3931920" y="4614840"/>
            <a:ext cx="52920" cy="83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54" idx="2"/>
            <a:endCxn id="56" idx="7"/>
          </p:cNvCxnSpPr>
          <p:nvPr/>
        </p:nvCxnSpPr>
        <p:spPr>
          <a:xfrm flipH="1">
            <a:off x="1953720" y="4395600"/>
            <a:ext cx="2566080" cy="114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54" idx="3"/>
            <a:endCxn id="59" idx="0"/>
          </p:cNvCxnSpPr>
          <p:nvPr/>
        </p:nvCxnSpPr>
        <p:spPr>
          <a:xfrm>
            <a:off x="4740120" y="4614840"/>
            <a:ext cx="262800" cy="83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4" idx="4"/>
            <a:endCxn id="60" idx="0"/>
          </p:cNvCxnSpPr>
          <p:nvPr/>
        </p:nvCxnSpPr>
        <p:spPr>
          <a:xfrm>
            <a:off x="5275080" y="4704840"/>
            <a:ext cx="648360" cy="74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54" idx="5"/>
            <a:endCxn id="61" idx="0"/>
          </p:cNvCxnSpPr>
          <p:nvPr/>
        </p:nvCxnSpPr>
        <p:spPr>
          <a:xfrm>
            <a:off x="5810040" y="4614840"/>
            <a:ext cx="1229400" cy="83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54" idx="6"/>
            <a:endCxn id="62" idx="0"/>
          </p:cNvCxnSpPr>
          <p:nvPr/>
        </p:nvCxnSpPr>
        <p:spPr>
          <a:xfrm>
            <a:off x="6031080" y="4395960"/>
            <a:ext cx="2203920" cy="105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3735000" y="3276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1160" y="3352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63600" y="4800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7120" y="3352680"/>
            <a:ext cx="2075760" cy="1172520"/>
          </a:xfrm>
          <a:prstGeom prst="wedgeEllipseCallout">
            <a:avLst>
              <a:gd name="adj1" fmla="val 42662"/>
              <a:gd name="adj2" fmla="val 5171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igno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9257-A434-4A2D-885C-C672CC3932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ing a Schema from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160" y="1905120"/>
            <a:ext cx="280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, design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schema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mon sen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27640" y="1966320"/>
            <a:ext cx="144252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03800" y="2817360"/>
            <a:ext cx="11170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60240" y="2817360"/>
            <a:ext cx="12438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87200" y="3760200"/>
            <a:ext cx="6670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s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99560" y="3760200"/>
            <a:ext cx="9576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29880" y="3758760"/>
            <a:ext cx="10116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ff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76040" y="3758760"/>
            <a:ext cx="10461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42320" y="3758760"/>
            <a:ext cx="6692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46040" y="3758760"/>
            <a:ext cx="9036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64760" y="3758760"/>
            <a:ext cx="9687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vai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849440" y="3758760"/>
            <a:ext cx="10206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esc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0" idx="3"/>
            <a:endCxn id="81" idx="0"/>
          </p:cNvCxnSpPr>
          <p:nvPr/>
        </p:nvCxnSpPr>
        <p:spPr>
          <a:xfrm flipH="1">
            <a:off x="3962160" y="2400120"/>
            <a:ext cx="6976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0" idx="5"/>
            <a:endCxn id="82" idx="0"/>
          </p:cNvCxnSpPr>
          <p:nvPr/>
        </p:nvCxnSpPr>
        <p:spPr>
          <a:xfrm>
            <a:off x="5636880" y="2400120"/>
            <a:ext cx="14472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1" idx="2"/>
            <a:endCxn id="83" idx="0"/>
          </p:cNvCxnSpPr>
          <p:nvPr/>
        </p:nvCxnSpPr>
        <p:spPr>
          <a:xfrm flipH="1">
            <a:off x="1420200" y="3078000"/>
            <a:ext cx="2013480" cy="69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1" idx="3"/>
            <a:endCxn id="84" idx="0"/>
          </p:cNvCxnSpPr>
          <p:nvPr/>
        </p:nvCxnSpPr>
        <p:spPr>
          <a:xfrm flipH="1">
            <a:off x="2177640" y="3250800"/>
            <a:ext cx="141192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1" idx="4"/>
            <a:endCxn id="85" idx="0"/>
          </p:cNvCxnSpPr>
          <p:nvPr/>
        </p:nvCxnSpPr>
        <p:spPr>
          <a:xfrm flipH="1">
            <a:off x="3235320" y="3322800"/>
            <a:ext cx="727560" cy="45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1" idx="5"/>
            <a:endCxn id="86" idx="0"/>
          </p:cNvCxnSpPr>
          <p:nvPr/>
        </p:nvCxnSpPr>
        <p:spPr>
          <a:xfrm flipH="1">
            <a:off x="4298400" y="3250800"/>
            <a:ext cx="37080" cy="52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82" idx="2"/>
            <a:endCxn id="84" idx="7"/>
          </p:cNvCxnSpPr>
          <p:nvPr/>
        </p:nvCxnSpPr>
        <p:spPr>
          <a:xfrm flipH="1">
            <a:off x="2493360" y="3077640"/>
            <a:ext cx="26960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2" idx="3"/>
            <a:endCxn id="87" idx="0"/>
          </p:cNvCxnSpPr>
          <p:nvPr/>
        </p:nvCxnSpPr>
        <p:spPr>
          <a:xfrm>
            <a:off x="5362200" y="3250800"/>
            <a:ext cx="214920" cy="52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82" idx="4"/>
            <a:endCxn id="88" idx="0"/>
          </p:cNvCxnSpPr>
          <p:nvPr/>
        </p:nvCxnSpPr>
        <p:spPr>
          <a:xfrm>
            <a:off x="5781240" y="3322800"/>
            <a:ext cx="516600" cy="45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82" idx="5"/>
            <a:endCxn id="89" idx="0"/>
          </p:cNvCxnSpPr>
          <p:nvPr/>
        </p:nvCxnSpPr>
        <p:spPr>
          <a:xfrm>
            <a:off x="6200280" y="3250800"/>
            <a:ext cx="1048320" cy="52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2" idx="6"/>
            <a:endCxn id="90" idx="0"/>
          </p:cNvCxnSpPr>
          <p:nvPr/>
        </p:nvCxnSpPr>
        <p:spPr>
          <a:xfrm>
            <a:off x="6373440" y="3078000"/>
            <a:ext cx="1986840" cy="69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4024440" y="2340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37400" y="237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5200" y="3365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45080" y="4917960"/>
            <a:ext cx="499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name, office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hone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, phon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id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name, price, avail., descr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8960" y="6213600"/>
            <a:ext cx="664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Which attributes may be NULL ? (Look at the DT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3849-8C56-41D1-A952-E9D4ED4D80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ing a Schema from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72000" y="2022480"/>
            <a:ext cx="32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to que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68360" y="2825640"/>
            <a:ext cx="76014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oduct[description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/nam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/descrip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57880" y="4952880"/>
            <a:ext cx="56581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Product.name, Product.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Product.description IS NOT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38862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74EE-B796-4B1B-A8D8-EA6CDCF901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ng XML as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we don’t have a DT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we store the XML data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XML instance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 the edges in an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d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 the #PCDATA in a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Val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5B38-7775-4570-8956-2339AD2490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ng XML as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278160" y="1219320"/>
            <a:ext cx="5679720" cy="2472480"/>
            <a:chOff x="3278160" y="1219320"/>
            <a:chExt cx="5679720" cy="2472480"/>
          </a:xfrm>
        </p:grpSpPr>
        <p:grpSp>
          <p:nvGrpSpPr>
            <p:cNvPr id="116" name=""/>
            <p:cNvGrpSpPr/>
            <p:nvPr/>
          </p:nvGrpSpPr>
          <p:grpSpPr>
            <a:xfrm>
              <a:off x="3278160" y="1549440"/>
              <a:ext cx="5679720" cy="2142360"/>
              <a:chOff x="3278160" y="1549440"/>
              <a:chExt cx="5679720" cy="214236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3345120" y="1649520"/>
                <a:ext cx="5545800" cy="2042280"/>
                <a:chOff x="3345120" y="1649520"/>
                <a:chExt cx="5545800" cy="20422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5833080" y="16495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db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239000" y="214740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book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883120" y="214740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book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7476840" y="2147400"/>
                  <a:ext cx="69732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publish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441960" y="27943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tit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4338720" y="27943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autho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185800" y="284436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tit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982480" y="284436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autho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729840" y="27943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autho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76840" y="27943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tit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224200" y="27943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sta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345120" y="3143880"/>
                  <a:ext cx="823680" cy="54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Comple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Guid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to DB2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042800" y="3242520"/>
                  <a:ext cx="1098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Chamberlin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991040" y="3242520"/>
                  <a:ext cx="1098000" cy="36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Transac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Processing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5936400" y="3293280"/>
                  <a:ext cx="1006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Bernstein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6782760" y="3293280"/>
                  <a:ext cx="915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Newcomer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629120" y="3143880"/>
                  <a:ext cx="732240" cy="36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Morga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Kaufman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8524440" y="3193920"/>
                  <a:ext cx="3664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CA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>
                  <a:off x="4786560" y="1848600"/>
                  <a:ext cx="104580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31880" y="1947960"/>
                  <a:ext cx="49680" cy="19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381360" y="1848600"/>
                  <a:ext cx="119556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H="1">
                  <a:off x="3889800" y="2396160"/>
                  <a:ext cx="398520" cy="39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538160" y="2446200"/>
                  <a:ext cx="9936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5484240" y="2446200"/>
                  <a:ext cx="547560" cy="39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231960" y="2446200"/>
                  <a:ext cx="49320" cy="39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381360" y="2396160"/>
                  <a:ext cx="547560" cy="39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flipH="1">
                  <a:off x="7725960" y="2446200"/>
                  <a:ext cx="4932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7975080" y="2446200"/>
                  <a:ext cx="44820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" name=""/>
              <p:cNvSpPr/>
              <p:nvPr/>
            </p:nvSpPr>
            <p:spPr>
              <a:xfrm>
                <a:off x="6366960" y="15494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003560" y="20458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278160" y="26398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730040" y="25754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654520" y="211176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192280" y="26398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84640" y="26398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974640" y="25754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899120" y="19796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767720" y="263988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624880" y="257544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6114960" y="1285200"/>
              <a:ext cx="0" cy="32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116400" y="12193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9" name=""/>
          <p:cNvGraphicFramePr/>
          <p:nvPr/>
        </p:nvGraphicFramePr>
        <p:xfrm>
          <a:off x="533520" y="3581280"/>
          <a:ext cx="2514600" cy="3014640"/>
        </p:xfrm>
        <a:graphic>
          <a:graphicData uri="http://schemas.openxmlformats.org/drawingml/2006/table">
            <a:tbl>
              <a:tblPr/>
              <a:tblGrid>
                <a:gridCol w="838080"/>
                <a:gridCol w="8380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our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bo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auth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bo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auth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429000" y="4800600"/>
          <a:ext cx="2819520" cy="1727280"/>
        </p:xfrm>
        <a:graphic>
          <a:graphicData uri="http://schemas.openxmlformats.org/drawingml/2006/table">
            <a:tbl>
              <a:tblPr/>
              <a:tblGrid>
                <a:gridCol w="914400"/>
                <a:gridCol w="1905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our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te guide 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mberl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518760" y="29368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720" y="42670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9920" y="1219320"/>
            <a:ext cx="3000240" cy="1432800"/>
          </a:xfrm>
          <a:prstGeom prst="wedgeEllipseCallout">
            <a:avLst>
              <a:gd name="adj1" fmla="val 65185"/>
              <a:gd name="adj2" fmla="val 2620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AN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 dat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on’t know DT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8ACA-2EA1-4D04-851C-FF180D01DA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mgubanov</cp:lastModifiedBy>
  <dcterms:modified xsi:type="dcterms:W3CDTF">2003-10-31T06:20:40Z</dcterms:modified>
  <cp:revision>254</cp:revision>
  <dc:subject/>
  <dc:title>Lecture 09:</dc:title>
</cp:coreProperties>
</file>