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CC5-D7AB-4FB9-A6D4-D046F0E0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5301-F4FB-4DF9-B320-DB740665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02F-4D40-454F-8059-311061EA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696-9AD0-4637-9A13-BF36F6DA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E26-7AF5-4F51-B4DE-5E8674E7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9095-127D-41E1-B5E0-2C388E0C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FC30-659C-47A9-9891-3C457F22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26DA-5141-4EDC-A19F-58EEEC84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1A9-6F23-402D-8CB4-86C8D4A8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C4D0-ED6C-4A23-9DC3-5D78B772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C34-AA06-4232-B6E8-AC71AC2D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646-FAA7-4598-9A0B-4DE129CC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0726-EC55-44CC-948D-39659965E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Quer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lishing &amp;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October 29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A339-91B3-43B9-8739-95478AE43E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800" y="1523880"/>
            <a:ext cx="85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company with revenues &lt; 1M count the products over 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240" y="2009880"/>
            <a:ext cx="84988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y.name, count(*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x.price &gt; 100 and x.maker=y.cid and y.revenue &lt; 10000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y.cid, y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5280" y="3809880"/>
            <a:ext cx="86490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[revenue/text()&lt;1000000]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ud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)  }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umberOfExpensive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{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&gt;100])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umberOfExpensiveProdu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ud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827C-5515-4805-857E-09AE958ECB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4480" y="152388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mpanies with at least 30 products, and their average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2009880"/>
            <a:ext cx="328968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y.name, avg(x.pric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Product x, Company 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x.maker=y.ci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BY y.cid, y.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ING count(*) &g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66640" y="2971800"/>
            <a:ext cx="568584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a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30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)  }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mpany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vg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)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vg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080" y="4114800"/>
            <a:ext cx="2389680" cy="652680"/>
          </a:xfrm>
          <a:prstGeom prst="wedgeEllipseCallout">
            <a:avLst>
              <a:gd name="adj1" fmla="val 103333"/>
              <a:gd name="adj2" fmla="val -7568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88080" y="2133720"/>
            <a:ext cx="2268360" cy="652680"/>
          </a:xfrm>
          <a:prstGeom prst="wedgeEllipseCallout">
            <a:avLst>
              <a:gd name="adj1" fmla="val -41893"/>
              <a:gd name="adj2" fmla="val 135004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484-534C-408F-BEA7-EBEA8A0C0A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de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lection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583-26BC-4C3A-89AF-19736EED32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v.s. 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440" y="2438280"/>
            <a:ext cx="4508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83480" y="2286000"/>
            <a:ext cx="32572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4440" y="4343400"/>
            <a:ext cx="4508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38800" y="4343400"/>
            <a:ext cx="25210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57C-DEFE-4530-8103-D7AFB1C415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-LET-WHERE-RETURN  = FLW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37480" y="3492360"/>
            <a:ext cx="203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/LET Cla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320" y="4594320"/>
            <a:ext cx="180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02280" y="5726160"/>
            <a:ext cx="190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54480" y="4021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54480" y="51465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75960" y="39546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75960" y="5195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77040" y="624852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 of Xquery 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2D4-A576-4925-8008-572E2EE29A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s in X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and unordered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  =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lection: result i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cumen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) = an unordered collection: the output order is implementation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ollection (several author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0200" y="5251320"/>
            <a:ext cx="5374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8320" y="5025960"/>
            <a:ext cx="27435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...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0FA-0448-4FDA-B341-332CA4B2F7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rom/to Relation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publish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dat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tor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tio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3BDC-74B3-4363-8151-734465B45B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53080" y="3429000"/>
            <a:ext cx="2438640" cy="137160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5000" y="3178080"/>
            <a:ext cx="3844800" cy="210204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/server DB Ap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6920" y="3771720"/>
            <a:ext cx="1589040" cy="90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4360" y="3790080"/>
            <a:ext cx="229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2438280"/>
            <a:ext cx="1676160" cy="2971800"/>
          </a:xfrm>
          <a:prstGeom prst="flowChartPunchedTap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50200" y="1523880"/>
            <a:ext cx="1584360" cy="1172520"/>
          </a:xfrm>
          <a:prstGeom prst="wedgeEllipseCallout">
            <a:avLst>
              <a:gd name="adj1" fmla="val 5587"/>
              <a:gd name="adj2" fmla="val 13403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46320" y="5715000"/>
            <a:ext cx="1072800" cy="652680"/>
          </a:xfrm>
          <a:prstGeom prst="wedgeEllipseCallout">
            <a:avLst>
              <a:gd name="adj1" fmla="val -3541"/>
              <a:gd name="adj2" fmla="val -21311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4" idx="3"/>
          </p:cNvCxnSpPr>
          <p:nvPr/>
        </p:nvCxnSpPr>
        <p:spPr>
          <a:xfrm rot="5400000">
            <a:off x="5238720" y="2904120"/>
            <a:ext cx="315000" cy="3174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endCxn id="114" idx="1"/>
          </p:cNvCxnSpPr>
          <p:nvPr/>
        </p:nvCxnSpPr>
        <p:spPr>
          <a:xfrm>
            <a:off x="3809520" y="3733560"/>
            <a:ext cx="3174120" cy="162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99F-8F84-4CDB-A2E2-FD15A4250A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553080" y="3429000"/>
            <a:ext cx="2438640" cy="137160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5000" y="3178080"/>
            <a:ext cx="3844800" cy="210204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880" y="3771720"/>
            <a:ext cx="1589040" cy="90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24360" y="3790080"/>
            <a:ext cx="229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2438280"/>
            <a:ext cx="1676160" cy="2971800"/>
          </a:xfrm>
          <a:prstGeom prst="flowChartPunchedTap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28280" y="3828240"/>
            <a:ext cx="1146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83320" y="1295280"/>
            <a:ext cx="1584360" cy="1172520"/>
          </a:xfrm>
          <a:prstGeom prst="wedgeEllipseCallout">
            <a:avLst>
              <a:gd name="adj1" fmla="val 15513"/>
              <a:gd name="adj2" fmla="val 9993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0840" y="2133720"/>
            <a:ext cx="1218240" cy="652680"/>
          </a:xfrm>
          <a:prstGeom prst="wedgeEllipseCallout">
            <a:avLst>
              <a:gd name="adj1" fmla="val -24833"/>
              <a:gd name="adj2" fmla="val 214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69600" y="6019920"/>
            <a:ext cx="1072800" cy="652680"/>
          </a:xfrm>
          <a:prstGeom prst="wedgeEllipseCallout">
            <a:avLst>
              <a:gd name="adj1" fmla="val -893"/>
              <a:gd name="adj2" fmla="val -1233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03120" y="5486400"/>
            <a:ext cx="1650960" cy="1172520"/>
          </a:xfrm>
          <a:prstGeom prst="wedgeEllipseCallout">
            <a:avLst>
              <a:gd name="adj1" fmla="val -842"/>
              <a:gd name="adj2" fmla="val -12504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ath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6" idx="2"/>
            <a:endCxn id="123" idx="5"/>
          </p:cNvCxnSpPr>
          <p:nvPr/>
        </p:nvCxnSpPr>
        <p:spPr>
          <a:xfrm rot="5400000">
            <a:off x="2353680" y="3789360"/>
            <a:ext cx="62640" cy="1434240"/>
          </a:xfrm>
          <a:prstGeom prst="curvedConnector5">
            <a:avLst>
              <a:gd name="adj1" fmla="val 676878"/>
              <a:gd name="adj2" fmla="val 49987"/>
              <a:gd name="adj3" fmla="val 6768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3" idx="7"/>
            <a:endCxn id="126" idx="0"/>
          </p:cNvCxnSpPr>
          <p:nvPr/>
        </p:nvCxnSpPr>
        <p:spPr>
          <a:xfrm flipH="1" flipV="1" rot="5400000">
            <a:off x="2340000" y="3152160"/>
            <a:ext cx="91080" cy="1434240"/>
          </a:xfrm>
          <a:prstGeom prst="curvedConnector5">
            <a:avLst>
              <a:gd name="adj1" fmla="val 394444"/>
              <a:gd name="adj2" fmla="val 49987"/>
              <a:gd name="adj3" fmla="val 394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4" idx="3"/>
          </p:cNvCxnSpPr>
          <p:nvPr/>
        </p:nvCxnSpPr>
        <p:spPr>
          <a:xfrm rot="5400000">
            <a:off x="5238720" y="2904120"/>
            <a:ext cx="315000" cy="3174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endCxn id="124" idx="1"/>
          </p:cNvCxnSpPr>
          <p:nvPr/>
        </p:nvCxnSpPr>
        <p:spPr>
          <a:xfrm>
            <a:off x="3809520" y="3733560"/>
            <a:ext cx="3174120" cy="162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619-CFCF-4CC9-8700-FFEA76BA29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sch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uden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ame,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urse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title, ro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roll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id, cid,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819520"/>
            <a:ext cx="1143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819520"/>
            <a:ext cx="12952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2514600"/>
            <a:ext cx="1214280" cy="12142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8191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124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395B-BD2C-4EF5-B588-16717F6602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2 of the Project has Star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on the Website now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CEO tells you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Make these three domains work together 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art: form groups of 3 by October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part: by Monday, November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h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support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part: by Monday, November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CF89-362F-430A-ADBE-D6412D453F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499760"/>
            <a:ext cx="5149800" cy="52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Operating Systems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MGH084 &lt;/roo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John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Seattl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3.8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…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  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Databas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EE045 &lt;/roo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Mary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Shoreline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ddr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3.9 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…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1640" y="4987800"/>
            <a:ext cx="20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11760" y="2133720"/>
            <a:ext cx="191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277-2D1E-43EB-84D0-70E90A6AF0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6615000" cy="361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itl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#PCDATA)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040" y="1854360"/>
            <a:ext cx="50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hing to do: design the DT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45B7-5A4E-4B9E-948A-FA1895BA8C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69240" y="1676520"/>
            <a:ext cx="7495920" cy="49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/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{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Enroll/row[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/row[s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s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]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z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   {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ext() } 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8600" y="533520"/>
            <a:ext cx="745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write an XQuery to export relational dat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esult is is the right 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AAF-0FA8-4844-B851-5827BED027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0080" y="175248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: find Mary’s grade in Operat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4080" y="2514600"/>
            <a:ext cx="792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xml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itle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=“Operating Systems”],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[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=“Mary”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ext()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1911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240" y="20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3000" y="4537080"/>
            <a:ext cx="7800840" cy="1972800"/>
            <a:chOff x="63000" y="4537080"/>
            <a:chExt cx="7800840" cy="1972800"/>
          </a:xfrm>
        </p:grpSpPr>
        <p:sp>
          <p:nvSpPr>
            <p:cNvPr id="157" name=""/>
            <p:cNvSpPr/>
            <p:nvPr/>
          </p:nvSpPr>
          <p:spPr>
            <a:xfrm>
              <a:off x="302400" y="4952880"/>
              <a:ext cx="75614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Enroll.grad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Student, Enroll, Cours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Student.name=“Mary” and Course.title=“OS”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and Student.sid = Enroll.sid and Enroll.cid = Course.c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00" y="453708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132240" y="3808440"/>
            <a:ext cx="2621160" cy="1172520"/>
          </a:xfrm>
          <a:prstGeom prst="wedgeEllipseCallout">
            <a:avLst>
              <a:gd name="adj1" fmla="val -128824"/>
              <a:gd name="adj2" fmla="val -666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d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02BC-3B53-4762-8B92-7751B843DD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choose the output structure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d by agreement with partners/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dictated by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dialects (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DT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ata is often nested, irregular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ormal forms for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16D2-1E26-444D-A858-D57BF000E8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ten the XML data is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a SOAP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d directly into the application (DOM A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XML data is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store/process it in a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XML storag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choose the schema of the databa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826-80FB-4FDB-A4F3-0F9F19E93E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olu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derived from DT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ing XML as a graph: “Edge rela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it as a BL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, boring, in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n’t discus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753B-8A6E-415A-895F-0C40F3E7B1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a relational schema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23040" y="3200400"/>
            <a:ext cx="6272280" cy="27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|produc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f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ss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fi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ho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oduc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((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availab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descrip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i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descrip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8E0-AE1D-4811-AB62-CB40AD47DA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1600" y="190512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, constr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TD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7640" y="2435760"/>
            <a:ext cx="18370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53640" y="4070880"/>
            <a:ext cx="14058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88120" y="4070880"/>
            <a:ext cx="1574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360" y="5436360"/>
            <a:ext cx="8071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61200" y="5436360"/>
            <a:ext cx="11905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07800" y="5434560"/>
            <a:ext cx="126324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29280" y="5434560"/>
            <a:ext cx="130896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97920" y="5434560"/>
            <a:ext cx="8071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62920" y="5434560"/>
            <a:ext cx="11196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37160" y="5434560"/>
            <a:ext cx="12034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v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5434560"/>
            <a:ext cx="12744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esc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1" idx="3"/>
            <a:endCxn id="172" idx="0"/>
          </p:cNvCxnSpPr>
          <p:nvPr/>
        </p:nvCxnSpPr>
        <p:spPr>
          <a:xfrm flipH="1">
            <a:off x="3455280" y="2979720"/>
            <a:ext cx="724680" cy="11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1" idx="5"/>
            <a:endCxn id="173" idx="0"/>
          </p:cNvCxnSpPr>
          <p:nvPr/>
        </p:nvCxnSpPr>
        <p:spPr>
          <a:xfrm flipH="1">
            <a:off x="5275080" y="2979720"/>
            <a:ext cx="157680" cy="11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2" idx="2"/>
            <a:endCxn id="174" idx="0"/>
          </p:cNvCxnSpPr>
          <p:nvPr/>
        </p:nvCxnSpPr>
        <p:spPr>
          <a:xfrm flipH="1">
            <a:off x="600840" y="4395960"/>
            <a:ext cx="2181960" cy="105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2" idx="3"/>
            <a:endCxn id="175" idx="0"/>
          </p:cNvCxnSpPr>
          <p:nvPr/>
        </p:nvCxnSpPr>
        <p:spPr>
          <a:xfrm flipH="1">
            <a:off x="1556640" y="4614840"/>
            <a:ext cx="142308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2" idx="4"/>
            <a:endCxn id="176" idx="0"/>
          </p:cNvCxnSpPr>
          <p:nvPr/>
        </p:nvCxnSpPr>
        <p:spPr>
          <a:xfrm flipH="1">
            <a:off x="2739240" y="4704840"/>
            <a:ext cx="716760" cy="74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72" idx="5"/>
            <a:endCxn id="177" idx="0"/>
          </p:cNvCxnSpPr>
          <p:nvPr/>
        </p:nvCxnSpPr>
        <p:spPr>
          <a:xfrm>
            <a:off x="3931920" y="4614840"/>
            <a:ext cx="5292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73" idx="2"/>
            <a:endCxn id="175" idx="7"/>
          </p:cNvCxnSpPr>
          <p:nvPr/>
        </p:nvCxnSpPr>
        <p:spPr>
          <a:xfrm flipH="1">
            <a:off x="1953720" y="4395600"/>
            <a:ext cx="2566080" cy="11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73" idx="3"/>
            <a:endCxn id="178" idx="0"/>
          </p:cNvCxnSpPr>
          <p:nvPr/>
        </p:nvCxnSpPr>
        <p:spPr>
          <a:xfrm>
            <a:off x="4740120" y="4614840"/>
            <a:ext cx="26280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73" idx="4"/>
            <a:endCxn id="179" idx="0"/>
          </p:cNvCxnSpPr>
          <p:nvPr/>
        </p:nvCxnSpPr>
        <p:spPr>
          <a:xfrm>
            <a:off x="5275080" y="4704840"/>
            <a:ext cx="648360" cy="74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73" idx="5"/>
            <a:endCxn id="180" idx="0"/>
          </p:cNvCxnSpPr>
          <p:nvPr/>
        </p:nvCxnSpPr>
        <p:spPr>
          <a:xfrm>
            <a:off x="5810040" y="4614840"/>
            <a:ext cx="122940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3" idx="6"/>
            <a:endCxn id="181" idx="0"/>
          </p:cNvCxnSpPr>
          <p:nvPr/>
        </p:nvCxnSpPr>
        <p:spPr>
          <a:xfrm>
            <a:off x="6031080" y="4395960"/>
            <a:ext cx="220392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3735000" y="3276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1160" y="3352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3600" y="4800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7120" y="3352680"/>
            <a:ext cx="2075760" cy="1172520"/>
          </a:xfrm>
          <a:prstGeom prst="wedgeEllipseCallout">
            <a:avLst>
              <a:gd name="adj1" fmla="val 42662"/>
              <a:gd name="adj2" fmla="val 5171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gn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9ADF-C180-462C-AA92-A9D8C4F6C9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160" y="1905120"/>
            <a:ext cx="28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, design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schema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mon s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27640" y="1966320"/>
            <a:ext cx="14425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03800" y="2817360"/>
            <a:ext cx="111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60240" y="2817360"/>
            <a:ext cx="124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87200" y="3760200"/>
            <a:ext cx="6670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99560" y="3760200"/>
            <a:ext cx="957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29880" y="3758760"/>
            <a:ext cx="1011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76040" y="3758760"/>
            <a:ext cx="10461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42320" y="3758760"/>
            <a:ext cx="669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46040" y="3758760"/>
            <a:ext cx="903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64760" y="3758760"/>
            <a:ext cx="9687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va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49440" y="3758760"/>
            <a:ext cx="10206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esc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199" idx="3"/>
            <a:endCxn id="200" idx="0"/>
          </p:cNvCxnSpPr>
          <p:nvPr/>
        </p:nvCxnSpPr>
        <p:spPr>
          <a:xfrm flipH="1">
            <a:off x="3962160" y="2400120"/>
            <a:ext cx="6976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99" idx="5"/>
            <a:endCxn id="201" idx="0"/>
          </p:cNvCxnSpPr>
          <p:nvPr/>
        </p:nvCxnSpPr>
        <p:spPr>
          <a:xfrm>
            <a:off x="5636880" y="2400120"/>
            <a:ext cx="144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0" idx="2"/>
            <a:endCxn id="202" idx="0"/>
          </p:cNvCxnSpPr>
          <p:nvPr/>
        </p:nvCxnSpPr>
        <p:spPr>
          <a:xfrm flipH="1">
            <a:off x="1420200" y="3078000"/>
            <a:ext cx="201348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0" idx="3"/>
            <a:endCxn id="203" idx="0"/>
          </p:cNvCxnSpPr>
          <p:nvPr/>
        </p:nvCxnSpPr>
        <p:spPr>
          <a:xfrm flipH="1">
            <a:off x="2177640" y="3250800"/>
            <a:ext cx="14119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00" idx="4"/>
            <a:endCxn id="204" idx="0"/>
          </p:cNvCxnSpPr>
          <p:nvPr/>
        </p:nvCxnSpPr>
        <p:spPr>
          <a:xfrm flipH="1">
            <a:off x="3235320" y="3322800"/>
            <a:ext cx="72756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00" idx="5"/>
            <a:endCxn id="205" idx="0"/>
          </p:cNvCxnSpPr>
          <p:nvPr/>
        </p:nvCxnSpPr>
        <p:spPr>
          <a:xfrm flipH="1">
            <a:off x="4298400" y="3250800"/>
            <a:ext cx="3708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01" idx="2"/>
            <a:endCxn id="203" idx="7"/>
          </p:cNvCxnSpPr>
          <p:nvPr/>
        </p:nvCxnSpPr>
        <p:spPr>
          <a:xfrm flipH="1">
            <a:off x="2493360" y="3077640"/>
            <a:ext cx="26960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01" idx="3"/>
            <a:endCxn id="206" idx="0"/>
          </p:cNvCxnSpPr>
          <p:nvPr/>
        </p:nvCxnSpPr>
        <p:spPr>
          <a:xfrm>
            <a:off x="5362200" y="3250800"/>
            <a:ext cx="2149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01" idx="4"/>
            <a:endCxn id="207" idx="0"/>
          </p:cNvCxnSpPr>
          <p:nvPr/>
        </p:nvCxnSpPr>
        <p:spPr>
          <a:xfrm>
            <a:off x="5781240" y="3322800"/>
            <a:ext cx="51660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01" idx="5"/>
            <a:endCxn id="208" idx="0"/>
          </p:cNvCxnSpPr>
          <p:nvPr/>
        </p:nvCxnSpPr>
        <p:spPr>
          <a:xfrm>
            <a:off x="6200280" y="3250800"/>
            <a:ext cx="104832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01" idx="6"/>
            <a:endCxn id="209" idx="0"/>
          </p:cNvCxnSpPr>
          <p:nvPr/>
        </p:nvCxnSpPr>
        <p:spPr>
          <a:xfrm>
            <a:off x="6373440" y="3078000"/>
            <a:ext cx="1986840" cy="69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4024440" y="234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3740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45200" y="336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45080" y="4917960"/>
            <a:ext cx="49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offic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one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sn, phon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name, price, avail., desc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" y="6213600"/>
            <a:ext cx="66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Which attributes may be NULL ? (Look at the DT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55C8-8867-49C3-A38F-49C6E621BC4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X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publ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5B2-D09D-4EF2-BFD5-30320A5BBA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a Schema from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72000" y="20224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2825640"/>
            <a:ext cx="7601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[description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nam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descrip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57880" y="4952880"/>
            <a:ext cx="56581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Product.name, Product.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roduct.description IS 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4280" y="38862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5F28-6A77-4DA3-A456-43399EE7DA6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we don’t have a DT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store the XML dat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XML instance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the edges in a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the #PCDATA in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D0C7-01ED-4DE0-B25B-64912F65A66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278160" y="1219320"/>
            <a:ext cx="5679720" cy="2472480"/>
            <a:chOff x="3278160" y="1219320"/>
            <a:chExt cx="5679720" cy="2472480"/>
          </a:xfrm>
        </p:grpSpPr>
        <p:grpSp>
          <p:nvGrpSpPr>
            <p:cNvPr id="235" name=""/>
            <p:cNvGrpSpPr/>
            <p:nvPr/>
          </p:nvGrpSpPr>
          <p:grpSpPr>
            <a:xfrm>
              <a:off x="3278160" y="1549440"/>
              <a:ext cx="5679720" cy="2142360"/>
              <a:chOff x="3278160" y="1549440"/>
              <a:chExt cx="5679720" cy="214236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3345120" y="1649520"/>
                <a:ext cx="5545800" cy="2042280"/>
                <a:chOff x="3345120" y="1649520"/>
                <a:chExt cx="5545800" cy="20422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5833080" y="16495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d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3900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883120" y="214740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bo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476840" y="2147400"/>
                  <a:ext cx="69732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publish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44196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33872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18580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982480" y="284436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72984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auth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47684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224200" y="2794320"/>
                  <a:ext cx="597600" cy="298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00"/>
                      </a:solidFill>
                      <a:latin typeface="Times New Roman"/>
                    </a:rPr>
                    <a:t>sta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345120" y="3143880"/>
                  <a:ext cx="8236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omple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uid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o DB2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042800" y="3242520"/>
                  <a:ext cx="1098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hamberl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991040" y="3242520"/>
                  <a:ext cx="109800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ransa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rocessing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936400" y="3293280"/>
                  <a:ext cx="1006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ernstei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782760" y="3293280"/>
                  <a:ext cx="915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ewcomer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629120" y="3143880"/>
                  <a:ext cx="73224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org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aufman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524440" y="3193920"/>
                  <a:ext cx="366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A”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4786560" y="1848600"/>
                  <a:ext cx="10458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131880" y="1947960"/>
                  <a:ext cx="49680" cy="19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381360" y="1848600"/>
                  <a:ext cx="119556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3889800" y="2396160"/>
                  <a:ext cx="3985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538160" y="2446200"/>
                  <a:ext cx="9936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>
                  <a:off x="5484240" y="244620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231960" y="2446200"/>
                  <a:ext cx="4932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381360" y="2396160"/>
                  <a:ext cx="547560" cy="39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7725960" y="2446200"/>
                  <a:ext cx="4932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975080" y="2446200"/>
                  <a:ext cx="44820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366960" y="154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003560" y="2045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27816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3004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654520" y="21117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9228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84640" y="2639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974640" y="2575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899120" y="19796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767720" y="263988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624880" y="257544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6114960" y="1285200"/>
              <a:ext cx="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16400" y="1219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533520" y="3581280"/>
          <a:ext cx="2514600" cy="301464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429000" y="4800600"/>
          <a:ext cx="2819520" cy="1727280"/>
        </p:xfrm>
        <a:graphic>
          <a:graphicData uri="http://schemas.openxmlformats.org/drawingml/2006/table">
            <a:tbl>
              <a:tblPr/>
              <a:tblGrid>
                <a:gridCol w="914400"/>
                <a:gridCol w="1905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 guide 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mber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518760" y="29368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720" y="4267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920" y="1219320"/>
            <a:ext cx="3000240" cy="1432800"/>
          </a:xfrm>
          <a:prstGeom prst="wedgeEllipseCallout">
            <a:avLst>
              <a:gd name="adj1" fmla="val 65185"/>
              <a:gd name="adj2" fmla="val 2620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n’t know DT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828-6701-4913-A9A0-F9EBC3FB627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72000" y="20224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5720" y="2847960"/>
            <a:ext cx="7434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book[auth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text()=“Chamberlin”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/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1361880" y="4657320"/>
            <a:ext cx="771480" cy="1209600"/>
          </a:xfrm>
          <a:prstGeom prst="downArrow">
            <a:avLst>
              <a:gd name="adj1" fmla="val 50000"/>
              <a:gd name="adj2" fmla="val 391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30400" y="4252320"/>
            <a:ext cx="5785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94320" y="5014440"/>
            <a:ext cx="9014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98560" y="5591160"/>
            <a:ext cx="10828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54960" y="5623920"/>
            <a:ext cx="76212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87" idx="4"/>
            <a:endCxn id="288" idx="0"/>
          </p:cNvCxnSpPr>
          <p:nvPr/>
        </p:nvCxnSpPr>
        <p:spPr>
          <a:xfrm>
            <a:off x="4119120" y="4757760"/>
            <a:ext cx="2628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88" idx="3"/>
            <a:endCxn id="289" idx="7"/>
          </p:cNvCxnSpPr>
          <p:nvPr/>
        </p:nvCxnSpPr>
        <p:spPr>
          <a:xfrm flipH="1">
            <a:off x="3601440" y="5447880"/>
            <a:ext cx="2466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88" idx="5"/>
            <a:endCxn id="290" idx="1"/>
          </p:cNvCxnSpPr>
          <p:nvPr/>
        </p:nvCxnSpPr>
        <p:spPr>
          <a:xfrm>
            <a:off x="4441320" y="5448240"/>
            <a:ext cx="54648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2589840" y="609588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mberli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99520" y="609588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endCxn id="287" idx="0"/>
          </p:cNvCxnSpPr>
          <p:nvPr/>
        </p:nvCxnSpPr>
        <p:spPr>
          <a:xfrm>
            <a:off x="4114440" y="3962520"/>
            <a:ext cx="54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97" name=""/>
          <p:cNvGrpSpPr/>
          <p:nvPr/>
        </p:nvGrpSpPr>
        <p:grpSpPr>
          <a:xfrm>
            <a:off x="2821320" y="3962520"/>
            <a:ext cx="2809440" cy="2743920"/>
            <a:chOff x="2821320" y="3962520"/>
            <a:chExt cx="2809440" cy="2743920"/>
          </a:xfrm>
        </p:grpSpPr>
        <p:sp>
          <p:nvSpPr>
            <p:cNvPr id="298" name=""/>
            <p:cNvSpPr/>
            <p:nvPr/>
          </p:nvSpPr>
          <p:spPr>
            <a:xfrm>
              <a:off x="4344480" y="396252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96400" y="4648320"/>
              <a:ext cx="69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21320" y="518148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aut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7880" y="51814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x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97640" y="636912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vaut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32440" y="63244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v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 rot="16200000">
            <a:off x="6476760" y="4657320"/>
            <a:ext cx="771480" cy="1209600"/>
          </a:xfrm>
          <a:prstGeom prst="downArrow">
            <a:avLst>
              <a:gd name="adj1" fmla="val 50000"/>
              <a:gd name="adj2" fmla="val 391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8C9-E0E8-4968-B2F5-8D0EEE00E0C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4320" y="182880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to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6040" y="3352680"/>
            <a:ext cx="85154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  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dg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Valu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alu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= 0                 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db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book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author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ag = ‘title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value = ‘Chamberlin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x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est =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36800" y="2438280"/>
            <a:ext cx="1521000" cy="5875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80680" y="1828800"/>
            <a:ext cx="3087000" cy="652680"/>
          </a:xfrm>
          <a:prstGeom prst="wedgeEllipseCallout">
            <a:avLst>
              <a:gd name="adj1" fmla="val -27601"/>
              <a:gd name="adj2" fmla="val 179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6-way joi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D41-6847-49AC-9310-78865D87243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ng XML as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 relation 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relational schema for every XML doc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ge(Source, Tag, D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(Source, 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: work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ML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neffici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tags multipl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many joins to reconstruc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CC9-1D64-418D-91DA-0B7B0A34481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XML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AP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 = “Document Object Mod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langua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link, XPoi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6120" y="5105520"/>
            <a:ext cx="41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ww.w3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don’t spend rest of you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those standards 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035-1D4D-4370-A4F2-A5A7E33801D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arch on XML Data Management at U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languages (XML-QL, a precursor of XQue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kw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publishing/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lkRoute:    silkroute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Compressor: Xm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Toolkit (xsort, xagg, xgrep, xtransf, etc): xmltk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, Xquery contai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F85-0264-42C9-A9B4-DCB70FA54BE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3920" y="1752480"/>
            <a:ext cx="42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, p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72960" y="1600200"/>
            <a:ext cx="39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 names, pric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by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83600" y="2735280"/>
            <a:ext cx="2625120" cy="2556360"/>
            <a:chOff x="183600" y="2735280"/>
            <a:chExt cx="2625120" cy="2556360"/>
          </a:xfrm>
        </p:grpSpPr>
        <p:sp>
          <p:nvSpPr>
            <p:cNvPr id="51" name=""/>
            <p:cNvSpPr/>
            <p:nvPr/>
          </p:nvSpPr>
          <p:spPr>
            <a:xfrm>
              <a:off x="183600" y="2735280"/>
              <a:ext cx="262512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x.name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x.pric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duct x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 BY x.pr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600" y="4638960"/>
              <a:ext cx="1072800" cy="652680"/>
            </a:xfrm>
            <a:prstGeom prst="wedgeEllipseCallout">
              <a:avLst>
                <a:gd name="adj1" fmla="val -26620"/>
                <a:gd name="adj2" fmla="val -9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720080" y="2666880"/>
            <a:ext cx="7317000" cy="3090960"/>
            <a:chOff x="1720080" y="2666880"/>
            <a:chExt cx="7317000" cy="3090960"/>
          </a:xfrm>
        </p:grpSpPr>
        <p:sp>
          <p:nvSpPr>
            <p:cNvPr id="54" name=""/>
            <p:cNvSpPr/>
            <p:nvPr/>
          </p:nvSpPr>
          <p:spPr>
            <a:xfrm>
              <a:off x="2973240" y="2666880"/>
              <a:ext cx="6063840" cy="192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document(“db.xml”)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RDER B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price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ans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,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ic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&lt;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answ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20080" y="5105160"/>
              <a:ext cx="1650960" cy="652680"/>
            </a:xfrm>
            <a:prstGeom prst="wedgeEllipseCallout">
              <a:avLst>
                <a:gd name="adj1" fmla="val 42259"/>
                <a:gd name="adj2" fmla="val -1243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533-8E30-4F31-BC1C-A8B5CC78E5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5880" y="2057400"/>
            <a:ext cx="361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 abc 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&gt;  7 &lt;/price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answer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 def 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&gt;  23 &lt;/price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’s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3680" y="434340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: this is NOT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-formed document 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Y ?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A1E1-7450-47CD-BA79-D28A93EA94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ing a Well-Formed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2438280"/>
            <a:ext cx="6514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{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ocument(“db.xml”)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ow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 BY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/price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{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ame,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$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y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1A52-A71C-4B6C-8E6C-A6EB361ED0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5880" y="2057400"/>
            <a:ext cx="3844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yQuery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 abc 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&gt;  7 &lt;/price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/answer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 def 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ice&gt;  23 &lt;/price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&lt;/answ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myQuer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’s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61280" y="29718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t is well-formed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33C-5BEE-4694-AC9C-616AB45B00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XQuery Side-by-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6040" y="1523880"/>
            <a:ext cx="460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(pid, name, maker, price)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ny(cid, name, city, reven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87280" y="17524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products made in Sea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58400" y="2895480"/>
            <a:ext cx="3864240" cy="2556360"/>
            <a:chOff x="158400" y="2895480"/>
            <a:chExt cx="3864240" cy="2556360"/>
          </a:xfrm>
        </p:grpSpPr>
        <p:sp>
          <p:nvSpPr>
            <p:cNvPr id="68" name=""/>
            <p:cNvSpPr/>
            <p:nvPr/>
          </p:nvSpPr>
          <p:spPr>
            <a:xfrm>
              <a:off x="158400" y="2895480"/>
              <a:ext cx="386424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x.nam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Product x, Company 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x.maker=y.ci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and y.city=“Seattle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6840" y="4799160"/>
              <a:ext cx="1072800" cy="652680"/>
            </a:xfrm>
            <a:prstGeom prst="wedgeEllipseCallout">
              <a:avLst>
                <a:gd name="adj1" fmla="val -26620"/>
                <a:gd name="adj2" fmla="val -9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242520" y="2362320"/>
            <a:ext cx="5750280" cy="3090960"/>
            <a:chOff x="3242520" y="2362320"/>
            <a:chExt cx="5750280" cy="3090960"/>
          </a:xfrm>
        </p:grpSpPr>
        <p:sp>
          <p:nvSpPr>
            <p:cNvPr id="71" name=""/>
            <p:cNvSpPr/>
            <p:nvPr/>
          </p:nvSpPr>
          <p:spPr>
            <a:xfrm>
              <a:off x="4497480" y="2362320"/>
              <a:ext cx="4495320" cy="265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document(“db.xml”)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i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and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 = “Seattle”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42520" y="4800600"/>
              <a:ext cx="1650960" cy="652680"/>
            </a:xfrm>
            <a:prstGeom prst="wedgeEllipseCallout">
              <a:avLst>
                <a:gd name="adj1" fmla="val 42259"/>
                <a:gd name="adj2" fmla="val -12436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40760" y="5546880"/>
            <a:ext cx="8856720" cy="1264320"/>
            <a:chOff x="140760" y="5546880"/>
            <a:chExt cx="8856720" cy="1264320"/>
          </a:xfrm>
        </p:grpSpPr>
        <p:sp>
          <p:nvSpPr>
            <p:cNvPr id="74" name=""/>
            <p:cNvSpPr/>
            <p:nvPr/>
          </p:nvSpPr>
          <p:spPr>
            <a:xfrm>
              <a:off x="2051640" y="5546880"/>
              <a:ext cx="694584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ompan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c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“Seattle”]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 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d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Produ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row[mak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text()=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y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/cid/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()]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{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$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na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0760" y="5638680"/>
              <a:ext cx="1650960" cy="1172520"/>
            </a:xfrm>
            <a:prstGeom prst="wedgeEllipseCallout">
              <a:avLst>
                <a:gd name="adj1" fmla="val 64712"/>
                <a:gd name="adj2" fmla="val 309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ol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123-B751-41AB-ADD3-CCD6126BBE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428120" y="1260360"/>
            <a:ext cx="470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odu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row&gt; &lt;pid&gt; 123 &lt;/pi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abc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aker&gt; efg &lt;/mak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ro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row&gt; …. &lt;/ro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roduct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oduct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roduct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72C9-8DE1-4AB9-975B-C407F5A085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3:41:53Z</dcterms:created>
  <dc:creator>Dan</dc:creator>
  <dc:description/>
  <dc:language>en-US</dc:language>
  <cp:lastModifiedBy>uw</cp:lastModifiedBy>
  <dcterms:modified xsi:type="dcterms:W3CDTF">2003-10-29T18:55:28Z</dcterms:modified>
  <cp:revision>302</cp:revision>
  <dc:subject/>
  <dc:title>Lecture 09:</dc:title>
</cp:coreProperties>
</file>