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E6A-78FD-48CD-9629-3468AA40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67C-CEC3-44EC-ACBD-5716B755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FA9-D61E-4E89-9554-0CCEACBE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861-FA27-4C25-8A6E-1B5B3F0F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B3F-0ECA-44BB-8000-F1B15B76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CFE-380C-492E-89DD-075B518C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51B-0F29-4AFE-9A99-C5BC50F0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38D-F2F2-48A7-BBEC-88C2C6A9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B80-3AF3-436E-9BD3-2F52BAC5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9FF-BC67-4E88-A96E-4A603E75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66F-D694-40EC-BFCE-F003E373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139-A7CB-4835-8480-DA1AE394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AC94-DEA9-40DB-BBA5-974B8CB35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3: XQu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, 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11F-EFEA-428C-BB05-C8DC966104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in DT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ATA                        =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                                 =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EF                           = foreig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EFS                         = foreign keys separated by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nday | Wednesday | Friday) = enum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TOKEN                   = must be a valid XML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TOKENS                 = multiple valid XML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                        = you don’t want to know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C1B-2A0F-4874-A1B3-939FAF07FF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in DT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IMPLIED             =  op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                      =  defaul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#FIXED        =  the only valu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654-4F1E-4517-8843-ECB715AC1A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DT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include in the X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include the entire DT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DOCTYPE rootElement [ ....... ]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include a reference to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DOCTYPE rootElement SYSTEM “http://www.mydtd.org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mix the two... (e.g. to override the external defini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4F5-EE71-4784-9950-0AF338EF6B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B45-6608-48E2-9B96-E1AC149FC7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 (more or le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1E5-2F97-47AF-BD69-45CC7C0B9C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632-EEB3-425B-9110-59958B3B37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1786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 (perhaps more geek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720" y="2895480"/>
            <a:ext cx="8525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520" y="44956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n shor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2600" y="5562720"/>
            <a:ext cx="7078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gt; 1995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482-1A62-4764-85E4-46CC31083C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and the year when they wer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1360" y="3200400"/>
            <a:ext cx="586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560-2C15-4CA4-A63F-46A904156A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e use of “{“ and “}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esult without th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69440" y="3657600"/>
            <a:ext cx="5500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1E0-3893-439F-8645-8EE994108C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: 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0040" y="2971800"/>
            <a:ext cx="8433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organ Kaufmann”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7520" y="5943600"/>
            <a:ext cx="76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lause comma concatenates XML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0A6-BFC2-4C2A-A4C0-979400923C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phase, need to form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form group of 3, emai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ssa by Thur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, little extra-cred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group will have only two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illing, one shipping volunteers to do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practice for the mid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finish before Mon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D9D-3E5F-4815-98D4-CDD548A38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6160" y="1371600"/>
            <a:ext cx="118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9B5-8855-4CCF-95B0-9EE069E00D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s with more than 3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5960" y="4876920"/>
            <a:ext cx="528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th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computes the average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mputes the sum</a:t>
            </a:r>
            <a:br>
              <a:rPr sz="2400"/>
            </a:b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960" y="2971800"/>
            <a:ext cx="5397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78D-134B-4CFD-9DF3-11A4B787D9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5720" y="2971800"/>
            <a:ext cx="7665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]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306-4066-4159-877F-F0368B74E0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all authors who published more than 3 books – be aware of duplicat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880" y="4267080"/>
            <a:ext cx="6229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$a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book/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&gt;3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218-1F7C-4B8A-8C4C-6305F2E0C7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1160" y="2971800"/>
            <a:ext cx="53766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ocument(“bib.xml”)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 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88A-CB0B-4137-A694-316CF46B62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ten” the authors, i.e. return a list of (author, title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880" y="3352680"/>
            <a:ext cx="547416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x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$y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9760" y="3429000"/>
            <a:ext cx="2838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kj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95E-858D-4EFA-B269-83A5F13ABD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, return all titles of her/his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7520" y="3276720"/>
            <a:ext cx="6003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320" y="5334120"/>
            <a:ext cx="15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11880" y="2819520"/>
            <a:ext cx="283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efg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klm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441-A6B4-473E-A8CF-145D8555AE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, but eliminate duplicate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1120" y="2819520"/>
            <a:ext cx="61135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a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D8A-2E38-4656-B6DF-3268F4E297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2920" y="2819520"/>
            <a:ext cx="6246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{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743-7656-4FEC-805E-7941A4DE80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WHERE-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0640" y="3114720"/>
            <a:ext cx="68990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]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]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4960" y="4811760"/>
            <a:ext cx="382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720" y="5410080"/>
            <a:ext cx="35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y do we get duplica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02E-6EA9-4C40-B107-BD714C12E6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Monday, 11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ed it ? You will get this sc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termScore = 100 – 1.2(100 – FinalSc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words, you will loose 20% more points than on the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FC6-56CE-497F-9DB1-ECE91DBC63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inct-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000" y="4800600"/>
            <a:ext cx="382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k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6360" y="495288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pply to a col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, no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s – note how query has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040" y="2971800"/>
            <a:ext cx="851328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,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241-CA5C-4545-A3AE-FB6BB004D3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47960" y="171756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728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400" y="2895480"/>
            <a:ext cx="38642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x.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and y.city=“Sea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7480" y="2362320"/>
            <a:ext cx="44953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nd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Seattle”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6840" y="4799160"/>
            <a:ext cx="1072800" cy="652680"/>
          </a:xfrm>
          <a:prstGeom prst="wedgeEllipseCallout">
            <a:avLst>
              <a:gd name="adj1" fmla="val -26620"/>
              <a:gd name="adj2" fmla="val -958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42520" y="4800600"/>
            <a:ext cx="1650960" cy="652680"/>
          </a:xfrm>
          <a:prstGeom prst="wedgeEllipseCallout">
            <a:avLst>
              <a:gd name="adj1" fmla="val 42259"/>
              <a:gd name="adj2" fmla="val -12436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0760" y="5546880"/>
            <a:ext cx="8856720" cy="1264320"/>
            <a:chOff x="140760" y="5546880"/>
            <a:chExt cx="8856720" cy="1264320"/>
          </a:xfrm>
        </p:grpSpPr>
        <p:sp>
          <p:nvSpPr>
            <p:cNvPr id="140" name=""/>
            <p:cNvSpPr/>
            <p:nvPr/>
          </p:nvSpPr>
          <p:spPr>
            <a:xfrm>
              <a:off x="205164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0760" y="5638680"/>
              <a:ext cx="1650960" cy="1172520"/>
            </a:xfrm>
            <a:prstGeom prst="wedgeEllipseCallout">
              <a:avLst>
                <a:gd name="adj1" fmla="val 64712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BEA-9B05-4583-B122-5AB8D64DE4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27400" y="1260360"/>
            <a:ext cx="4870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b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&lt;pid&gt; ??? &lt;/pi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???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aker&gt; ??? &lt;/mak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…. 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b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CBF-5EF3-4397-8D27-C73B93F2D37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xpr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value in th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expr 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entir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common subexpressions and for aggre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98D-2A86-4844-9A0E-CA26060AB7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480" y="5181480"/>
            <a:ext cx="866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elements, not a singl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a (aggregate) function that returns the number of e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4680" y="2209680"/>
            <a:ext cx="62744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ig_publis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:= /db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&gt; 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ig_publis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160" y="148896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ublishers that published more than 100 boo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391-01DF-4179-8BFB-1EAE08AC89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C7C-3FAA-4C8C-9958-D1B0E4C58F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488-771C-424F-8AEC-58A64325EA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440" y="243828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440" y="434340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64F-BA47-47E7-A1ED-E0E9AC9D6C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020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83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6BB-51FC-46CF-848E-1CCF8B83A7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s: elements and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BA7-35F7-401C-A9AF-8A900C58F2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432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65A-3743-41F7-A538-1D5E08A224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1796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512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1B0-2167-439F-A9C7-20747A56F4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we can put in an element (ak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.e. very restricti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472-DE96-4EE3-8796-1D68F30FC6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in DT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5400" y="2057400"/>
            <a:ext cx="6943320" cy="8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ATTLIST   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ATA  #REQUIRE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886200"/>
            <a:ext cx="34419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25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....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D0B-6BE8-48CE-9993-4D294E5715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in DT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3200" y="1828800"/>
            <a:ext cx="7878600" cy="25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ATTLIST   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ATA  #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          #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n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REF   #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n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REFS   #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9120" y="4775040"/>
            <a:ext cx="69094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25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p29432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ana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p48293”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an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p34982 p423234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.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AC9-E908-43DF-ABF8-667EF02267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3-10-27T19:17:04Z</dcterms:modified>
  <cp:revision>316</cp:revision>
  <dc:subject/>
  <dc:title>Lecture 09:</dc:title>
</cp:coreProperties>
</file>