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ADA2-2FB9-4BEA-A95D-A40D2722D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19EB-6829-4209-870F-E32FA6CA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0800" y="4341960"/>
            <a:ext cx="50338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B95-81A3-49AE-A75B-839CC479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713-25E1-4F0A-BE6A-8E9F96F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567-A62E-402D-9265-2A3EC0FC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ACE-F06F-449D-ABE8-59D60C70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76C-4CC5-4CA5-894B-6EE8AFC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FB3-9680-4A26-9BE7-217DF8C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EF7-7742-4D64-85A1-9A959D7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7EA-F8E2-4484-A638-DF33A95A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E13-471D-4F23-82FE-0296A76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7CA-C490-43CC-826F-2E2EB42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4C8-CD5F-4B18-8041-8F304CD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247-562E-478D-97D4-42E4BE1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9D3-1F1E-40FD-A7C3-C087C1FFA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24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499-7CE5-4F9E-B719-6ADBA780B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951-1121-4CD7-B9DD-EF5194C2C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1CC-EF97-431B-BE84-604D8B1377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Type Defin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original XM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ML document may have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f tags are correctl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f it has a DTD and conform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s useful in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641-F6B8-4D54-BBA2-48A474C5F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4320" y="2057400"/>
            <a:ext cx="7113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CC0-EFFA-4E13-84FC-586ECAF70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pl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17960" y="2209680"/>
            <a:ext cx="45590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56789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ohn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432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234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987654321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Jim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B123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... 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120" y="16416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valid X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5A9-2B7F-41F3-8331-F1F3EB042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The Cont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= a regular expression over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only = #PC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=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=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content = (#PCDATA | A | B | C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1040" y="1905120"/>
            <a:ext cx="4779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9040" y="2590920"/>
            <a:ext cx="1215720" cy="912600"/>
          </a:xfrm>
          <a:prstGeom prst="wedgeEllipseCallout">
            <a:avLst>
              <a:gd name="adj1" fmla="val -78328"/>
              <a:gd name="adj2" fmla="val -7050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375-78A6-4DCE-9097-ED572D4F5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3040" y="2514600"/>
            <a:ext cx="3821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8120" y="2514600"/>
            <a:ext cx="2977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40" y="4038480"/>
            <a:ext cx="464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irstNam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0800" y="1600200"/>
            <a:ext cx="1144800" cy="652680"/>
          </a:xfrm>
          <a:prstGeom prst="wedgeEllipseCallout">
            <a:avLst>
              <a:gd name="adj1" fmla="val -2500"/>
              <a:gd name="adj2" fmla="val 87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8240" y="1600200"/>
            <a:ext cx="1218240" cy="652680"/>
          </a:xfrm>
          <a:prstGeom prst="wedgeEllipseCallout">
            <a:avLst>
              <a:gd name="adj1" fmla="val -5245"/>
              <a:gd name="adj2" fmla="val 1141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00" y="5105520"/>
            <a:ext cx="4057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phone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400" y="202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4680" y="3546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9160" y="6172200"/>
            <a:ext cx="472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ame, (phone|emai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520" y="46483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3120" y="5715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7432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51055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1840" y="4419720"/>
            <a:ext cx="244116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. . . . . 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B09-A3FA-450B-BC36-92E3B9B46F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ing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= simple navigation through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= the SQL of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= recursive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no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F2B-A7BA-4616-8458-8E04DD1E3A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ata for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680" y="1645920"/>
            <a:ext cx="7616880" cy="50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Addison-Wesley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Serge Abitebou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Rick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fir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Hull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last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Victor Vianu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oundations of Databases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5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“55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Free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Jeffrey D. Ullman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Principles of Database and Knowledge Base 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998 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bi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4AF-2759-4323-9CD5-4D6C23665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 for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48040" y="1981080"/>
            <a:ext cx="609840" cy="1524240"/>
            <a:chOff x="3848040" y="1981080"/>
            <a:chExt cx="609840" cy="1524240"/>
          </a:xfrm>
        </p:grpSpPr>
        <p:sp>
          <p:nvSpPr>
            <p:cNvPr id="187" name=""/>
            <p:cNvSpPr/>
            <p:nvPr/>
          </p:nvSpPr>
          <p:spPr>
            <a:xfrm>
              <a:off x="3848040" y="19810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8040" y="289548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4800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0004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352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096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1800" y="4917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1800" y="594360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dison-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440" y="5943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rge Abiteb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00920" y="2057400"/>
            <a:ext cx="1223640" cy="459720"/>
          </a:xfrm>
          <a:prstGeom prst="wedgeRectCallout">
            <a:avLst>
              <a:gd name="adj1" fmla="val -182763"/>
              <a:gd name="adj2" fmla="val -1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3048120"/>
            <a:ext cx="2267280" cy="459720"/>
          </a:xfrm>
          <a:prstGeom prst="wedgeRectCallout">
            <a:avLst>
              <a:gd name="adj1" fmla="val -109736"/>
              <a:gd name="adj2" fmla="val -2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B2F-9355-4FAC-99DC-67B346588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: syntax, semantics, data, DT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recommended read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webservices/docs/ea2/tutorial/doc/JAXPXSL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w3.org/TR/xmlquery-use-cases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xmlportfolio.com/xque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38D-CA82-4AF0-A087-3F73F53BE6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impl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8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 empty          (there were no pap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400" y="1752480"/>
            <a:ext cx="2257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9360" y="4038480"/>
            <a:ext cx="26496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paper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1D5-BF4F-4CF3-BB93-4744481C84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Restricted Kleen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erge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ctor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ffrey D. Ullma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2760" y="1828800"/>
            <a:ext cx="128880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/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840" y="5513400"/>
            <a:ext cx="208404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/first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31E-EAA6-4EF0-B940-8D837436F0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Text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ge Abitebo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rey D. Ul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 Hull doesn’t appear because he has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r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XPa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matches the t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d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matches any node (= * or @* or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am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turns the name of the curren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905120"/>
            <a:ext cx="34268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/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07F-6FAF-4526-984E-047BF12FFD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Wild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tches any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8000" y="2011320"/>
            <a:ext cx="1765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author/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D1B-ABE8-477D-B155-DAF7F5C38E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Attribut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“5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ns that price is has to be a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600" y="1828800"/>
            <a:ext cx="3047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/@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DE8-AEFA-44DA-94E1-1D717D8AF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Rick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4280" y="1905120"/>
            <a:ext cx="4137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bib/book/author[first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301-128D-42FC-96C1-BEED6D4E47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a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840" y="2209680"/>
            <a:ext cx="7279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/book/author[firstname][address[//zip][city]]/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AAB-CCBF-467E-BA6D-C4659894EF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More Pred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3680" y="2286000"/>
            <a:ext cx="4411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@price &lt; “60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1880" y="3657600"/>
            <a:ext cx="5318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@age &lt; “25”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040" y="5105520"/>
            <a:ext cx="4053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bib/book[author/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xt(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DF6-DF26-4544-A1D7-B263D2B5D0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5028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ny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th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unde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paper at any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per|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@pri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@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b/book/[@price&lt;“55”]/author/last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449-D1C6-4FDF-BBAF-C1F2817EB6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Quilt, which is based on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XPath to express more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40F-0663-401A-BD37-6E4AA6346C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D7E-C539-4BCD-AD79-87B66BEB96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WR (“Flower”)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3429000" cy="23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315-46F4-48AA-91D1-E35333BAA1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book titles published after 199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160" y="2895480"/>
            <a:ext cx="53978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03600" y="4876920"/>
            <a:ext cx="27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E48-603D-46AC-B483-2FC8B28089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 titles by the coauthors of “Database Theory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600" y="55627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nswer will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ontain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6BA-893F-4228-8461-AC23128041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, but eliminate duplic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200" y="3200400"/>
            <a:ext cx="767952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“Database Theory”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]/auth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]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3360" y="5105520"/>
            <a:ext cx="375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c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ef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hi &lt;/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3280" y="541008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iminates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5E8-E020-4A50-A065-D6B17A7CEC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: 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author of a book by Morgan Kaufmann, list all books she pub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240" y="2971800"/>
            <a:ext cx="72612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cument("bib.xml"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Morgan Kaufmann”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t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D40-D0D7-4766-BB66-8D3D127841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91328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Jones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c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def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ghi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sul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6160" y="1371600"/>
            <a:ext cx="11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58B-9579-4728-A6C5-7B249182A2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xpr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value in th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xpr   -- bind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ntire list ex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common subexpressions and for ag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974-9D1C-4C25-8744-3B558861D6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480" y="51814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a (aggregate) function that returns the number of e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38320" y="1828800"/>
            <a:ext cx="687384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:= document("bib.xml")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 Unicode MS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 &gt; 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Courier New"/>
              </a:rPr>
              <a:t>big_publis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4B3-8F49-4DBC-93A3-478B746D9A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ooks whose price is larger than ave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760" y="2971800"/>
            <a:ext cx="5656320" cy="178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2B2-F417-4A64-934B-6D720BF12F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E2F-5BCF-4964-9646-B66B994DBE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638-00E1-4C02-A4FA-0F756826B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926-B9F5-496F-B395-79BAADE223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20" y="2438280"/>
            <a:ext cx="57560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040" y="4343400"/>
            <a:ext cx="5722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cument("bib.xml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A62-930D-4B7C-AAB1-18D642B651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an 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an unordered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0200" y="487368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8320" y="464832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FD6-1BCA-4A22-BDF4-F7C5FEB239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collections in expressions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0.7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 x m numbers ?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quan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C91-5C18-4FD2-8986-C3D32D5820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6720" y="1905120"/>
            <a:ext cx="7691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Courier New"/>
              </a:rPr>
              <a:t>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ocument("bib.xml")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publisher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9CB-2A24-4CA4-8204-CE1006191D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6120" y="2057400"/>
            <a:ext cx="4593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175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N /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@type = "Journal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ed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$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ho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SORT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Courier Ne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FAC-CC69-4FE1-BC90-054DB1DDF2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3800" y="2209680"/>
            <a:ext cx="614880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windsurf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2F1-0106-4D25-91A1-65DE2FA78A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54760" y="2362320"/>
            <a:ext cx="575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sailing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8DE-8951-4DDA-9689-6E89437C34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tuff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aling with order i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s some edges in the resul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: arbitrary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more restrictions in the fu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E60-D19F-4F39-AF2B-B6456BA8D6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0" y="464040"/>
            <a:ext cx="311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DA3-1E50-47B9-9AAC-7D2F3246F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mantics: a Tre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2133720"/>
            <a:ext cx="3849840" cy="391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 </a:t>
            </a: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“o555”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Map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45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Thailand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23456  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1120" y="1974960"/>
            <a:ext cx="733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710240"/>
            <a:ext cx="942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1600" y="250056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7600" y="2805120"/>
            <a:ext cx="1022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7760" y="37195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07960" y="36435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00960" y="39481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62360" y="3872160"/>
            <a:ext cx="11170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0600" y="4633920"/>
            <a:ext cx="875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32480" y="4633920"/>
            <a:ext cx="543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03440" y="4633920"/>
            <a:ext cx="68652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90480" y="5472360"/>
            <a:ext cx="1037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3120" y="5472360"/>
            <a:ext cx="6879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77880" y="5548320"/>
            <a:ext cx="10828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0360" y="4938840"/>
            <a:ext cx="8632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14640" y="4710240"/>
            <a:ext cx="830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3" idx="3"/>
            <a:endCxn id="65" idx="7"/>
          </p:cNvCxnSpPr>
          <p:nvPr/>
        </p:nvCxnSpPr>
        <p:spPr>
          <a:xfrm flipH="1">
            <a:off x="6001920" y="2371680"/>
            <a:ext cx="3866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3" idx="5"/>
            <a:endCxn id="66" idx="1"/>
          </p:cNvCxnSpPr>
          <p:nvPr/>
        </p:nvCxnSpPr>
        <p:spPr>
          <a:xfrm>
            <a:off x="6867360" y="2371680"/>
            <a:ext cx="742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5" idx="3"/>
            <a:endCxn id="67" idx="7"/>
          </p:cNvCxnSpPr>
          <p:nvPr/>
        </p:nvCxnSpPr>
        <p:spPr>
          <a:xfrm flipH="1">
            <a:off x="4583880" y="2897280"/>
            <a:ext cx="739080" cy="90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5" idx="4"/>
            <a:endCxn id="68" idx="0"/>
          </p:cNvCxnSpPr>
          <p:nvPr/>
        </p:nvCxnSpPr>
        <p:spPr>
          <a:xfrm flipH="1">
            <a:off x="5567040" y="2962080"/>
            <a:ext cx="9576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3"/>
            <a:endCxn id="69" idx="0"/>
          </p:cNvCxnSpPr>
          <p:nvPr/>
        </p:nvCxnSpPr>
        <p:spPr>
          <a:xfrm flipH="1">
            <a:off x="7038360" y="3201480"/>
            <a:ext cx="5706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4"/>
            <a:endCxn id="70" idx="0"/>
          </p:cNvCxnSpPr>
          <p:nvPr/>
        </p:nvCxnSpPr>
        <p:spPr>
          <a:xfrm flipH="1">
            <a:off x="7921440" y="3267000"/>
            <a:ext cx="273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4"/>
            <a:endCxn id="64" idx="0"/>
          </p:cNvCxnSpPr>
          <p:nvPr/>
        </p:nvCxnSpPr>
        <p:spPr>
          <a:xfrm flipH="1">
            <a:off x="4250880" y="4181400"/>
            <a:ext cx="45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8" idx="3"/>
            <a:endCxn id="71" idx="0"/>
          </p:cNvCxnSpPr>
          <p:nvPr/>
        </p:nvCxnSpPr>
        <p:spPr>
          <a:xfrm flipH="1">
            <a:off x="5059440" y="4039920"/>
            <a:ext cx="13356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8" idx="4"/>
            <a:endCxn id="72" idx="0"/>
          </p:cNvCxnSpPr>
          <p:nvPr/>
        </p:nvCxnSpPr>
        <p:spPr>
          <a:xfrm>
            <a:off x="5567040" y="4105440"/>
            <a:ext cx="2372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8" idx="5"/>
            <a:endCxn id="73" idx="0"/>
          </p:cNvCxnSpPr>
          <p:nvPr/>
        </p:nvCxnSpPr>
        <p:spPr>
          <a:xfrm>
            <a:off x="5940000" y="4039920"/>
            <a:ext cx="5068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4"/>
            <a:endCxn id="74" idx="0"/>
          </p:cNvCxnSpPr>
          <p:nvPr/>
        </p:nvCxnSpPr>
        <p:spPr>
          <a:xfrm flipH="1">
            <a:off x="4809240" y="5095440"/>
            <a:ext cx="25020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2" idx="4"/>
            <a:endCxn id="75" idx="0"/>
          </p:cNvCxnSpPr>
          <p:nvPr/>
        </p:nvCxnSpPr>
        <p:spPr>
          <a:xfrm flipH="1">
            <a:off x="5776200" y="5095440"/>
            <a:ext cx="277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3" idx="4"/>
            <a:endCxn id="76" idx="0"/>
          </p:cNvCxnSpPr>
          <p:nvPr/>
        </p:nvCxnSpPr>
        <p:spPr>
          <a:xfrm>
            <a:off x="6446520" y="5095440"/>
            <a:ext cx="1738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9" idx="4"/>
            <a:endCxn id="77" idx="0"/>
          </p:cNvCxnSpPr>
          <p:nvPr/>
        </p:nvCxnSpPr>
        <p:spPr>
          <a:xfrm>
            <a:off x="7038720" y="4410000"/>
            <a:ext cx="14364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0" idx="4"/>
            <a:endCxn id="78" idx="0"/>
          </p:cNvCxnSpPr>
          <p:nvPr/>
        </p:nvCxnSpPr>
        <p:spPr>
          <a:xfrm>
            <a:off x="7921800" y="4334040"/>
            <a:ext cx="8640" cy="39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8215920" y="4100760"/>
            <a:ext cx="9597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98280" y="5015160"/>
            <a:ext cx="977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66" idx="5"/>
            <a:endCxn id="94" idx="0"/>
          </p:cNvCxnSpPr>
          <p:nvPr/>
        </p:nvCxnSpPr>
        <p:spPr>
          <a:xfrm>
            <a:off x="8287920" y="3201840"/>
            <a:ext cx="4086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4" idx="4"/>
            <a:endCxn id="95" idx="0"/>
          </p:cNvCxnSpPr>
          <p:nvPr/>
        </p:nvCxnSpPr>
        <p:spPr>
          <a:xfrm flipH="1">
            <a:off x="8686440" y="4562640"/>
            <a:ext cx="1008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3627720" y="3338640"/>
            <a:ext cx="47880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22080" y="4253040"/>
            <a:ext cx="8326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65" idx="2"/>
            <a:endCxn id="98" idx="7"/>
          </p:cNvCxnSpPr>
          <p:nvPr/>
        </p:nvCxnSpPr>
        <p:spPr>
          <a:xfrm flipH="1">
            <a:off x="4014000" y="2738160"/>
            <a:ext cx="11674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3"/>
            <a:endCxn id="99" idx="0"/>
          </p:cNvCxnSpPr>
          <p:nvPr/>
        </p:nvCxnSpPr>
        <p:spPr>
          <a:xfrm>
            <a:off x="3719160" y="3735000"/>
            <a:ext cx="198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2" name=""/>
          <p:cNvGrpSpPr/>
          <p:nvPr/>
        </p:nvGrpSpPr>
        <p:grpSpPr>
          <a:xfrm>
            <a:off x="3925440" y="1523880"/>
            <a:ext cx="5067360" cy="4701600"/>
            <a:chOff x="3925440" y="1523880"/>
            <a:chExt cx="5067360" cy="4701600"/>
          </a:xfrm>
        </p:grpSpPr>
        <p:sp>
          <p:nvSpPr>
            <p:cNvPr id="103" name=""/>
            <p:cNvSpPr/>
            <p:nvPr/>
          </p:nvSpPr>
          <p:spPr>
            <a:xfrm>
              <a:off x="7890120" y="1523880"/>
              <a:ext cx="1102680" cy="739080"/>
            </a:xfrm>
            <a:prstGeom prst="wedgeEllipseCallout">
              <a:avLst>
                <a:gd name="adj1" fmla="val -37958"/>
                <a:gd name="adj2" fmla="val 1143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83840" y="5486400"/>
              <a:ext cx="752040" cy="739080"/>
            </a:xfrm>
            <a:prstGeom prst="wedgeEllipseCallout">
              <a:avLst>
                <a:gd name="adj1" fmla="val -115884"/>
                <a:gd name="adj2" fmla="val -1519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5440" y="1752480"/>
              <a:ext cx="1176840" cy="739080"/>
            </a:xfrm>
            <a:prstGeom prst="wedgeEllipseCallout">
              <a:avLst>
                <a:gd name="adj1" fmla="val -52324"/>
                <a:gd name="adj2" fmla="val 152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325760" y="621360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Order matter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557-4726-4C2C-807A-5501A2BFC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B94-8D07-4844-B67D-AD86AE375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90400" y="151200"/>
            <a:ext cx="566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Data a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440" y="134928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240" y="1574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1C3-1FBE-4710-B65D-F363F6BE2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Semi-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25C-FB51-443C-A133-29D620BB13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0-24T02:56:36Z</dcterms:modified>
  <cp:revision>106</cp:revision>
  <dc:subject/>
  <dc:title>Lecture 09:</dc:title>
</cp:coreProperties>
</file>