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F6C-03C7-4E4A-9D58-9BE949E3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3FD-E50C-433C-97C7-27BC90FE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7F1-8888-4A65-AAA8-672BAC4F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E53-119A-4BE5-B1E7-66DABD2D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AE2-3D9E-4A0A-BE28-CA4A7F1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393-93D1-44DE-8E7B-3D21FDF1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7DB-21F8-43FD-B524-63A5FD2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EF4-8C2E-4415-8902-3BAD6F5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067-2980-4CC8-8D1C-D69C3E55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718-7B98-4E94-96B1-C91B05B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E3F-3709-4421-A49A-870205B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774-D734-42CB-9141-B916531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89A-2D32-42A5-B444-B6A4DAD9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3.org/XML/1999/XML-in-10-points" TargetMode="External"/><Relationship Id="rId2" Type="http://schemas.openxmlformats.org/officeDocument/2006/relationships/hyperlink" Target="http://www.zvon.org/xxl/XMLTutorial/General/book_en.html" TargetMode="External"/><Relationship Id="rId3" Type="http://schemas.openxmlformats.org/officeDocument/2006/relationships/hyperlink" Target="http://db.bell-labs.com/galax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ish Database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2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6C7-F2A5-4E9A-9C3C-2CDFAB6301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(4.6, 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cture: syntax,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lectures: DTDs, XPath,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DD6-1334-4EE2-93DC-C24F854A1C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adings o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 from the Experts, Katz, 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 on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XML/1999/XML-in-10-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zvon.org/xxl/XMLTutorial/General/book_en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b.bell-labs.com/galax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ource: www.w3.org (but hard to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B2D-6A1A-472B-AE87-14A04DB32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1.0 – a recommendation from W3C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s: SGML (a very nasty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roots: a format for sha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025-920D-4FC9-8FE4-84FC4600A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does not have 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’t “give” you my relationa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mport it from other other syntax, like CSV (comma-separated-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= rich syntax f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XML is not relational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any data to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it in files, exchange on the Web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query it directly, using XPath,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74D-1726-46E1-B8E2-EF76D439C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HTML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57240" y="1700280"/>
            <a:ext cx="5429520" cy="381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47800" y="5786280"/>
            <a:ext cx="56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HTML describes the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933-6D1B-4F35-8685-6E5EA8C63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Bibliography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boul, Hull, Vi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br&gt; Addison Wesley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Data on the Web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teoul, Buneman, Su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Morgan Kaufmann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FB7-937E-4B20-9C83-93F4DFD9F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234200" cy="480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Foundations…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Hull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Vianu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ddison Wesle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0" y="620244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XML describes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6B4-B5FB-4610-A5CC-50C9109CA0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4000" y="1752480"/>
            <a:ext cx="8310600" cy="30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ag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 end tag: 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element: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bbrv.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ML document: sing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760" y="5932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Arial"/>
              </a:rPr>
              <a:t>well formed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XML document: if it has matching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6D7-E707-4D0E-82FA-BA55F7AA5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94600" cy="40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55”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“USD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Foundations of Databases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biteboul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95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y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080" y="565452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ttributes are alternative ways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795-9AFE-4B95-BA55-0F527F6C89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6840" y="464040"/>
            <a:ext cx="7691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Oids an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365960" cy="39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555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ane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 o555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123”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o456”&gt;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400" y="58863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ids and references in XML are jus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975-FD59-42BD-A7B6-C830D5CF2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p Relational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cover in the second half, when it is mor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33D-D033-45C0-8210-88B5800D4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![CDATA[ .....any text here...]]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8880" y="4191120"/>
            <a:ext cx="7128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&lt;![CDATA[ some text here &lt;/notAtag&gt; &lt;&gt;]]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5C5-3A0A-4F5D-888C-D0E356F8F0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Entit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amp;entity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this is less than &amp;lt;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nt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114800" y="3886200"/>
          <a:ext cx="3200400" cy="28195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ap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quo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#38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2DC-7E5D-4C9F-8767-B524936B0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Processing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: &lt;?target argument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8280" y="3276720"/>
            <a:ext cx="7252920" cy="18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larm Clock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?ringBell 20?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9.99 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061-DC82-446F-A4ED-5C0BAD7946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XML: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&lt;!-- .... Comment text... -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they are part of the data model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16E-9E3B-407B-8447-82F233935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3.org/TR/REC-xml-names (1/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::= [prefix:]local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9520" y="4071960"/>
            <a:ext cx="5034960" cy="225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xmlns:isb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www.isbn-org.org/def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5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…. 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bn: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23C-A70C-4AF4-BD3F-A0A267A24C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3141720"/>
            <a:ext cx="6968880" cy="311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xmlns:myst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“http://…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 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ystyle: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2952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: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, &lt;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sbn: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: provide URL fo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8160" y="3780720"/>
            <a:ext cx="3947040" cy="5637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ng to this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5160" y="3886200"/>
            <a:ext cx="824040" cy="549360"/>
          </a:xfrm>
          <a:custGeom>
            <a:avLst/>
            <a:gdLst/>
            <a:ahLst/>
            <a:rect l="l" t="t" r="r" b="b"/>
            <a:pathLst>
              <a:path w="1045" h="270">
                <a:moveTo>
                  <a:pt x="0" y="270"/>
                </a:moveTo>
                <a:cubicBezTo>
                  <a:pt x="54" y="232"/>
                  <a:pt x="151" y="78"/>
                  <a:pt x="325" y="39"/>
                </a:cubicBezTo>
                <a:cubicBezTo>
                  <a:pt x="499" y="0"/>
                  <a:pt x="895" y="39"/>
                  <a:pt x="1045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98880" y="4267080"/>
            <a:ext cx="663840" cy="671760"/>
          </a:xfrm>
          <a:custGeom>
            <a:avLst/>
            <a:gdLst/>
            <a:ahLst/>
            <a:rect l="l" t="t" r="r" b="b"/>
            <a:pathLst>
              <a:path w="711" h="471">
                <a:moveTo>
                  <a:pt x="0" y="471"/>
                </a:moveTo>
                <a:cubicBezTo>
                  <a:pt x="34" y="428"/>
                  <a:pt x="78" y="302"/>
                  <a:pt x="197" y="223"/>
                </a:cubicBezTo>
                <a:cubicBezTo>
                  <a:pt x="316" y="144"/>
                  <a:pt x="534" y="63"/>
                  <a:pt x="7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9760" y="3605040"/>
            <a:ext cx="1038240" cy="281160"/>
          </a:xfrm>
          <a:custGeom>
            <a:avLst/>
            <a:gdLst/>
            <a:ahLst/>
            <a:rect l="l" t="t" r="r" b="b"/>
            <a:pathLst>
              <a:path w="234" h="163">
                <a:moveTo>
                  <a:pt x="234" y="163"/>
                </a:moveTo>
                <a:cubicBezTo>
                  <a:pt x="154" y="125"/>
                  <a:pt x="74" y="87"/>
                  <a:pt x="37" y="60"/>
                </a:cubicBezTo>
                <a:cubicBezTo>
                  <a:pt x="0" y="33"/>
                  <a:pt x="5" y="16"/>
                  <a:pt x="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87720" y="4422600"/>
            <a:ext cx="1501920" cy="1135080"/>
            <a:chOff x="3987720" y="4422600"/>
            <a:chExt cx="1501920" cy="1135080"/>
          </a:xfrm>
        </p:grpSpPr>
        <p:sp>
          <p:nvSpPr>
            <p:cNvPr id="146" name=""/>
            <p:cNvSpPr/>
            <p:nvPr/>
          </p:nvSpPr>
          <p:spPr>
            <a:xfrm>
              <a:off x="3987720" y="4422600"/>
              <a:ext cx="914400" cy="46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5960" y="4970520"/>
              <a:ext cx="1363680" cy="587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978-DE47-44C8-A13A-9FFFF84B7C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9800" y="272880"/>
            <a:ext cx="8175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elational Data to 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14800" y="3962160"/>
            <a:ext cx="4681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&gt; &lt;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u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4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Dick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363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7760" y="2060640"/>
          <a:ext cx="402912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4029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H="1">
            <a:off x="5459400" y="1752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50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50120" y="1752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848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2000" y="2313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81840" y="2313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50120" y="2286000"/>
            <a:ext cx="3175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071840" y="2313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231300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29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732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000" y="218448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640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204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7320" y="3048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3048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29718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81280" y="3325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376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7280" y="3325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33256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c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6308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11000" y="332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6880" y="1447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900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2880" y="1574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A4-9E53-4D37-9C35-873AC2A1A6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s become par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tional schema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(name,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XML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are part of the data, and are repeated man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XML is much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mistructu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8F0-81D8-47BE-82FE-BAF4459E82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represent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le with nu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3240" y="2514600"/>
            <a:ext cx="373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John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Joe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1720" y="396252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h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791320" y="4876920"/>
          <a:ext cx="213336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C98-238B-49C6-BF29-4DB2AFA8E2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3600" y="2590920"/>
            <a:ext cx="36100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Mary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345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3456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5400" y="31240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hon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19720" y="5105520"/>
          <a:ext cx="3200400" cy="1295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06704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925400" y="5486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DDC-1F8C-4850-A6F5-226151828F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BCNF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5160" y="1565280"/>
            <a:ext cx="63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name, SSN, age, hairColor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,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ir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4840" y="2922480"/>
            <a:ext cx="561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S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age, hairColor   in Per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, 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g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rColor in 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ople(SSN, name, ag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Hair(age, hairColor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Phone(SSN, phone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7BA-A652-44F2-A8CD-2EE01D2B4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Expla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different types in differe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collections (no 1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colle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lt;d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both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nd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ublish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590920"/>
            <a:ext cx="5125680" cy="173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mith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234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3960" y="274320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nam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E33-2D04-489F-B0A7-00FB6169AF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A,B,C,D)    A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,   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:  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s of BCNF: 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,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C:  split into  R1(A,BC)   R2(A,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we pick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 fir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660-A5E1-4C63-9239-FD30800B3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omposition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ss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we can re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(A,B)      R2(A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’(A,B,C)   should be the sam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R(A,B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743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0880" y="613728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’ is in general larger than R.  Must ensure R’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5840" y="2652840"/>
            <a:ext cx="1750680" cy="496440"/>
          </a:xfrm>
          <a:prstGeom prst="wedgeRoundRectCallout">
            <a:avLst>
              <a:gd name="adj1" fmla="val -140601"/>
              <a:gd name="adj2" fmla="val 36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840" y="4572000"/>
            <a:ext cx="1292760" cy="496440"/>
          </a:xfrm>
          <a:prstGeom prst="wedgeRoundRectCallout">
            <a:avLst>
              <a:gd name="adj1" fmla="val -193481"/>
              <a:gd name="adj2" fmla="val -13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5D4-456D-428A-9763-96D6DFB9C7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B,C) s.t.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the decomposition into R1(A,B), R2(A,C)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911-E759-439C-85FB-312A35A9A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: A Problem with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3040" y="2244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3040" y="239724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4920" y="175248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6160" y="35812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724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038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105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4400" y="2701800"/>
            <a:ext cx="69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BCNF violation, and we 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7720" y="39211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1040" y="5105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64760" y="6019920"/>
            <a:ext cx="65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we loose the FD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, Produc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638-F8D6-4215-A82F-C56AF410A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’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9360" y="483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9360" y="498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240" y="43434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 Company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560" y="1600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1600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it                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1981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057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520" y="2098800"/>
            <a:ext cx="70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UW                  Galaga99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UW                  Bingo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600" y="301320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 so far. All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D’s are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put all the data back into a single table ag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6440" y="5070600"/>
            <a:ext cx="60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ga99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go                       UW                     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4680" y="6137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olates the dependency:   company, product -&gt; u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F4C-69AB-4BA5-A3DF-8F3C83058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3rd Normal Form (3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19461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condition for removing anomalies from re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819520"/>
            <a:ext cx="7919640" cy="224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elation R is in 3rd normal form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re is a nontrivial dependenc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R , then 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a super-key for 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 B is part of a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8840" y="54100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 = no anomalies, but may lose some F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NF = keeps all FDs, but may have some 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0A1-B321-4DA6-A561-E57B0D1A2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3-10-22T02:41:16Z</dcterms:modified>
  <cp:revision>86</cp:revision>
  <dc:subject/>
  <dc:title>Lecture 09:</dc:title>
</cp:coreProperties>
</file>