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427-4572-484B-B209-E94C10B3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F6E-5571-4AC4-B8F3-314DB2DF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F9D-4B62-4F66-8F52-14B38D80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D7B-AB08-4A4E-A7D6-1F1CD55A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54D-9E5D-4549-A6C7-32FF136A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1B9-9B6E-4352-A97B-FE80A719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EE2-EEA5-4273-B56D-1DFA6092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8D8-4012-4289-838F-814DD47C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99C-55EA-459D-8830-C1CEA579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BD4-B9F5-469E-95A9-54D4E2F0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B88-32D7-4902-85E0-D6D3971C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1FC-3211-410C-8F02-9E758D39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533B-EC32-49F8-8BD2-AA7C9D0EB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October 20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D33-8FD0-4701-AACA-FACE92520A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819520" y="28195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480060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715000" y="4876920"/>
          <a:ext cx="2170080" cy="1452600"/>
        </p:xfrm>
        <a:graphic>
          <a:graphicData uri="http://schemas.openxmlformats.org/drawingml/2006/table">
            <a:tbl>
              <a:tblPr/>
              <a:tblGrid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 flipH="1">
            <a:off x="1752120" y="4191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71880" y="3033000"/>
            <a:ext cx="2283120" cy="1166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4400" y="626256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CB3D-929B-4A9B-B781-D04D470AAD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37880" y="4151160"/>
            <a:ext cx="4516200" cy="97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720" y="6095880"/>
            <a:ext cx="820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first decomposi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39920" y="5181480"/>
            <a:ext cx="646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n’t need necessaril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69F-8220-47C2-A2C0-C1CD09D3F8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ll attributes are a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2NF) = old and obso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3NF) = 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yce Cod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CNF) = 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993-4C38-494D-A75B-FBAA5EFA6C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2000" y="190512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9080" y="4917960"/>
            <a:ext cx="850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(though a bit vagu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a set of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termining another attribu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determi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ttribut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7320" y="2666880"/>
            <a:ext cx="6044040" cy="16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BCNF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is a non-trivia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 R ,   then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is a key f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E47-7660-445C-A729-57054FDF35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772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14240" y="4952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0984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75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9960" y="434340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9720" y="1752480"/>
            <a:ext cx="8423280" cy="2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hoos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violates the BNCF cond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plit R in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[others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ontinue with bo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no more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7760" y="6172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BF3-9055-4970-A039-2D20D18251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3520" y="4384800"/>
            <a:ext cx="385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dependen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ke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, PhoneNumb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in BCN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19320" y="2057400"/>
          <a:ext cx="6019560" cy="1674720"/>
        </p:xfrm>
        <a:graphic>
          <a:graphicData uri="http://schemas.openxmlformats.org/drawingml/2006/table">
            <a:tbl>
              <a:tblPr/>
              <a:tblGrid>
                <a:gridCol w="1504440"/>
                <a:gridCol w="1505160"/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003-FA45-42FE-8656-55633C9B96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e it into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00200" y="2209680"/>
          <a:ext cx="4514760" cy="1004760"/>
        </p:xfrm>
        <a:graphic>
          <a:graphicData uri="http://schemas.openxmlformats.org/drawingml/2006/table">
            <a:tbl>
              <a:tblPr/>
              <a:tblGrid>
                <a:gridCol w="1504800"/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676520" y="3886200"/>
          <a:ext cx="3009960" cy="1674720"/>
        </p:xfrm>
        <a:graphic>
          <a:graphicData uri="http://schemas.openxmlformats.org/drawingml/2006/table">
            <a:tbl>
              <a:tblPr/>
              <a:tblGrid>
                <a:gridCol w="1505160"/>
                <a:gridCol w="1504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6322680" y="23623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87360" y="3809880"/>
            <a:ext cx="299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check anoma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C9F-0152-4D5C-A12D-684D109E91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960" y="187020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dependency that violates the BCNF cond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96920" y="392112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44840" y="3997440"/>
            <a:ext cx="228600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3440" y="4876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02920" y="48355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1520" y="4876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7640" y="6172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3800" y="6172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4400" y="3013200"/>
            <a:ext cx="67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uristics: choose B , B , … B  “as large as possi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3200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32004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3200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040" y="40798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4080" y="5105520"/>
            <a:ext cx="19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 ther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-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ation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n BCN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13920" y="4537080"/>
            <a:ext cx="225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u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09520" y="2479680"/>
            <a:ext cx="400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1F5-F427-405C-889B-D133EBA802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516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2840" y="3089160"/>
            <a:ext cx="7587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n BCNF (in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find all keys (How ? Comput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various sets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now decom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2B9-1826-43B3-87B0-CD608606C7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A,B,C,D)    A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B,    B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:   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olations of BCNF: 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, 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, 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C:  split into  R1(A,BC)   R2(A,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we pick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  fir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912-C22A-4947-8F9B-CBCB4B0555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a Relational schema (3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 (5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on bags (5.3, 5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 5.3 and 5.4 (won’t have time to cover in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0A6-5089-42E8-AB28-68206813A3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less 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composition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oss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we can re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(A,B)      R2(A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’(A,B,C)   should be the same 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R(A,B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27432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4191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0880" y="613728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’ is in general larger than R.  Must ensure R’ =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65840" y="2652840"/>
            <a:ext cx="1750680" cy="496440"/>
          </a:xfrm>
          <a:prstGeom prst="wedgeRoundRectCallout">
            <a:avLst>
              <a:gd name="adj1" fmla="val -140601"/>
              <a:gd name="adj2" fmla="val 36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840" y="4572000"/>
            <a:ext cx="1292760" cy="496440"/>
          </a:xfrm>
          <a:prstGeom prst="wedgeRoundRectCallout">
            <a:avLst>
              <a:gd name="adj1" fmla="val -193481"/>
              <a:gd name="adj2" fmla="val -13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91A-83D6-41C1-8BE9-6A1791A1C9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less 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s.t.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, the decomposition into R1(A,B), R2(A,C) is loss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BA7-5BAA-4324-8E44-5A1FBDA608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: A Problem with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3040" y="2244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040" y="23972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4920" y="175248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 Company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6160" y="35812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472428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3962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038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5105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5181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2701800"/>
            <a:ext cx="69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BCNF violation, and we decom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87720" y="39211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61040" y="51055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 F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64760" y="6019920"/>
            <a:ext cx="65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we loose the FD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2AF-3D20-44B4-B890-5007640729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’s the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9360" y="4835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9360" y="498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240" y="434340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 Company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4495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560" y="16002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1600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81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2057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1981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2057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5520" y="2098800"/>
            <a:ext cx="70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ga99            UW                  Galaga99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go                 UW                  Bingo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1600" y="3013200"/>
            <a:ext cx="64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 so far. All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D’s are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put all the data back into a single table ag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6440" y="5070600"/>
            <a:ext cx="607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ga99                  UW         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go                       UW         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4680" y="6137280"/>
            <a:ext cx="70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olates the dependency:   company, product -&gt; un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BAD-1AAA-4DDF-88D4-36CC3918EC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3rd Normal Form (3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5280" y="19461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9040" y="2819520"/>
            <a:ext cx="7919640" cy="224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3rd normal form i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then 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a super-key for 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B is part of a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8840" y="54100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off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= no anomalies, but may lose some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F = keeps all FDs, but may have some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AB9-B83D-4DD7-AC77-E6EA4B2C68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ism for creating new relations from existing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place in the big pi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6600" y="4422600"/>
            <a:ext cx="1453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88600" y="4788000"/>
            <a:ext cx="116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00600" y="4788000"/>
            <a:ext cx="2116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4" idx="3"/>
            <a:endCxn id="225" idx="1"/>
          </p:cNvCxnSpPr>
          <p:nvPr/>
        </p:nvCxnSpPr>
        <p:spPr>
          <a:xfrm>
            <a:off x="2603520" y="5017680"/>
            <a:ext cx="158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3"/>
            <a:endCxn id="226" idx="1"/>
          </p:cNvCxnSpPr>
          <p:nvPr/>
        </p:nvCxnSpPr>
        <p:spPr>
          <a:xfrm>
            <a:off x="5357880" y="5017680"/>
            <a:ext cx="124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605520" y="590868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63440" y="580716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bag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786-3AFD-4E77-B2D1-8C57184128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26C-2563-4225-956E-3708FDF10D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Union and 2.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–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mployees --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4BF-ED22-4730-A928-CA93902A9F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Intersec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derived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= R1 – (R1 –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xpressed as a join (will see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izedEmploye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76C-4862-4FEF-ABCA-64251110A0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all tuples which satisfy a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ame = “Smithh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ition c can be =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g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lt;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936-7776-4250-8F8A-D2459FF119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r Logical Desi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me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its F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to design a better relatio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F09-3613-4097-934B-BCB1688B52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582480"/>
            <a:ext cx="8077320" cy="5589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16600" y="3800520"/>
            <a:ext cx="73983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nd all employees with salary more than $4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3EB-1ED0-444B-9C75-64BD45F52F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columns, then removes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project social-security number and na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  Answer(SSN, 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400-6AD1-45AF-BC90-0786995A3A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584280"/>
            <a:ext cx="7391520" cy="5306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6240" y="3429000"/>
            <a:ext cx="33678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549-826D-41EC-9EBE-C3185F0468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uple in R1 with each tuple in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rare in practice; mainly used to express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DA1-A164-496E-A4C9-739C48F46A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374840" y="274680"/>
            <a:ext cx="6357960" cy="62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4CA-57C2-4B98-9A16-16568025578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586-6DE7-4584-94CB-0BD9DE18CA2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schema, not th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1,…,B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(LastName, SocSoc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59A-6AF2-4EBD-B9B1-DA98891D6CA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am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9400" y="194616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9400" y="231768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06080" y="231768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22874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24360" y="22874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46680" y="22874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0480" y="26719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05000" y="26719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265284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24360" y="26528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35520" y="265284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0120" y="30160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05000" y="30160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335268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24360" y="33526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46680" y="335268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0960" y="5060880"/>
            <a:ext cx="125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57640" y="50608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Soc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503064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76640" y="50306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98960" y="503064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2760" y="54151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57280" y="54151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5396040"/>
            <a:ext cx="33145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76640" y="53960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87800" y="5396040"/>
            <a:ext cx="33037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42760" y="57592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57280" y="57592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09588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76640" y="60958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98960" y="609588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3505320"/>
            <a:ext cx="7467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3D8-CD40-46F0-A3E5-677E6F37F3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aning:  R1 ⋈ R2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sele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hecks equality of all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projection eliminates the duplicate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FA3-C59B-4EAF-BEB5-3D442F58EF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222560" y="407880"/>
            <a:ext cx="288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Joi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62440" y="87804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62440" y="124920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79120" y="12492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82520" y="121932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97400" y="121932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121932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63520" y="16034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78040" y="160344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82520" y="158436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97400" y="158436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08560" y="158436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63160" y="194796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78040" y="1947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82520" y="2284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97400" y="2284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2284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63880" y="2654280"/>
            <a:ext cx="152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64600" y="30258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77320" y="302580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82520" y="2995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97400" y="2995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19720" y="2995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63160" y="33796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76240" y="337968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82520" y="3363840"/>
            <a:ext cx="331488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97400" y="336384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08560" y="3363840"/>
            <a:ext cx="33033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63160" y="372420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78040" y="37242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82520" y="40622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97400" y="40622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40622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82320" y="502272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48880" y="502272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800" y="502272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499284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05240" y="499284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25760" y="499284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880" y="499284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10200" y="499284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84840" y="537696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48160" y="5376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29360" y="537696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5359320"/>
            <a:ext cx="13622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05240" y="5359320"/>
            <a:ext cx="1080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16040" y="5359320"/>
            <a:ext cx="16718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87880" y="535932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99040" y="5359320"/>
            <a:ext cx="164772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87720" y="57214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48160" y="57214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29360" y="57214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605808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05240" y="605808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25760" y="605808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87880" y="605808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10200" y="605808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38560" y="4191120"/>
            <a:ext cx="7674480" cy="782280"/>
            <a:chOff x="538560" y="4191120"/>
            <a:chExt cx="7674480" cy="782280"/>
          </a:xfrm>
        </p:grpSpPr>
        <p:sp>
          <p:nvSpPr>
            <p:cNvPr id="347" name=""/>
            <p:cNvSpPr/>
            <p:nvPr/>
          </p:nvSpPr>
          <p:spPr>
            <a:xfrm>
              <a:off x="538560" y="4191120"/>
              <a:ext cx="76744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mployee         Dependents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ame, SSN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=SSN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Employee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2, D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Dependents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1848600" y="42472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664-F581-4EE2-BD80-3C732B487EA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database is poorly designed we get 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unda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ata is rep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pdated anomal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eed to change in several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lete anomal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ay lose data when we don’t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B62-D216-426E-8235-5FF45DE1D8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=                           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752480" y="2133720"/>
          <a:ext cx="2514600" cy="182556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410080" y="2133720"/>
          <a:ext cx="2514600" cy="146052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2590920" y="4191120"/>
          <a:ext cx="4495680" cy="2371680"/>
        </p:xfrm>
        <a:graphic>
          <a:graphicData uri="http://schemas.openxmlformats.org/drawingml/2006/table">
            <a:tbl>
              <a:tblPr/>
              <a:tblGrid>
                <a:gridCol w="1498320"/>
                <a:gridCol w="1498680"/>
                <a:gridCol w="14986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C24-44BF-4F99-A3E0-44075E84D2B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schemas R(A, B, C, D), S(A, C, E), what is the schema of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, C),  S(D, E), what is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),  S(A, B),  what is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330-3ADA-45FA-9FC1-7D0D3E90511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ta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in that involves a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any cond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BA0-55FE-4C77-B3F2-0913C9A55EC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ta join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seful join in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32B-7369-4AD6-A6CC-1E6D0954118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attributes i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DB8-8261-40E2-93E8-B395E01C42D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s in Distributed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are used in 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219320" y="3581280"/>
          <a:ext cx="190476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81480" y="3200400"/>
          <a:ext cx="285768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838080" y="2743200"/>
            <a:ext cx="266724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2590920"/>
            <a:ext cx="3886200" cy="190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6"/>
            <a:endCxn id="367" idx="2"/>
          </p:cNvCxnSpPr>
          <p:nvPr/>
        </p:nvCxnSpPr>
        <p:spPr>
          <a:xfrm flipV="1">
            <a:off x="3505320" y="3542760"/>
            <a:ext cx="1296000" cy="2293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1279440" y="293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28480" y="2556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95120" y="37749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36560" y="4876920"/>
            <a:ext cx="672012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t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53680" y="5638680"/>
            <a:ext cx="39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68400" y="591192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Employ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98320" y="6267600"/>
            <a:ext cx="3457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657600" y="58672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57600" y="62485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020-CFDA-433D-A974-339998BA517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RA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         Purchase          Person         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98520" y="5029200"/>
            <a:ext cx="1647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f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17320" y="5029200"/>
            <a:ext cx="185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giz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0496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2280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809880" y="3581280"/>
            <a:ext cx="1707120" cy="461160"/>
            <a:chOff x="3809880" y="3581280"/>
            <a:chExt cx="1707120" cy="461160"/>
          </a:xfrm>
        </p:grpSpPr>
        <p:sp>
          <p:nvSpPr>
            <p:cNvPr id="385" name=""/>
            <p:cNvSpPr/>
            <p:nvPr/>
          </p:nvSpPr>
          <p:spPr>
            <a:xfrm rot="16200000">
              <a:off x="3906000" y="348516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94720" y="370512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ll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019920" y="2743200"/>
            <a:ext cx="1198080" cy="461160"/>
            <a:chOff x="6019920" y="2743200"/>
            <a:chExt cx="1198080" cy="461160"/>
          </a:xfrm>
        </p:grpSpPr>
        <p:sp>
          <p:nvSpPr>
            <p:cNvPr id="388" name=""/>
            <p:cNvSpPr/>
            <p:nvPr/>
          </p:nvSpPr>
          <p:spPr>
            <a:xfrm rot="16200000">
              <a:off x="6115680" y="26470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01880" y="286704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id=p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352680" y="2057400"/>
            <a:ext cx="1729800" cy="461160"/>
            <a:chOff x="3352680" y="2057400"/>
            <a:chExt cx="1729800" cy="461160"/>
          </a:xfrm>
        </p:grpSpPr>
        <p:sp>
          <p:nvSpPr>
            <p:cNvPr id="391" name=""/>
            <p:cNvSpPr/>
            <p:nvPr/>
          </p:nvSpPr>
          <p:spPr>
            <a:xfrm rot="16200000">
              <a:off x="3448800" y="196128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35720" y="218124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y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309480" y="1066680"/>
            <a:ext cx="111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562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6201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562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762012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505320" y="4038480"/>
            <a:ext cx="53316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4038120" y="4038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038480" y="3048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6324480" y="30481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3733920" y="25142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600200" y="2514240"/>
            <a:ext cx="16765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5053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331-B12B-4B06-B02A-A5C116F744E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set with repea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perations need to be defined carefully on b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c}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b,e,f,f}={a,a,b,b,b,b,b,c,e,f,f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b,c,c} – {b,c,c,c,d} = {a,b,b,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: preserve the number of occur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: no duplicat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tesian product, join: no duplicat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! Relational Engines work on bags, not set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83840" y="624852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ading assignment: 5.3 – 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0B84-16A8-4796-B89B-2E91EB1F352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: RA has Limitation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ompute “transitive clos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direct and indirect relatives of F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express in RA !!!  Need to write C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057400" y="2590920"/>
          <a:ext cx="4495680" cy="2508120"/>
        </p:xfrm>
        <a:graphic>
          <a:graphicData uri="http://schemas.openxmlformats.org/drawingml/2006/table">
            <a:tbl>
              <a:tblPr/>
              <a:tblGrid>
                <a:gridCol w="1498680"/>
                <a:gridCol w="1498680"/>
                <a:gridCol w="1498320"/>
              </a:tblGrid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B86-1E5E-4A55-AB2D-23300AD5E61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7520" y="4648320"/>
            <a:ext cx="6735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       = repea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nomalies = Fred moves to “Bellev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anomalies = Joe deletes his phone numb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is cit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2240" y="16765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set attributes (persons with several phon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6400" y="3962520"/>
            <a:ext cx="2602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95280" y="2286000"/>
          <a:ext cx="6019920" cy="1339920"/>
        </p:xfrm>
        <a:graphic>
          <a:graphicData uri="http://schemas.openxmlformats.org/drawingml/2006/table">
            <a:tbl>
              <a:tblPr/>
              <a:tblGrid>
                <a:gridCol w="1505160"/>
                <a:gridCol w="1504800"/>
                <a:gridCol w="1505160"/>
                <a:gridCol w="1504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579120" y="3962520"/>
            <a:ext cx="38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EF4A-08C6-41C9-85BC-12999E0F49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2040" y="148896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ak the relation into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3841920"/>
          <a:ext cx="4514760" cy="1004760"/>
        </p:xfrm>
        <a:graphic>
          <a:graphicData uri="http://schemas.openxmlformats.org/drawingml/2006/table">
            <a:tbl>
              <a:tblPr/>
              <a:tblGrid>
                <a:gridCol w="1504800"/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486400" y="3917880"/>
          <a:ext cx="3009960" cy="133956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Phon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375840" y="5014800"/>
            <a:ext cx="600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malies have g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 repe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move Fred to “Bellevue”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delete all Joe’s phone number (how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981080" y="2057400"/>
          <a:ext cx="5486400" cy="990720"/>
        </p:xfrm>
        <a:graphic>
          <a:graphicData uri="http://schemas.openxmlformats.org/drawingml/2006/table">
            <a:tbl>
              <a:tblPr/>
              <a:tblGrid>
                <a:gridCol w="1371240"/>
                <a:gridCol w="1371960"/>
                <a:gridCol w="1371600"/>
                <a:gridCol w="1371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hone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1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-45-6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-555-6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t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7-65-4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8-555-2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 flipH="1">
            <a:off x="2437920" y="3124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24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BEB-C58A-4299-B256-8416A76988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657600" y="1905120"/>
            <a:ext cx="3581280" cy="864720"/>
            <a:chOff x="3657600" y="1905120"/>
            <a:chExt cx="3581280" cy="864720"/>
          </a:xfrm>
        </p:grpSpPr>
        <p:sp>
          <p:nvSpPr>
            <p:cNvPr id="65" name=""/>
            <p:cNvSpPr/>
            <p:nvPr/>
          </p:nvSpPr>
          <p:spPr>
            <a:xfrm>
              <a:off x="6253920" y="2113560"/>
              <a:ext cx="984600" cy="29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49800" y="2024280"/>
              <a:ext cx="596880" cy="536760"/>
            </a:xfrm>
            <a:prstGeom prst="diamond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05080" y="2173320"/>
              <a:ext cx="835560" cy="29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57600" y="190512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5760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25600" y="2501640"/>
              <a:ext cx="56664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71880" y="2501640"/>
              <a:ext cx="567000" cy="268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s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4164840" y="2113560"/>
              <a:ext cx="5976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194720" y="2471760"/>
              <a:ext cx="208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41000" y="2292840"/>
              <a:ext cx="2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46680" y="2292840"/>
              <a:ext cx="50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433200" y="2412000"/>
              <a:ext cx="208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42000" y="2412000"/>
              <a:ext cx="2386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15880" y="20224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6600" y="373392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F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4800" y="5257800"/>
            <a:ext cx="28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809880" y="3809880"/>
          <a:ext cx="152424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867280" y="3809880"/>
          <a:ext cx="1905120" cy="5904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800600" y="5181480"/>
          <a:ext cx="1143000" cy="78768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248520" y="5181480"/>
          <a:ext cx="380880" cy="7876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7010280" y="5181480"/>
          <a:ext cx="762120" cy="7876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581280" y="5181480"/>
          <a:ext cx="762120" cy="78732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55627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96216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4724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477120" y="4572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CAF-A494-422E-B7A1-503DC84CD4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59640" y="5029200"/>
            <a:ext cx="561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jection of R 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61520" y="1752480"/>
            <a:ext cx="4398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59040" y="3114720"/>
            <a:ext cx="31424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93560" y="3119400"/>
            <a:ext cx="3093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..., C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66688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2362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B55-FDCA-4CDF-B100-97B63EF492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cor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819520" y="2590920"/>
          <a:ext cx="34290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447920" y="4648320"/>
          <a:ext cx="227952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02060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486400" y="4648320"/>
          <a:ext cx="2408400" cy="1452600"/>
        </p:xfrm>
        <a:graphic>
          <a:graphicData uri="http://schemas.openxmlformats.org/drawingml/2006/table">
            <a:tbl>
              <a:tblPr/>
              <a:tblGrid>
                <a:gridCol w="1258920"/>
                <a:gridCol w="1149480"/>
              </a:tblGrid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C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z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 flipH="1">
            <a:off x="228600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114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35040" y="6289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688-8F2F-46E9-A6EC-7BD5D7979D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3-10-20T04:28:40Z</dcterms:modified>
  <cp:revision>110</cp:revision>
  <dc:subject/>
  <dc:title>Lecture 09:</dc:title>
</cp:coreProperties>
</file>