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718D-0EBB-48B8-9F2F-B55D1BAAD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t, Roo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, Dep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urse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, Roo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t,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s: {student, room, time},  {student, course}  and all super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B5B-6192-4093-8900-90CFAE60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37D3-9238-4123-959B-77D45CCD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229A-BBC7-403F-96A5-9F0B7071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AE7-5989-4373-BA33-34555B19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2E5-566F-4922-A57C-42514995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15D-E08B-46F0-A2CA-F0B7C9ED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B14-1704-4104-BDD0-5E7CE70E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126-7DCF-4FE8-9F59-46105FCC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15A-8EFC-40B7-B6F6-0644EEC0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E0EE-B026-4416-9C48-D0652FE6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93C-AB09-4C58-86EB-7A0E9453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54E2-362B-4B22-A26D-4A5565ED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09FB-F6CE-4BE1-9FE9-24678A7F4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9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17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1EFC-4838-48CE-ACEF-32EF62E129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ment(student, major, course, room,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lse can we infer ? [in class, or at ho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95D-92B4-4453-BBF2-830F5A1F5F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80520" y="24796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56480" y="34704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03240" y="5029200"/>
            <a:ext cx="69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mentation follows from trivial rules and transitivity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w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19960" y="2416680"/>
            <a:ext cx="25272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40480" y="3559680"/>
            <a:ext cx="43912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40600" y="182880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u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7E8-D779-49E8-83FB-F06395F177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: infer ALL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FDs, infer all possible F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proc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all possible FDs, apply all 3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R(A, B, C, D):  how many FDs are possib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 trivial FDs, drop augmented F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way too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: us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osure Algorith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D40-F88B-43D0-8248-C67C765D4A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of a set of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6680" y="1676520"/>
            <a:ext cx="6631920" cy="17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et of attributes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is the set of attributes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t.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4560" y="35841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2800" y="3581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1320" y="5029200"/>
            <a:ext cx="85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nam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{name, color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name, category, color, department, price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colo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colo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01A-F9B6-4731-B76D-EC528760D4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8280" y="1946160"/>
            <a:ext cx="4658760" cy="275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X={A1, …, An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un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doesn’t change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  is a F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all i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 C to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3520" y="4038480"/>
            <a:ext cx="358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name, category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{name, category, color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epartment, pric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08640" y="25938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09360" y="1981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5AD-DFC7-44C6-9F99-CBB3785805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7800" y="4572000"/>
            <a:ext cx="63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B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X = {A, B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{A, F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X = {A, F,               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41680" y="23623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,B,C,D,E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9640" y="2288520"/>
            <a:ext cx="1593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 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5DCF-55D9-4F57-9CF5-14C19B1809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losure to Infer ALL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4160" y="2014200"/>
            <a:ext cx="1593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D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572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2960" y="342900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Comp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every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4840" y="3965040"/>
            <a:ext cx="79621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 = A,   B+ = BD,   C+ = C,   D+ 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+ = ABCD,   AC+ = AC,  A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+ = ABD+ = A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CD (no need to compute– 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CD,    ABCD+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0480" y="5670720"/>
            <a:ext cx="79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Enumerate all FD’s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s.t.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8400" y="6228000"/>
            <a:ext cx="7222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D, A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,  AB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, AB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, AC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9A4-CB4A-4A52-8428-13B655112B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: find FD from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database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FD’s satisfied by that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if we don’t get enough information from our users: need to reverse engineer a data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D1D-E325-46F6-825D-B1B14C6A79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lass: Find All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2120" y="2133720"/>
          <a:ext cx="6095880" cy="41400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7236720" y="350532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ll F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en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939-C990-485D-9B54-7F534074F8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10400" y="3050280"/>
            <a:ext cx="4078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pt,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oo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p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oo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5840" y="312408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ll F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en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B34C-76DC-4306-9350-5B371F7B70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 (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about FDs (3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a Relational schema (3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6EB-9B82-467A-950C-187D0E54E8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attribute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.t. for any other attribute B, we hav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imal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attributes which is a key and for which no subset is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calls the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er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C81-DABE-4437-ABC9-54E471B36C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ing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sets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ll attributes, then X is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nly the minimal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there can be many minimal key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R(A,B,C),  A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 BC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al keys: AB  and 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2D9-D5A8-46E1-BB46-B13703F250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, categor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s are:    {name, category} and all super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rollment(student, address, course, room,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m, tim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, cours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om,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s are:  [in clas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763-0D72-4D8A-B98A-17A7B0EE13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1960" y="2022480"/>
            <a:ext cx="83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ven a relation constructed from an E/R diagram, what is its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3120" y="2530440"/>
            <a:ext cx="8070480" cy="131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 1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 relation comes from an entity se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ttributes which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of the entity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28600" y="4648320"/>
            <a:ext cx="4723920" cy="1396800"/>
            <a:chOff x="228600" y="4648320"/>
            <a:chExt cx="4723920" cy="1396800"/>
          </a:xfrm>
        </p:grpSpPr>
        <p:sp>
          <p:nvSpPr>
            <p:cNvPr id="152" name=""/>
            <p:cNvSpPr/>
            <p:nvPr/>
          </p:nvSpPr>
          <p:spPr>
            <a:xfrm>
              <a:off x="228600" y="5561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3800" y="5507640"/>
              <a:ext cx="101952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32640" y="5507640"/>
              <a:ext cx="1019880" cy="483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s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17040" y="4648320"/>
              <a:ext cx="1771560" cy="537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140480" y="5185440"/>
              <a:ext cx="118116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22000" y="5185440"/>
              <a:ext cx="21456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22000" y="5185440"/>
              <a:ext cx="1717560" cy="42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333040" y="46483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, nam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4952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B27-1680-4B76-A77E-C06B5A2DF1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5840" y="3321000"/>
            <a:ext cx="1822320" cy="55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21040" y="3154320"/>
            <a:ext cx="1104840" cy="9939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97200" y="3443400"/>
            <a:ext cx="1546200" cy="552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58760" y="293364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38760" y="4038480"/>
            <a:ext cx="1049400" cy="497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1998720" y="3321000"/>
            <a:ext cx="10944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2720" y="3983040"/>
            <a:ext cx="38736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33680" y="36511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25880" y="3651120"/>
            <a:ext cx="9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195960" y="3871800"/>
            <a:ext cx="38736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83320" y="3871800"/>
            <a:ext cx="44136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65680" y="6033960"/>
            <a:ext cx="33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me, 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78280" y="4457880"/>
            <a:ext cx="1049400" cy="496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1800" y="4152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9040" y="1158840"/>
            <a:ext cx="8181720" cy="131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f the relation comes from a many-many relationshi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of the relation is the set of all attribute keys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 corresponding to the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2F9-55DF-4F1E-9398-107152DE9C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2600" y="1332000"/>
            <a:ext cx="7813080" cy="91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ep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re is an arrow from the relationship to 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need the key of E as part of the relation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057400" y="2514600"/>
            <a:ext cx="5029200" cy="2239920"/>
            <a:chOff x="2057400" y="2514600"/>
            <a:chExt cx="5029200" cy="2239920"/>
          </a:xfrm>
        </p:grpSpPr>
        <p:sp>
          <p:nvSpPr>
            <p:cNvPr id="183" name=""/>
            <p:cNvSpPr/>
            <p:nvPr/>
          </p:nvSpPr>
          <p:spPr>
            <a:xfrm>
              <a:off x="4069080" y="3017160"/>
              <a:ext cx="914040" cy="82260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40280" y="2514600"/>
              <a:ext cx="13255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40480" y="429732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60720" y="3200040"/>
              <a:ext cx="1325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83480" y="3428640"/>
              <a:ext cx="7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26280" y="3840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66160" y="2971800"/>
              <a:ext cx="5029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57400" y="4205880"/>
              <a:ext cx="1325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redit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382920" y="3428640"/>
              <a:ext cx="685800" cy="77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6860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093-92C9-4D3F-A925-B0F74C4C60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, one-many, one-on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ry to find them yourself, or check bo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7A2-3FF4-4AAB-BD5C-43DA0AE3844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’s for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9320" y="1371600"/>
            <a:ext cx="56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: “the CreditCard determines the Pers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68720" y="3017880"/>
            <a:ext cx="914400" cy="8222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39920" y="251460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40120" y="429732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61080" y="320040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83120" y="3429000"/>
            <a:ext cx="7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25920" y="3840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65440" y="2971800"/>
            <a:ext cx="503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4205160"/>
            <a:ext cx="1325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ditC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382560" y="3429000"/>
            <a:ext cx="685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312408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4114800"/>
            <a:ext cx="91440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d-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62720" y="4343400"/>
            <a:ext cx="7617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2514600"/>
            <a:ext cx="76212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9807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523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68600" y="579132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, sname, 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rd-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42080" y="3581280"/>
            <a:ext cx="2209680" cy="1692360"/>
          </a:xfrm>
          <a:prstGeom prst="wedgeEllipseCallout">
            <a:avLst>
              <a:gd name="adj1" fmla="val -148921"/>
              <a:gd name="adj2" fmla="val -21291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a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48880" y="6289560"/>
            <a:ext cx="19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-n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7E8-A403-48C7-871E-F645DE6559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r Logical Desi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ome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out its F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m to design a better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D73-CA91-4BEA-BDC0-0AA8213B2A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database is poorly designed we get 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dunda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ata is rep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pdated anomal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eed to change in several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lete anomal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ay lose data when we don’t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DBB-DD4D-428E-BBD6-8EBB1770ECE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in R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, t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 (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’.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66680" y="3622680"/>
          <a:ext cx="6400800" cy="2244600"/>
        </p:xfrm>
        <a:graphic>
          <a:graphicData uri="http://schemas.openxmlformats.org/drawingml/2006/table">
            <a:tbl>
              <a:tblPr/>
              <a:tblGrid>
                <a:gridCol w="639720"/>
                <a:gridCol w="641520"/>
                <a:gridCol w="637920"/>
                <a:gridCol w="641520"/>
                <a:gridCol w="639720"/>
                <a:gridCol w="639720"/>
                <a:gridCol w="641520"/>
                <a:gridCol w="637920"/>
                <a:gridCol w="641520"/>
                <a:gridCol w="639720"/>
              </a:tblGrid>
              <a:tr h="55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 rot="16200000">
            <a:off x="26287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5143320" y="506700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, t’ agre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6880" y="4495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6520" y="51814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26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9F7-B3DC-41E1-9DD6-FC5E246DE0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7520" y="4648320"/>
            <a:ext cx="6735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       = repea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anomalies = Fred moves to “Bellev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on anomalies = Joe deletes his phone numb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is c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2240" y="167652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set attributes (persons with several phon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6400" y="3962520"/>
            <a:ext cx="2602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295280" y="2286000"/>
          <a:ext cx="6019920" cy="1339920"/>
        </p:xfrm>
        <a:graphic>
          <a:graphicData uri="http://schemas.openxmlformats.org/drawingml/2006/table">
            <a:tbl>
              <a:tblPr/>
              <a:tblGrid>
                <a:gridCol w="1505160"/>
                <a:gridCol w="1504800"/>
                <a:gridCol w="1505160"/>
                <a:gridCol w="1504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3579120" y="3962520"/>
            <a:ext cx="38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one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FC77-FCE7-4F8B-B663-9EBFEBB4A0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040" y="148896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eak the relation into t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04920" y="3841920"/>
          <a:ext cx="4514760" cy="1004760"/>
        </p:xfrm>
        <a:graphic>
          <a:graphicData uri="http://schemas.openxmlformats.org/drawingml/2006/table">
            <a:tbl>
              <a:tblPr/>
              <a:tblGrid>
                <a:gridCol w="1504800"/>
                <a:gridCol w="1504800"/>
                <a:gridCol w="150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5486400" y="3917880"/>
          <a:ext cx="3009960" cy="133956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75840" y="5014800"/>
            <a:ext cx="6009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 have g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ore repea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move Fred to “Bellevue”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delete all Joe’s phone number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981080" y="2057400"/>
          <a:ext cx="5486400" cy="990720"/>
        </p:xfrm>
        <a:graphic>
          <a:graphicData uri="http://schemas.openxmlformats.org/drawingml/2006/table">
            <a:tbl>
              <a:tblPr/>
              <a:tblGrid>
                <a:gridCol w="1371240"/>
                <a:gridCol w="1371960"/>
                <a:gridCol w="1371600"/>
                <a:gridCol w="1371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 flipH="1">
            <a:off x="2437920" y="3124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3124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17D-A5A1-4976-80D5-D45DAB3552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57600" y="1905120"/>
            <a:ext cx="3581280" cy="864720"/>
            <a:chOff x="3657600" y="1905120"/>
            <a:chExt cx="3581280" cy="864720"/>
          </a:xfrm>
        </p:grpSpPr>
        <p:sp>
          <p:nvSpPr>
            <p:cNvPr id="247" name=""/>
            <p:cNvSpPr/>
            <p:nvPr/>
          </p:nvSpPr>
          <p:spPr>
            <a:xfrm>
              <a:off x="6253920" y="2113560"/>
              <a:ext cx="984600" cy="29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49800" y="2024280"/>
              <a:ext cx="596880" cy="5367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05080" y="2173320"/>
              <a:ext cx="835560" cy="29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57600" y="190512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5760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25600" y="2501640"/>
              <a:ext cx="56664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7188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s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4164840" y="2113560"/>
              <a:ext cx="5976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194720" y="2471760"/>
              <a:ext cx="208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41000" y="2292840"/>
              <a:ext cx="2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46680" y="2292840"/>
              <a:ext cx="50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433200" y="2412000"/>
              <a:ext cx="2088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42000" y="2412000"/>
              <a:ext cx="2386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15880" y="20224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6600" y="3733920"/>
            <a:ext cx="239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FD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4800" y="5257800"/>
            <a:ext cx="28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809880" y="3809880"/>
          <a:ext cx="152424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867280" y="3809880"/>
          <a:ext cx="1905120" cy="59040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800600" y="5181480"/>
          <a:ext cx="1143000" cy="78768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6248520" y="5181480"/>
          <a:ext cx="380880" cy="78768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7010280" y="5181480"/>
          <a:ext cx="76212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3581280" y="5181480"/>
          <a:ext cx="762120" cy="78732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55627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96216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477120" y="45720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4495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ADDA-61AC-4F9B-B4EE-256FFA67DA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59640" y="5029200"/>
            <a:ext cx="561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6152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5904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9356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1BC-6049-4E2E-BA5F-D046D81546F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corr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819520" y="25909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447920" y="4648320"/>
          <a:ext cx="227952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5486400" y="464832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 flipH="1">
            <a:off x="228600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114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35040" y="62895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les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B87-830E-4121-9D01-4512432BDA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no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819520" y="28195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914400" y="480060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715000" y="4876920"/>
          <a:ext cx="2170080" cy="1452600"/>
        </p:xfrm>
        <a:graphic>
          <a:graphicData uri="http://schemas.openxmlformats.org/drawingml/2006/table">
            <a:tbl>
              <a:tblPr/>
              <a:tblGrid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 flipH="1">
            <a:off x="1752120" y="4191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00800" y="4114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71880" y="3033000"/>
            <a:ext cx="22831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rect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94400" y="626256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y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380-CFEB-4B19-BDDE-4300C011E9B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6152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7880" y="4151160"/>
            <a:ext cx="4516200" cy="97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5904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9356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1720" y="6095880"/>
            <a:ext cx="820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first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39920" y="5181480"/>
            <a:ext cx="646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on’t need necessaril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20C-DF3E-4EAE-8375-BA7C35B340F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9240" y="2057400"/>
            <a:ext cx="39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FDs are satisfied,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are satisfied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39760" y="37339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these FDs ar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2840" y="33555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2280" y="5280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is FD also ho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22840" y="5267520"/>
            <a:ext cx="311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800" y="60958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Why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BD9-7C51-4D1B-A632-AE22C56C22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2600" y="33526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8400" y="2638440"/>
            <a:ext cx="228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plitt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b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562720" y="4419720"/>
          <a:ext cx="3222360" cy="1752480"/>
        </p:xfrm>
        <a:graphic>
          <a:graphicData uri="http://schemas.openxmlformats.org/drawingml/2006/table">
            <a:tbl>
              <a:tblPr/>
              <a:tblGrid>
                <a:gridCol w="358560"/>
                <a:gridCol w="357120"/>
                <a:gridCol w="358920"/>
                <a:gridCol w="357120"/>
                <a:gridCol w="358920"/>
                <a:gridCol w="358560"/>
                <a:gridCol w="357480"/>
                <a:gridCol w="358560"/>
                <a:gridCol w="3571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811080" y="2264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06880" y="4422960"/>
            <a:ext cx="2664360" cy="17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B2A-0DD0-4D8F-8A99-42683F0E28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3623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ivial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80520" y="50706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19720" y="4724280"/>
          <a:ext cx="308592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3642120" y="316548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 = 1, 2, ...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4960" y="2416680"/>
            <a:ext cx="25923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14C-269F-4924-84FD-77A3A4B34A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190512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itive Closur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4160" y="300672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10560" y="2416680"/>
            <a:ext cx="4818240" cy="510120"/>
            <a:chOff x="610560" y="2416680"/>
            <a:chExt cx="4818240" cy="510120"/>
          </a:xfrm>
        </p:grpSpPr>
        <p:sp>
          <p:nvSpPr>
            <p:cNvPr id="83" name=""/>
            <p:cNvSpPr/>
            <p:nvPr/>
          </p:nvSpPr>
          <p:spPr>
            <a:xfrm>
              <a:off x="610560" y="244764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20200" y="2416680"/>
              <a:ext cx="4008600" cy="5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…,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…, 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10920" y="3191400"/>
            <a:ext cx="4813920" cy="510120"/>
            <a:chOff x="610920" y="3191400"/>
            <a:chExt cx="4813920" cy="510120"/>
          </a:xfrm>
        </p:grpSpPr>
        <p:sp>
          <p:nvSpPr>
            <p:cNvPr id="86" name=""/>
            <p:cNvSpPr/>
            <p:nvPr/>
          </p:nvSpPr>
          <p:spPr>
            <a:xfrm>
              <a:off x="610920" y="322236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22720" y="3191400"/>
              <a:ext cx="4002120" cy="5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…, 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…, 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840" y="3966120"/>
            <a:ext cx="4766400" cy="510120"/>
            <a:chOff x="609840" y="3966120"/>
            <a:chExt cx="4766400" cy="510120"/>
          </a:xfrm>
        </p:grpSpPr>
        <p:sp>
          <p:nvSpPr>
            <p:cNvPr id="89" name=""/>
            <p:cNvSpPr/>
            <p:nvPr/>
          </p:nvSpPr>
          <p:spPr>
            <a:xfrm>
              <a:off x="609840" y="39970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16240" y="3966120"/>
              <a:ext cx="3960000" cy="5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…,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…, 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1" name=""/>
          <p:cNvGraphicFramePr/>
          <p:nvPr/>
        </p:nvGraphicFramePr>
        <p:xfrm>
          <a:off x="838080" y="5105520"/>
          <a:ext cx="7696080" cy="1457280"/>
        </p:xfrm>
        <a:graphic>
          <a:graphicData uri="http://schemas.openxmlformats.org/drawingml/2006/table">
            <a:tbl>
              <a:tblPr/>
              <a:tblGrid>
                <a:gridCol w="591840"/>
                <a:gridCol w="592200"/>
                <a:gridCol w="590760"/>
                <a:gridCol w="592200"/>
                <a:gridCol w="591840"/>
                <a:gridCol w="594000"/>
                <a:gridCol w="590400"/>
                <a:gridCol w="592200"/>
                <a:gridCol w="592200"/>
                <a:gridCol w="592200"/>
                <a:gridCol w="591840"/>
                <a:gridCol w="592200"/>
                <a:gridCol w="592200"/>
              </a:tblGrid>
              <a:tr h="26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0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0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0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0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0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0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E2E-D7A2-4446-AA49-7325F30F13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9240" y="20574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from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304812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19839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38080" y="3581280"/>
          <a:ext cx="6782040" cy="3098880"/>
        </p:xfrm>
        <a:graphic>
          <a:graphicData uri="http://schemas.openxmlformats.org/drawingml/2006/table">
            <a:tbl>
              <a:tblPr/>
              <a:tblGrid>
                <a:gridCol w="472464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419-C52F-470C-8809-4A78EFFDD9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692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3276720"/>
          <a:ext cx="7772400" cy="3098520"/>
        </p:xfrm>
        <a:graphic>
          <a:graphicData uri="http://schemas.openxmlformats.org/drawingml/2006/table">
            <a:tbl>
              <a:tblPr/>
              <a:tblGrid>
                <a:gridCol w="4724640"/>
                <a:gridCol w="30477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4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lit/combine on 5,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3,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5104080" y="15267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025-7503-4E1F-8946-5823CCD465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uw</cp:lastModifiedBy>
  <dcterms:modified xsi:type="dcterms:W3CDTF">2003-10-17T02:15:04Z</dcterms:modified>
  <cp:revision>154</cp:revision>
  <dc:subject/>
  <dc:title>Lecture 09:</dc:title>
</cp:coreProperties>
</file>