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904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7000" y="680760"/>
            <a:ext cx="454032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904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48B5-A9BD-42B9-BD9F-AA06F68B3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: color,categor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rice doesn’t h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B5B7-D450-43A2-BD29-3372652C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7F6D-CD14-49B0-9E8A-F415A9B6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F54E-F34D-4CDF-90BC-C02128BEB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8FB4-00A5-4754-9265-50E31706C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868C-746A-429D-ACBF-F8516DA1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5F4E-3D2F-44F8-86FA-832BA696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2400-5CA9-4C78-A1C4-09E53754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6525-3E82-4C68-BC8A-DBDCFAA2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7D2C-8FCF-4597-A0F5-77CA9F13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55A6-9907-431A-96E9-99B4E2D5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7D8E-932B-4A2A-A5FF-CC15AA7B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3E38-0DFD-4A04-858D-3D0E759A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1150-6AD8-43CB-A8C8-CBEAEF3CA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0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October 15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8FC0-7D4F-44F6-83B1-18172C18C18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33526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35268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29718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89548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3657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57400" y="308916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67640" y="5222880"/>
            <a:ext cx="29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this me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901E-A8B7-46FB-9682-5BCA1C32A7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k Entity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07200" y="1676520"/>
            <a:ext cx="675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 sets are weak when their key comes from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to which they are rel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0384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40384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62520" y="3657600"/>
            <a:ext cx="152388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l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04812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4343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5105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5105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48520" y="5105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3962520"/>
            <a:ext cx="2286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9880" y="3581280"/>
            <a:ext cx="1828800" cy="15242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5562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5638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371240" y="4876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48769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857640" y="4800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9160" y="5943600"/>
            <a:ext cx="73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: we encountered this when conver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way relationships to binary relationships (last le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AB1B-2AAB-4FDC-82FC-2E4218B496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Weak Entity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175248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75248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9880" y="137160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l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89548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4120" y="2057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62320" y="281952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2819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5880" y="28195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1676520"/>
            <a:ext cx="2286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57600" y="1295280"/>
            <a:ext cx="1828800" cy="15242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219320" y="25909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5120" y="2590920"/>
            <a:ext cx="7617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705360" y="2514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8720" y="4079880"/>
            <a:ext cx="51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 to a relational schema (in cla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5C25-0C82-4536-9109-ACE614915A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lational Data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3480" y="2063880"/>
            <a:ext cx="13680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32240" y="1981080"/>
            <a:ext cx="15127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39360" y="1981080"/>
            <a:ext cx="1215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05120" y="24382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29200" y="2514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8360" y="461340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/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90800" y="4648320"/>
            <a:ext cx="348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umn names: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ws: tu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626160" y="4343400"/>
            <a:ext cx="219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inde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32004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3048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91520" y="3048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56600" y="3276720"/>
            <a:ext cx="1756800" cy="912600"/>
          </a:xfrm>
          <a:prstGeom prst="wedgeEllipseCallout">
            <a:avLst>
              <a:gd name="adj1" fmla="val -36421"/>
              <a:gd name="adj2" fmla="val -81819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se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in SQ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9640" y="5638680"/>
            <a:ext cx="1603800" cy="912600"/>
          </a:xfrm>
          <a:prstGeom prst="wedgeEllipseCallout">
            <a:avLst>
              <a:gd name="adj1" fmla="val 11601"/>
              <a:gd name="adj2" fmla="val -11119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se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t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36720" y="5772240"/>
            <a:ext cx="1908720" cy="523080"/>
          </a:xfrm>
          <a:prstGeom prst="wedgeEllipseCallout">
            <a:avLst>
              <a:gd name="adj1" fmla="val -21245"/>
              <a:gd name="adj2" fmla="val -8321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uss 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5C25-E2B0-4BDE-A0AF-B0FA0AC6D9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94240" y="1793880"/>
            <a:ext cx="729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              Price              Category           Manufactu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zmo              $19.99            gadgets            Gizmo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gizmo   $29.99            gadgets            Gizmo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Touch    $149.99          photography     Ca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Touch      $203.99          household         Hita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22860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243828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19051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48520" y="1981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67080" y="1981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6080" y="598500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Tupl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or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ow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or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4600" y="990720"/>
            <a:ext cx="21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ttribut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85800" y="55627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85800" y="464832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85800" y="3962160"/>
            <a:ext cx="2286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85800" y="3276720"/>
            <a:ext cx="2286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1447920" y="1447920"/>
            <a:ext cx="449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895120" y="1447920"/>
            <a:ext cx="3048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648320" y="144792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43600" y="14479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7240" y="838080"/>
            <a:ext cx="369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Tab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name or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el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2640" y="13716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1219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8B83-F125-44D3-8514-27ECE28F79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onal Sche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 name plus attribute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 we add the domain for each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base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of relational sch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Price, Category, Manufacturer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(Name, Address, Phone),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. . . 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ll mathematics, not to be confused with SQL table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FD8D-63F5-4154-9DC5-7A72713282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ational sche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(A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…,A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relation with k attributes (of “type” 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of corresponding do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abase sche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…), 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…), …, 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…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n relations, of types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...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B523-0B0B-4C11-BD37-26DE53D04A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930240" y="2514600"/>
            <a:ext cx="7467480" cy="3844800"/>
            <a:chOff x="930240" y="2514600"/>
            <a:chExt cx="7467480" cy="3844800"/>
          </a:xfrm>
        </p:grpSpPr>
        <p:sp>
          <p:nvSpPr>
            <p:cNvPr id="211" name=""/>
            <p:cNvSpPr/>
            <p:nvPr/>
          </p:nvSpPr>
          <p:spPr>
            <a:xfrm>
              <a:off x="986400" y="2514600"/>
              <a:ext cx="729036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Name              Price              Category           Manufactur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izmo              $19.99            gadgets            GizmoWor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wer gizmo   $29.99            gadgets            GizmoWor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ngleTouch    $149.99          photography     Can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ultiTouch      $203.99          household         Hitach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30240" y="3006720"/>
              <a:ext cx="746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30240" y="3159000"/>
              <a:ext cx="746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59040" y="262584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0320" y="270180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59240" y="270180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380880" y="16002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onal schema: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Name, Price, Category, Manufactu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44BA-9380-4B73-AEEB-EC837906E4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Normal Form (1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atabase schema is in First Normal Form if all tables are fl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09480" y="3200400"/>
          <a:ext cx="2743200" cy="342864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</a:tblGrid>
              <a:tr h="91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r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2666880" y="4172040"/>
          <a:ext cx="457200" cy="72864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2666880" y="5153040"/>
          <a:ext cx="457200" cy="48564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2676600" y="5972040"/>
          <a:ext cx="457200" cy="48564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213120" y="27082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5410080" y="2743200"/>
          <a:ext cx="1828800" cy="137304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36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>
            <a:off x="5410440" y="22096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7772400" y="4876920"/>
          <a:ext cx="914400" cy="12128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5486400" y="4583160"/>
          <a:ext cx="1828800" cy="212256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ud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5411160" y="41814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4440" y="4267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657600" y="48006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06560" y="5505480"/>
            <a:ext cx="1740240" cy="912600"/>
          </a:xfrm>
          <a:prstGeom prst="wedgeEllipseCallout">
            <a:avLst>
              <a:gd name="adj1" fmla="val 2263"/>
              <a:gd name="adj2" fmla="val -9936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ne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add ke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F8E7-C3AB-41AE-9FEC-BFE45DBCC3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orm of constra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, part of the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ing them is part of the database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used in normalizing the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1CC0-CE66-49CF-B6AF-F9DF28EF17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sh E/R diagrams (Chapter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E/R diagrams to relations (3.2, 3.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lational data model: 3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dependencies: 3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3BDD-59E2-426A-B0CC-D81770D4BB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ning: this is the most abstract, and “hardest” part of the cour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hapter in the book (3.4) is not very go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E TO CLASS, PAY ATTENTION, READ THE LECTURE NOTE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388C-EEF1-4B3B-93D3-249A9568DC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1360" y="19191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9160" y="1752480"/>
            <a:ext cx="57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wo tuples agree on the attribu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64040" y="3581280"/>
            <a:ext cx="54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y must also agree on the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0640" y="461340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mall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01440" y="5617080"/>
            <a:ext cx="40086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99520" y="3040560"/>
            <a:ext cx="186696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02760" y="4093200"/>
            <a:ext cx="18648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63F9-8681-4F65-983A-B7864BDC1A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ID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Name, Phone,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on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Times New Roman"/>
              </a:rPr>
              <a:t>but  Phone  </a:t>
            </a:r>
            <a:r>
              <a:rPr b="0" lang="en-US" sz="3200" spc="-1" strike="noStrike">
                <a:solidFill>
                  <a:srgbClr val="ff7c8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7c80"/>
                </a:solidFill>
                <a:latin typeface="Times New Roman"/>
              </a:rPr>
              <a:t>   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563868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92160" y="1754280"/>
            <a:ext cx="1355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832040" y="1754280"/>
            <a:ext cx="1476360" cy="411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68520" y="1754280"/>
            <a:ext cx="11574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08400" y="1754280"/>
            <a:ext cx="1278000" cy="411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46520" y="1754280"/>
            <a:ext cx="1197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86400" y="1754280"/>
            <a:ext cx="1317600" cy="411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64120" y="1754280"/>
            <a:ext cx="1516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04000" y="1754280"/>
            <a:ext cx="1636560" cy="411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92160" y="2165400"/>
            <a:ext cx="1355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00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32040" y="2165400"/>
            <a:ext cx="1476360" cy="4111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68520" y="2165400"/>
            <a:ext cx="11574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308400" y="2165400"/>
            <a:ext cx="1278000" cy="4111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46520" y="2165400"/>
            <a:ext cx="1197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3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86400" y="2165400"/>
            <a:ext cx="1317600" cy="4111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64120" y="2165400"/>
            <a:ext cx="1516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04000" y="2165400"/>
            <a:ext cx="1636560" cy="4111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92160" y="2576520"/>
            <a:ext cx="13557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18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32040" y="2576520"/>
            <a:ext cx="1476360" cy="40968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368520" y="2576520"/>
            <a:ext cx="11574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h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308400" y="2576520"/>
            <a:ext cx="1278000" cy="40968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46520" y="2576520"/>
            <a:ext cx="11970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8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86400" y="2576520"/>
            <a:ext cx="1317600" cy="40968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964120" y="2576520"/>
            <a:ext cx="15163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r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04000" y="2576520"/>
            <a:ext cx="1636560" cy="40968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92160" y="2986200"/>
            <a:ext cx="1355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11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32040" y="2986200"/>
            <a:ext cx="1476360" cy="4111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368520" y="2986200"/>
            <a:ext cx="11574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08400" y="2986200"/>
            <a:ext cx="1278000" cy="4111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46520" y="2986200"/>
            <a:ext cx="1197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8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86400" y="2986200"/>
            <a:ext cx="1317600" cy="4111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64120" y="2986200"/>
            <a:ext cx="1516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r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904000" y="2986200"/>
            <a:ext cx="1636560" cy="4111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892160" y="3397320"/>
            <a:ext cx="1355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9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32040" y="3397320"/>
            <a:ext cx="1476360" cy="4111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68520" y="3397320"/>
            <a:ext cx="11574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08400" y="3397320"/>
            <a:ext cx="1278000" cy="4111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6520" y="3397320"/>
            <a:ext cx="1197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3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86400" y="3397320"/>
            <a:ext cx="1317600" cy="4111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964120" y="3397320"/>
            <a:ext cx="1516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w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04000" y="3397320"/>
            <a:ext cx="1636560" cy="4111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28800" y="1752480"/>
            <a:ext cx="5715000" cy="2057400"/>
          </a:xfrm>
          <a:prstGeom prst="rect">
            <a:avLst/>
          </a:prstGeom>
          <a:noFill/>
          <a:ln w="648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2F51-B001-4A93-AFD2-137526A340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heck  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, erase all other colum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if the remaining relation is many-one (calle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uncti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mathema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2438280" y="2666880"/>
          <a:ext cx="4330800" cy="231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666880"/>
                    <a:ext cx="433080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444600" y="5791320"/>
            <a:ext cx="68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Note: this </a:t>
            </a:r>
            <a:r>
              <a:rPr b="0" i="1" lang="en-US" sz="2400" spc="-1" strike="noStrike">
                <a:solidFill>
                  <a:srgbClr val="ff5050"/>
                </a:solidFill>
                <a:latin typeface="Times New Roman"/>
              </a:rPr>
              <a:t>is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 the mathematical definition of a function.</a:t>
            </a:r>
            <a:br>
              <a:rPr sz="2400"/>
            </a:b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Book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A630-461E-403F-8133-002C7761F9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70040" y="2319480"/>
            <a:ext cx="1525680" cy="46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28000" y="2336760"/>
            <a:ext cx="1200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05080" y="2319480"/>
            <a:ext cx="1305000" cy="46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67360" y="2336760"/>
            <a:ext cx="974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81000" y="2336760"/>
            <a:ext cx="1020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938560" y="2336760"/>
            <a:ext cx="1335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52760" y="230040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52760" y="230040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70040" y="2300400"/>
            <a:ext cx="15256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70040" y="2319480"/>
            <a:ext cx="15256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205080" y="2319480"/>
            <a:ext cx="972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195720" y="231948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95720" y="230040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14800" y="2300400"/>
            <a:ext cx="1295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14800" y="2319480"/>
            <a:ext cx="12952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10080" y="231948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10080" y="2300400"/>
            <a:ext cx="176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27720" y="2300400"/>
            <a:ext cx="13395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67280" y="231948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67280" y="2300400"/>
            <a:ext cx="176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884920" y="2300400"/>
            <a:ext cx="16970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581960" y="230040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581960" y="2300400"/>
            <a:ext cx="17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52760" y="2319480"/>
            <a:ext cx="1728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95720" y="2319480"/>
            <a:ext cx="936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10080" y="2319480"/>
            <a:ext cx="792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867280" y="2319480"/>
            <a:ext cx="792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581960" y="2319480"/>
            <a:ext cx="1728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70040" y="2806560"/>
            <a:ext cx="1525680" cy="468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27640" y="2822400"/>
            <a:ext cx="106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E00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05080" y="2806560"/>
            <a:ext cx="1305000" cy="468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67360" y="2822400"/>
            <a:ext cx="973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Sm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81000" y="2822400"/>
            <a:ext cx="817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123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938920" y="2822400"/>
            <a:ext cx="906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Cle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52760" y="2786040"/>
            <a:ext cx="1728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670040" y="2786040"/>
            <a:ext cx="15256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70040" y="2805120"/>
            <a:ext cx="15256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05080" y="2805120"/>
            <a:ext cx="972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195720" y="280512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95720" y="2786040"/>
            <a:ext cx="190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14800" y="2786040"/>
            <a:ext cx="12952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14800" y="2805120"/>
            <a:ext cx="1295280" cy="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10080" y="280512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510080" y="2786040"/>
            <a:ext cx="176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27720" y="2786040"/>
            <a:ext cx="13395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280512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867280" y="2786040"/>
            <a:ext cx="176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884920" y="2786040"/>
            <a:ext cx="16970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581960" y="2786040"/>
            <a:ext cx="1728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52760" y="2806560"/>
            <a:ext cx="1728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195720" y="2806560"/>
            <a:ext cx="936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10080" y="2806560"/>
            <a:ext cx="792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867280" y="2806560"/>
            <a:ext cx="792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581960" y="2806560"/>
            <a:ext cx="1728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670040" y="3282840"/>
            <a:ext cx="1525680" cy="4669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727640" y="3298680"/>
            <a:ext cx="106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E18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05080" y="3282840"/>
            <a:ext cx="1305000" cy="4669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67000" y="3298680"/>
            <a:ext cx="771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Joh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81000" y="3298680"/>
            <a:ext cx="817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987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938920" y="3298680"/>
            <a:ext cx="1381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Salesr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52760" y="3273480"/>
            <a:ext cx="172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70040" y="3273480"/>
            <a:ext cx="15256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95720" y="327348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05080" y="3273480"/>
            <a:ext cx="13050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510080" y="327348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18000" y="3273480"/>
            <a:ext cx="13492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867280" y="327348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75200" y="3273480"/>
            <a:ext cx="17067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81960" y="3273480"/>
            <a:ext cx="172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652760" y="3282840"/>
            <a:ext cx="1728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195720" y="3282840"/>
            <a:ext cx="936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10080" y="3282840"/>
            <a:ext cx="792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867280" y="3282840"/>
            <a:ext cx="792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581960" y="3282840"/>
            <a:ext cx="1728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670040" y="3759120"/>
            <a:ext cx="1525680" cy="468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727640" y="3776760"/>
            <a:ext cx="106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E1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5080" y="3759120"/>
            <a:ext cx="1305000" cy="468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267360" y="3776760"/>
            <a:ext cx="973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Sm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581000" y="3776760"/>
            <a:ext cx="817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987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938920" y="3776760"/>
            <a:ext cx="1381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Salesr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652760" y="3749760"/>
            <a:ext cx="172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670040" y="3749760"/>
            <a:ext cx="15256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95720" y="374976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05080" y="3749760"/>
            <a:ext cx="13050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510080" y="374976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518000" y="3749760"/>
            <a:ext cx="13492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374976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875200" y="3749760"/>
            <a:ext cx="17067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581960" y="3749760"/>
            <a:ext cx="172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652760" y="3759120"/>
            <a:ext cx="17280" cy="46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95720" y="3759120"/>
            <a:ext cx="9360" cy="46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510080" y="3759120"/>
            <a:ext cx="7920" cy="46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67280" y="3759120"/>
            <a:ext cx="7920" cy="46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581960" y="3759120"/>
            <a:ext cx="17280" cy="46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70040" y="4237200"/>
            <a:ext cx="1525680" cy="46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27640" y="4253040"/>
            <a:ext cx="106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E9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05080" y="4237200"/>
            <a:ext cx="1305000" cy="46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67720" y="4253040"/>
            <a:ext cx="883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81000" y="4253040"/>
            <a:ext cx="817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123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938200" y="4253040"/>
            <a:ext cx="124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Law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652760" y="4227480"/>
            <a:ext cx="172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670040" y="4227480"/>
            <a:ext cx="15256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95720" y="42274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205080" y="4227480"/>
            <a:ext cx="13050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510080" y="42274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18000" y="4227480"/>
            <a:ext cx="13492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67280" y="42274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75200" y="4227480"/>
            <a:ext cx="1706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581960" y="4227480"/>
            <a:ext cx="172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52760" y="4237200"/>
            <a:ext cx="1728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652760" y="470376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652760" y="470376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670040" y="4703760"/>
            <a:ext cx="15256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195720" y="4237200"/>
            <a:ext cx="936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95720" y="4703760"/>
            <a:ext cx="190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14800" y="4703760"/>
            <a:ext cx="1295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10080" y="4237200"/>
            <a:ext cx="792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10080" y="470376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27720" y="4703760"/>
            <a:ext cx="133956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67280" y="4237200"/>
            <a:ext cx="792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67280" y="470376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884920" y="4703760"/>
            <a:ext cx="16970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581960" y="4237200"/>
            <a:ext cx="17280" cy="4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581960" y="470376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581960" y="470376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548640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548640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548640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5562720" y="4495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71FA-5606-4BB9-A17B-40D46E0E040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Examples of F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058400" y="2133720"/>
            <a:ext cx="5403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 nam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ice, manufacturer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ssn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, age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ockprice, 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0B46-D076-4B95-A2D1-E42F94DB971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591560" y="2286000"/>
            <a:ext cx="62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ame, category, color, department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970360" y="388908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52680" y="320040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se F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878560" y="598500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they sa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17C9-21FD-41D9-AECC-4517B897317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2760" y="1676520"/>
            <a:ext cx="387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D’s are constrai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some instances they 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others they don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14400" y="3505320"/>
          <a:ext cx="7391520" cy="2412720"/>
        </p:xfrm>
        <a:graphic>
          <a:graphicData uri="http://schemas.openxmlformats.org/drawingml/2006/table">
            <a:tbl>
              <a:tblPr/>
              <a:tblGrid>
                <a:gridCol w="1477800"/>
                <a:gridCol w="1478160"/>
                <a:gridCol w="1479600"/>
                <a:gridCol w="1477800"/>
                <a:gridCol w="1478160"/>
              </a:tblGrid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par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wea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4" name=""/>
          <p:cNvSpPr/>
          <p:nvPr/>
        </p:nvSpPr>
        <p:spPr>
          <a:xfrm>
            <a:off x="528840" y="6172200"/>
            <a:ext cx="49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is instance satisfy all the FD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713560" y="190800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3999-7FDE-480A-8697-BB806478450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685800" y="2514600"/>
          <a:ext cx="7391520" cy="3216240"/>
        </p:xfrm>
        <a:graphic>
          <a:graphicData uri="http://schemas.openxmlformats.org/drawingml/2006/table">
            <a:tbl>
              <a:tblPr/>
              <a:tblGrid>
                <a:gridCol w="1477800"/>
                <a:gridCol w="1478160"/>
                <a:gridCol w="1479600"/>
                <a:gridCol w="1477800"/>
                <a:gridCol w="1478160"/>
              </a:tblGrid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par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wea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on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fice-sup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8" name=""/>
          <p:cNvSpPr/>
          <p:nvPr/>
        </p:nvSpPr>
        <p:spPr>
          <a:xfrm>
            <a:off x="531000" y="617220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 this on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865840" y="91728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34C5-D877-4B43-8DD8-7024C2F073B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59240" y="2057400"/>
            <a:ext cx="391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FDs are satisfied,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 are satisfied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139760" y="3733920"/>
            <a:ext cx="31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ll these FDs are tr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722840" y="3355560"/>
            <a:ext cx="3081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142280" y="528012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is FD also hol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722840" y="5267520"/>
            <a:ext cx="3114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981800" y="609588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Why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D5F0-20A8-424B-8D22-AF07ED6B852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UnionTypes With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442960" y="2517840"/>
            <a:ext cx="4573800" cy="1679040"/>
            <a:chOff x="2442960" y="2517840"/>
            <a:chExt cx="4573800" cy="1679040"/>
          </a:xfrm>
        </p:grpSpPr>
        <p:sp>
          <p:nvSpPr>
            <p:cNvPr id="54" name=""/>
            <p:cNvSpPr/>
            <p:nvPr/>
          </p:nvSpPr>
          <p:spPr>
            <a:xfrm>
              <a:off x="3584880" y="2517840"/>
              <a:ext cx="197892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rniturePie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42960" y="3737160"/>
              <a:ext cx="101124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PlaceHolder 2"/>
            <p:cNvSpPr>
              <a:spLocks noGrp="1"/>
            </p:cNvSpPr>
            <p:nvPr>
              <p:ph/>
            </p:nvPr>
          </p:nvSpPr>
          <p:spPr>
            <a:xfrm>
              <a:off x="5638680" y="3580920"/>
              <a:ext cx="1378080" cy="466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txBody>
            <a:bodyPr anchor="t">
              <a:normAutofit/>
            </a:bodyPr>
            <a:p>
              <a:pPr marL="343080" indent="0">
                <a:spcBef>
                  <a:spcPts val="601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71600" y="496692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y: each piece of furniture is owned either by a person, or by a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0F46-A7DE-4DC4-ACC3-843241BA00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Rules for FD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12600" y="335268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equivalen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8400" y="2638440"/>
            <a:ext cx="2283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plitting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mbing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5562720" y="4419720"/>
          <a:ext cx="3222360" cy="1752480"/>
        </p:xfrm>
        <a:graphic>
          <a:graphicData uri="http://schemas.openxmlformats.org/drawingml/2006/table">
            <a:tbl>
              <a:tblPr/>
              <a:tblGrid>
                <a:gridCol w="358560"/>
                <a:gridCol w="357120"/>
                <a:gridCol w="358920"/>
                <a:gridCol w="357120"/>
                <a:gridCol w="358920"/>
                <a:gridCol w="358560"/>
                <a:gridCol w="357480"/>
                <a:gridCol w="358560"/>
                <a:gridCol w="3571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451" name=""/>
          <p:cNvSpPr/>
          <p:nvPr/>
        </p:nvSpPr>
        <p:spPr>
          <a:xfrm>
            <a:off x="811080" y="2264400"/>
            <a:ext cx="40086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406880" y="4422960"/>
            <a:ext cx="2664360" cy="170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F73C-9C63-487C-A2FC-8865B706BCC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Rules for FD’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095880" y="236232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rivial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280520" y="507060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4419720" y="4724280"/>
          <a:ext cx="3085920" cy="1819440"/>
        </p:xfrm>
        <a:graphic>
          <a:graphicData uri="http://schemas.openxmlformats.org/drawingml/2006/table">
            <a:tbl>
              <a:tblPr/>
              <a:tblGrid>
                <a:gridCol w="617400"/>
                <a:gridCol w="617400"/>
                <a:gridCol w="615960"/>
                <a:gridCol w="617760"/>
                <a:gridCol w="617400"/>
              </a:tblGrid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457" name=""/>
          <p:cNvSpPr/>
          <p:nvPr/>
        </p:nvSpPr>
        <p:spPr>
          <a:xfrm>
            <a:off x="3642120" y="316548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i = 1, 2, ...,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14960" y="2416680"/>
            <a:ext cx="259236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CB02-C582-42F8-9CA8-3B029D0B6C1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Rules for FD’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128960" y="2505240"/>
            <a:ext cx="381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ransitive Closure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280520" y="34704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357200" y="446076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280160" y="5527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353760" y="609588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944440" y="3407400"/>
            <a:ext cx="40086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954880" y="4474080"/>
            <a:ext cx="400212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940480" y="5464800"/>
            <a:ext cx="39600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6648-9CCF-448F-884B-2CEFBE9FBDD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8" name=""/>
          <p:cNvGraphicFramePr/>
          <p:nvPr/>
        </p:nvGraphicFramePr>
        <p:xfrm>
          <a:off x="533520" y="2514600"/>
          <a:ext cx="8024760" cy="1819440"/>
        </p:xfrm>
        <a:graphic>
          <a:graphicData uri="http://schemas.openxmlformats.org/drawingml/2006/table">
            <a:tbl>
              <a:tblPr/>
              <a:tblGrid>
                <a:gridCol w="617400"/>
                <a:gridCol w="617400"/>
                <a:gridCol w="615960"/>
                <a:gridCol w="617760"/>
                <a:gridCol w="617400"/>
                <a:gridCol w="617760"/>
                <a:gridCol w="617400"/>
                <a:gridCol w="615960"/>
                <a:gridCol w="617400"/>
                <a:gridCol w="617760"/>
                <a:gridCol w="617400"/>
                <a:gridCol w="617400"/>
                <a:gridCol w="617760"/>
              </a:tblGrid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48F7-8377-4545-9144-F39143F589A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59240" y="2057400"/>
            <a:ext cx="38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from the following F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4360" y="3048120"/>
            <a:ext cx="31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 the following F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027760" y="1983960"/>
            <a:ext cx="3386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.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. 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. 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838080" y="3581280"/>
          <a:ext cx="6782040" cy="3098880"/>
        </p:xfrm>
        <a:graphic>
          <a:graphicData uri="http://schemas.openxmlformats.org/drawingml/2006/table">
            <a:tbl>
              <a:tblPr/>
              <a:tblGrid>
                <a:gridCol w="4724640"/>
                <a:gridCol w="20574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erred F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ch Rul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we apply 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lor, 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14F2-7D25-4FFD-98E6-5416D682283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906920" y="19810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838080" y="3276720"/>
          <a:ext cx="7772400" cy="3098520"/>
        </p:xfrm>
        <a:graphic>
          <a:graphicData uri="http://schemas.openxmlformats.org/drawingml/2006/table">
            <a:tbl>
              <a:tblPr/>
              <a:tblGrid>
                <a:gridCol w="4724640"/>
                <a:gridCol w="304776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erred F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ch Rul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we apply 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vial ru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itivity on 4,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vial ru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lor, 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lit/combine on 5,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name, categor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itivity on 3,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7" name=""/>
          <p:cNvSpPr/>
          <p:nvPr/>
        </p:nvSpPr>
        <p:spPr>
          <a:xfrm>
            <a:off x="5104080" y="1526760"/>
            <a:ext cx="3386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.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. 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. 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985A-A4D2-459F-B200-7D8BBD85845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nrollment(student, major, course, room, ti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, cour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else can we infer ? [in class, or at hom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1CC5-6985-4440-ABA7-E55347757F4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Union Types with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y: each piece of furniture is owned either by a person, or by a comp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1. Acceptable, imperfect (What’s wrong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225440" y="3809880"/>
            <a:ext cx="7086240" cy="2558880"/>
            <a:chOff x="1225440" y="3809880"/>
            <a:chExt cx="7086240" cy="2558880"/>
          </a:xfrm>
        </p:grpSpPr>
        <p:sp>
          <p:nvSpPr>
            <p:cNvPr id="61" name=""/>
            <p:cNvSpPr/>
            <p:nvPr/>
          </p:nvSpPr>
          <p:spPr>
            <a:xfrm>
              <a:off x="3661200" y="3813120"/>
              <a:ext cx="197892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rniturePie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25440" y="3813120"/>
              <a:ext cx="101124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PlaceHolder 3"/>
            <p:cNvSpPr>
              <a:spLocks noGrp="1"/>
            </p:cNvSpPr>
            <p:nvPr>
              <p:ph/>
            </p:nvPr>
          </p:nvSpPr>
          <p:spPr>
            <a:xfrm>
              <a:off x="6933960" y="3809880"/>
              <a:ext cx="1377720" cy="4665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txBody>
            <a:bodyPr lIns="90000" rIns="90000" tIns="46800" bIns="46800" anchor="t">
              <a:normAutofit/>
            </a:bodyPr>
            <a:p>
              <a:pPr marL="343080" indent="0">
                <a:spcBef>
                  <a:spcPts val="601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81080" y="4952880"/>
              <a:ext cx="2286000" cy="141588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wnedBy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257800" y="4952880"/>
              <a:ext cx="2286000" cy="141588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wnedBy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4267080" y="42670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1981080" y="42670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flipV="1">
              <a:off x="5181480" y="4267080"/>
              <a:ext cx="763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7467480" y="4267080"/>
              <a:ext cx="763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D317-0AD6-4F0B-B6E9-15C9BCFC4F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Union Types with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2: better, more labor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3429000"/>
            <a:ext cx="762120" cy="64440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61200" y="5870880"/>
            <a:ext cx="197892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rniturePi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72880" y="4803840"/>
            <a:ext cx="1011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705360" y="4800600"/>
            <a:ext cx="1377720" cy="466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3962520"/>
            <a:ext cx="2286000" cy="141588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d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23440" y="2746440"/>
            <a:ext cx="100980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10280" y="3429000"/>
            <a:ext cx="762120" cy="64440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648320" y="3200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648320" y="54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74" idx="0"/>
            <a:endCxn id="72" idx="3"/>
          </p:cNvCxnSpPr>
          <p:nvPr/>
        </p:nvCxnSpPr>
        <p:spPr>
          <a:xfrm flipH="1" flipV="1">
            <a:off x="1676160" y="4073400"/>
            <a:ext cx="3600" cy="72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2" name=""/>
          <p:cNvCxnSpPr>
            <a:stCxn id="75" idx="0"/>
            <a:endCxn id="78" idx="3"/>
          </p:cNvCxnSpPr>
          <p:nvPr/>
        </p:nvCxnSpPr>
        <p:spPr>
          <a:xfrm flipH="1" flipV="1">
            <a:off x="7391160" y="4073400"/>
            <a:ext cx="3600" cy="72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" name=""/>
          <p:cNvCxnSpPr>
            <a:stCxn id="72" idx="0"/>
            <a:endCxn id="77" idx="1"/>
          </p:cNvCxnSpPr>
          <p:nvPr/>
        </p:nvCxnSpPr>
        <p:spPr>
          <a:xfrm flipH="1" flipV="1" rot="5400000">
            <a:off x="2669760" y="1982160"/>
            <a:ext cx="453240" cy="2440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" name=""/>
          <p:cNvCxnSpPr>
            <a:stCxn id="78" idx="0"/>
            <a:endCxn id="77" idx="3"/>
          </p:cNvCxnSpPr>
          <p:nvPr/>
        </p:nvCxnSpPr>
        <p:spPr>
          <a:xfrm flipV="1" rot="16200000">
            <a:off x="6039000" y="2076480"/>
            <a:ext cx="453240" cy="2251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371B-507E-4C7C-9066-BBA196306D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in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3040" y="1523880"/>
            <a:ext cx="802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 constraints is part of the modeling proc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ly used constrai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cial security number uniquely identifies a per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ngle-value constrai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 person can have only one fa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erential integrity constrai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you work for a company,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exist in the data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constrai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eoples’ ages are between 0 and 1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DAC7-2C32-4B57-96BA-8AAD5C68FF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 in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601992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59436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53080" y="5943600"/>
            <a:ext cx="144792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4724280"/>
            <a:ext cx="2514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3429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16002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16002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2514600"/>
            <a:ext cx="1447560" cy="685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3733920" y="312372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95680" y="2285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105520" y="2285640"/>
            <a:ext cx="7617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590920" y="54864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5486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54864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62720" y="2133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10280" y="6400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657600"/>
            <a:ext cx="30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 formal w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 specify mult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eys in E/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9600" y="19461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EAF1-584C-4012-ABE5-A76CFD03D8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 Valu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78440" y="3309840"/>
            <a:ext cx="1921320" cy="91872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723760" y="376884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376884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97520" y="5221440"/>
            <a:ext cx="1921320" cy="91836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742840" y="568008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48280" y="568008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37160" y="449568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586F-AC21-4E98-B06C-1C18515FF3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tial Integrit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72200" y="22860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228600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190512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895480" y="2590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4120" y="2590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72200" y="4800600"/>
            <a:ext cx="213372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4800600"/>
            <a:ext cx="213336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4419720"/>
            <a:ext cx="1524240" cy="137160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895480" y="5105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4120" y="5105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9760" y="4800600"/>
            <a:ext cx="5320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29953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29953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1640" y="3276720"/>
            <a:ext cx="567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roduct made by at most one comp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roducts made by no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84600" y="6019920"/>
            <a:ext cx="56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roduct made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ct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e comp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A357-1CF5-4F60-9106-94EAE2072F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n Suciu</dc:creator>
  <dc:description/>
  <dc:language>en-US</dc:language>
  <cp:lastModifiedBy>uw</cp:lastModifiedBy>
  <dcterms:modified xsi:type="dcterms:W3CDTF">2003-10-15T02:20:59Z</dcterms:modified>
  <cp:revision>338</cp:revision>
  <dc:subject/>
  <dc:title>PowerPoint Presentation</dc:title>
</cp:coreProperties>
</file>