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16E-593A-40F8-8F9C-5E4110AA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23D-9834-4AE3-94C8-D1ECCFE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A05-0CE0-44C4-9F2B-A293B36C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1A4-02D8-4442-B0F8-8E730693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F47-CC7D-4E19-8555-692D270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65F-572A-4B01-815C-19E300C8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015-7E42-43F2-ACD1-5B5CB50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6C1-61ED-484F-88A7-B78F164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571-A36A-462D-A057-20944602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207-9016-4885-AC9F-781C1A3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9AD-7939-4D21-AB1B-6B5C3D9C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DC5-1793-4F68-8997-AA4BC6C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829A-35AA-4508-B072-132E0A30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: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13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645-A6E8-4581-AB59-7F319FD45A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6" idx="0"/>
            <a:endCxn id="157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7" idx="2"/>
            <a:endCxn id="161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3696120" y="3200400"/>
            <a:ext cx="2099880" cy="1172520"/>
          </a:xfrm>
          <a:prstGeom prst="wedgeEllipseCallout">
            <a:avLst>
              <a:gd name="adj1" fmla="val 77217"/>
              <a:gd name="adj2" fmla="val -6758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591-C69B-42AD-B005-766BD01E1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400" y="1793880"/>
            <a:ext cx="73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odel a purchase relationship between buy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nd s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14400" y="2666880"/>
            <a:ext cx="7391160" cy="3416040"/>
            <a:chOff x="914400" y="2666880"/>
            <a:chExt cx="7391160" cy="3416040"/>
          </a:xfrm>
        </p:grpSpPr>
        <p:sp>
          <p:nvSpPr>
            <p:cNvPr id="182" name=""/>
            <p:cNvSpPr/>
            <p:nvPr/>
          </p:nvSpPr>
          <p:spPr>
            <a:xfrm>
              <a:off x="3703320" y="3433680"/>
              <a:ext cx="1394640" cy="1254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rc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4400" y="26668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4840" y="538596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3440" y="3712680"/>
              <a:ext cx="2022120" cy="696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8320" y="4061160"/>
              <a:ext cx="11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0640" y="468864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6520" y="3363840"/>
              <a:ext cx="76680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60600" y="613728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ill model as a mathematical set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968-F21B-4942-8A9E-BA9CB89577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es th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I know the store, person, invoice, I know the movie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81080" y="2514600"/>
            <a:ext cx="5257800" cy="2742840"/>
            <a:chOff x="1981080" y="2514600"/>
            <a:chExt cx="5257800" cy="2742840"/>
          </a:xfrm>
        </p:grpSpPr>
        <p:sp>
          <p:nvSpPr>
            <p:cNvPr id="192" name=""/>
            <p:cNvSpPr/>
            <p:nvPr/>
          </p:nvSpPr>
          <p:spPr>
            <a:xfrm>
              <a:off x="3965040" y="3461040"/>
              <a:ext cx="991080" cy="8499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2940120"/>
              <a:ext cx="143784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17000" y="4784400"/>
              <a:ext cx="143892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1040" y="3650040"/>
              <a:ext cx="1437840" cy="471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6480" y="388656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61480" y="431100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61480" y="2987640"/>
              <a:ext cx="69444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9720" y="2514600"/>
              <a:ext cx="1439280" cy="47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8920" y="3413160"/>
              <a:ext cx="54612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5EB-0FE0-4215-A5B6-485DD59CB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do these arrow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ore, person, invoice determines movie  and store, invoice, movie determines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5400" y="3460680"/>
            <a:ext cx="990720" cy="8510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40120"/>
            <a:ext cx="143856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8080" y="478476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00680" y="3649680"/>
            <a:ext cx="14382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6120" y="38862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31172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62560" y="2987640"/>
            <a:ext cx="69372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10080" y="2514600"/>
            <a:ext cx="1440000" cy="473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413160"/>
            <a:ext cx="54576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067-1C48-4C4B-8198-B895B2A045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do I say: “invoice determines store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good way; best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y is this incomple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95480" y="3200400"/>
            <a:ext cx="4343040" cy="2265120"/>
            <a:chOff x="2895480" y="3200400"/>
            <a:chExt cx="4343040" cy="2265120"/>
          </a:xfrm>
        </p:grpSpPr>
        <p:sp>
          <p:nvSpPr>
            <p:cNvPr id="215" name=""/>
            <p:cNvSpPr/>
            <p:nvPr/>
          </p:nvSpPr>
          <p:spPr>
            <a:xfrm>
              <a:off x="4534560" y="3981960"/>
              <a:ext cx="818280" cy="7023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55176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o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30080" y="507492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0520" y="4137480"/>
              <a:ext cx="118800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52840" y="4332960"/>
              <a:ext cx="69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4960" y="468432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4960" y="3591000"/>
              <a:ext cx="57276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84560" y="3200400"/>
              <a:ext cx="1189080" cy="390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3480" y="3942360"/>
              <a:ext cx="4510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 in Multiway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3B1-9D1D-4338-A29C-64DC035379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9000" y="17938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eed an entity set twice in on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814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67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E30-659D-4190-938C-44B466474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E5C-9EB0-46FD-A012-A64D433760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Multi-way Relationships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5812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638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39625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133720"/>
            <a:ext cx="22100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657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828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257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520" y="251460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447560" y="434304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146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905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19320" y="259056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19A-78CD-45AB-8D4A-8DA29BDE1C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/R Diagra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Rela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se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61F-2401-4582-B8C8-E0288D6881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Set to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053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25909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733920" y="32000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956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05520" y="23619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2440" y="457200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, catego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           category                   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    gadgets                     $1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6560" y="590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5978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3536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5213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F10-3DB2-43B6-A626-F745C843C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/R diagrams to relations (3.2, 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.1 Embedded SQ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ich we didn’t finish last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784-7066-4EA8-9430-BEC7D3C84A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40" y="4308480"/>
            <a:ext cx="89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uct-name, product-category, company-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yea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-name    Product-Category  Company-name    Starting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      gadgets            gizmoWorks         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5181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2" idx="0"/>
            <a:endCxn id="297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2" idx="0"/>
            <a:endCxn id="283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82" idx="0"/>
            <a:endCxn id="284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80" idx="0"/>
            <a:endCxn id="291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80" idx="3"/>
            <a:endCxn id="281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046240" y="62802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atch out for attribute nam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E79-87B6-4473-BD99-C36159CB9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743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048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1219320"/>
            <a:ext cx="10666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219320"/>
            <a:ext cx="129528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41148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8288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590560" y="3429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920" y="44956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Modif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category   price    StartYear   company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gadgets    19.99    1963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1676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6736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749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21932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8" idx="0"/>
            <a:endCxn id="323" idx="4"/>
          </p:cNvCxnSpPr>
          <p:nvPr/>
        </p:nvCxnSpPr>
        <p:spPr>
          <a:xfrm flipH="1" flipV="1">
            <a:off x="723600" y="1904400"/>
            <a:ext cx="800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08" idx="0"/>
            <a:endCxn id="309" idx="4"/>
          </p:cNvCxnSpPr>
          <p:nvPr/>
        </p:nvCxnSpPr>
        <p:spPr>
          <a:xfrm flipV="1">
            <a:off x="1523520" y="1904400"/>
            <a:ext cx="3819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08" idx="0"/>
            <a:endCxn id="310" idx="4"/>
          </p:cNvCxnSpPr>
          <p:nvPr/>
        </p:nvCxnSpPr>
        <p:spPr>
          <a:xfrm flipV="1">
            <a:off x="1523520" y="1904400"/>
            <a:ext cx="17154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6" idx="0"/>
            <a:endCxn id="317" idx="4"/>
          </p:cNvCxnSpPr>
          <p:nvPr/>
        </p:nvCxnSpPr>
        <p:spPr>
          <a:xfrm flipV="1">
            <a:off x="4038480" y="2361960"/>
            <a:ext cx="648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06" idx="3"/>
            <a:endCxn id="307" idx="1"/>
          </p:cNvCxnSpPr>
          <p:nvPr/>
        </p:nvCxnSpPr>
        <p:spPr>
          <a:xfrm>
            <a:off x="4800240" y="342864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9880" y="53690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BD1-FC27-495A-A5B3-E78DDDE2C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ay Relationships to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6480" y="2824200"/>
            <a:ext cx="1393920" cy="12556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205740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7280" y="477684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26240" y="3103560"/>
            <a:ext cx="2022480" cy="696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45132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3440" y="4079880"/>
            <a:ext cx="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2754360"/>
            <a:ext cx="76680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2004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31240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57150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82880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1752480"/>
            <a:ext cx="114300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743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4674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4320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6280" y="403848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dName,st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s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9FA-AA7A-42C8-A480-231FB5A1F6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19051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1337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2096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7080" y="137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800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18148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181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36196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360" y="6289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  be faith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0B1-B671-4A90-899A-77132C6265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514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94360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51814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5638680"/>
            <a:ext cx="17524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5181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0360" y="5146560"/>
            <a:ext cx="29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pick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nd of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25B-E777-4FDE-88FA-887E187D23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rincip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380988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2971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59436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1148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220968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11480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2286000"/>
            <a:ext cx="2209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400800" y="25905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37339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40" y="49179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ral: do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icate lif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it already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292-F8EC-454D-A2D9-ACD132C145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360" y="20988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in a class may be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 defin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6000" y="4003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9000" y="48769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09000" y="487692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44956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4956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6920" y="60609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--- we define subclasses in E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9CA-F25B-49E5-BB94-078C19F7AB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26668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8380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175248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580920" y="2362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34340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952880" y="15235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3733920"/>
            <a:ext cx="990720" cy="8380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257800"/>
            <a:ext cx="26668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5257800"/>
            <a:ext cx="23623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676160" y="4572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572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819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1722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99840" y="6019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60199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3400" y="2286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305-D284-47E8-877D-063FCC6525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terms of rec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257800" y="2514600"/>
            <a:ext cx="1218960" cy="838080"/>
            <a:chOff x="5257800" y="2514600"/>
            <a:chExt cx="1218960" cy="838080"/>
          </a:xfrm>
        </p:grpSpPr>
        <p:sp>
          <p:nvSpPr>
            <p:cNvPr id="422" name=""/>
            <p:cNvSpPr/>
            <p:nvPr/>
          </p:nvSpPr>
          <p:spPr>
            <a:xfrm>
              <a:off x="5257800" y="25146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29718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57800" y="3733920"/>
            <a:ext cx="1218960" cy="838080"/>
            <a:chOff x="5257800" y="3733920"/>
            <a:chExt cx="1218960" cy="838080"/>
          </a:xfrm>
        </p:grpSpPr>
        <p:sp>
          <p:nvSpPr>
            <p:cNvPr id="425" name=""/>
            <p:cNvSpPr/>
            <p:nvPr/>
          </p:nvSpPr>
          <p:spPr>
            <a:xfrm>
              <a:off x="5257800" y="373392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1911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257800" y="5257800"/>
            <a:ext cx="1218960" cy="838080"/>
            <a:chOff x="5257800" y="5257800"/>
            <a:chExt cx="1218960" cy="838080"/>
          </a:xfrm>
        </p:grpSpPr>
        <p:sp>
          <p:nvSpPr>
            <p:cNvPr id="428" name=""/>
            <p:cNvSpPr/>
            <p:nvPr/>
          </p:nvSpPr>
          <p:spPr>
            <a:xfrm>
              <a:off x="5257800" y="5257800"/>
              <a:ext cx="121896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7800" y="57150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57800" y="45720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876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77120" y="457164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6095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63244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477120" y="60955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63244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65530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632412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4240" y="2479680"/>
            <a:ext cx="893880" cy="916920"/>
            <a:chOff x="5394240" y="2479680"/>
            <a:chExt cx="893880" cy="916920"/>
          </a:xfrm>
        </p:grpSpPr>
        <p:sp>
          <p:nvSpPr>
            <p:cNvPr id="440" name=""/>
            <p:cNvSpPr/>
            <p:nvPr/>
          </p:nvSpPr>
          <p:spPr>
            <a:xfrm>
              <a:off x="5394240" y="24796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4240" y="293688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410080" y="3733920"/>
            <a:ext cx="893880" cy="916920"/>
            <a:chOff x="5410080" y="3733920"/>
            <a:chExt cx="893880" cy="916920"/>
          </a:xfrm>
        </p:grpSpPr>
        <p:sp>
          <p:nvSpPr>
            <p:cNvPr id="443" name=""/>
            <p:cNvSpPr/>
            <p:nvPr/>
          </p:nvSpPr>
          <p:spPr>
            <a:xfrm>
              <a:off x="5410080" y="37339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080" y="41911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0080" y="5257800"/>
            <a:ext cx="893880" cy="916920"/>
            <a:chOff x="5410080" y="5257800"/>
            <a:chExt cx="893880" cy="916920"/>
          </a:xfrm>
        </p:grpSpPr>
        <p:sp>
          <p:nvSpPr>
            <p:cNvPr id="446" name=""/>
            <p:cNvSpPr/>
            <p:nvPr/>
          </p:nvSpPr>
          <p:spPr>
            <a:xfrm>
              <a:off x="541008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080" y="57150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el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471280" y="4533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7120" y="60436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7120" y="6272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36D-8EF2-40BC-B920-C22D20BD39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classes to Relations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320" y="1981080"/>
            <a:ext cx="5866920" cy="3927240"/>
            <a:chOff x="76320" y="1981080"/>
            <a:chExt cx="5866920" cy="3927240"/>
          </a:xfrm>
        </p:grpSpPr>
        <p:sp>
          <p:nvSpPr>
            <p:cNvPr id="453" name=""/>
            <p:cNvSpPr/>
            <p:nvPr/>
          </p:nvSpPr>
          <p:spPr>
            <a:xfrm>
              <a:off x="2115000" y="3174120"/>
              <a:ext cx="13917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3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7720" y="198108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7800" y="25776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313720" y="2975040"/>
              <a:ext cx="1987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10880" y="2427840"/>
              <a:ext cx="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208680" y="2427840"/>
              <a:ext cx="497160" cy="7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844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6160" y="3870360"/>
              <a:ext cx="646200" cy="546480"/>
            </a:xfrm>
            <a:prstGeom prst="triangle">
              <a:avLst>
                <a:gd name="adj" fmla="val 50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6480" y="4864680"/>
              <a:ext cx="173988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ucational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00" y="4864680"/>
              <a:ext cx="1541160" cy="497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ftware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070280" y="4417200"/>
              <a:ext cx="74556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04280" y="4417200"/>
              <a:ext cx="34812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16560" y="3671280"/>
              <a:ext cx="2980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860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320" y="5461200"/>
              <a:ext cx="944640" cy="447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020600" y="5361840"/>
              <a:ext cx="69588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3040" y="5361840"/>
              <a:ext cx="74556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7120" y="3671280"/>
              <a:ext cx="49716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5486400" y="914400"/>
          <a:ext cx="3429000" cy="1981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248520" y="3276720"/>
          <a:ext cx="2666880" cy="9903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lat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172200" y="4800600"/>
          <a:ext cx="2666880" cy="1486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g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"/>
          <p:cNvSpPr/>
          <p:nvPr/>
        </p:nvSpPr>
        <p:spPr>
          <a:xfrm>
            <a:off x="5563440" y="15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3800" y="3200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w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6240" y="4267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6A2-CC16-410B-8076-C13437EF4A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structure of the database before deciding on a particular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ssues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ntities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ntities 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straints exist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6FB-63DC-4C6C-BD78-869A98178A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:   classes are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5520" y="3409920"/>
            <a:ext cx="3939480" cy="1454400"/>
            <a:chOff x="2135520" y="3409920"/>
            <a:chExt cx="3939480" cy="1454400"/>
          </a:xfrm>
        </p:grpSpPr>
        <p:sp>
          <p:nvSpPr>
            <p:cNvPr id="480" name=""/>
            <p:cNvSpPr/>
            <p:nvPr/>
          </p:nvSpPr>
          <p:spPr>
            <a:xfrm>
              <a:off x="3125520" y="350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2760" y="3409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6240" y="3733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5520" y="396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8320" y="44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6240" y="36576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3440" y="4114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82560" y="44960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429000"/>
            <a:ext cx="1676520" cy="68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2757600">
            <a:off x="2017080" y="40784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358128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6760" y="2971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42670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560" y="3962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FA1-4318-4656-AD79-395F7DFCCC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:   entity sets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ODL and E/R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0" y="45720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560" y="41911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11480" y="3657600"/>
            <a:ext cx="3940200" cy="1454400"/>
            <a:chOff x="2211480" y="3657600"/>
            <a:chExt cx="3940200" cy="1454400"/>
          </a:xfrm>
        </p:grpSpPr>
        <p:sp>
          <p:nvSpPr>
            <p:cNvPr id="500" name=""/>
            <p:cNvSpPr/>
            <p:nvPr/>
          </p:nvSpPr>
          <p:spPr>
            <a:xfrm>
              <a:off x="3202200" y="3753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89440" y="36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256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11480" y="4210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5000" y="4667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2920" y="39052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40120" y="43624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9240" y="47437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828800" y="3581280"/>
            <a:ext cx="4648320" cy="17528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2720" y="3276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757600">
            <a:off x="2093400" y="4307040"/>
            <a:ext cx="1224000" cy="6872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733920"/>
            <a:ext cx="914400" cy="1371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57A-3A39-4A3C-8D88-AAA14578B5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multiple inheritance in E/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ree entity sets, but four different kind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ed if we want extra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5480" y="39625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ftwar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1840" y="35812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ucationa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364120" y="3048120"/>
            <a:ext cx="3939480" cy="1454400"/>
            <a:chOff x="2364120" y="3048120"/>
            <a:chExt cx="3939480" cy="1454400"/>
          </a:xfrm>
        </p:grpSpPr>
        <p:sp>
          <p:nvSpPr>
            <p:cNvPr id="516" name=""/>
            <p:cNvSpPr/>
            <p:nvPr/>
          </p:nvSpPr>
          <p:spPr>
            <a:xfrm>
              <a:off x="3354120" y="3143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136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4840" y="3372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4120" y="3600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6920" y="4057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840" y="3295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2040" y="3753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1160" y="41342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981080" y="2971800"/>
            <a:ext cx="4648320" cy="1752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2666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263760"/>
            <a:ext cx="3060720" cy="1320840"/>
          </a:xfrm>
          <a:custGeom>
            <a:avLst/>
            <a:gdLst/>
            <a:ahLst/>
            <a:rect l="l" t="t" r="r" b="b"/>
            <a:pathLst>
              <a:path w="1560" h="832">
                <a:moveTo>
                  <a:pt x="880" y="104"/>
                </a:moveTo>
                <a:cubicBezTo>
                  <a:pt x="920" y="32"/>
                  <a:pt x="1104" y="0"/>
                  <a:pt x="1216" y="56"/>
                </a:cubicBezTo>
                <a:cubicBezTo>
                  <a:pt x="1328" y="112"/>
                  <a:pt x="1544" y="328"/>
                  <a:pt x="1552" y="440"/>
                </a:cubicBezTo>
                <a:cubicBezTo>
                  <a:pt x="1560" y="552"/>
                  <a:pt x="1440" y="664"/>
                  <a:pt x="1264" y="728"/>
                </a:cubicBezTo>
                <a:cubicBezTo>
                  <a:pt x="1088" y="792"/>
                  <a:pt x="704" y="832"/>
                  <a:pt x="496" y="824"/>
                </a:cubicBezTo>
                <a:cubicBezTo>
                  <a:pt x="288" y="816"/>
                  <a:pt x="32" y="728"/>
                  <a:pt x="16" y="680"/>
                </a:cubicBezTo>
                <a:cubicBezTo>
                  <a:pt x="0" y="632"/>
                  <a:pt x="240" y="568"/>
                  <a:pt x="400" y="536"/>
                </a:cubicBezTo>
                <a:cubicBezTo>
                  <a:pt x="560" y="504"/>
                  <a:pt x="896" y="560"/>
                  <a:pt x="976" y="488"/>
                </a:cubicBezTo>
                <a:cubicBezTo>
                  <a:pt x="1056" y="416"/>
                  <a:pt x="840" y="176"/>
                  <a:pt x="880" y="104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530520"/>
            <a:ext cx="2654280" cy="1155960"/>
          </a:xfrm>
          <a:custGeom>
            <a:avLst/>
            <a:gdLst/>
            <a:ahLst/>
            <a:rect l="l" t="t" r="r" b="b"/>
            <a:pathLst>
              <a:path w="1672" h="728">
                <a:moveTo>
                  <a:pt x="0" y="128"/>
                </a:moveTo>
                <a:cubicBezTo>
                  <a:pt x="0" y="48"/>
                  <a:pt x="216" y="0"/>
                  <a:pt x="336" y="32"/>
                </a:cubicBezTo>
                <a:cubicBezTo>
                  <a:pt x="456" y="64"/>
                  <a:pt x="560" y="280"/>
                  <a:pt x="720" y="320"/>
                </a:cubicBezTo>
                <a:cubicBezTo>
                  <a:pt x="880" y="360"/>
                  <a:pt x="1144" y="264"/>
                  <a:pt x="1296" y="272"/>
                </a:cubicBezTo>
                <a:cubicBezTo>
                  <a:pt x="1448" y="280"/>
                  <a:pt x="1592" y="304"/>
                  <a:pt x="1632" y="368"/>
                </a:cubicBezTo>
                <a:cubicBezTo>
                  <a:pt x="1672" y="432"/>
                  <a:pt x="1648" y="600"/>
                  <a:pt x="1536" y="656"/>
                </a:cubicBezTo>
                <a:cubicBezTo>
                  <a:pt x="1424" y="712"/>
                  <a:pt x="1160" y="728"/>
                  <a:pt x="960" y="704"/>
                </a:cubicBezTo>
                <a:cubicBezTo>
                  <a:pt x="760" y="680"/>
                  <a:pt x="496" y="608"/>
                  <a:pt x="336" y="512"/>
                </a:cubicBezTo>
                <a:cubicBezTo>
                  <a:pt x="176" y="416"/>
                  <a:pt x="0" y="208"/>
                  <a:pt x="0" y="12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3080" y="4191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2560" y="41148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D8A-9ECE-469D-86CD-55B633E9AE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Subclass Stru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152388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3429000"/>
            <a:ext cx="220968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581280"/>
            <a:ext cx="221004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4840" y="5562720"/>
            <a:ext cx="2209680" cy="9903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-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452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800" y="243828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64400" y="5527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54520" y="586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4648320"/>
            <a:ext cx="83808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666880"/>
            <a:ext cx="838080" cy="6098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8006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2743200"/>
            <a:ext cx="838440" cy="60948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3" idx="0"/>
            <a:endCxn id="542" idx="3"/>
          </p:cNvCxnSpPr>
          <p:nvPr/>
        </p:nvCxnSpPr>
        <p:spPr>
          <a:xfrm flipV="1">
            <a:off x="1943280" y="3351960"/>
            <a:ext cx="1372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42" idx="0"/>
            <a:endCxn id="531" idx="2"/>
          </p:cNvCxnSpPr>
          <p:nvPr/>
        </p:nvCxnSpPr>
        <p:spPr>
          <a:xfrm flipV="1">
            <a:off x="3314880" y="251388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2"/>
            <a:endCxn id="540" idx="0"/>
          </p:cNvCxnSpPr>
          <p:nvPr/>
        </p:nvCxnSpPr>
        <p:spPr>
          <a:xfrm>
            <a:off x="4609800" y="2514240"/>
            <a:ext cx="1600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3"/>
            <a:endCxn id="532" idx="0"/>
          </p:cNvCxnSpPr>
          <p:nvPr/>
        </p:nvCxnSpPr>
        <p:spPr>
          <a:xfrm>
            <a:off x="6210360" y="3276360"/>
            <a:ext cx="1296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3" idx="2"/>
            <a:endCxn id="541" idx="0"/>
          </p:cNvCxnSpPr>
          <p:nvPr/>
        </p:nvCxnSpPr>
        <p:spPr>
          <a:xfrm>
            <a:off x="1943280" y="4571640"/>
            <a:ext cx="915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3"/>
            <a:endCxn id="534" idx="0"/>
          </p:cNvCxnSpPr>
          <p:nvPr/>
        </p:nvCxnSpPr>
        <p:spPr>
          <a:xfrm>
            <a:off x="2857680" y="5410080"/>
            <a:ext cx="16927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0"/>
            <a:endCxn id="532" idx="2"/>
          </p:cNvCxnSpPr>
          <p:nvPr/>
        </p:nvCxnSpPr>
        <p:spPr>
          <a:xfrm flipV="1">
            <a:off x="6819480" y="441900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4" idx="0"/>
            <a:endCxn id="539" idx="3"/>
          </p:cNvCxnSpPr>
          <p:nvPr/>
        </p:nvCxnSpPr>
        <p:spPr>
          <a:xfrm flipV="1">
            <a:off x="4549680" y="5257080"/>
            <a:ext cx="2270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6" idx="2"/>
            <a:endCxn id="533" idx="0"/>
          </p:cNvCxnSpPr>
          <p:nvPr/>
        </p:nvCxnSpPr>
        <p:spPr>
          <a:xfrm>
            <a:off x="1144080" y="3260880"/>
            <a:ext cx="7995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5" idx="2"/>
            <a:endCxn id="532" idx="0"/>
          </p:cNvCxnSpPr>
          <p:nvPr/>
        </p:nvCxnSpPr>
        <p:spPr>
          <a:xfrm flipH="1">
            <a:off x="7504920" y="3184200"/>
            <a:ext cx="73260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5C7-1C8B-4A86-ACF3-F85A74C66D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55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CBC-4968-4BCC-9061-4F2C675A7E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562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9C4-6059-4A63-A35C-6FB71C02CC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5" idx="0"/>
            <a:endCxn id="573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6" idx="0"/>
            <a:endCxn id="579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3" idx="0"/>
            <a:endCxn id="578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9" idx="0"/>
            <a:endCxn id="578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A6A-F6F3-4D28-9351-94611B7C92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Formal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Object Definition Language (OD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r in spirit to object-orient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ot cov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Entity/Relationship model (E/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lational in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wid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be translated (semi-automatically) to relational sche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 to OO-schema: direct transformation (C++ or Smalltalk based syst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7C1-A32F-44D8-9487-6B33B9B8B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/ Relationship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160" y="2743200"/>
            <a:ext cx="630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                 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                   entity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like in OD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: like in ODL 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rst class citizens (not associated with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necessarily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048120"/>
            <a:ext cx="121932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886200"/>
            <a:ext cx="1295640" cy="533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648320"/>
            <a:ext cx="1828800" cy="6858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108-4E9F-492A-A630-695AD4A04F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50532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6002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905120"/>
            <a:ext cx="22096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2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971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858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142640" y="1980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512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1142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4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337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72400" y="1295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38680" y="43434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3" idx="0"/>
            <a:endCxn id="64" idx="2"/>
          </p:cNvCxnSpPr>
          <p:nvPr/>
        </p:nvCxnSpPr>
        <p:spPr>
          <a:xfrm flipV="1">
            <a:off x="7010280" y="2666520"/>
            <a:ext cx="496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4" idx="2"/>
            <a:endCxn id="68" idx="0"/>
          </p:cNvCxnSpPr>
          <p:nvPr/>
        </p:nvCxnSpPr>
        <p:spPr>
          <a:xfrm>
            <a:off x="7505640" y="26665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F80-C07A-4B54-B8D4-CF43CC001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entity set must have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105520"/>
            <a:ext cx="213372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2767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14479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4284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053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14800" y="39621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4C1-9E41-4E8C-9213-3C6FDC81E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la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hematic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B are sets, then a relation R is a subset of A x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1,2,3},   B={a,b,c,d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{(1,a), (1,c), (3,b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set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5920" y="3048120"/>
            <a:ext cx="3366720" cy="2320920"/>
            <a:chOff x="5335920" y="3048120"/>
            <a:chExt cx="3366720" cy="2320920"/>
          </a:xfrm>
        </p:grpSpPr>
        <p:sp>
          <p:nvSpPr>
            <p:cNvPr id="97" name=""/>
            <p:cNvSpPr/>
            <p:nvPr/>
          </p:nvSpPr>
          <p:spPr>
            <a:xfrm>
              <a:off x="64026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2600" y="37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26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8400" y="3048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9120" y="3632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8400" y="421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912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080" y="3083040"/>
              <a:ext cx="9144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88240" y="3083040"/>
              <a:ext cx="9144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1560" y="33116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1560" y="338796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721560" y="392112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920" y="3886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0680" y="47246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562720"/>
            <a:ext cx="3810240" cy="709200"/>
            <a:chOff x="2438280" y="5562720"/>
            <a:chExt cx="3810240" cy="709200"/>
          </a:xfrm>
        </p:grpSpPr>
        <p:sp>
          <p:nvSpPr>
            <p:cNvPr id="112" name=""/>
            <p:cNvSpPr/>
            <p:nvPr/>
          </p:nvSpPr>
          <p:spPr>
            <a:xfrm>
              <a:off x="3820320" y="5562720"/>
              <a:ext cx="747000" cy="67212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5280" y="5712120"/>
              <a:ext cx="108324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5898600"/>
              <a:ext cx="1045800" cy="37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7320" y="58986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483720" y="5898600"/>
              <a:ext cx="3358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F33-14C7-4392-BF63-392E79C3D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E/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-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981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124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267080"/>
            <a:ext cx="838440" cy="75564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4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2378160"/>
            <a:ext cx="1143000" cy="1008000"/>
            <a:chOff x="2438280" y="2378160"/>
            <a:chExt cx="1143000" cy="1008000"/>
          </a:xfrm>
        </p:grpSpPr>
        <p:sp>
          <p:nvSpPr>
            <p:cNvPr id="129" name=""/>
            <p:cNvSpPr/>
            <p:nvPr/>
          </p:nvSpPr>
          <p:spPr>
            <a:xfrm>
              <a:off x="2438280" y="237816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8080" y="237816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3200" y="2590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4320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971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3581280"/>
            <a:ext cx="1143000" cy="1008000"/>
            <a:chOff x="2514600" y="3581280"/>
            <a:chExt cx="1143000" cy="1008000"/>
          </a:xfrm>
        </p:grpSpPr>
        <p:sp>
          <p:nvSpPr>
            <p:cNvPr id="135" name=""/>
            <p:cNvSpPr/>
            <p:nvPr/>
          </p:nvSpPr>
          <p:spPr>
            <a:xfrm>
              <a:off x="2514600" y="358128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4400" y="358128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0920" y="5105520"/>
            <a:ext cx="1143000" cy="1008000"/>
            <a:chOff x="2590920" y="5105520"/>
            <a:chExt cx="1143000" cy="1008000"/>
          </a:xfrm>
        </p:grpSpPr>
        <p:sp>
          <p:nvSpPr>
            <p:cNvPr id="138" name=""/>
            <p:cNvSpPr/>
            <p:nvPr/>
          </p:nvSpPr>
          <p:spPr>
            <a:xfrm>
              <a:off x="2590920" y="5105520"/>
              <a:ext cx="403200" cy="80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0720" y="5105520"/>
              <a:ext cx="403200" cy="100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19520" y="3809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95480" y="52578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5480" y="5486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68B-90CB-406A-A129-BC2F877DD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3-10-13T05:27:50Z</dcterms:modified>
  <cp:revision>284</cp:revision>
  <dc:subject/>
  <dc:title>PowerPoint Presentation</dc:title>
</cp:coreProperties>
</file>