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51F7-77CB-4641-B1FB-8B681D05D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values are A=3, B=2.  If the two transactions were executed serially, then we would have either A=1,B=2,  or A=3,B=4.  This is not a serializabl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2D8-3503-49FA-ACFD-0A317DFA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DCE-5F34-4ADC-91B4-EE0CBB9B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052-2B61-4FF7-9FA5-F54C1D8D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87E-568D-437F-A2E0-C869D3E0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DE5-C4C8-4734-8DCE-8FB72EA2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29D-ED3D-4071-84CB-F68C7D99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396-96E9-447F-BC82-FE4DC21F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ADB-F213-4F5F-8F00-35AD2A0D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116-D088-453F-A0C9-F8C6C84E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809-FC46-4923-BA72-F943A85D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F16-B962-4ED9-B071-C885B173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EAC-9AC5-4573-952A-11054324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23E3-7BB9-45B5-A3CB-14891FB84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6: SQ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s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10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397-4185-46D2-9047-95B020D2D4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traint = a property that we’d like our database to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will enforce the constraint by taking some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bid an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perform compensating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492-05F0-4B2F-B073-E6991F09BB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in 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, 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-leve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leve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constraints: asse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complex the constraint, the harder it is to check and to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2514600"/>
            <a:ext cx="2210040" cy="609480"/>
          </a:xfrm>
          <a:prstGeom prst="wedgeEllipseCallout">
            <a:avLst>
              <a:gd name="adj1" fmla="val -131175"/>
              <a:gd name="adj2" fmla="val -755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6800" y="3656160"/>
            <a:ext cx="1750680" cy="1172520"/>
          </a:xfrm>
          <a:prstGeom prst="wedgeEllipseCallout">
            <a:avLst>
              <a:gd name="adj1" fmla="val -123638"/>
              <a:gd name="adj2" fmla="val 34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48C-EC82-4D99-9650-54FD272324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3428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23400" y="1752480"/>
            <a:ext cx="5426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7920" y="4343400"/>
            <a:ext cx="4217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 VARCHAR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EAF-2A67-4FBB-9BE4-8F75C04223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with Multip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5605200" cy="22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76520" y="4800600"/>
          <a:ext cx="4190760" cy="1701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</a:tblGrid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Ga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C91-A6BA-4215-B926-93A0ECA879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40440" cy="39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D  CHAR(1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ID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ame, categor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867280"/>
            <a:ext cx="49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t most on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be man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A59-A68D-4558-A1E5-80ADBE9096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18992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(na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0080" y="518148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Nam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duct(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must b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94720" y="914400"/>
            <a:ext cx="2185920" cy="1692360"/>
          </a:xfrm>
          <a:prstGeom prst="wedgeEllipseCallout">
            <a:avLst>
              <a:gd name="adj1" fmla="val -136495"/>
              <a:gd name="adj2" fmla="val -32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237-CF03-4D08-A54F-1E9328329A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57200" y="254016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029200" y="254016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457920" y="20066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920" y="20066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958-578E-4A1F-B6F4-3708F41E12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ame, category) must be a PRIMARY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7280" y="2057400"/>
            <a:ext cx="82929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y VARCHAR(20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EIG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duct(name, categor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F86-A92F-426C-9F5D-D0AB177793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04920" y="4444920"/>
          <a:ext cx="3047760" cy="2032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876920" y="444492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05640" y="39117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7640" y="3911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upd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urchase: insert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duct: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962520"/>
            <a:ext cx="3733920" cy="609480"/>
          </a:xfrm>
          <a:custGeom>
            <a:avLst/>
            <a:gdLst/>
            <a:ahLst/>
            <a:rect l="l" t="t" r="r" b="b"/>
            <a:pathLst>
              <a:path w="2352" h="384">
                <a:moveTo>
                  <a:pt x="2352" y="384"/>
                </a:moveTo>
                <a:cubicBezTo>
                  <a:pt x="1924" y="192"/>
                  <a:pt x="1496" y="0"/>
                  <a:pt x="1104" y="0"/>
                </a:cubicBezTo>
                <a:cubicBezTo>
                  <a:pt x="712" y="0"/>
                  <a:pt x="356" y="192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62C-EAFE-48B2-B907-A18847A25F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during upda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has three policies for maintaining referential integ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olating modifications (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sc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fter a delete/update do a delete/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-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foreign-key field to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EMNT: 7.1.5, 7.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460-708B-4CB4-8C10-C06CAE33A8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s (6.7)  -- finish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(Chapter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ded SQL (8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in SQL (8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537-0F03-440A-A118-FDC9A6EF66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on Attributes and Tu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attribut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obvious meaning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any condi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on tu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ED56-21B8-4014-8FD2-D663F9029F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73320" y="2666880"/>
            <a:ext cx="749916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rchase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Name CHAR(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Nam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 DATETIME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NOT 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22640" y="304920"/>
            <a:ext cx="4007520" cy="1692360"/>
          </a:xfrm>
          <a:prstGeom prst="wedgeEllipseCallout">
            <a:avLst>
              <a:gd name="adj1" fmla="val -39412"/>
              <a:gd name="adj2" fmla="val 13995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difference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-Ke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CDD-8EB8-4331-86CA-A98254591C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s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3920" y="1981080"/>
            <a:ext cx="8628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REATE 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yAsser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, Purch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 = Purchase.prod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.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nt(*) &gt; 2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A88-F024-4841-9779-731AB2397C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Comments on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ive them names, and alter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the book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y are che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understand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ions are taken if they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3BE-3080-4E5B-96AA-2FF5964229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edded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SQL (= ad-hoc SQL) is rarel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actice: SQL is embedded in some application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code is identified by special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BA3-CB18-4341-A931-2CAB4E2AE3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dance Mism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SQL in 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uses int, char[..], pointer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uses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mpedance misma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incompatibl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080-AEFE-4B74-8CF3-298212E07D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mpedance Mismatch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y not use only one langu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getting SQL: “we can quickly dispense with this idea”   [textbook, pg. 351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cannot do everything that the host language can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lution: use cur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574-02A1-4C75-95EC-65ACEA513E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s with Embedded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40840" y="2174760"/>
            <a:ext cx="44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 +  Embedded SQ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360" y="2971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3886200"/>
            <a:ext cx="400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+ function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72560" y="47656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5715000"/>
            <a:ext cx="30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2895480"/>
            <a:ext cx="2210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800600"/>
            <a:ext cx="3429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language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56280" y="3657600"/>
            <a:ext cx="2994120" cy="2212200"/>
          </a:xfrm>
          <a:prstGeom prst="wedgeEllipseCallout">
            <a:avLst>
              <a:gd name="adj1" fmla="val -71083"/>
              <a:gd name="adj2" fmla="val -1762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(CLI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BC,JDBC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71A-5CEF-4FC3-8803-9D9D5A7C58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: SQL / Host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1080" y="1219320"/>
            <a:ext cx="818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get passed through shared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s precede shared variables when they occur with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ta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precedes every SQL statement in the host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bl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QL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error messages and stat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s (e.g., “00000” says that the operation completed with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35040" y="5181480"/>
            <a:ext cx="563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  BEGIN DECLARE S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 productName[3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C SQL  END DECLARE SE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D96-013B-4CB3-94E2-3694D4361C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pname,  price, quantit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 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phon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380-5D7F-4A04-8E7F-BDC96ECD18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2187720"/>
            <a:ext cx="39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e(sid, s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pname, price, 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0600" y="3317760"/>
            <a:ext cx="68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that se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with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quivalent form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s.t. all their products have price &gt;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0AB-59A3-4E68-A242-CC2E853612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Shared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6320" y="1766880"/>
            <a:ext cx="748080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 simpleInser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BEGIN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   n[20], c[30]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product-name, company-nam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     p, q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price, quantity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   SQLSTATE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ND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*   get values for name, price and company  somehow  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INSERT 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(pname, price, quantity, mak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:n, :p, :q, :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AA7-37F9-4537-A859-C1F1EB44B4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-Row Select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5040" y="1649520"/>
            <a:ext cx="551340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 getPrice(char *nam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BEGIN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n[2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   SQLSTATE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ND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cpy(n, name);   /* copy name to local variabl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 = :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9E0-4726-4762-A30D-BE43DEB466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e the cu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he cu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 tuples one b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the cu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BC0-2364-41F6-B556-A2C4F6C206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product2XML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BEGIN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n[20], c[3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p,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   SQLSTATE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ND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DECL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URSOR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, price, quantity, ma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OP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C53-03D4-4026-83CA-16DD1598BC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&lt;allProducts&gt;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(1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FETCH 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n, :p, :q, :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_MORE_TUP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&lt;product&gt;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       &lt;name&gt;      %s    &lt;/name&gt;\n”,     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       &lt;price&gt;       %d   &lt;/price&gt;\n”,      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       &lt;quantity&gt;  %d   &lt;/quantity&gt;\n”, q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       &lt;maker&gt;     %s   &lt;/maker&gt;\n”,     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    &lt;/product&gt;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T SQL 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f(“&lt;/allProducts&gt;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BAC-A7A5-4924-8CC2-FF4D7E897D9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NO_MORE_TUPL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define NO_MORE_TUPLES !(strcmp(SQLSTATE,”02000”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AD0-56EB-4FD8-BACA-F456B00E88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3840" y="1870200"/>
            <a:ext cx="776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sors can modify a relation as well as rea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etermine the order in which the cursor will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s by the ORDER BY keyword in the SQL qu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sors can be protected against changes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re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sor can be a scrolling one: can go forward, back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n, -n, Abs(n), Abs(-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AB2-BFED-42F3-8D78-B9FD4BAD62E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far the SQL statements were visible to the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ynamic SQL we have an arbitrary string that represents a SQL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: compiles the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: executes the compiled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55C-BA72-4B6B-B870-B1559ACCC39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9159840" cy="49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someQuery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BEGIN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*command=“UPDATE Product SET quantity=quantity+1 WHERE name=“gizm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ND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PRE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yquery FROM :comma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EC SQL EXEC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yque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query  =  a SQL variable, does not need to be prefixed by “: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4D5-18F1-4FA8-AC72-FE2C9449B2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wo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by multiple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he “client-server” architecture: one server with many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8E0-1A8F-4246-95C3-A914DC69984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1880" y="152280"/>
            <a:ext cx="455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&lt; min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9400" y="4494240"/>
            <a:ext cx="5784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NO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price &lt;=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46360" y="2133720"/>
            <a:ext cx="59781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00 &lt; ALL (SELECT Product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FROM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WHERE Store.sid = Product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8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pic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17A-CA76-400D-A1C6-65BCB87AC0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sing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10400" y="2209680"/>
            <a:ext cx="38797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 – 1.9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 = ‘Gizmo’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ce = Price*0.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name=‘Gizm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06360" y="5642280"/>
            <a:ext cx="507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anagers attempt to do a discou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t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ED3-C9AF-4737-BC65-B8EC08DC230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users: multiple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31320" y="2057400"/>
            <a:ext cx="502704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unt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64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A57-68EF-40C0-B74F-C8F713CA2EC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tion against cr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0240" y="2286000"/>
            <a:ext cx="633168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allProduct(name, pri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 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 &lt;=0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640" y="6171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10040" y="4029120"/>
            <a:ext cx="1071000" cy="459720"/>
          </a:xfrm>
          <a:prstGeom prst="wedgeRectCallout">
            <a:avLst>
              <a:gd name="adj1" fmla="val -431615"/>
              <a:gd name="adj2" fmla="val 356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FF6-FB91-43CB-BE7D-44B55A6F54B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= group of statements that must be executed atom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properties: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ITY = all or n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CY = leave database in consist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ION = as if it were the only transaction in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ABILITY = store on disk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02E-0797-4DD2-837C-8F2D5E53C38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ad-hoc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: each statement = on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“embedded” SQ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QL statement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   or     ROLLBACK (=AB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756-E055-4804-8F5C-70E487779BF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: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ility = the technical term for i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ecution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completely before or completely after any other function’s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ecution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equivalent to one that is s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 can offer serializability guaran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522-491C-4061-8406-EDA3B0B3B1E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orced with locks, like in Operating System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is is not en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82280" y="3352680"/>
            <a:ext cx="149148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write A=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OCK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write B=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OCK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54080" y="4038480"/>
            <a:ext cx="14914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write A=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OCK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write B=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OCK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200400" y="403812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54100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6840" y="32418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10240" y="33177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624852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wro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10280" y="31240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70400" y="52992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B13-BFCF-4120-96F6-97E31860985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two-phase l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everything at the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ock everything at 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locks: many simultaneous read locks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locks: only one write lock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locks: one pe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B9E-FC3C-492F-A97C-EF2B1B66D07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ty rea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RANSACTION ISOLATION LEVEL READ UNCOM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 rea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RANSACTION ISOLATION LEVEL READ COM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able rea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RANSACTION ISOLATION LEVEL REPEATABLE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izable transactions (defaul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RANSACTION ISOLATION LEVEL SERIALIZ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3720" y="568008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ssignment: chapter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6E1-AC25-422C-92C6-985A81EA534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2200" y="2187720"/>
            <a:ext cx="39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e(sid, s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pname, price, 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040" y="331776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ore, find the Product ID of its most expensiv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837-1568-4295-B203-BB8BE37AD5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800" y="1981080"/>
            <a:ext cx="5274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, max(Product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Product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9080" y="3962520"/>
            <a:ext cx="5866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, x.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1120" y="1565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asy but doesn’t do what we w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2040" y="36990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4280" y="5527800"/>
            <a:ext cx="178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p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448-C017-4E1D-9D7D-2C67F4BF6D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8200" y="2743200"/>
            <a:ext cx="5866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, max(x.p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ore, Produ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re.sid = x.si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price &gt;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pr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sid = y.sid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3560" y="156528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, choose some pid arbitrarily, if there are m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ighest pr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7EE-A624-4183-BE1D-CD167EDC66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4600" y="1192320"/>
            <a:ext cx="573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 insert a tuple into a table that doesn’t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sn, name, department, project, 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7360" y="2362320"/>
            <a:ext cx="4357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,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= “Develop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3760" y="4114800"/>
            <a:ext cx="3308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velopers  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Joe”, “Optimize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47320" y="5257800"/>
            <a:ext cx="6929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(ssn, name, department, project, salary)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ULL, “Joe”, NULL, “Optimizer”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200" y="403848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mak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inser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9440" y="5334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59C-AF47-47F0-902B-4D0FC72323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Updatable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60640" y="2438280"/>
            <a:ext cx="58669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ity-Store 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.city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son.name = Purchase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8080" y="4800600"/>
            <a:ext cx="6694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can we add the following tuple to the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Seattle”,   “Nine Wes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n’t know the name of the person who made the purchas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set to NULL (why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1120" y="160020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3B8-2D34-411D-8F93-8DFFDA3C24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uw</cp:lastModifiedBy>
  <dcterms:modified xsi:type="dcterms:W3CDTF">2003-10-10T02:13:42Z</dcterms:modified>
  <cp:revision>268</cp:revision>
  <dc:subject/>
  <dc:title>PowerPoint Presentation</dc:title>
</cp:coreProperties>
</file>