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0AA-169B-49F2-B6A1-3C2D0DA9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4ED-6CDC-4842-ACD8-77F5088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C1B-59DE-4F6A-92FA-B701C8A1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FF2-CF0A-4601-9668-0E39E337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89C-FECD-42F6-8FBB-718AF20F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47B-E89E-4196-9E32-07D2B424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02C-3D80-426B-81D5-554DBD9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1C8-8480-4C66-9023-85B44DF7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958-83EA-4DDA-A42E-CFB54FB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253-C3F6-46C4-9DA2-D7A8AE1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D5A-66F2-4F88-911B-82A90AF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6F5-CF61-47DB-9EA0-3B7456D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C353-7015-4CE2-8DF4-05445C17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5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8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3F4-AE97-4F86-BAC7-33879AD1F7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8A0-0B14-4A0B-8452-202D2B70A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Defini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720" y="1523880"/>
            <a:ext cx="7584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se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ing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abl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ex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improv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C0F-E1EE-4E64-BA96-5A58A52DFE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, REAL plus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DATETIME (SQL Server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use domain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ddress  AS  VARCHAR(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553-89EE-40CE-A797-4C1A145B62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7760" y="2362320"/>
            <a:ext cx="644436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 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                        SHORT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                        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                    BIT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56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438-C352-4F61-8B42-951ED53F1F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 or Modify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200" y="1752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l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0440" y="3505320"/>
            <a:ext cx="454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hon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000" y="28954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ter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ding or removing an attribu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1280" y="579132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make changes to the sch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99480" y="41148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6640" y="2209680"/>
            <a:ext cx="2059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34480" y="2209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1560" y="21747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with care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ABE-C418-4D4F-9953-694B233AAC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9680" y="19461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ing default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01760" y="2590920"/>
            <a:ext cx="69606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VAR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-security-number  I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          SHORTINT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      VARCHAR(30)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‘Seattle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         CHAR(1)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‘?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date                       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09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of defaults:   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302-57CF-43C6-BFA8-1B2A291F52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676520"/>
            <a:ext cx="78487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speed up que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 (name, ag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scan of the file Person may take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1680" y="4114800"/>
            <a:ext cx="3478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 = “Smi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042-416C-42BF-BC2F-8C4B22C1EF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index on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s have fan-out of 100s: max 4 level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4800600"/>
          <a:ext cx="7162560" cy="58428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3200400" y="2743200"/>
            <a:ext cx="1982880" cy="1373040"/>
            <a:chOff x="3200400" y="2743200"/>
            <a:chExt cx="1982880" cy="1373040"/>
          </a:xfrm>
        </p:grpSpPr>
        <p:sp>
          <p:nvSpPr>
            <p:cNvPr id="106" name=""/>
            <p:cNvSpPr/>
            <p:nvPr/>
          </p:nvSpPr>
          <p:spPr>
            <a:xfrm>
              <a:off x="4267080" y="274320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9880" y="3124080"/>
              <a:ext cx="15408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8320" y="3124080"/>
              <a:ext cx="153720" cy="15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04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9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19720" y="35053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29200" y="35053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3962520"/>
              <a:ext cx="15372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3962520"/>
              <a:ext cx="154080" cy="15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39625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895480"/>
            <a:ext cx="228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6360" y="3200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1640" y="3276720"/>
            <a:ext cx="1522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657600"/>
            <a:ext cx="457200" cy="304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4114800"/>
            <a:ext cx="91440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DF5-B03B-4807-A47B-E483560D9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7720" y="3276720"/>
            <a:ext cx="618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44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04F-6702-4847-9915-ED8F03750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8120" y="2438280"/>
            <a:ext cx="53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useful in range queries t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s help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not create indexes on every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85160" y="3200400"/>
            <a:ext cx="578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Index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 (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8280" y="4267080"/>
            <a:ext cx="4255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&gt; 25 AND age &lt;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DED-3F3B-4F49-A9B6-C6BA5079BE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Relation Schema in SQL (6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Views (6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320-9F06-4A64-A530-1345C91A4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520" y="12952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can be created on more than one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440" y="3071880"/>
            <a:ext cx="6109920" cy="1008720"/>
            <a:chOff x="685440" y="3071880"/>
            <a:chExt cx="6109920" cy="1008720"/>
          </a:xfrm>
        </p:grpSpPr>
        <p:sp>
          <p:nvSpPr>
            <p:cNvPr id="134" name=""/>
            <p:cNvSpPr/>
            <p:nvPr/>
          </p:nvSpPr>
          <p:spPr>
            <a:xfrm>
              <a:off x="2514960" y="3071880"/>
              <a:ext cx="42804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 AND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440" y="3484440"/>
              <a:ext cx="110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elp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84720" y="5557680"/>
            <a:ext cx="4551840" cy="1008720"/>
            <a:chOff x="684720" y="5557680"/>
            <a:chExt cx="4551840" cy="1008720"/>
          </a:xfrm>
        </p:grpSpPr>
        <p:sp>
          <p:nvSpPr>
            <p:cNvPr id="137" name=""/>
            <p:cNvSpPr/>
            <p:nvPr/>
          </p:nvSpPr>
          <p:spPr>
            <a:xfrm>
              <a:off x="2518200" y="5557680"/>
              <a:ext cx="27183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ity = “Seatt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4720" y="586728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not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2135160"/>
            <a:ext cx="5779080" cy="703800"/>
            <a:chOff x="685800" y="2135160"/>
            <a:chExt cx="5779080" cy="703800"/>
          </a:xfrm>
        </p:grpSpPr>
        <p:sp>
          <p:nvSpPr>
            <p:cNvPr id="140" name=""/>
            <p:cNvSpPr/>
            <p:nvPr/>
          </p:nvSpPr>
          <p:spPr>
            <a:xfrm>
              <a:off x="2507760" y="2135160"/>
              <a:ext cx="39571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REATE INDE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ubleindex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Person (age, c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22939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84360" y="4314960"/>
            <a:ext cx="3864960" cy="1008720"/>
            <a:chOff x="684360" y="4314960"/>
            <a:chExt cx="3864960" cy="1008720"/>
          </a:xfrm>
        </p:grpSpPr>
        <p:sp>
          <p:nvSpPr>
            <p:cNvPr id="143" name=""/>
            <p:cNvSpPr/>
            <p:nvPr/>
          </p:nvSpPr>
          <p:spPr>
            <a:xfrm>
              <a:off x="2518200" y="4314960"/>
              <a:ext cx="203112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Person 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WHER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ge = 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4360" y="46753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even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B3D-8BAD-441D-9DD5-54CCAF0FCD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ex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given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of SQL queries plus how often the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dexes should we build to speed up the workloa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/WHER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vor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/UPDATE cl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courage a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election = normally done by people, recently done automatically (SQL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3E5-7F8C-4410-B131-3D8346FB9C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4600" y="1793880"/>
            <a:ext cx="777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s are relations, except that they are not physically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esenting different information to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has access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thers only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880" y="3962520"/>
            <a:ext cx="5182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120-3B18-4269-BBFF-1EA3D85E8E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6680" y="1143000"/>
            <a:ext cx="525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maker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new virtual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attle-view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6240" y="2666880"/>
            <a:ext cx="5933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attle-view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, seller, product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96E-F3C3-4B7B-8AAB-8ACD5A3B7D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6200" y="3200400"/>
            <a:ext cx="6849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eattle-view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attle-view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ater use the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4F0-BADE-49F9-B5AD-23662B9D4F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 We Query a Vie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6929280" cy="15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attle-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r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733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1600" y="4267080"/>
            <a:ext cx="6917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, 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city = “Seattle” 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erson.name = Purchase.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urc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duct = Product.name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category = “sho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688-5AF3-4C39-814B-19CB5A61E1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vie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only on-demand – slow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p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ata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uted offline – fast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sta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4E9-F3B7-4F7C-8F9B-BC4E300B8E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732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A90-EC0C-4AD2-B9A8-3A25A9406D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0640" y="2438280"/>
            <a:ext cx="58669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-Store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city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8080" y="4800600"/>
            <a:ext cx="669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Seattle”, 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name of the person who made the purchas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set to NULL (why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08E-7023-4B79-AF81-E9C72100EE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A6E-F7BF-459A-B75B-99FD21E8AB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E80-7689-4D56-B0CD-49B391DCAB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6800" y="3656160"/>
            <a:ext cx="1750680" cy="1172520"/>
          </a:xfrm>
          <a:prstGeom prst="wedgeEllipseCallout">
            <a:avLst>
              <a:gd name="adj1" fmla="val -123638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587-A484-4651-A3E6-C4F1312080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340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AA1-8D24-4A24-B3DF-EE708C56C2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019-4C89-433C-B1E0-04E67AC2D6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DAE-491E-4DBA-A241-28BE7152EE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008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495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B24-9415-4A19-869B-D025F160E7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ADF-4CBF-4489-9EFD-F81DB06264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728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6C0-B7C7-45F4-AAF4-B65695F4BC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03F-FAF6-4471-B068-6B15011B2A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94A-D2B1-4F3C-A68E-F49B4EF024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A85-6775-421A-9AA7-FC8EC85487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5F1-486C-4938-AFDB-456127E536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7332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22640" y="304920"/>
            <a:ext cx="4007520" cy="1692360"/>
          </a:xfrm>
          <a:prstGeom prst="wedgeEllipseCallout">
            <a:avLst>
              <a:gd name="adj1" fmla="val -39412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663-AE29-4013-91A0-1EC8FF0283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92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588-92EC-4391-B4DF-12768D29E6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7CB-6897-45A2-AA51-72529DB72A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058-5BB0-4017-AF81-5BC714390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F85-13E2-41E2-ACFF-02CE61E6B4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577-C47A-4934-9B7E-42672961A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AF3-C071-45C3-8B00-5F8EA1586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DB3-7682-414C-8D34-015BE9F51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3-10-08T01:50:20Z</dcterms:modified>
  <cp:revision>224</cp:revision>
  <dc:subject/>
  <dc:title>PowerPoint Presentation</dc:title>
</cp:coreProperties>
</file>