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28C-2BA2-46C3-973D-8BB8B47E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4F4-1BFE-4100-ACBF-7B7B4B5F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2E0-A755-4523-B40D-9AD19B59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4BB-C6BB-432D-8708-E96B1643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EFD-D8C9-4B71-8BAB-E062973D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9F0-14CF-4698-98AB-2578DD2A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4C1-C64D-4CDB-9C9C-4A17A130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80F-34BF-460B-868C-A59FBE3F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3DC-F626-4481-A4B9-99CB4A90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BE7-8B0B-4AAD-BED3-30F6A36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3E8-D5C9-47D9-A2AF-4ED6B7EC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787-6B17-4AD0-8D0C-D7B12D6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0C25-0E58-4EB3-A16A-FFDFD4397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4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F8F-614D-4D72-A6B7-A34ABF60F8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420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E12-7263-4E6F-A330-CEE3D3B87E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77A-6E18-4EAF-AC67-4C00CF4C47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176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419-F628-42AE-93C1-848E2E069F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12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672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40F-91E9-4820-B317-BF291C4AE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652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748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0C3-3171-4E78-8089-21A9062956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548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957-A50D-4956-8C0C-7D43FBAB00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some of group-by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9760" y="5029200"/>
            <a:ext cx="1399680" cy="652680"/>
          </a:xfrm>
          <a:prstGeom prst="wedgeEllipseCallout">
            <a:avLst>
              <a:gd name="adj1" fmla="val -102425"/>
              <a:gd name="adj2" fmla="val -2392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869-77EC-413D-B944-991D9DCBC8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DD2-9594-43B0-8C8E-9430302652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Queries with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s, and their auth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92E-2BBF-4A0A-AD46-6D48A676DF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name) Wrote(login,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252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9680" y="2666880"/>
            <a:ext cx="2411280" cy="1692360"/>
          </a:xfrm>
          <a:prstGeom prst="wedgeEllipseCallout">
            <a:avLst>
              <a:gd name="adj1" fmla="val -97944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writ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CD1-9368-482E-8BD8-8B06732485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around INTERSECT and EX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s (6.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er joins (6.3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odifications (6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4B1-39A2-4CBA-ADC6-08EE19949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096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2920" y="3733920"/>
            <a:ext cx="1859400" cy="1692360"/>
          </a:xfrm>
          <a:prstGeom prst="wedgeEllipseCallout">
            <a:avLst>
              <a:gd name="adj1" fmla="val -93222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9748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16D-316A-4AB1-8A51-62DA2A5303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56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652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311-4B1B-4704-A341-7260A7A16A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we don’t have a value, we can put 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n many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does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exists but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not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 specifies for each attribute if can be nul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)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QL cope with tables that have NUL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B89-04E1-4BA9-9318-EE8B750F15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4*(3-x)/7 is still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= NULL then x=“Joe”   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 there are three boolean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             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674-2034-4C64-8BEC-D831E772CA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AND C2   =  min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  OR    C2  =  max(C1, C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1         =  1 –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 SQL: include only tuples that yield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2560" y="3581280"/>
            <a:ext cx="582588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age &lt; 25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ight &gt; 6 OR weight &gt; 1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520" y="373392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=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th=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C85-F0B7-454A-8F64-509B2C0FE4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behav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rsons are not included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1520" y="3048120"/>
            <a:ext cx="58543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e &lt; 25  OR  age &gt;=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97C-B3D8-4ABA-8967-19F2A740D5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est for NULL explici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it includes all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240" y="3505320"/>
            <a:ext cx="771408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ge &lt; 25  OR  age &gt;= 25 OR ag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59E-1ACB-4D3E-9535-A17B55552A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joins in SQ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Products that never sold will be lost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55520" y="2971800"/>
            <a:ext cx="584388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0960" y="4800600"/>
            <a:ext cx="5020920" cy="10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,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roduct.name = Purchase.pro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E08-5F6A-41ED-9855-14C13B360D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outer joins in SQ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5520" y="3809880"/>
            <a:ext cx="677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.name, Purchase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.name = Purchase.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BAB-8370-4DC9-8C4B-E1AA306E93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457200" y="1828800"/>
          <a:ext cx="3048120" cy="2031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50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29200" y="1828800"/>
          <a:ext cx="3047760" cy="20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971800" y="4038480"/>
          <a:ext cx="3047760" cy="2539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57920" y="1295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920" y="1295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BCC-9915-4CAF-9A74-3DFC9012F7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 and EXCEP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 SQL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360" y="228600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2120" y="228600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680" y="4495680"/>
            <a:ext cx="2210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A, S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080" y="4495680"/>
            <a:ext cx="4883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, R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A=S.A and R.B=S.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5520" y="1143000"/>
            <a:ext cx="2540880" cy="1862280"/>
          </a:xfrm>
          <a:prstGeom prst="wedgeEllipseCallout">
            <a:avLst>
              <a:gd name="adj1" fmla="val -57675"/>
              <a:gd name="adj2" fmla="val 4325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, S have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plicates, then c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OW 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BB1-4DEC-4E25-82C5-C9291DA964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lef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right tuple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both left and right tuples even if there’s no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5D9-BB00-45D2-8959-5813C793B5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y are all called “upd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B27-7013-4317-AD54-5639C404FA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9800" y="175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39640" y="5715000"/>
            <a:ext cx="59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attrib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rop attribute names if give them in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01160" y="2438280"/>
            <a:ext cx="7270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(A1,…., An)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v1,…., 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9680" y="4114800"/>
            <a:ext cx="872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(buyer, seller, product,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‘Joe’, ‘Fred’, ‘wakeup-clock-espresso-machine’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‘The Sharper Imag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1040" y="358128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nsert a new purchase to the data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AAD-9767-407E-94A4-E98BD7F02B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8240" y="2133720"/>
            <a:ext cx="5479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.date &gt; “10/26/0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25780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ery replaces the VALUES key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into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DE7-7D9A-4719-A296-5841D7B44B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66688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eign key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database got corrupted and we need to fix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4572000"/>
          <a:ext cx="3504960" cy="11937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00600" y="4343400"/>
          <a:ext cx="3276720" cy="172728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uye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679320" y="6172200"/>
            <a:ext cx="66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: insert 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4240" y="4114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0400" y="1752480"/>
            <a:ext cx="51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istPrice,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Name, buyerName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132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305-67AC-4957-B715-24F79B1A6B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2960" y="182880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76520" y="4419720"/>
          <a:ext cx="3504960" cy="179064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672-94D9-468F-AA7C-14579E4BF7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1981080"/>
            <a:ext cx="8281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ERT  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(name, list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Name,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4191120"/>
          <a:ext cx="3504960" cy="23875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st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 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719960" y="601992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2667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EE4-3296-46DE-8CF6-BB700F397D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12560" y="2514600"/>
            <a:ext cx="5072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 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eller = ‘Joe’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= ‘Brooklyn Bridg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07560" y="4572000"/>
            <a:ext cx="7622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id about SQL:  there is no way to delete only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nce of a tuple that appears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080" y="1676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632-1320-4EE4-BA4C-D1EB8D2485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5200" y="2438280"/>
            <a:ext cx="596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ice = price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.name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 =‘Oct, 25, 1999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5560" y="1717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FF3-3F71-46AB-9FD7-3743B57163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884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A8F-3AB4-46C8-8F42-4F762A0F84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45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5840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7EA-BF2F-4C09-9F8B-025BD7BC4B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560" y="1946160"/>
            <a:ext cx="700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9600" y="2917800"/>
            <a:ext cx="3449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7360" y="4495680"/>
            <a:ext cx="4912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520" y="28954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9AE-D0CD-41A0-9F97-CB5F741021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7240" y="1946160"/>
            <a:ext cx="629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2040" y="3282840"/>
            <a:ext cx="4129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6080" y="4648320"/>
            <a:ext cx="4129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432-3232-4884-A46D-50B2E3E66C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6B1-FB06-4212-9F38-EE0B6E0185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72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772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832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96D-93D6-47D0-A948-F3253798CB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3-10-06T03:26:19Z</dcterms:modified>
  <cp:revision>188</cp:revision>
  <dc:subject/>
  <dc:title>PowerPoint Presentation</dc:title>
</cp:coreProperties>
</file>