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B7E-701B-4A79-A425-949F197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633-58A2-4329-A70A-7AF0874D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D33-F35D-4812-9749-51312E39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4B3-476D-46B2-8634-A2530747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459-DBA7-4D28-AF0D-A0CEDAB5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2F1-DD61-4D05-9BD3-AE8FF12E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C56-160F-463D-909E-B8F7056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8EB-728D-49AC-B0BF-5E929A6C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000-0B89-4258-A423-469F3F6A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E5F-D0A6-4F17-84EB-8D43E51E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94E-1C14-4797-B21E-14379EB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18C-3760-4A6E-B9F5-A0E5177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F955-F16D-497D-B7C1-4A2F1495E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3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3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F01-4ABD-4B54-B0BE-135D2F8B71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Unintuitive SQ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8680" y="1793880"/>
            <a:ext cx="465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, S,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.A=S.A    OR   R.A=T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    (S 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happens if T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14600" y="3733920"/>
                <a:ext cx="3808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00400" y="3733920"/>
                <a:ext cx="387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931-F8D9-4691-B656-56B4B6EFC9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352680" y="1981080"/>
          <a:ext cx="5410080" cy="167508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nufactu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t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a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32200" y="3809880"/>
            <a:ext cx="654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nam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ic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kPr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4480" y="1981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4038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876920" y="5181480"/>
          <a:ext cx="2705040" cy="10047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k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To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697680" y="5319000"/>
            <a:ext cx="2207160" cy="11667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FF7-00E1-45C6-BED3-91F6CD03C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920" y="1717560"/>
            <a:ext cx="610488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20" y="583236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you can us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have the same attribute names (otherwise: rena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5DA-76F9-428B-86BF-B2BBC944CC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8880" y="2209680"/>
            <a:ext cx="610452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City=“Seatt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=name AND store=“The B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426-FC7E-4C03-B552-7E59C984C7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query producing a singl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subquery returns on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returns more, it’s a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run-time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24360" y="2514600"/>
            <a:ext cx="5417280" cy="20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sn = ‘123456789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EEA-30DB-4CE2-8A90-947B07BA82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ay the same thing without a sub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quivalent to the previous one when the ssn is a k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‘123456789’ exists in the databas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they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9800" y="2666880"/>
            <a:ext cx="619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, Pers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yer = name AND ssn = ‘123456789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127-303F-4E76-AFCB-1950AAC0CC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7640" y="2590920"/>
            <a:ext cx="72050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 .buyer = ‘Joe Blow‘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840" y="20224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that manufacture products bought by Joe B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2320" y="571500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subquery returns a set of values: no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526-4E77-4F8A-81FC-BB07A0D9ED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7480" y="25909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5520" y="2022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5029200"/>
            <a:ext cx="56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Is this query equivalent to the previou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eware of duplicat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D9F-9B75-4CED-9546-262EB7E31D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9400" y="4648320"/>
            <a:ext cx="6256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,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=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urchase.buyer = ‘Joe Blo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9760" y="1600200"/>
            <a:ext cx="70434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an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Company,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mpany.name= Product.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Product.name 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rchase.buyer = ‘Joe Blow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4120" y="480060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629-2E2D-49B9-8F23-B1566F7EA6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queries Return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4280" y="4572000"/>
            <a:ext cx="7452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 &gt;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‘Gizmo-Work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048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that are more expensive than all thos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“Gizmo-Wor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1680" y="19051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use:   s &gt; ALL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&gt; AN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D99-BD1C-461C-8445-ADF1D2175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connect to IISQLSR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we had network problems all week: if you can’t connect, r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 freely with the database, writing SELECT-FROM-WHERE que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you start work on updates (INSERT, DELETE, ALTER), be prepared to have to re-load the database from the files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0F6-BC73-4AA6-894F-B0CD42E8B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for Database F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xpress this query as a single SELECT-FROM-WHERE query, without subquer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  show that all SFW queries are 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monot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igure out what this means).  A query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47D-CC1F-4DCC-8471-6DD38BB60A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276720"/>
            <a:ext cx="5548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ovie A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 &lt;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tle =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it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3000" y="182880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ie 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itle,  ye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director,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ovies whose title appears more than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9720" y="58672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(1) scope of variables (2) this can still be expressed as single S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2438280"/>
            <a:ext cx="1523880" cy="762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495680" y="28954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866920" y="320040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53C-AB70-4B1D-A3DB-45333234D6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Correlated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ategory, mak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roducts (and their manufacturers) that are more expensive than all products made by the same manufacturer before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Powerful, but much harder to optimiz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8360" y="3505320"/>
            <a:ext cx="795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name,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roduct 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 &g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Product A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.maker = y.maker AND y.year &lt; 197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F8C-97EC-4F76-A194-7DC30C5A4F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080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7840" y="3276720"/>
            <a:ext cx="78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" y="4191120"/>
            <a:ext cx="7448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,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= Product.company and Produc.price &lt;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4320" y="588492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xistential: easy  !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550-57A8-47DC-A775-E0A576F4DC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0800" y="205740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pname,  price, comp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 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2040" y="3352680"/>
            <a:ext cx="75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960" y="41911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Universal: hard !  </a:t>
            </a:r>
            <a:r>
              <a:rPr b="0" lang="en-US" sz="32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3EF-9993-4AD3-93BD-7318EEE1E0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ential/Univers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8880" y="434340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all companies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products have price &l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4320" y="182880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: i.e. s.t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2480" y="2438280"/>
            <a:ext cx="6510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4952880"/>
            <a:ext cx="7086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ompany.cnam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.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.price &gt;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6D5-FA3F-4E09-B460-66BA353EEB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2920" y="2362320"/>
            <a:ext cx="3562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vg(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ker=“Toyo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8840" y="4191120"/>
            <a:ext cx="57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upports several aggregation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MIN, MAX, AVG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D00-0C96-4E76-A4AA-045B561854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4560" y="2438280"/>
            <a:ext cx="29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58400" y="533412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COUNT, all aggregations apply to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B29-5E66-4A72-990B-051D63E44C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: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1560" y="1946160"/>
            <a:ext cx="700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  applies to duplicates, unless otherwise st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category)          same as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ear &gt;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96E-0E2F-4D42-8E3A-09A885C55C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240" y="1946160"/>
            <a:ext cx="629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find total sales for the entir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’:  find total sales of ba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 = ‘bag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F22-FB8A-4E45-8B82-CEE0377A26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: 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your domain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Schema, populate the database, send us the sche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th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October 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create a Webpage: due October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orking on the Webp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Tessa on Tuesday, 10/7, in CSE002, 12:30-1:30, for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1F9-45DD-4D00-8124-FE81A31D3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ggre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021040"/>
          <a:ext cx="76104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610400" cy="38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4290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19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E45-890A-4230-AC96-BB08850582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720" y="1641600"/>
            <a:ext cx="77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e want aggregations on certain parts of th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(product, date, price,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find total sales after 9/1 pe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" y="388620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8320" y="59850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mea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08A-D9F6-4285-A0EE-8508F9A7DF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200" y="2209680"/>
            <a:ext cx="74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mput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Group by the attribut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lect one tuple for every group (and apply aggre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(1) grouped attributes or (2)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69E-756A-432D-ADAC-9494763A38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compute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OM-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 (date &gt; “9/1”) 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du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84320"/>
          <a:ext cx="76104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4320"/>
                    <a:ext cx="7610400" cy="385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1148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19810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3352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8769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1A4-5050-44B4-A4D8-93886064CC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, aggre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1752480"/>
          <a:ext cx="532908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5329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5120" y="1627200"/>
            <a:ext cx="4572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5120" y="2313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5120" y="3227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92520" y="1627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1760" y="4648320"/>
            <a:ext cx="7273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AS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1D6-C92C-43D5-86C4-2C40A3BDD8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 v.s. Nested Quer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120" y="1523880"/>
            <a:ext cx="727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duct, Sum(price*quantity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720" y="3886200"/>
            <a:ext cx="8505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product,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y.price*y.quant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AND y.date &gt; ‘9/1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.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CD3-8F92-4352-8E16-3C102A4F62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6520" y="4940280"/>
            <a:ext cx="734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 AS Sum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quantity) AS Max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7480" y="449568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roduct, what is the total sales and max quantity s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1300320"/>
          <a:ext cx="6667560" cy="33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0320"/>
                    <a:ext cx="66675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09480" y="1295280"/>
            <a:ext cx="6629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46A-9C88-43B8-ABA5-A57F705413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5480" y="3352680"/>
            <a:ext cx="55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duct, Sum(price * quant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date &gt; “9/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um(quantity)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560" y="160020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query, except that we consider only products tha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100 bu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8120" y="560376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clause contains conditions on aggreg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729-5022-4C2F-8A7E-B13774FA1C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may contain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/or any aggregates but NO OTH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 = is any condition on the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 = is any condition on aggregate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80640" y="3276720"/>
            <a:ext cx="1399680" cy="652680"/>
          </a:xfrm>
          <a:prstGeom prst="wedgeEllipseCallout">
            <a:avLst>
              <a:gd name="adj1" fmla="val -26962"/>
              <a:gd name="adj2" fmla="val 17293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190-F5EE-402B-B1A8-183F84AC78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orm of Grouping and 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FROM-WHERE part, obtain a table with all attributes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the attribute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aggregates in C2 and keep only groups satisfying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aggregates in S and return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57E-E973-45CA-B763-74BEFAEFBD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, intersections, differen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6.2.5, 6.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queries 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s (6.4.3 – 6.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3440" y="47242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 for reading the textbook: read the entire chapter 6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4280" y="5527800"/>
            <a:ext cx="77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ssignment from “SQL for Nerds”: chapter 4, “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ies”  (you will find it very useful for sub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0B7-4C19-4151-A522-2A5A254B0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uthor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cument(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it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rote(login,u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tions(url,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6ED-FBB0-4BAB-9B3C-7ECE6195E8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1: with 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2520" y="4038480"/>
            <a:ext cx="7163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.ur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login=Wrote.logi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55280" y="2666880"/>
            <a:ext cx="1713960" cy="1692360"/>
          </a:xfrm>
          <a:prstGeom prst="wedgeEllipseCallout">
            <a:avLst>
              <a:gd name="adj1" fmla="val -96763"/>
              <a:gd name="adj2" fmla="val 333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D03-0C00-427D-8EE2-9140CA8308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wrote at least 10 docu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2: SQL style (with GROUP 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30960" y="3962520"/>
            <a:ext cx="5004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, Wr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login=Wrote.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wrote.url)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2920" y="3733920"/>
            <a:ext cx="1859400" cy="1692360"/>
          </a:xfrm>
          <a:prstGeom prst="wedgeEllipseCallout">
            <a:avLst>
              <a:gd name="adj1" fmla="val -93222"/>
              <a:gd name="adj2" fmla="val -3424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97480" y="613728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utomatically fro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573-0DE3-41E1-AA1F-D7929311D4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authors who have a vocabulary over 10000 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60" y="3352680"/>
            <a:ext cx="8736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Author, Wrote, M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uthor.login=Wrote.login AND Wrote.url=Mentions.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uthor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(distinct Mentions.word) &gt; 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6520" y="5562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carefully at the last two queries: you m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empted to write them as a nested queri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SQL we write them best with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0EF-0EE8-4BA6-8203-913AAC17844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mbiguating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wo relations have the same attr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son(pname, address, worksfor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any(c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5240" y="3505320"/>
            <a:ext cx="4870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name, 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for = 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200" y="5486400"/>
            <a:ext cx="703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.pname, Company.addres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erson, Compan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worksfor = Company.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05160" y="3046320"/>
            <a:ext cx="1859400" cy="1172520"/>
          </a:xfrm>
          <a:prstGeom prst="wedgeEllipseCallout">
            <a:avLst>
              <a:gd name="adj1" fmla="val -78587"/>
              <a:gd name="adj2" fmla="val 10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BC3-5592-4236-A60D-0EFB9CEDCF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720" y="3962520"/>
            <a:ext cx="7351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DISTIN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urchase AS x, Purchase 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.product = y.product AND y.store = ‘BestBu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1880" y="2895480"/>
            <a:ext cx="71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stores that sold at least one product that was so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‘BestBuy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1480" y="205740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chase (buyer,  seller,  store,  prod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211-FB9A-44EA-8D1E-690FABCB2D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066680"/>
            <a:ext cx="7130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ru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variables introduced automatically by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( name, 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 when Product occurs more than o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 the user needs to define variables explici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5600" y="2666880"/>
            <a:ext cx="288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73720" y="4343400"/>
            <a:ext cx="3864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A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B17-777C-4B5F-B874-74B0AFD2C5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ested lo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3120" y="3809880"/>
            <a:ext cx="787392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F84-D1F8-4C93-9BD9-D41E64521F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of SQ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, a2, …, 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AS x1, R2 AS x2, …, Rn AS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alle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impose any ord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0960" y="3886200"/>
            <a:ext cx="795312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ssignments x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, …, x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 = Answ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(a1,…,a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46F-0CAA-4446-89A9-B9BCCA40D4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uciu</dc:creator>
  <dc:description/>
  <dc:language>en-US</dc:language>
  <cp:lastModifiedBy>uw</cp:lastModifiedBy>
  <dcterms:modified xsi:type="dcterms:W3CDTF">2003-10-03T02:02:52Z</dcterms:modified>
  <cp:revision>267</cp:revision>
  <dc:subject/>
  <dc:title>PowerPoint Presentation</dc:title>
</cp:coreProperties>
</file>