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2F0-6B36-492C-BA31-09C06DE8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DB4-76F3-4ECF-83AC-BA7488BF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A45-0F45-4BCC-8838-F84BEB37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347-5660-4A02-A4E1-C863E160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8BC-87F8-46DC-A2D9-4EF66435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07A-4834-41D5-8575-702889F6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8D6-FABE-4275-AF7D-FB67447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D9-0D31-4E8B-A56A-5BF3B8A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131-89BE-4FC3-966C-CF85A30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CBC-87A2-4700-B0CA-7750E5A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589-616C-4529-AA18-96233E9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C59-4974-4C13-AB4F-92D5513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0BBD-3453-4BFD-BA52-C19FE939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2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CDB-08EE-4205-9FE8-1633A2ABB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" y="2666880"/>
            <a:ext cx="686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orm: (plus many many more bells and whis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640" y="3957480"/>
            <a:ext cx="5863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elations (possibly multiple, jo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 (sel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468-06BF-4158-9EAB-EEFDE48726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1840" y="3809880"/>
            <a:ext cx="3919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5257800"/>
          <a:ext cx="541008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1080" y="5852160"/>
            <a:ext cx="2175120" cy="6498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836-40FA-40E6-9551-9CB16E2CE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QL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30760" y="3809880"/>
            <a:ext cx="50180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4800" y="5257800"/>
          <a:ext cx="405756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45600" y="5319000"/>
            <a:ext cx="290628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”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0BD-5526-4B28-8D29-DBF2D837B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otation for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0760" y="3809880"/>
            <a:ext cx="484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Name, Price, Manufactur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1720" y="3200400"/>
            <a:ext cx="49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1120" y="52578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swer(PName, Price, Man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09280" y="1752480"/>
            <a:ext cx="2653560" cy="652680"/>
          </a:xfrm>
          <a:prstGeom prst="wedgeEllipseCallout">
            <a:avLst>
              <a:gd name="adj1" fmla="val -37930"/>
              <a:gd name="adj2" fmla="val 1689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2120" y="6019920"/>
            <a:ext cx="2941560" cy="652680"/>
          </a:xfrm>
          <a:prstGeom prst="wedgeEllipseCallout">
            <a:avLst>
              <a:gd name="adj1" fmla="val 20041"/>
              <a:gd name="adj2" fmla="val -10347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4E9-4DAA-4392-95B9-4EFAE85C3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es i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y, x &lt; y, x &lt;= y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umber, they have the usu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R and VARCHAR: 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conversion between CHAR and VAR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ates and times, what you expe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 matching on strings: s LIKE p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5C3-3765-4E6A-AFE8-EF0BC3320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:  pattern matching on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may contain two special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 = any sequence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= any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roducts whose name mentions ‘gizmo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029200"/>
            <a:ext cx="4022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*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Product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%gizmo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229-7068-4A94-AE3E-5371EEC03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2133720"/>
            <a:ext cx="403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2760" y="4876920"/>
            <a:ext cx="25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324480" y="4343400"/>
          <a:ext cx="1352520" cy="167472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8AA-3546-4186-9A0E-7FCC07296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2133720"/>
            <a:ext cx="5734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,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=‘gizmo’ AND price 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160" y="407988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is ascending, unless you specify the DESC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 are broken by the second attribute on the ORDER BY li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E7E-E140-45DA-A9DF-734B2E38A1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0400" y="2133720"/>
            <a:ext cx="275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0384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0958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3840" y="41911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0A5-2624-4DB3-9C1B-2009438183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ing th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880" y="213372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160" y="3733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248520" y="1905120"/>
          <a:ext cx="1352520" cy="13395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181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7880" y="4572000"/>
            <a:ext cx="403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3120" y="44956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868-439E-4505-9FEA-50727F8E52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Queries in SQL (6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with more than one relation (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3, “Simple Queries”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08A-6102-4D43-A459-95DD769B9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wo or mor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2590920"/>
          <a:ext cx="6553080" cy="182556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49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8480" y="4724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0400" y="4724280"/>
          <a:ext cx="5410080" cy="1930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45600" y="5158080"/>
            <a:ext cx="24469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D95-9193-4C16-BEB1-7838E96CE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under $200 manufactured in Japa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ir names and pr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5880" y="4191120"/>
            <a:ext cx="713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200400"/>
            <a:ext cx="6394680" cy="2209680"/>
            <a:chOff x="2438280" y="3200400"/>
            <a:chExt cx="6394680" cy="2209680"/>
          </a:xfrm>
        </p:grpSpPr>
        <p:sp>
          <p:nvSpPr>
            <p:cNvPr id="129" name=""/>
            <p:cNvSpPr/>
            <p:nvPr/>
          </p:nvSpPr>
          <p:spPr>
            <a:xfrm>
              <a:off x="2438280" y="4876920"/>
              <a:ext cx="2743200" cy="533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4320" y="3200400"/>
              <a:ext cx="3158640" cy="1692360"/>
            </a:xfrm>
            <a:prstGeom prst="wedgeEllipseCallout">
              <a:avLst>
                <a:gd name="adj1" fmla="val -76949"/>
                <a:gd name="adj2" fmla="val 5506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i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ween Produc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2EA-52AD-4D26-ABC5-CCF78236A7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3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40" name=""/>
          <p:cNvGraphicFramePr/>
          <p:nvPr/>
        </p:nvGraphicFramePr>
        <p:xfrm>
          <a:off x="5943600" y="5638680"/>
          <a:ext cx="1904760" cy="546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19320" y="2362320"/>
            <a:ext cx="7619760" cy="1066680"/>
            <a:chOff x="1219320" y="2362320"/>
            <a:chExt cx="7619760" cy="1066680"/>
          </a:xfrm>
        </p:grpSpPr>
        <p:sp>
          <p:nvSpPr>
            <p:cNvPr id="143" name=""/>
            <p:cNvSpPr/>
            <p:nvPr/>
          </p:nvSpPr>
          <p:spPr>
            <a:xfrm>
              <a:off x="7772400" y="2666880"/>
              <a:ext cx="1066680" cy="7621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2362320"/>
              <a:ext cx="83808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134400">
              <a:off x="3346200" y="2746080"/>
              <a:ext cx="297180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17160" y="4330800"/>
            <a:ext cx="480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PName, Price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ountry=‘Japan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AND Price &lt;=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EF1-635F-4EE2-B92A-E71B62E6D1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tock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untries that manufacture some product in the ‘Gadgets’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0240" y="4191120"/>
            <a:ext cx="756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2EF-7008-437E-A6AE-4E396F0096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280" y="2133720"/>
          <a:ext cx="4114800" cy="1365120"/>
        </p:xfrm>
        <a:graphic>
          <a:graphicData uri="http://schemas.openxmlformats.org/drawingml/2006/table">
            <a:tbl>
              <a:tblPr/>
              <a:tblGrid>
                <a:gridCol w="1047600"/>
                <a:gridCol w="857160"/>
                <a:gridCol w="1067040"/>
                <a:gridCol w="1143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54080" y="17524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1360" y="1828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105520" y="2209680"/>
          <a:ext cx="3809880" cy="109224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ck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56" name=""/>
          <p:cNvCxnSpPr/>
          <p:nvPr/>
        </p:nvCxnSpPr>
        <p:spPr>
          <a:xfrm>
            <a:off x="4266720" y="2543040"/>
            <a:ext cx="83916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V="1">
            <a:off x="4266720" y="2892240"/>
            <a:ext cx="839160" cy="197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4266720" y="3315960"/>
            <a:ext cx="83916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4266720" y="2618640"/>
            <a:ext cx="83916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2209680" y="2438280"/>
            <a:ext cx="76212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4038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553080" y="5181480"/>
          <a:ext cx="1270080" cy="1092240"/>
        </p:xfrm>
        <a:graphic>
          <a:graphicData uri="http://schemas.openxmlformats.org/drawingml/2006/table">
            <a:tbl>
              <a:tblPr/>
              <a:tblGrid>
                <a:gridCol w="1270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51080" y="5158080"/>
            <a:ext cx="2238120" cy="15966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’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800" y="3962520"/>
            <a:ext cx="50878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Countr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Product, Company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er=CName AND Category=‘Gadget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47B-6824-4F4B-8E67-4CB0F58898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752480"/>
            <a:ext cx="7191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rs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names of people living in Seattle that bought some  product in the ‘Gadgets’ category, and the names of the stores they bought such produc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23640" y="4952880"/>
            <a:ext cx="714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name, stor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,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name=buyer AND product = pnam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city=‘Seattle’  AND category=‘Gadge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5A0-7C3C-468F-96EA-FC1B59A51A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E05-AA14-46B6-8FD9-BA9F4FA403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9720" y="289548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the st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BestBuy’ also s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44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 (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280" y="16002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persname, phone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27A-AF30-4AFD-B548-62A10208A3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A8F-EAD4-4A3D-8715-3874401DA7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135-5F48-4300-93AF-B741A34B58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760" y="171756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language for querying and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ctured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ry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240" y="3241800"/>
            <a:ext cx="555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andards out t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2 (a.k.a. SQ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99 (a.k.a. SQL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support various subse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discuss is common to all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4C5-941C-4B00-94D1-924BD1C14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79A-014C-4FD0-AC34-461F4B3797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2DD-1289-4F19-AF2E-00F336D97E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640" y="187020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stock price,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 per-name, phone number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telephony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uy French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names of people who bought American products and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in Seat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x #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eople who bought stuff from Joe or bough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ompany whose stock prices is more than $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B1E-9ABE-470E-92DF-A07058EBE3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alter/delete tables and their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lectu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e or more tables – discussed nex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tuples i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package a sequence of SQL statem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BDA-380D-4D87-B811-EC496FCC9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ypes, a.k.a.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 built from atom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F00-EBC6-4F14-9A77-0A643EC6D2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fix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CHAR(4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variab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INT, INT, SMALLINT, TINY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, FLO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iffer in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and d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  All are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20-9C99-4CDA-9BD7-6A0B7D0E9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209680"/>
          <a:ext cx="7696080" cy="355572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200" y="1676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1480" y="304920"/>
            <a:ext cx="3041280" cy="652680"/>
          </a:xfrm>
          <a:prstGeom prst="wedgeEllipseCallout">
            <a:avLst>
              <a:gd name="adj1" fmla="val 537"/>
              <a:gd name="adj2" fmla="val 2791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520" y="228600"/>
            <a:ext cx="2292120" cy="652680"/>
          </a:xfrm>
          <a:prstGeom prst="wedgeEllipseCallout">
            <a:avLst>
              <a:gd name="adj1" fmla="val -22347"/>
              <a:gd name="adj2" fmla="val 19839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6095880"/>
            <a:ext cx="2856960" cy="652680"/>
          </a:xfrm>
          <a:prstGeom prst="wedgeEllipseCallout">
            <a:avLst>
              <a:gd name="adj1" fmla="val -1861"/>
              <a:gd name="adj2" fmla="val -11681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o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5BD-0509-43EE-AF22-69E051269B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ple = a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: all attributes are of atomi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= a set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 l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unorderd: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sted tables, only flat tables are allowe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later how to decompose complex structures into multiple fla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839-279A-405B-8493-DF15E237E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ble is the table name and its 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PName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ibute whose values are uniqu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nderlin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Na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Price, Category, Manfactur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8A3-4B07-4B70-A406-54E8F48C7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01T03:01:09Z</dcterms:modified>
  <cp:revision>180</cp:revision>
  <dc:subject/>
  <dc:title>PowerPoint Presentation</dc:title>
</cp:coreProperties>
</file>