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1F0-79B5-4FE4-84DF-0CB39AEB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0029-244A-47CB-905D-676CC12E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1E04-A46D-4335-A18E-5DF2A172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9C73-BE03-42F3-9028-A4DE32AB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2B5-9A21-482C-975D-4EE2FAD6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2356-7DB5-446F-B58B-F9E9B95D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9F2-5E6A-453E-BDD1-BB5E980C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8796-18F2-4E24-BB60-AF3C2142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225-CA98-4079-839D-F99DF03E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8E1F-9F6C-4A60-AF77-CBDAFDDE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259B-586E-4096-933A-EBAB73F8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526C-2F9C-4D26-A8EB-2B39F8E8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86DC-09DF-4C14-81F0-54F232203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washington.edu/444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hilip.greenspun.com/sql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base Syst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E 4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733920"/>
            <a:ext cx="72392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29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BBD4-F699-455E-BE32-BEE872A1C6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a Traditional Database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723924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are building a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tore the information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takes what, who teaches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1DC-3DEB-4A0C-AF6F-1E8712677F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do it without a DBM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e we can!  Start by storing the data in fi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.txt      courses.txt          professors.t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write C or Java programs to implement specific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809880"/>
            <a:ext cx="1447920" cy="106704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3809880"/>
            <a:ext cx="1447920" cy="106704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3809880"/>
            <a:ext cx="1447920" cy="106704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EAF-4B65-4DB5-95B9-E9F1C08A77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ing it without a DBM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“Mary Johnson” in “CSE444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22920" y="3124080"/>
            <a:ext cx="6464520" cy="3398040"/>
          </a:xfrm>
          <a:prstGeom prst="foldedCorner">
            <a:avLst>
              <a:gd name="adj" fmla="val 1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‘students.tx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‘courses.tx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&amp;update the record “Mary Johns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&amp;update the record “CSE444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“students.tx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“courses.tx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6840" y="2631960"/>
            <a:ext cx="49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C program to do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74D-AB8B-481E-A016-8AACB44151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out an DBM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cras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robl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data sets (say 50G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 this a probl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taneous access by many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 students.txt – what is the probl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2057400"/>
            <a:ext cx="3566880" cy="1318320"/>
          </a:xfrm>
          <a:prstGeom prst="foldedCorner">
            <a:avLst>
              <a:gd name="adj" fmla="val 1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‘students.tx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‘courses.tx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&amp;update the record “Mary Johns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&amp;update the record “CSE44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“students.tx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“courses.tx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96640" y="2209680"/>
            <a:ext cx="1949760" cy="652680"/>
          </a:xfrm>
          <a:prstGeom prst="wedgeEllipseCallout">
            <a:avLst>
              <a:gd name="adj1" fmla="val -122064"/>
              <a:gd name="adj2" fmla="val 6146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3A2-6C7D-4AF6-A3FF-9BA1EBF01B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09480" y="2438280"/>
            <a:ext cx="2895840" cy="2971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ers a DM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1144440" cy="2286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8080" y="26668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358128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4572000"/>
            <a:ext cx="838440" cy="685800"/>
          </a:xfrm>
          <a:prstGeom prst="flowChartDocumen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3800" y="6019920"/>
            <a:ext cx="1932840" cy="652680"/>
          </a:xfrm>
          <a:prstGeom prst="wedgeEllipseCallout">
            <a:avLst>
              <a:gd name="adj1" fmla="val -189"/>
              <a:gd name="adj2" fmla="val -11901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01440" y="5207040"/>
            <a:ext cx="3041280" cy="1692360"/>
          </a:xfrm>
          <a:prstGeom prst="wedgeEllipseCallout">
            <a:avLst>
              <a:gd name="adj1" fmla="val -29125"/>
              <a:gd name="adj2" fmla="val -6235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erv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meone else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13480" y="5943600"/>
            <a:ext cx="2474280" cy="652680"/>
          </a:xfrm>
          <a:prstGeom prst="wedgeEllipseCallout">
            <a:avLst>
              <a:gd name="adj1" fmla="val -8685"/>
              <a:gd name="adj2" fmla="val -8809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581280" y="2209680"/>
            <a:ext cx="4267440" cy="3429000"/>
            <a:chOff x="3581280" y="2209680"/>
            <a:chExt cx="4267440" cy="342900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6553080" y="2209680"/>
              <a:ext cx="99072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6705720" y="3562200"/>
              <a:ext cx="99036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6858000" y="4933800"/>
              <a:ext cx="99072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flipV="1">
              <a:off x="3581280" y="2742840"/>
              <a:ext cx="2819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57600" y="3886200"/>
              <a:ext cx="2743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09880" y="4572000"/>
              <a:ext cx="28958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18760" y="3429000"/>
              <a:ext cx="21254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ODBC, JDB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58640" y="167652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ier system” or “client-serv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8450-00C5-406E-8D66-ADE9DEC458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ity of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mer sees SQL, which has two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Definition Language - D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anipulation Language - D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ind the scenes the DBMS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optim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Management (concurrency, recove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AFF-0E4D-476D-A3B4-DF4C22DC83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grammer Sees the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DDL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reate t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with DML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pulate t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6920" y="2590920"/>
            <a:ext cx="58410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TABLE Students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CHAR(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N CHAR(9) PRIMARY KEY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CHAR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95040" y="5029200"/>
            <a:ext cx="55148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S(‘Charles’, ‘123456789’, ‘undergraduat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B44F-4693-488A-8199-EE1E7C3CFE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grammer Sees the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implemented as files, but behind the scenes can be quite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11280" y="5157720"/>
          <a:ext cx="42037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5157720"/>
                    <a:ext cx="42037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914400" y="2400480"/>
          <a:ext cx="3898800" cy="14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400480"/>
                    <a:ext cx="3898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029200" y="2400480"/>
          <a:ext cx="2743200" cy="1574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2400480"/>
                    <a:ext cx="274320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822240" y="1981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7400" y="1981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01800" y="3924360"/>
          <a:ext cx="4889520" cy="1422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1800" y="3924360"/>
                    <a:ext cx="488952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915120" y="3540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2280" y="5715000"/>
            <a:ext cx="665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independ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= sepa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ie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hysica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C72-6A7C-4BA6-8E4E-0B4AE1C375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“Mary Johnson” in “CSE444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0040" y="2590920"/>
            <a:ext cx="522828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TRANSACTIO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INTO Ta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Students.SSN, Courses.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Students, Cour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Students.name = ‘Mary Johnson’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s.name = ‘CSE444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 More updates here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verything-went-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THEN COMM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ROLLBA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7800" y="6289560"/>
            <a:ext cx="85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ystem crashes, the transaction is still either committed or ab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297-ECFC-4D7B-900B-897FFC5FF5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equence of statements that either all succeed, or all f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have the ACID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tom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=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d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439-2BBB-40EF-A7BD-C5CFF1CE06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or:  Dan Suc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n, Room 662, suciu@cs.washington.e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hours:  Wednesdays, 11:30-12: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r by appointment)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Gubanov, mgubanov@cs.washington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sa MacDuff, tessa@cs.washington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hours: TBA (check mailing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97F-9D02-4AC8-881F-3B3FDEF1EE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courses that “Mary” tak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behind the scen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processor figures out how to answer the query efficient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38160" y="2895480"/>
            <a:ext cx="611820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 C.na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S, Takes T, Courses 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S.name=“Mary”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S.ssn = T.ssn and T.cid = C.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7859-8208-426F-8EC4-A8241B553A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, behind the sce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76720" y="1523880"/>
            <a:ext cx="4970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Book Antiqua"/>
              </a:rPr>
              <a:t>Imperative query execution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4360" y="2362320"/>
            <a:ext cx="4978080" cy="155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 C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S, Takes T, Courses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S.name=“Mary”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ssn = T.ssn and T.cid = C.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52388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clarative 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952880" y="4723920"/>
            <a:ext cx="0" cy="38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486400" y="41148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866920" y="685800"/>
            <a:ext cx="1219320" cy="220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581280" y="2209680"/>
            <a:ext cx="22860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980720" y="2209680"/>
            <a:ext cx="1600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5800" y="220968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362320"/>
            <a:ext cx="3733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019560" y="2438280"/>
            <a:ext cx="75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422600" y="1981080"/>
            <a:ext cx="4337280" cy="3388680"/>
            <a:chOff x="4422600" y="1981080"/>
            <a:chExt cx="4337280" cy="3388680"/>
          </a:xfrm>
        </p:grpSpPr>
        <p:sp>
          <p:nvSpPr>
            <p:cNvPr id="134" name=""/>
            <p:cNvSpPr/>
            <p:nvPr/>
          </p:nvSpPr>
          <p:spPr>
            <a:xfrm flipH="1">
              <a:off x="5749920" y="2427120"/>
              <a:ext cx="12686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22600" y="5018040"/>
              <a:ext cx="111168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tuden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10000" y="5002200"/>
              <a:ext cx="79920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5415840" y="3668400"/>
              <a:ext cx="803880" cy="515160"/>
              <a:chOff x="5415840" y="3668400"/>
              <a:chExt cx="803880" cy="515160"/>
            </a:xfrm>
          </p:grpSpPr>
          <p:sp>
            <p:nvSpPr>
              <p:cNvPr id="138" name=""/>
              <p:cNvSpPr/>
              <p:nvPr/>
            </p:nvSpPr>
            <p:spPr>
              <a:xfrm>
                <a:off x="5597640" y="3668400"/>
                <a:ext cx="180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945400" y="3668400"/>
                <a:ext cx="180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597640" y="3668400"/>
                <a:ext cx="34956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5415840" y="3668400"/>
                <a:ext cx="803880" cy="515160"/>
                <a:chOff x="5415840" y="3668400"/>
                <a:chExt cx="803880" cy="5151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5597640" y="3668400"/>
                  <a:ext cx="349560" cy="123840"/>
                </a:xfrm>
                <a:custGeom>
                  <a:avLst/>
                  <a:gdLst/>
                  <a:ahLst/>
                  <a:rect l="l" t="t" r="r" b="b"/>
                  <a:pathLst>
                    <a:path w="220" h="78">
                      <a:moveTo>
                        <a:pt x="0" y="77"/>
                      </a:moveTo>
                      <a:lnTo>
                        <a:pt x="219" y="0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415840" y="3877920"/>
                  <a:ext cx="803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id=s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4" name=""/>
            <p:cNvGrpSpPr/>
            <p:nvPr/>
          </p:nvGrpSpPr>
          <p:grpSpPr>
            <a:xfrm>
              <a:off x="6942240" y="1992240"/>
              <a:ext cx="842400" cy="389520"/>
              <a:chOff x="6942240" y="1992240"/>
              <a:chExt cx="842400" cy="389520"/>
            </a:xfrm>
          </p:grpSpPr>
          <p:sp>
            <p:nvSpPr>
              <p:cNvPr id="145" name=""/>
              <p:cNvSpPr/>
              <p:nvPr/>
            </p:nvSpPr>
            <p:spPr>
              <a:xfrm>
                <a:off x="6983280" y="2008080"/>
                <a:ext cx="1440" cy="172800"/>
              </a:xfrm>
              <a:custGeom>
                <a:avLst/>
                <a:gdLst/>
                <a:ahLst/>
                <a:rect l="l" t="t" r="r" b="b"/>
                <a:pathLst>
                  <a:path w="1" h="109">
                    <a:moveTo>
                      <a:pt x="0" y="0"/>
                    </a:moveTo>
                    <a:lnTo>
                      <a:pt x="0" y="1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070760" y="2008080"/>
                <a:ext cx="1080" cy="172800"/>
              </a:xfrm>
              <a:custGeom>
                <a:avLst/>
                <a:gdLst/>
                <a:ahLst/>
                <a:rect l="l" t="t" r="r" b="b"/>
                <a:pathLst>
                  <a:path w="1" h="109">
                    <a:moveTo>
                      <a:pt x="0" y="0"/>
                    </a:moveTo>
                    <a:lnTo>
                      <a:pt x="0" y="1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42240" y="1992240"/>
                <a:ext cx="174600" cy="1440"/>
              </a:xfrm>
              <a:custGeom>
                <a:avLst/>
                <a:gdLst/>
                <a:ahLst/>
                <a:rect l="l" t="t" r="r" b="b"/>
                <a:pathLst>
                  <a:path w="110" h="1">
                    <a:moveTo>
                      <a:pt x="0" y="0"/>
                    </a:moveTo>
                    <a:lnTo>
                      <a:pt x="109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35840" y="2076120"/>
                <a:ext cx="748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6935760" y="2987640"/>
              <a:ext cx="184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04080" y="1981080"/>
              <a:ext cx="184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732560" y="4354200"/>
              <a:ext cx="1472400" cy="381960"/>
              <a:chOff x="4732560" y="4354200"/>
              <a:chExt cx="1472400" cy="38196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4732560" y="4354200"/>
                <a:ext cx="162000" cy="158760"/>
                <a:chOff x="4732560" y="4354200"/>
                <a:chExt cx="162000" cy="158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732560" y="4354200"/>
                  <a:ext cx="115920" cy="158760"/>
                </a:xfrm>
                <a:custGeom>
                  <a:avLst/>
                  <a:gdLst/>
                  <a:ahLst/>
                  <a:rect l="l" t="t" r="r" b="b"/>
                  <a:pathLst>
                    <a:path w="73" h="100">
                      <a:moveTo>
                        <a:pt x="72" y="50"/>
                      </a:moveTo>
                      <a:lnTo>
                        <a:pt x="62" y="15"/>
                      </a:lnTo>
                      <a:lnTo>
                        <a:pt x="36" y="0"/>
                      </a:lnTo>
                      <a:lnTo>
                        <a:pt x="11" y="15"/>
                      </a:lnTo>
                      <a:lnTo>
                        <a:pt x="0" y="50"/>
                      </a:lnTo>
                      <a:lnTo>
                        <a:pt x="11" y="84"/>
                      </a:lnTo>
                      <a:lnTo>
                        <a:pt x="36" y="99"/>
                      </a:lnTo>
                      <a:lnTo>
                        <a:pt x="62" y="84"/>
                      </a:lnTo>
                      <a:lnTo>
                        <a:pt x="72" y="5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91600" y="4371840"/>
                  <a:ext cx="102960" cy="1440"/>
                </a:xfrm>
                <a:custGeom>
                  <a:avLst/>
                  <a:gdLst/>
                  <a:ahLst/>
                  <a:rect l="l" t="t" r="r" b="b"/>
                  <a:pathLst>
                    <a:path w="65" h="1">
                      <a:moveTo>
                        <a:pt x="0" y="0"/>
                      </a:moveTo>
                      <a:lnTo>
                        <a:pt x="6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4805280" y="4430520"/>
                <a:ext cx="1399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ame=“Mary”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6711120" y="2982600"/>
              <a:ext cx="803880" cy="515160"/>
              <a:chOff x="6711120" y="2982600"/>
              <a:chExt cx="803880" cy="515160"/>
            </a:xfrm>
          </p:grpSpPr>
          <p:sp>
            <p:nvSpPr>
              <p:cNvPr id="157" name=""/>
              <p:cNvSpPr/>
              <p:nvPr/>
            </p:nvSpPr>
            <p:spPr>
              <a:xfrm>
                <a:off x="6892920" y="2982600"/>
                <a:ext cx="180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240680" y="2982600"/>
                <a:ext cx="180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92920" y="2982600"/>
                <a:ext cx="34956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6711120" y="2982600"/>
                <a:ext cx="803880" cy="515160"/>
                <a:chOff x="6711120" y="2982600"/>
                <a:chExt cx="803880" cy="5151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892920" y="2982600"/>
                  <a:ext cx="349560" cy="123840"/>
                </a:xfrm>
                <a:custGeom>
                  <a:avLst/>
                  <a:gdLst/>
                  <a:ahLst/>
                  <a:rect l="l" t="t" r="r" b="b"/>
                  <a:pathLst>
                    <a:path w="220" h="78">
                      <a:moveTo>
                        <a:pt x="0" y="77"/>
                      </a:moveTo>
                      <a:lnTo>
                        <a:pt x="219" y="0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711120" y="3192120"/>
                  <a:ext cx="803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id=c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>
              <a:off x="7707600" y="4964040"/>
              <a:ext cx="105228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urs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5037120" y="4049280"/>
              <a:ext cx="30492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808520" y="4659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08520" y="4659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037120" y="3972960"/>
              <a:ext cx="3812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180120" y="3972960"/>
              <a:ext cx="5335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027840" y="313524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7475400" y="3134880"/>
              <a:ext cx="68580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65760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040" y="6060960"/>
            <a:ext cx="73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iz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s the best execution plan for a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856-7834-472A-BF0B-C6DF7E7AEE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g commercial database vend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 (with DB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ft (SQL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free database systems (Unix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g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SE444 we use SQL Server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also choose MySQL, but less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8E6-F721-4E2C-A136-E3028BAA99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Trends in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relational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memory databas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XML XML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databases with XM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ware between XML and relationa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XML databas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-scale XML mess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research here at UW on XML and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data management, stream data management – still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234-7016-43CF-9B40-DA8C80E45E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utl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may vary slightl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(Chapter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lational data model (Chap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design (Chapters 2, 3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 XPath, 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term: Monday, November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orage, indexes (Chapters 11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xecution and optimization (Chapter 15,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 (Chapter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: December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8:30-10:20, EE1 045 (this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3F2-0337-46E8-B0DD-FA36959919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requisites: Data structures course (CSE-326 or equivale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&amp; Gra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: 25%  (4 of them; some light program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: 30% (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term: 1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: 2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angibles: 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DB99-3770-42E3-9080-420D6C8E1F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the real data management needs of a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have three ph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 to Real World phases of system evolution in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phase starts on Wednes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763C-9E87-4B8B-97DD-AACA7207AA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is this course about, really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t of everything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s: SQL, XPath, 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 !  (Functional dependencies, normal fo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 and data structures (in the second hal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implementation and hacking for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importantly: how to meet Real World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170-C8D8-47DF-8576-96010AFD77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cs.washington.edu/444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s will be availab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s will be posted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description will b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subscribe (see instructions on the Web p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84D-2EB2-4FB6-BF81-5B523FF2E6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book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textbook, available at the booksto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base Systems: The Complete 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ector Garcia-Molina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ffrey Ullma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nnifer Wi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E866-2795-403F-882C-04775A6197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x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reserve at the Engineering Libr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base Management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amakrish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compreh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Query from the Expe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Katz, 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ference on 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ndamentals of Database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lmasri, Nava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widely used, but we don’t us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undations of Datab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biteboul, Hull, Vianu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ly theory of 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on the Web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iteboul, Buneman, Su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and other new/advanced stu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F80-7F5A-455C-AFFE-355444E428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quired Rea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ill be reading assignments from the We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QL for Web Nerd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Philip Greenspun, http://philip.greenspun.com/sql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, especially for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QL, a good source of information is the MSDN library (on your Windows mach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AF7-575E-4A38-9851-600A4FDC7E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for Today’s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databa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ssignment for Wednesday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 for Web Nerds</a:t>
            </a:r>
            <a:br>
              <a:rPr sz="2800"/>
            </a:br>
            <a:r>
              <a:rPr b="1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philip.greenspun.com/sq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DE3-D4C3-4257-AFDD-70769621CA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lational Database Management Syste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Management System =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BMS =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files that store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g C program written by someone else that accesses and updates those files fo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B74-1209-4609-9201-FA5DFEF0D6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RDBMS us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end for traditional “database”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end for large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end for Web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3F3B-2050-4734-B5AF-EA4A80BDA3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1T22:48:26Z</dcterms:created>
  <dc:creator>Dan Suciu</dc:creator>
  <dc:description/>
  <dc:language>en-US</dc:language>
  <cp:lastModifiedBy>uw</cp:lastModifiedBy>
  <cp:lastPrinted>1998-09-26T21:35:18Z</cp:lastPrinted>
  <dcterms:modified xsi:type="dcterms:W3CDTF">2003-09-29T03:43:06Z</dcterms:modified>
  <cp:revision>275</cp:revision>
  <dc:subject/>
  <dc:title>Introduction to Database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alon</vt:lpwstr>
  </property>
  <property fmtid="{D5CDD505-2E9C-101B-9397-08002B2CF9AE}" pid="9" name="LinkColor">
    <vt:r8>16711782</vt:r8>
  </property>
  <property fmtid="{D5CDD505-2E9C-101B-9397-08002B2CF9AE}" pid="10" name="MailAddress">
    <vt:lpwstr>alon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taweb\lectures\lecture1\lecture1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