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F04-838F-4E6C-B48A-11CDD4BD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730-79BD-423C-97E7-2804C21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B80-4699-458C-8EBD-59FFE33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1E1-8625-4C0A-A7F9-60746261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E2F-D14B-41DA-BBC3-53A708D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1AB-62E2-4033-A72B-585ECA7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53B-F885-4276-A54A-B3819EC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8A8-9C32-440E-A106-8ECB932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120-B2FC-4AA4-A18F-4939C6B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B27-EBC8-4CFA-AD11-9946F1A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E57-1F7D-4EAA-A091-B256CF9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1C1-31C4-4C04-A867-092D930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FC2-62CC-460B-9919-369C04AC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5seconds.com/issue/020220.htm" TargetMode="External"/><Relationship Id="rId2" Type="http://schemas.openxmlformats.org/officeDocument/2006/relationships/hyperlink" Target="http://www.15seconds.com/issue/020220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ggheadcafe.com/articles/20010925.asp" TargetMode="External"/><Relationship Id="rId2" Type="http://schemas.openxmlformats.org/officeDocument/2006/relationships/hyperlink" Target="http://www.eggheadcafe.com/articles/20010925.asp" TargetMode="External"/><Relationship Id="rId3" Type="http://schemas.openxmlformats.org/officeDocument/2006/relationships/hyperlink" Target="http://www.eggheadcafe.com/articles/20010925.as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, Web Fo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cocktail terms essential to you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35B-BCC8-4BA9-AD03-2C6536AA08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set the mode to Forms, the &lt;authentication&gt; will have a &lt;forms&gt;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to set various attributes, such as a login page, the name of the cookie to be checked, how long a cookie is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15seconds.com/issue/020220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37A-EAD8-47A0-ADF1-87EA4A08F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86104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configur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authentication mode="Form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//set the cookies name, path and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e=“cookie-name" path="/" loginUrl="login.aspx" protection="All" timeout="30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forms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authentic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//deny unauthenticate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&lt;location path=“MyApp/RestricedPage.aspx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authorization&gt; &lt;deny users="?" /&gt; &lt;/authorization&gt; &lt;/system.web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&lt;/lo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&lt;/configuration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mple web.confi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124-66F1-4C2C-B547-BFDF7FBA6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xt file that gets stored on the client mach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ggheadcaf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articles/20010925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quest the ASP .Net application checks for a cookie; if it’s there it serves the reques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246-3D94-454D-B73C-72294ABF5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8088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System.Web.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check credentials against web.conf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Reader dr=cmdCommand.ExecuteReader(“select * from users where pwd=…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if such a user was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(dr.Read()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Grant the user access to the page they requ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paramaters:username and whether the cookie persists betwee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sAuthentication.RedirectFromLoginPage(txtLogin.Text,true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blError.Text = "Please check your credentials"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don’t forget to close the data reader, command,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create a log-out button with the following event handl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scrap that cook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sAuthentication.SignOu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74D-FCFA-4001-A63F-890A9076C8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ication delivered over Internet Standards; I.e. a URL that returns information 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independent, unlike other component technologies like IIOP, RMI and D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ract with the web service is specified through the messages it understands and returns; the only thing it relies on is Web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511-8CCC-4AED-9C52-9FE917BAE5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way to represent data, commands and ty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(Simple Object Access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standard for data and command representation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D50-3151-4092-AF69-EA9AE1A73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Web Service with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is implemented in a code behind file—asmx.vb or asmx.cs extension. This is what you see when you view the .asmx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%@WebService Language=“C#” Codebehind=“….” Class=“..”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ervice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for common ASP Objects, such as the request, application and session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ethod Attribute (method needs to b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: analogous to a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: the name of the class implementing th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: unique names for your XM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client applications differentiate between different services that use the same method nam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other properties:BufferResponse, CacheDuration, read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9AF-9562-496D-82B1-1DDA5CEE9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365040"/>
            <a:ext cx="86104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WebService (Namespace="http://cs.washington.edu/cse444au02/webservices/"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ublic class FeedbackService : System.Web.Services.WebServic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* WEBMETHOD: * Shows Statistics for each homework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WebMethod (Description="A method that gives the minimum, average and maximum time to complete a homework")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ublic Stats ShowFeedbackStats(int nHomeworkNum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BA5-2C90-4C1E-8FEA-B511BD2F4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Help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ge when service is invoked without a query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it you can invoke a method using HTTP Post (I.e. you can’t invoke methods that use complex data types as para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DL(Web Service Descrip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 definition--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0F1-95BE-40FF-BA4A-8CBDD207D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SDL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of th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follow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XML schema for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1 for request, 1 fo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message nam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wAllFeedbackStatsSoapIn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pa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 element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:ShowAllFeedbackStats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: describe th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ortType nam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ServiceSoa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812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peration nam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wAllFeedbackStat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document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ethod that gives the minimum, average and maximum time to complete each homework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document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0:ShowAllFeedbackStatsSoapI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ess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0:ShowAllFeedbackStatsSoapOut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oper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942-6E1B-4EEE-908A-3A0F1E39EE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s (slides 5—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and Applic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(slides 12—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Discovery an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215-01B1-4C85-AB4A-538A04261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know what services are ou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ecide to make your service publicly available (which we won’t) you need to register it with an XML Services directory—UDDI (Universal Description, Discovery and Integ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 Static and dynamic disco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V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B43-7ED7-4A41-B29A-8F0A36CC7D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is the end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eb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with the web service via proxy: not easy but VS does this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423-DB49-460F-8D7E-C6607D9636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sp200209pv_f_image004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75438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0" y="457200"/>
            <a:ext cx="2286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the URL for the Web Service's discovery file in the text box and click on the arrow to the left of the 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Reference (Add Web Reference dialog box)—you can chose between browsing the UDDI, the local server directory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703-0191-45F5-926C-0BFC911988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and Discovery with VS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add a web reference, the wsdl file is downloaded and a proxy class i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see the proxy file but you can add it to your project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486400" y="1143000"/>
          <a:ext cx="32767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32767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2F2-5B21-47E7-8E2B-009AF26D62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xy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ot more to be said about the proxy class…but no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ing a method: create an instance of the proxy class and invoke the method with the specified parameters…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AF2-FEB6-4A7D-ADA0-54DA5D5DF7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CSE444Feedback.edu.washington.cs.iinetsr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hwkNum.Text.Length==0) 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/create the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edbackService objFeedback=new FeedbackServic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/invoke the method Stats st=objFeedback.ShowFeedbackStats(Convert.ToInt32(hwkNum.Tex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B7B-14AC-42AC-9B30-9E3B44F0E4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con = new SqlConnection (strConnection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mdSql= new SqlCommand(); cmdSql.Connection=_con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catch (Exception e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WriteLine("Failure "+e.ToString())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create the query you want to issue * and associate it with the command object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ing query="SELECT * FROM Movies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mdSql.CommandText=query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Open the connection and issue the query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con.Open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=====================================================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/example of a Data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ResultSet=cmdSql.ExecuteReader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le(drResultSet.Read(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====================================================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qlDataAdapter=new SqlDataAdapter(_sql,con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qlDataAdapter.Fill(myDataSet, "Feedback_public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* hwkStats is the name of the DataGrid on * the ASP page: connect the grid to the DataSet 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wkStats.DataSource =myDataSet.Tables[0].Default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wkStats.DataBi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0C3-2C6F-4441-93DC-EE21F00ED3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ra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: common type system; deep multilanguag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deployment model and ver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71600" y="3809880"/>
            <a:ext cx="3200400" cy="2514600"/>
            <a:chOff x="1371600" y="3809880"/>
            <a:chExt cx="3200400" cy="2514600"/>
          </a:xfrm>
        </p:grpSpPr>
        <p:sp>
          <p:nvSpPr>
            <p:cNvPr id="48" name=""/>
            <p:cNvSpPr/>
            <p:nvPr/>
          </p:nvSpPr>
          <p:spPr>
            <a:xfrm>
              <a:off x="1371600" y="3809880"/>
              <a:ext cx="312408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71464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57909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1600" y="51814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5181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44193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45716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s Frame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809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E7D-6CBF-492B-914D-9CC4DC980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application is a set of URLs rooted at the same base URL: ASP+ programm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assemblies, which makes deployment and live update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gramming models based on ASP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050-D897-48A9-B5D0-0148E232FF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B forms in web development; ASP &amp; HTML syntax. WYSIWYG pag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ASP .Net Pages with Server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Form Contr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analogs: listboxes, text boxes,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: Calendar, Ad Ro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ontrols are client sensitive and serve whatever the client browser can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CD2-F605-43AD-A80E-F2EF02BD6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with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an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0BD-B5F6-4909-9276-3578A6812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00108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qlConnection mysqlConnection =new SqlConnection(conString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declare sql command by using a object named mycomm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qlCommand mysqlCommand = new SqlCommand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using sql transaction class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SqlTransaction myTran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Open the connectio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nnection.Open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Assign the connection property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Connection = mysqlConnection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Begin the transaction.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 = myConnection.BeginTransaction();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Assign transaction object for a pending local 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ansaction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sqlCommand.Transaction = myTran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y{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Insert the user recor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CommandText = "Insert into useraccount VALUES ('"+uname+"','"+ufamily+"')"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ysqlCommand.ExecuteNonQuery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pass the data .transaction complete 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.Commit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urn "transaction completed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tch(Exception 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// transaction cancel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yTrans.Rollback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urn e.ToString()+"********** transaction abort*******"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81D-EFEB-4AC0-AB21-D69E28DAFB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s—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ful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pplications are statel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.asax: a global file pe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, Code Declaration, Application/Session Scop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of Application Events (e.g Application_OnSt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ple 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dding a footer to every page, personalization of pages based on the identity of the user, catching unhandled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903-2F5C-450B-B67C-73F419E68C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uthentication-Cookies and HTM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por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mode attribute of the authentication element in the configuration file: web.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,Forms,Passport,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4D4-8970-409B-AFEB-91BC9D454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9:51:18Z</dcterms:created>
  <dc:creator>Administrator</dc:creator>
  <dc:description/>
  <dc:language>en-US</dc:language>
  <cp:lastModifiedBy>Administrator</cp:lastModifiedBy>
  <dcterms:modified xsi:type="dcterms:W3CDTF">2002-11-04T18:04:47Z</dcterms:modified>
  <cp:revision>30</cp:revision>
  <dc:subject/>
  <dc:title>Web Services, Web Forms And .Net</dc:title>
</cp:coreProperties>
</file>