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D7B-3108-42D3-A1F2-21D3FD03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9E98-FAA0-4890-B8BE-BC24D37A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524F-8CAB-4E96-B6B8-F1645209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1A93-CD12-4FFB-8B14-B9CAEC9E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68A1-C394-44C0-8EAA-DE375EDD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385-4438-4868-9B3E-79867F91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17C0-F7DA-43DA-B5DE-F8032FF2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1E5-2D31-4B27-81E7-65C8BB77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60B-2CEE-4B10-9E0C-6E460D4E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9B8-3CE8-4FAD-8903-EF7D588E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FE18-16E8-426F-8B9D-9BCB3524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B0A-98F7-4A6B-A231-BFE518E9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466C-E4F9-420B-B338-71DB68EF1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5seconds.com/issue/020220.htm" TargetMode="External"/><Relationship Id="rId2" Type="http://schemas.openxmlformats.org/officeDocument/2006/relationships/hyperlink" Target="http://www.15seconds.com/issue/020220.ht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ggheadcafe.com/articles/20010925.asp" TargetMode="External"/><Relationship Id="rId2" Type="http://schemas.openxmlformats.org/officeDocument/2006/relationships/hyperlink" Target="http://www.eggheadcafe.com/articles/20010925.asp" TargetMode="External"/><Relationship Id="rId3" Type="http://schemas.openxmlformats.org/officeDocument/2006/relationships/hyperlink" Target="http://www.eggheadcafe.com/articles/20010925.asp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ervices, Web For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.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cocktail terms essential to your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DF8D-7BCD-4D64-9194-5D91804BBC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you set the mode to Forms, the &lt;authentication&gt; will have a &lt;forms&gt;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it to set various attributes, such as a login page, the name of the cookie to be checked, how long a cookie is g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15seconds.com/issue/020220.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82F-C5FE-4CC3-8A7E-DB85892B23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86104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&lt;configuration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Arial"/>
              </a:rPr>
              <a:t>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&lt;system.web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&lt;authentication mode="Forms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//set the cookies name, path and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&lt;for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me=“cookie-name" path="/" loginUrl="login.aspx" protection="All" timeout="30“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&lt;/forms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&lt;/authentication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&lt;/system.web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//deny unauthenticated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Arial"/>
              </a:rPr>
              <a:t>&lt;location path=“MyApp/RestricedPage.aspx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Arial"/>
              </a:rPr>
              <a:t>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&lt;system.web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&lt;authorization&gt; &lt;deny users="?" /&gt; &lt;/authorization&gt; &lt;/system.web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Arial"/>
              </a:rPr>
              <a:t>&lt;/loca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&lt;/configuration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ample web.config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01C3-E3BB-4835-A4CE-C4507CFCB6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k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xt file that gets stored on the client machi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ggheadcaf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com/articles/20010925.a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n request the ASP .Net application checks for a cookie; if it’s there it serves the reques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7737-C08A-4589-B38C-A34E738C8B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380880"/>
            <a:ext cx="82296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ing System.Web.Secur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//check credentials against web.conf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Reader dr=cmdCommand.ExecuteReader(“select * from users where pwd=…”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//if such a user was f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(dr.Read()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//Grant the user access to the page they reques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//paramaters:username and whether the cookie persists between se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msAuthentication.RedirectFromLoginPage(txtLogin.Text,true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blError.Text = "Please check your credentials"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don’t forget to close the data reader, command,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 can create a log-out button with the following event handle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scrap that cook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msAuthentication.SignOu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EA56-15DF-4C7E-8CD3-7E6A12BE9F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pplication delivered over Internet Standards; I.e. a URL that returns information 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independent, unlike other component technologies like IIOP, RMI and D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tract with the web service is specified through the messages it understands and returns; the only thing it relies on is Web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33B3-1844-4C7E-9119-169A30915F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and SO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way to represent data, commands and typ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P (Simple Object Access Protoc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y standard for data and command representation in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A361-7243-489B-A764-060A0F4AE5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create a Web Service with .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is implemented in a code behind file—asmx.vb or asmx.cs extension. This is what you see when you view the .asmx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v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%@WebService Language=“C#” Codebehind=“….” Class=“..”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Service Bas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for common ASP Objects, such as the request, application and session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Method Attribute (method needs to b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: analogous to a com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: the name of the class implementing th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pace: unique names for your XML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 do client applications differentiate between different services that use the same method nam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of other properties:BufferResponse, CacheDuration, read your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E7E-C8C3-42AA-BB16-ADC4E662F3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365040"/>
            <a:ext cx="861048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[WebService (Namespace="http://cs.washington.edu/cse444au02/webservices/")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ublic class FeedbackService : System.Web.Services.WebService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/* WEBMETHOD: * Shows Statistics for each homework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[WebMethod (Description="A method that gives the minimum, average and maximum time to complete a homework")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ublic Stats ShowFeedbackStats(int nHomeworkNum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789-3342-476C-A102-C456770691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Help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page when service is invoked without a query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ugh it you can invoke a method using HTTP Post (I.e. you can’t invoke methods that use complex data types as parame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DL(Web Service Descrip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 definition--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3236-FF15-4FA6-866F-80DAC4352A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SDL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tion of the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the following el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: XML schema for the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1 for request, 1 for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message name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howAllFeedbackStatsSoapIn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"&gt;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par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 element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0:ShowAllFeedbackStats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" /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message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Type: describe the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portType name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dbackServiceSoap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"&gt;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8120" indent="-17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operation name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owAllFeedbackStats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documentation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method that gives the minimum, average and maximum time to complete each homework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documentation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essage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0:ShowAllFeedbackStatsSoapIn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" /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essage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0:ShowAllFeedbackStatsSoapOut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" /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operation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ACF-52D9-4009-A7F0-85616AD2E2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Forms (slides 5—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 and Application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ices(slides 12—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Discovery and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B30-8736-40B1-8C3F-8E2D8553A1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ervice Dis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I know what services are out t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decide to make your service publicly available (which we won’t) you need to register it with an XML Services directory—UDDI (Universal Description, Discovery and Integr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 Static and dynamic disco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D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VD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C90-C7AD-435D-92CC-6DFD6556BA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ervice Cli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is the end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eb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Web Serv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e with the web service via proxy: not easy but VS does this for you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60A-5001-4A5A-9923-13808874EE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sp200209pv_f_image004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7543800" cy="6400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0" y="457200"/>
            <a:ext cx="2286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er the URL for the Web Service's discovery file in the text box and click on the arrow to the left of the bo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Reference (Add Web Reference dialog box)—you can chose between browsing the UDDI, the local server directory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5BC-B81F-479E-AEBA-AF34B76616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 and Discovery with VS .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you add a web reference, the wsdl file is downloaded and a proxy class i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see the proxy file but you can add it to your project ma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486400" y="1143000"/>
          <a:ext cx="327672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143000"/>
                    <a:ext cx="32767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D2F5-EC14-4013-BC10-E601D2AE9C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Proxy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lot more to be said about the proxy class…but not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ing a method: create an instance of the proxy class and invoke the method with the specified parameters…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22BB-70F9-43A2-B567-0018344CBF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144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ing CSE444Feedback.edu.washington.cs.iinetsrv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(hwkNum.Text.Length==0) retur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//create the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edbackService objFeedback=new FeedbackService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//invoke the method Stats st=objFeedback.ShowFeedbackStats(Convert.ToInt32(hwkNum.Text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B60B-9C41-4C57-B6AC-12A40FDFEAE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04920"/>
            <a:ext cx="91440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try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_con = new SqlConnection (strConnection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mdSql= new SqlCommand(); cmdSql.Connection=_con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catch (Exception e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sole.WriteLine("Failure "+e.ToString());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/* create the query you want to issue * and associate it with the command object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ring query="SELECT * FROM Movies"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mdSql.CommandText=query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/* Open the connection and issue the query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_con.Open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/*=====================================================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//example of a DataR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ResultSet=cmdSql.ExecuteReader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ile(drResultSet.Read()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…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/*====================================================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qlDataAdapter=new SqlDataAdapter(_sql,con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qlDataAdapter.Fill(myDataSet, "Feedback_public"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/* hwkStats is the name of the DataGrid on * the ASP page: connect the grid to the DataSet 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wkStats.DataSource =myDataSet.Tables[0].DefaultView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wkStats.DataBi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0524-1954-4478-9E4F-845CEF2798D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.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neral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R: common type system; deep multilanguage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deployment model and vers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371600" y="3809880"/>
            <a:ext cx="3200400" cy="2514600"/>
            <a:chOff x="1371600" y="3809880"/>
            <a:chExt cx="3200400" cy="2514600"/>
          </a:xfrm>
        </p:grpSpPr>
        <p:sp>
          <p:nvSpPr>
            <p:cNvPr id="48" name=""/>
            <p:cNvSpPr/>
            <p:nvPr/>
          </p:nvSpPr>
          <p:spPr>
            <a:xfrm>
              <a:off x="1371600" y="3809880"/>
              <a:ext cx="3124080" cy="251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1600" y="571464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579096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ystem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71600" y="518148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57400" y="51814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71600" y="441936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3880" y="457164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ices Frame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05120" y="38098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14C0-F451-47C0-935A-C303094830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eb application is a set of URLs rooted at the same base URL: ASP+ programming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assemblies, which makes deployment and live updates ea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rogramming models based on ASP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1B9-C31D-4330-8B2F-04D50AB835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B forms in web development; ASP &amp; HTML syntax. WYSIWYG page 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e. ASP .Net Pages with Server Contr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Form Contr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 analogs: listboxes, text boxes, but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: Calendar, Ad Rot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controls are client sensitive and serve whatever the client browser can han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B49-5CC6-419D-8EE7-672C379B8D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ing with Relation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mand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R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8779-35B7-4AA1-83CD-5862C069F8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001080" cy="71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qlConnection mysqlConnection =new SqlConnection(conString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// declare sql command by using a object named mycomm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qlCommand mysqlCommand = new SqlCommand(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// using sql transaction class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SqlTransaction myTrans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;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// Open the connection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ysqlConnection.Open(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// Assign the connection property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ysqlCommand.Connection = mysqlConnection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// Begin the transaction.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myTrans = myConnection.BeginTransaction();</a:t>
            </a:r>
            <a:br>
              <a:rPr sz="28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// Assign transaction object for a pending local 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ransaction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mysqlCommand.Transaction = myTrans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ry{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// Insert the user record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ysqlCommand.CommandText = "Insert into useraccount VALUES ('"+uname+"','"+ufamily+"')"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ysqlCommand.ExecuteNonQuery(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// pass the data .transaction complete 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myTrans.Commit(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turn "transaction completed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tch(Exception e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{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// transaction cancel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myTrans.Rollback(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turn e.ToString()+"********** transaction abort*******"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62E-BC4E-400B-86B5-E123D90689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Applications—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ful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Applications are statel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.asax: a global file per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ve, Code Declaration, Application/Session Scop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of Application Events (e.g Application_OnSta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mple u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dding a footer to every page, personalization of pages based on the identity of the user, catching unhandled exce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.Conf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51C-2BB2-4E77-BFC2-AD8F58023E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hentication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s Authentication-Cookies and HTML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port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mode attribute of the authentication element in the configuration file: web.conf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,Forms,Passport,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8E79-F12E-40E4-B576-AEE7A66A33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9:51:18Z</dcterms:created>
  <dc:creator>Administrator</dc:creator>
  <dc:description/>
  <dc:language>en-US</dc:language>
  <cp:lastModifiedBy>Administrator</cp:lastModifiedBy>
  <dcterms:modified xsi:type="dcterms:W3CDTF">2002-11-04T18:04:47Z</dcterms:modified>
  <cp:revision>30</cp:revision>
  <dc:subject/>
  <dc:title>Web Services, Web Forms And .Net</dc:title>
</cp:coreProperties>
</file>