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34F7-DFC0-4347-A18C-7762EEB28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09E1-9E98-4DA7-A748-8BB31B46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5DC5-188A-4D55-B3E1-A8147AEC9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7C50-0802-4417-8F1C-280C0A8D3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842C-B179-45DB-AEED-4C78F9CD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FB8C-E2B8-4EE1-BD65-5B0239FB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F390-1538-40E0-B7F8-541FE19F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AE64-144C-404E-B68B-E45FA5C5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F180-8BD1-4B07-B6FF-F8598C9B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0818-7142-4E0C-8AB3-1E466397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830F-A8BC-48B3-BB53-7E5D7EFA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1B2F-4F55-4155-880F-05451922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6117-284C-4912-8F40-F536ED5CD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9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December 11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1C48-547F-4659-B1B8-520451C615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-from-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er 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DD01-7495-4811-BF84-B7EAEF24A0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mod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and modifying relation sch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ttribute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ign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edded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4B35-D66C-497F-9D0F-E98F77F529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/O model of comp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data el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ing records into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length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flow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CE58-52EB-43BB-8E0F-7574EA5BA1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olog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se/sparse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/secondary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4292-2DC6-4969-9145-0CA8B1C21F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ed-loop 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pass algorithms based on hash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-based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52E4-E5FA-4AC4-89F3-F034DFC42F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ed logical op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ebraic ident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uristic based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based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programming for join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8114-33F3-45CF-B2FE-CB5107B22A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o log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o log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o/redo log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D7C0-D044-4BC9-8905-05AC6A0E5E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Ad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roblems will require th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ju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difficulty may be unev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the easy ones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E0B9-4810-4566-95C2-5A098BD38B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work 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 4 out of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: 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term: 2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:  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angibles: 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37A3-99D3-4DE7-976C-C59E1681E7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2DEF-7636-481C-BAD0-E9BC2F7C17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homework: Mr. Frumble’s b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ercise: counting the number of 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o logging – 17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o/undo logging – 17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evaluation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39D9-A116-4BD2-9BD3-5C120DA000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ing the Number of Join Orders (Exerci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⋈ . . . ⋈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left linear join trees i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left linear join trees without cartesian products i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why 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bushy join trees i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!/(n+1)*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2n)!/((n+1)*(n!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bushy join trees without cartesian product i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(n+1)*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BD68-3124-46D6-9789-928B0D1D8F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mber of Subplans Inspected by 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⋈ . . . ⋈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left linear subplans inspected i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k=1,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*k = n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n-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left linear subplans without cartesian products inspected i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k=1,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n-k+1)*2 = n(n+1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y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bushy join subplans inspected i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k=1,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*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=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y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bushy join subplans without cartesian produc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k=1,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n-k+1)*(k-1) = n*n*(n-1)/2 – n(n-1)(2n-1)/6 = n(n-1)(n+1)/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5259-86C6-4E6F-AD44-E58336E130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: Friday, December 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: 8:30 – 10: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: this 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book exam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3AB3-4AC3-46A5-8558-128C4017B1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o Prepare for the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thing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CC40-4DBA-40CE-BF9C-B8B2481F24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 diagrams, O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 to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BEE0-428B-46D7-B567-007AC32416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m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4937-89B7-4CA7-A0E4-2101E95FD5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relations to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XML to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54DF-9368-409F-9FAA-A3762E6376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uw</cp:lastModifiedBy>
  <dcterms:modified xsi:type="dcterms:W3CDTF">2002-12-11T06:29:15Z</dcterms:modified>
  <cp:revision>418</cp:revision>
  <dc:subject/>
  <dc:title>Lecture 09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05258049</vt:r8>
  </property>
  <property fmtid="{D5CDD505-2E9C-101B-9397-08002B2CF9AE}" pid="3" name="_AuthorEmail">
    <vt:lpwstr>suciu@cs.washington.edu</vt:lpwstr>
  </property>
  <property fmtid="{D5CDD505-2E9C-101B-9397-08002B2CF9AE}" pid="4" name="_AuthorEmailDisplayName">
    <vt:lpwstr>Dan Suciu</vt:lpwstr>
  </property>
  <property fmtid="{D5CDD505-2E9C-101B-9397-08002B2CF9AE}" pid="5" name="_EmailSubject">
    <vt:lpwstr>Lecture notes</vt:lpwstr>
  </property>
</Properties>
</file>