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292-3D4D-4D89-9F10-04E088D2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1BD-1743-4EA6-A4BD-4D21210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741-3DAD-4425-96FF-EA2AE19D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95D-0B87-4B7C-9B07-A8D07BCE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214-157A-4496-AE3B-14EC45C4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B19-682F-47E3-9F4F-4B38E58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D62-1B9F-4E12-A81C-7FC6CFEB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88B-18CC-469F-947A-9BC895CB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D75-3FBA-4134-8001-653E197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A2F-495C-4A2C-8FAC-343C5D7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9E7-CA98-42A8-AB94-9D167F3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5EF-0223-4BA3-BB5C-C350CC92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E173-2BB9-4296-8057-8042281C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619-F9B8-4517-AED5-B4CFA728EA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18F-5F84-4C66-8E15-BBCE548F0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6B6-0754-4A4F-B6B1-F49189DEC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records into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272-1182-40EB-8687-C3DF843F1E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7AF-52C6-4347-A033-27ECBEBD7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031-BF18-47FA-B4F3-D90EAF697F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id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for jo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8A6-3A2E-4305-B9A9-1AD84A0A4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E56-DC07-4868-969E-62FF5B02A9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38D-63B4-4622-BBF6-B1800C6989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4 out of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A51-038C-41A2-8979-04B542CF5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33C-DDE3-492D-BC7E-15C83EE10C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homework: Mr. Frumble’s b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rcise: counting the number of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–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logging –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evaluation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E77-8CC7-46BF-A77D-F5052D6E6A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!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043-641D-44BE-BB2F-42C0E38F9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k = n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2 = n(n+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(k-1) = n*n*(n-1)/2 – n(n-1)(2n-1)/6 = n(n-1)(n+1)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CD3-AF11-498F-8F5B-017A56B49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Friday, Decemb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8:30 – 10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C30-9598-47D4-8072-5E78A6318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Prepare for 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FC6-D60A-456E-AE9B-576AC1280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, O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346-87AF-4AD6-ADA1-B928A874A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712-3D3D-4BDD-A5CE-2B17FAC9F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16D-E08A-4B01-9D0C-E1D5333B8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11T06:29:15Z</dcterms:modified>
  <cp:revision>418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525804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 notes</vt:lpwstr>
  </property>
</Properties>
</file>