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291B-16A9-4057-8090-73D26A05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46AF-BDA4-4264-9A38-FFD7489D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FA33-7115-4B9F-AE7A-C5F4BCC1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9E75-AF49-45A4-B774-2AC3FC762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BACC-F93D-4A43-A10A-D14AB931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114E-BE7A-4E7F-88FA-C730337F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966F-9C0E-43E2-B225-B1A3056A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CA64-787E-4138-9868-41A7DA54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EAA3-BF12-4B36-B51A-34A09DC2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8CF1-C479-4CDE-9989-C3898AFA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5E66-5A30-4889-B330-5456DE37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0FFD-ABA7-4F15-B586-3835C948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624A-43A9-46C5-A7E1-7BF331421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8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December 9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DAB-882F-4694-A869-99AEA8FBC0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Decide for each transaction T whether it is completed or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COMMIT T&gt;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ABORT T&gt;…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……………………   =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Read log from the beginning, redo all updates of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mit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87C6-7C0D-4714-B014-7CEF8E7BC7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7200" y="1905120"/>
            <a:ext cx="169092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 X2, 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438280" y="19051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27CB-C2C6-4D36-869A-516F1590D3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START CKPT(T1,…,Tk)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1,…,Tk are all activ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sh to disk all blocks of committed transaction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rty bloc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ile continuing normal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ll blocks have been written, write &lt;END CKP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FD10-B2B4-45F3-AFDA-0D52B8858F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 Recovery with 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1905120"/>
            <a:ext cx="2667240" cy="447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COMMIT T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4, T5, T6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9, T10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5560" y="2708280"/>
            <a:ext cx="208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18480" y="2556000"/>
            <a:ext cx="165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r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n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35053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80" y="4633920"/>
            <a:ext cx="2038320" cy="916920"/>
          </a:xfrm>
          <a:prstGeom prst="borderCallout1">
            <a:avLst>
              <a:gd name="adj1" fmla="val 18750"/>
              <a:gd name="adj2" fmla="val -8333"/>
              <a:gd name="adj3" fmla="val 8986"/>
              <a:gd name="adj4" fmla="val 150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OUTPU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1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to be on 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C0BA-A6B3-467F-99A0-3880A84FE8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 Undo/Re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logg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must be done ea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&lt;COMMIT T&gt; is seen, T definitely has written all its data to disk (hence, don’t need to redo) – in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log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must be done 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&lt;COMMIT T&gt; is not seen, T definitely has not written any of its data to disk (hence there is not dirty data on disk, no need to undo) – inflex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like more flexibility on when to OUTPUT: undo/redo logging (ne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8408-69BE-40E1-B0EA-84F0BB8FDE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/Re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 records, only one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T,X,u,v&gt;= T has updated element X,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was u, and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is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0350-88E8-4274-8EBB-09A3C2D56E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/Redo-Logging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1: If T modifies X, then &lt;T,X,u,v&gt; must be written to disk before X is written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we are free to OUTPUT early or late (i.e. before or after &lt;COMMIT T&gt;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CA2F-84FE-4D5E-AD26-4F1BB2AE77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228600" y="914400"/>
          <a:ext cx="8534520" cy="49593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T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02B2-F329-4BB0-B6BC-0629B06346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/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all committed transaction, top-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all uncommitted transactions, bottom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8EC7-4848-40DB-8D73-8FCF33BB85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77200" y="1905120"/>
            <a:ext cx="169092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 X2, 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438280" y="19051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25780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0DBD-CA41-42EA-AA5A-E87D027ADA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homework: Mr. Frumble’s b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ercise: counting the number of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 logging – 17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/undo logging – 17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evaluation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F02C-D5FF-480A-BCBD-42E0DA944E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standing Hash Function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= 100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distribution of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‘a00’), H(‘a01’), …, H(‘a99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cii(‘a’) = 97,   ascii(‘0’) = 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 all values will start wit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97+48+48) mod 100 = 9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of 93 as the new origin, and ignor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1787-A1A4-4709-8946-47AE17D2C9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standing Hash Function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the values of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(‘a00’), H(‘a01’), …, H(‘a99’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+0, 0+1, 0+2, . . . .   , 9+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 1: only buckets 0, 1, …, 18 contain dat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ckets 0 and 18 contain 1 data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ckets 1 and 17 contain 2 data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cket 9 contains 10 data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what happens with H(‘a00000’), …, H(‘a99999’)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FE26-2C13-4074-B510-9AD810E665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ing the Number of Join Orders (Exerci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⋈ . . . ⋈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left linear join trees i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left linear join trees without cartesian products i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why 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bushy join trees i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!/(n+1)*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2n)!/((n+1)*(n!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bushy join trees without cartesian product i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(n+1)*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DB03-24E1-4146-B0F0-F03BD54293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mber of Subplans Inspected by 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⋈ . . . ⋈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left linear subplans inspected i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=1,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*k = n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n-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left linear subplans without cartesian products inspected i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=1,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n-k+1)*2 = n(n+1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y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bushy join subplans inspected i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=1,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*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=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y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bushy join subplans without cartesian produc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=1,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n-k+1)*(k-1) = n*n*(n-1)/2 – n(n-1)(2n-1)/6 = n(n-1)(n+1)/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97A6-D443-4474-83F4-2246E06480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START T&gt; = transaction T has beg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COMMIT T&gt; = T has com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ABORT T&gt;= T has ab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T,X,v&gt;= T has updated element X, and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is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EE7B-85C7-4406-BB9C-7F663B12CF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-Logg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: If T modifies X, then both &lt;T,X,v&gt; and &lt;COMMIT T&gt; must be written to disk before X is written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: OUTPUTs are don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F153-C758-4AC4-AADE-4420A50788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28600" y="914400"/>
          <a:ext cx="8534520" cy="49593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T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358F-EA9B-46C7-9D97-09E03B0F0E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uw</cp:lastModifiedBy>
  <dcterms:modified xsi:type="dcterms:W3CDTF">2002-12-09T02:55:36Z</dcterms:modified>
  <cp:revision>411</cp:revision>
  <dc:subject/>
  <dc:title>Lecture 09:</dc:title>
</cp:coreProperties>
</file>