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E19-6552-4684-989C-D5D9839C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1FC-A8E1-4152-A116-8518FDEC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B7F-8897-483B-ABF6-F6BFAFD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380-7B06-4DDD-AAAA-22E527C6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C63-D59F-42E7-8BF7-D2A83409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F6B-81DF-45D0-906C-E8AEEAC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ED6-C582-44BA-9C03-E1FE309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84E-CDFA-48D1-ACBC-E13A3F5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EED-1433-40AF-8E9F-B701C257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17D-D941-42A0-83B6-971FAE4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265-655B-4FE9-BA4E-896F691B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F11-790B-4CAC-8D31-C3DCFD9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3A3-EEC3-41EB-80B2-CAEA21AD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9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AE4-FBC9-43A2-9905-6AB435DCB4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AD1-5D74-4786-AE9B-DDBFF77EF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470-16B7-4DCB-8E66-E284E5769F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F07-7962-43A6-83DC-B092AAF83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905120"/>
            <a:ext cx="266724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556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18480" y="2556000"/>
            <a:ext cx="16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505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BC6-2034-4E2A-B6CC-FD897312A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DFD-5A61-4919-A2C2-64FCD32C1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40B-6B24-4C01-AF65-7A60F97967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(i.e. before or after &lt;COMMIT T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B7A-4127-46D7-B837-5001C37989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188-522C-48F0-9804-4994A777AF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77E-4AB6-4733-8F62-B62F3AD61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C3F-AE37-4382-B439-6C33A53E63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homework: Mr. Frumble’s b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rcise: counting the number of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–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logging –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evaluation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68A-097B-4DEC-AC8E-4806DFF96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Hash Functi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100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istribution of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‘a00’), H(‘a01’), …, H(‘a99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ii(‘a’) = 97,   ascii(‘0’) = 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all values will start wit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7+48+48) mod 100 = 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93 as the new origin, and igno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F37-422A-4E80-AF29-0E31F0526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Hash Functi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values o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‘a00’), H(‘a01’), …, H(‘a99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+0, 0+1, 0+2, . . . .   , 9+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1: only buckets 0, 1, …, 18 contain dat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0 and 18 contain 1 data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s 1 and 17 contain 2 data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 9 contains 10 data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hat happens with H(‘a00000’), …, H(‘a99999’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BFF-7F97-4B2B-B52B-9035D84AE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!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080-8BF4-4E73-A2E1-744699D40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k = n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2 = n(n+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(k-1) = n*n*(n-1)/2 – n(n-1)(2n-1)/6 = n(n-1)(n+1)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624-7196-4FE0-A5FE-55D648290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9A0-EAF5-4D8B-8B9F-0E3D3D654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79-2045-4E62-8923-5DA6A257C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22-BB0F-41EB-8303-82F99CEED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09T02:55:36Z</dcterms:modified>
  <cp:revision>411</cp:revision>
  <dc:subject/>
  <dc:title>Lecture 09:</dc:title>
</cp:coreProperties>
</file>