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E7010E9-0BB8-464F-9F30-12CC4EA45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2988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ecause if the system crashes before it writes &lt;END CKPT&gt; then we cannot use the checkpoint.  We use &lt;END CKPT&gt; to ensure that the system didn’t crash and the checkpoint termin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27A1-1656-4CAC-B04B-C8FA1CB1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A5E2-7048-4564-B26F-99DF9A5D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9D99-F16B-4A93-ABF8-81F163260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9D0B-2C04-4B03-8D3F-4CFB0B9D3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EA8A-32C4-44D5-B864-52A92227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F388-E9BE-4CF9-AB1D-2FE5968D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3011-AA4D-4D28-B64B-CCE0CFB4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E69A-511D-4C72-BDD0-05AAF933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E0F7-E531-453D-A471-83E972EF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6CE3-A9BB-47C4-A060-9D94A24E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D6CE-1CE6-4522-88FF-F7AFE23B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0478-F3CE-4ABD-934C-6549B20F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0E94-ADB6-44D7-A986-1DCCE8B84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7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December 6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BCE8-AB3A-4ED0-BFF2-7F42097CA7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s on more than one attribu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,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) T(S)/(max(V(R,A),V(S,A))*max(V(R,B),V(S,B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A806-E745-41C7-8D63-D94D540531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s on data maintained by the R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size estimation much more accurate (hence, cost estimations are more accura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F170-702A-44C8-B610-EDB0BA9978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mployee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name, salary, ph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 histogram on sal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Employee) = 25000, but now we know the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838080" y="3429000"/>
          <a:ext cx="7848720" cy="1270080"/>
        </p:xfrm>
        <a:graphic>
          <a:graphicData uri="http://schemas.openxmlformats.org/drawingml/2006/table">
            <a:tbl>
              <a:tblPr/>
              <a:tblGrid>
                <a:gridCol w="1120680"/>
                <a:gridCol w="1121040"/>
                <a:gridCol w="1122120"/>
                <a:gridCol w="1122480"/>
                <a:gridCol w="1120680"/>
                <a:gridCol w="1120680"/>
                <a:gridCol w="1121040"/>
              </a:tblGrid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A787-E2FA-45B3-96B6-0B4C317EA7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anks(rankName, sala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the size of Employe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ala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a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838080" y="3276720"/>
          <a:ext cx="7162920" cy="761760"/>
        </p:xfrm>
        <a:graphic>
          <a:graphicData uri="http://schemas.openxmlformats.org/drawingml/2006/table">
            <a:tbl>
              <a:tblPr/>
              <a:tblGrid>
                <a:gridCol w="1024200"/>
                <a:gridCol w="1020600"/>
                <a:gridCol w="1025640"/>
                <a:gridCol w="1023840"/>
                <a:gridCol w="1023840"/>
                <a:gridCol w="1020960"/>
                <a:gridCol w="102384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838080" y="4343400"/>
          <a:ext cx="7162920" cy="762120"/>
        </p:xfrm>
        <a:graphic>
          <a:graphicData uri="http://schemas.openxmlformats.org/drawingml/2006/table">
            <a:tbl>
              <a:tblPr/>
              <a:tblGrid>
                <a:gridCol w="1024200"/>
                <a:gridCol w="1020600"/>
                <a:gridCol w="1025640"/>
                <a:gridCol w="1023840"/>
                <a:gridCol w="1023840"/>
                <a:gridCol w="1020960"/>
                <a:gridCol w="102384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935C-296B-4A34-9FA9-C214F685ED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Employee, Salary) = 200         V(Ranks, Salary) = 2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al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nks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mploye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al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nk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ye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al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nk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uple t in Employe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oins with so many tuples in Rank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Employe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T(Employee) *  T(Employee)/250 =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2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(Employe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al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nks)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=1,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 / 25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(200x8 + 800x20 + 5000x40 +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12000x80 + 6500x100 + 500x2)/25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961B-D169-41D3-8C4E-FDCDB28F71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828800" y="1371600"/>
          <a:ext cx="6095880" cy="50799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 of Cras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ven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ong data 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raints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cl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cras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undancy: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.g. RAID, arch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e, theft, bankruptcy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y insurance,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nge jobs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 failures: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.g. pow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DATABAS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RECOV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192600" y="5392440"/>
            <a:ext cx="1703520" cy="1172520"/>
          </a:xfrm>
          <a:prstGeom prst="wedgeEllipseCallout">
            <a:avLst>
              <a:gd name="adj1" fmla="val 56736"/>
              <a:gd name="adj2" fmla="val 2381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50BB-721D-4C8F-96B9-ABE44FD6C5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Fail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ransaction h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ternal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system crashes, internal state is l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know which parts executed and which did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dy: use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ile that records every single action of the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61CB-070E-4619-9C9A-3422EF0364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piece of code that must be executed atom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-hoc 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command = one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embedded 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starts = first SQL command iss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ends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LLBACK (=abo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858D-61E8-4A72-B272-B2DFD27483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the database is composed of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1 element = 1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smaller (=1 record) or larger (=1 rel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each transaction reads/writes some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209D-C7FF-41E0-BC83-5FF464BEFC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itive Operations of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element X to memory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(X,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 element X to transaction local variable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(X,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 transaction local variable t to elem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element X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39F3-B5BC-42F1-B123-9CFC0069B9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estimation: 16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y using undo logging 17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4B76-07DE-48A6-B4A6-982F46E31B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(A,t); t := t*2;WRITE(A,t); READ(B,t); t := t*2;WRITE(B,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80880" y="1752480"/>
          <a:ext cx="7848720" cy="4959360"/>
        </p:xfrm>
        <a:graphic>
          <a:graphicData uri="http://schemas.openxmlformats.org/drawingml/2006/table">
            <a:tbl>
              <a:tblPr/>
              <a:tblGrid>
                <a:gridCol w="1689120"/>
                <a:gridCol w="1231920"/>
                <a:gridCol w="1231920"/>
                <a:gridCol w="1231920"/>
                <a:gridCol w="1231920"/>
                <a:gridCol w="1231920"/>
              </a:tblGrid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T(A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8071-EE2C-439B-A6F5-47841374F0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ppend-only file containing log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multiple transactions run concurrently, log records are interlea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a system crash, use log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o some transaction that didn’t com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o other transactions that didn’t com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kinds of logs: undo, redo, undo/re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216A-5AE1-450D-9EBE-65DD542B3F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 Lo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T has beg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COMMIT T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has 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ABORT 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has abo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T,X,v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has updated element X, and i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ue was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E44F-6576-4CA7-B784-FB9446EC27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-Loggin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: If T modifies X, then &lt;T,X,v&gt; must be written to disk before X is output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2: If T commits, then &lt;COMMIT T&gt; must be written to disk only after all changes by T are output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ce: OUTPUTs are don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ar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efore the transaction comm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F3A8-7F45-4ABA-AAAB-EE9B217DD8A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28600" y="914400"/>
          <a:ext cx="8534520" cy="541008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T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CD53-F7BD-4E33-818B-64E57D68DA2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system’s crash, run recovery manag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1. Decide for each transaction T whether it is completed or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.&lt;COMMIT T&gt;….    =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.&lt;ABORT T&gt;…….   =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……………………   =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2. Undo all modifications by incomplet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5D41-3E00-4F23-83C9-E659C058198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y manag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lo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rom the e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ca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COMMIT T&gt;:  mark T as comp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ABORT T&gt;: mark T as comp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T,X,v&gt;: if T is not complet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write X=v to dis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else ign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: ign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C2D3-47A3-4024-AABA-F1380933324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7720" y="1905120"/>
            <a:ext cx="1690920" cy="366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6,X6,v6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1,v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5,X5,v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4,X4,v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MMIT T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3,X3,v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2,X2,v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828800" y="28195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26320" y="1946160"/>
            <a:ext cx="2581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1 in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updates 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on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 2 in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far bac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we need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in the lo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5334120"/>
            <a:ext cx="914400" cy="612720"/>
          </a:xfrm>
          <a:prstGeom prst="wedgeEllipseCallout">
            <a:avLst>
              <a:gd name="adj1" fmla="val 154166"/>
              <a:gd name="adj2" fmla="val -414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E0B3-CDD6-453D-B6C3-D4698F4585C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all undo commands 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dempo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perform them a second time, no harm is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if there is a system crash during recovery, simply restart recovery from scr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1028-1251-4E4D-8856-4CABC38CDCB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do we stop reading the log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not stop until we reach the beginning of the log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imprac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idea: use checkpoi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5E00-B947-411B-B588-55FFA06D052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size in order to estimate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partitioned hash-join E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3B(E1) + 3B(E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E1) = T(E1) * record size/ bloc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E2) = T(E2) * record size/ bloc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, we need to estimate T(E1), T(E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BF1D-089B-4808-92E0-D805959AB1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point the database period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p accepting new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it until all current transactions comp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sh log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&lt;CKPT&gt; log record, fl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m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8B34-5B52-42B5-87C3-12582BF0689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 Recovery with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6680" y="1905120"/>
            <a:ext cx="1690920" cy="47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9,X9,v9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ll comple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CKP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1,v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5,X5,v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4,X4,v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MMIT T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3,X3,v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2,X2,v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6280" y="2708280"/>
            <a:ext cx="226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recover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top at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KP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200400" y="3886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3886200"/>
            <a:ext cx="152280" cy="2666880"/>
          </a:xfrm>
          <a:custGeom>
            <a:avLst/>
            <a:gdLst>
              <a:gd name="textAreaLeft" fmla="*/ 0 w 152280"/>
              <a:gd name="textAreaRight" fmla="*/ 55080 w 15228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actions T2,T3,T4,T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198108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B357-A7BD-4634-8DD5-31DAA4FB453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with checkpointing: database freezes during check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uld like to checkpoint while database is oper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: nonquiescent checkpoi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21160" y="5603760"/>
            <a:ext cx="651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escent = being quiet, still, or at rest; in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quiescent = allowing transactions to be 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FC73-164B-4A41-BAB2-64490949752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&lt;START CKPT(T1,…,Tk)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T1,…,Tk are all activ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 normal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ll of T1,…,Tk have completed, write &lt;END CKP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0C0D-9C5A-4E1C-B54E-83F4C96234D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 Recovery with 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1905120"/>
            <a:ext cx="2667240" cy="47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CKPT T4, T5, T6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END CKP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280" y="2708280"/>
            <a:ext cx="226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recover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top at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KP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200400" y="3886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3733920"/>
            <a:ext cx="76320" cy="1066680"/>
          </a:xfrm>
          <a:custGeom>
            <a:avLst/>
            <a:gdLst>
              <a:gd name="textAreaLeft" fmla="*/ 0 w 76320"/>
              <a:gd name="textAreaRight" fmla="*/ 2736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4, T5, T6, p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ter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5880" y="198108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rlier transactions p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4, T5, T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5029200"/>
            <a:ext cx="76320" cy="1523880"/>
          </a:xfrm>
          <a:custGeom>
            <a:avLst/>
            <a:gdLst>
              <a:gd name="textAreaLeft" fmla="*/ 0 w 76320"/>
              <a:gd name="textAreaRight" fmla="*/ 27360 w 763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ter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8760" y="5791320"/>
            <a:ext cx="26269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Q: why do we ne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&lt;END CKPT&gt;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F8F8-60FB-450F-8131-CC95D761ABA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ng the size of a proj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: T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) = T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because a projection doesn’t eliminate dupl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CB25-67F8-43D4-8947-E73C532D1D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ing the size of a 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=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S) san be anything from 0 to T(R) – V(R,A)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 value: T(S) = T(R)/V(R,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&lt;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S) can be anything from 0 to 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uristics: T(S) = T(R)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51E4-FF82-458F-B4D5-A14C435611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ng the size of a natural join,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set of A values are disjoint, then T(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is a key in S and a foreign key in R, then T(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 = T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has a unique value, the same in R and S, then T(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 = T(R) T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1E4C-7DFA-485D-A81E-0986225573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ainment of valu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f V(R,A) &lt;= V(S,A), then the set of A values of R is included in the set of A values of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this indeed holds when A is a foreign key in R, and a key in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servation of valu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for any other attribute B,  V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, B) = V(R, B)   (or V(S, B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37FC-C09C-4176-9CB4-12E3B02504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V(R,A) &lt;= 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each tuple t in R joi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uple(s) in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average T(S)/V(S,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will contribute T(S)/V(S,A) tuples in 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T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T(R) T(S) / 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: T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T(R) T(S) / max(V(R,A),V(S,A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441F-881C-45EF-92FA-1F4412C923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(R) = 10000,  T(S) = 2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(R,A) = 100,  V(S,A) = 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large is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T(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 = 10000 20000/200 = 1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5662-297E-491F-AFE9-D73A4BD9AF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Administrator</cp:lastModifiedBy>
  <dcterms:modified xsi:type="dcterms:W3CDTF">2002-12-06T18:19:50Z</dcterms:modified>
  <cp:revision>400</cp:revision>
  <dc:subject/>
  <dc:title>Lecture 09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60028710</vt:r8>
  </property>
  <property fmtid="{D5CDD505-2E9C-101B-9397-08002B2CF9AE}" pid="3" name="_AuthorEmail">
    <vt:lpwstr>suciu@cs.washington.edu</vt:lpwstr>
  </property>
  <property fmtid="{D5CDD505-2E9C-101B-9397-08002B2CF9AE}" pid="4" name="_AuthorEmailDisplayName">
    <vt:lpwstr>Dan Suciu</vt:lpwstr>
  </property>
  <property fmtid="{D5CDD505-2E9C-101B-9397-08002B2CF9AE}" pid="5" name="_EmailSubject">
    <vt:lpwstr>Re-post</vt:lpwstr>
  </property>
</Properties>
</file>