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647C35-BCA5-4BED-8356-1A5686A19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ecause if the system crashes before it writes &lt;END CKPT&gt; then we cannot use the checkpoint.  We use &lt;END CKPT&gt; to ensure that the system didn’t crash and the checkpoint ter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B20-02C2-46B2-A650-CD6B3B41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1F6-2621-4225-87B1-58524057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56A-F49D-4ADA-A8C3-00F895AF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579-4E62-4558-9354-1C6FB5BD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F4F-82DF-43E4-8992-A63D8342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B43-B48B-41C4-99AA-26F8DBB2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D18-8051-46D6-82E8-F512346A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3E4-ADD8-47A1-A39F-E2E07F12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39E4-8129-4316-BAAF-938EF1AF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298-C847-4AD1-A82B-7D3DFBE6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CEF-3395-433F-B9E4-344E57A2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B35-EB69-4AF0-9943-E30F6F4C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0159-3EA6-4884-AB7D-FB4A29A86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7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December 6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16E-DA01-4955-BC1B-8AA0DBBDD2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n more than one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,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T(S)/(max(V(R,A),V(S,A))*max(V(R,B),V(S,B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EF38-9F2C-4184-AF8D-2BB1F8CBC9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B28-CF5E-4D0C-AEAE-EF035CC29A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40C-E6EE-4E2C-A0DB-F65AB155D7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the size of 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B79-BB57-4B23-B026-01D975B6AC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Employee, Salary) = 200         V(Ranks, Salary) = 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ks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y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uple t in Employ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oins with so many tuples in Rank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Employ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T(Employee) *  T(Employee)/250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(Employ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ks)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=1,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/ 25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200x8 + 800x20 + 5000x40 +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2000x80 + 6500x100 + 500x2)/25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C24-6932-4D96-B04E-06871FB86A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828800" y="1371600"/>
          <a:ext cx="6095880" cy="5079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Cr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ven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ng data 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aint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cl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cras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ndancy: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RAID, arch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e, theft, bankruptcy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 insurance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jobs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failures: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DATABAS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RECO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192600" y="5392440"/>
            <a:ext cx="1703520" cy="1172520"/>
          </a:xfrm>
          <a:prstGeom prst="wedgeEllipseCallout">
            <a:avLst>
              <a:gd name="adj1" fmla="val 56736"/>
              <a:gd name="adj2" fmla="val 238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152-9503-4ED8-A471-9816463F69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Fail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ystem crashes, internal state i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ich parts executed and which di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dy: us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that records every single action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E7F-4674-4F92-8FFF-4CB450E82C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iece of code that must be executed atom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-hoc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mmand = one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mbedded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starts = first SQL command iss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end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LBACK (=ab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5BA-060A-40D7-861C-220331FFD7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the database is composed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1 element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smaller (=1 record) or larger (=1 re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each transaction reads/writes som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B81-52CB-4787-8767-195B822B57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Operations of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element X to memory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element X to transaction local variabl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ransaction local variable t to elem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element X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699-2A3E-41CA-99F5-5A7ADDBA8A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: 1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using undo logging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BFC-9108-44C8-ABD0-F33125782F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(A,t); t := t*2;WRITE(A,t); READ(B,t); t := t*2;WRITE(B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1752480"/>
          <a:ext cx="784872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920"/>
                <a:gridCol w="1231920"/>
                <a:gridCol w="1231920"/>
              </a:tblGrid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36B-4938-4711-B7DD-157247B5F8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-only file containing 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multiple transactions run concurrently, log records are interlea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system crash, use lo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some transaction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other transactions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logs: undo, redo, undo/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990-8D74-4D34-AA70-0F0C854C87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T has be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updated element X, and i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wa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605-78C8-4FF2-B60A-5050D592A7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: If T modifies X, then &lt;T,X,v&gt; must be written to disk before X is output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2: If T commits, then &lt;COMMIT T&gt; must be written to disk only after all changes by T are output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fore the transaction com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5FD-A130-4242-BA7C-8FFD85A546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914400"/>
          <a:ext cx="8534520" cy="541008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4B52-9CA9-441E-A446-12CF184700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2. Undo all modifications by incomplet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580-7739-47EA-A74E-C2C19DCA1D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manag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lo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om the 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:  mark T as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: mark T as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: if T is not comple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rite X=v to dis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else 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: 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948-540F-4F05-9F1C-4DC0EC6D46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7720" y="1905120"/>
            <a:ext cx="16909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6,X6,v6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82880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26320" y="1946160"/>
            <a:ext cx="258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1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updat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2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b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ne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the lo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5334120"/>
            <a:ext cx="914400" cy="612720"/>
          </a:xfrm>
          <a:prstGeom prst="wedgeEllipseCallout">
            <a:avLst>
              <a:gd name="adj1" fmla="val 154166"/>
              <a:gd name="adj2" fmla="val -41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3E75-7BEB-4B75-A539-61E783E433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all undo command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mpo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perform them a second time, no harm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if there is a system crash during recovery, simply restart recovery from scr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48E-4E7A-4010-9B16-8028645C7E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o we stop reading the lo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stop until we reach the beginning of the log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im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idea: use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454-991A-4402-882C-BB909CB3A4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size in order to estimat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partitioned hash-join E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3B(E1) + 3B(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E1) = T(E1) * record size/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E2) = T(E2) * record size/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we need to estimate T(E1), T(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F41-CF42-4BF4-A243-D90BA03590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 the database period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accepting new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until all current transaction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log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CKPT&gt; log record, fl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354-FCA4-4A5A-BB7F-70828B0B71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6680" y="1905120"/>
            <a:ext cx="169092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9,X9,v9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3886200"/>
            <a:ext cx="152280" cy="2666880"/>
          </a:xfrm>
          <a:custGeom>
            <a:avLst/>
            <a:gdLst>
              <a:gd name="textAreaLeft" fmla="*/ 0 w 152280"/>
              <a:gd name="textAreaRight" fmla="*/ 55080 w 15228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s T2,T3,T4,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D91-01C7-4372-B977-0955462304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with checkpointing: database freezes during check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like to checkpoint while database is 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nonquiescent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1160" y="5603760"/>
            <a:ext cx="65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scent = being quiet, still, or at rest; in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quiescent = allowing transactions to be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67C-A68E-479C-98BE-DC39C511AE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of T1,…,Tk have completed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AE3-A7EE-4BE9-8431-F00ECB1619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733920"/>
            <a:ext cx="76320" cy="106668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6,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lier transactions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502920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60" y="5791320"/>
            <a:ext cx="262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Q: why do we n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&lt;END CKPT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7FA-2267-4817-92E1-7898D0866A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: 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 projection doesn’t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F86-5896-4BFC-BFFA-57FE88B2AE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ng the size of a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san be anything from 0 to T(R) – V(R,A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value: T(S) = T(R)/V(R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&lt;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can be anything from 0 to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T(S) = T(R)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FC4-EF2A-4418-AA37-C108F2647B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natural join,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et of A values are disjoint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s a key in S and a foreign key in R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has a unique value, the same in R and S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 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5CD-CFF1-4E48-9A22-43599DBDF5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ainment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V(R,A) &lt;= V(S,A), then the set of A values of R is included in the set of A values of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is indeed holds when A is a foreign key in R, and a key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rvation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or any other attribute B,  V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, B) = V(R, B)   (or V(S, B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85A-8A54-4820-B48E-69110AD64C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V(R,A) &lt;=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each tuple t in R jo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uple(s)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verage T(S)/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will contribute T(S)/V(S,A) tuples in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T(R) T(S) /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: T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T(R) T(S) / max(V(R,A),V(S,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EF2-F061-4290-9539-3EBC490801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10000,  T(S) = 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A) = 100,  V(S,A) 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is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10000 20000/200 = 1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DE4-44D4-4A58-9B05-B4A383ACB5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2-06T18:19:50Z</dcterms:modified>
  <cp:revision>400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0028710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Re-post</vt:lpwstr>
  </property>
</Properties>
</file>