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E513-6272-4C1E-8315-90C4F51A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A75-D352-470E-B753-1961D0A9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23FF-3933-4DB6-89F8-FD1A3462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036F-E26C-461C-B2E5-F565709C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C6E-9A2D-4457-A35F-3CE8D7EF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0FD-CC3A-4768-9DE7-B69201F4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7FC-E547-454E-A5A6-B3FFBC87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242-5254-4B43-A2FC-C63034FD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DA2-8E7C-4ED6-BC8F-FC73C1C1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D51-99F4-4831-82FC-8F8F3B04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58A-C827-47F8-9164-D9E35856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FD6-82E6-4D6C-A7B1-E19773A8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40E9-DD41-40A6-8487-BBECABD30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6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December 4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A7E-7A0C-40A5-899B-2CFD29CDB0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76040" y="4761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0" idx="3"/>
            <a:endCxn id="61" idx="7"/>
          </p:cNvCxnSpPr>
          <p:nvPr/>
        </p:nvCxnSpPr>
        <p:spPr>
          <a:xfrm flipH="1">
            <a:off x="2640960" y="2725200"/>
            <a:ext cx="6246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61" idx="3"/>
            <a:endCxn id="62" idx="7"/>
          </p:cNvCxnSpPr>
          <p:nvPr/>
        </p:nvCxnSpPr>
        <p:spPr>
          <a:xfrm flipH="1">
            <a:off x="1593000" y="4110120"/>
            <a:ext cx="6627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2" idx="3"/>
            <a:endCxn id="66" idx="7"/>
          </p:cNvCxnSpPr>
          <p:nvPr/>
        </p:nvCxnSpPr>
        <p:spPr>
          <a:xfrm flipH="1">
            <a:off x="758520" y="5447880"/>
            <a:ext cx="45000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2" idx="5"/>
            <a:endCxn id="67" idx="1"/>
          </p:cNvCxnSpPr>
          <p:nvPr/>
        </p:nvCxnSpPr>
        <p:spPr>
          <a:xfrm>
            <a:off x="1593720" y="5448240"/>
            <a:ext cx="38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1" idx="5"/>
            <a:endCxn id="65" idx="1"/>
          </p:cNvCxnSpPr>
          <p:nvPr/>
        </p:nvCxnSpPr>
        <p:spPr>
          <a:xfrm>
            <a:off x="2641680" y="4110120"/>
            <a:ext cx="61200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0" idx="5"/>
            <a:endCxn id="68" idx="1"/>
          </p:cNvCxnSpPr>
          <p:nvPr/>
        </p:nvCxnSpPr>
        <p:spPr>
          <a:xfrm>
            <a:off x="3651120" y="2725200"/>
            <a:ext cx="63576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1847880" y="44197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048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97600" y="1825560"/>
            <a:ext cx="3639960" cy="4289400"/>
          </a:xfrm>
          <a:custGeom>
            <a:avLst/>
            <a:gdLst>
              <a:gd name="textAreaLeft" fmla="*/ 177480 w 3639960"/>
              <a:gd name="textAreaRight" fmla="*/ 3462480 w 3639960"/>
              <a:gd name="textAreaTop" fmla="*/ 177480 h 4289400"/>
              <a:gd name="textAreaBottom" fmla="*/ 4111920 h 4289400"/>
            </a:gdLst>
            <a:ahLst/>
            <a:rect l="textAreaLeft" t="textAreaTop" r="textAreaRight" b="textAreaBottom"/>
            <a:pathLst>
              <a:path w="21600" h="25453">
                <a:moveTo>
                  <a:pt x="3600" y="0"/>
                </a:moveTo>
                <a:arcTo wR="3600" hR="3600" stAng="16200000" swAng="-5400000"/>
                <a:lnTo>
                  <a:pt x="0" y="21853"/>
                </a:lnTo>
                <a:arcTo wR="3600" hR="3600" stAng="10800000" swAng="-5400000"/>
                <a:lnTo>
                  <a:pt x="18000" y="25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1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1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2,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2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6880" y="38862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3560" y="236232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428-4B94-4AB4-A826-95494BFD0D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10D-EBDA-43AC-A5BD-DCE8AC6C98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76040" y="4761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4" idx="3"/>
            <a:endCxn id="85" idx="7"/>
          </p:cNvCxnSpPr>
          <p:nvPr/>
        </p:nvCxnSpPr>
        <p:spPr>
          <a:xfrm flipH="1">
            <a:off x="2640960" y="2725200"/>
            <a:ext cx="6246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7"/>
          </p:cNvCxnSpPr>
          <p:nvPr/>
        </p:nvCxnSpPr>
        <p:spPr>
          <a:xfrm flipH="1">
            <a:off x="1593000" y="4110120"/>
            <a:ext cx="6627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6" idx="3"/>
            <a:endCxn id="90" idx="7"/>
          </p:cNvCxnSpPr>
          <p:nvPr/>
        </p:nvCxnSpPr>
        <p:spPr>
          <a:xfrm flipH="1">
            <a:off x="758520" y="5447880"/>
            <a:ext cx="45000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6" idx="5"/>
            <a:endCxn id="91" idx="1"/>
          </p:cNvCxnSpPr>
          <p:nvPr/>
        </p:nvCxnSpPr>
        <p:spPr>
          <a:xfrm>
            <a:off x="1593720" y="5448240"/>
            <a:ext cx="38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5" idx="5"/>
            <a:endCxn id="89" idx="1"/>
          </p:cNvCxnSpPr>
          <p:nvPr/>
        </p:nvCxnSpPr>
        <p:spPr>
          <a:xfrm>
            <a:off x="2641680" y="4110120"/>
            <a:ext cx="61200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4" idx="5"/>
            <a:endCxn id="92" idx="1"/>
          </p:cNvCxnSpPr>
          <p:nvPr/>
        </p:nvCxnSpPr>
        <p:spPr>
          <a:xfrm>
            <a:off x="3651120" y="2725200"/>
            <a:ext cx="63576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5151240" y="2702520"/>
            <a:ext cx="3704040" cy="253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1, 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2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3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52280" y="1905120"/>
            <a:ext cx="2514600" cy="3047760"/>
            <a:chOff x="152280" y="1905120"/>
            <a:chExt cx="2514600" cy="3047760"/>
          </a:xfrm>
        </p:grpSpPr>
        <p:sp>
          <p:nvSpPr>
            <p:cNvPr id="102" name=""/>
            <p:cNvSpPr/>
            <p:nvPr/>
          </p:nvSpPr>
          <p:spPr>
            <a:xfrm flipV="1">
              <a:off x="152280" y="1905120"/>
              <a:ext cx="2514600" cy="3047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8570000">
              <a:off x="484920" y="324792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pe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F92-FAD6-4F70-922E-6C54340167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9A9-5A41-42BD-8808-567F017B34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in Bush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7320" y="485784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7" idx="3"/>
            <a:endCxn id="108" idx="7"/>
          </p:cNvCxnSpPr>
          <p:nvPr/>
        </p:nvCxnSpPr>
        <p:spPr>
          <a:xfrm flipH="1">
            <a:off x="2640960" y="2725200"/>
            <a:ext cx="6246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8" idx="3"/>
            <a:endCxn id="109" idx="7"/>
          </p:cNvCxnSpPr>
          <p:nvPr/>
        </p:nvCxnSpPr>
        <p:spPr>
          <a:xfrm flipH="1">
            <a:off x="1304280" y="4109760"/>
            <a:ext cx="95148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3668040" y="584820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4760" y="5848200"/>
            <a:ext cx="6386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561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3"/>
            <a:endCxn id="113" idx="7"/>
          </p:cNvCxnSpPr>
          <p:nvPr/>
        </p:nvCxnSpPr>
        <p:spPr>
          <a:xfrm flipH="1">
            <a:off x="713520" y="5544720"/>
            <a:ext cx="205560" cy="43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09" idx="4"/>
            <a:endCxn id="114" idx="0"/>
          </p:cNvCxnSpPr>
          <p:nvPr/>
        </p:nvCxnSpPr>
        <p:spPr>
          <a:xfrm>
            <a:off x="1112760" y="5659200"/>
            <a:ext cx="13104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08" idx="5"/>
            <a:endCxn id="118" idx="1"/>
          </p:cNvCxnSpPr>
          <p:nvPr/>
        </p:nvCxnSpPr>
        <p:spPr>
          <a:xfrm>
            <a:off x="2641320" y="4110120"/>
            <a:ext cx="2595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07" idx="5"/>
            <a:endCxn id="120" idx="1"/>
          </p:cNvCxnSpPr>
          <p:nvPr/>
        </p:nvCxnSpPr>
        <p:spPr>
          <a:xfrm>
            <a:off x="3651120" y="2725200"/>
            <a:ext cx="1758240" cy="104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 flipH="1">
            <a:off x="2666880" y="4191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95680" y="32004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066680" y="5715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76520" y="3638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50227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3"/>
            <a:endCxn id="124" idx="7"/>
          </p:cNvCxnSpPr>
          <p:nvPr/>
        </p:nvCxnSpPr>
        <p:spPr>
          <a:xfrm flipH="1">
            <a:off x="4784040" y="4325400"/>
            <a:ext cx="6246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24" idx="3"/>
            <a:endCxn id="112" idx="7"/>
          </p:cNvCxnSpPr>
          <p:nvPr/>
        </p:nvCxnSpPr>
        <p:spPr>
          <a:xfrm flipH="1">
            <a:off x="4215600" y="5710320"/>
            <a:ext cx="18324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332400" y="5103720"/>
            <a:ext cx="60192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0" idx="5"/>
            <a:endCxn id="127" idx="1"/>
          </p:cNvCxnSpPr>
          <p:nvPr/>
        </p:nvCxnSpPr>
        <p:spPr>
          <a:xfrm>
            <a:off x="5794200" y="4325760"/>
            <a:ext cx="62604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842360" y="592452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4" idx="5"/>
            <a:endCxn id="129" idx="1"/>
          </p:cNvCxnSpPr>
          <p:nvPr/>
        </p:nvCxnSpPr>
        <p:spPr>
          <a:xfrm>
            <a:off x="4784760" y="5710320"/>
            <a:ext cx="18000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2768400" y="4248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8" idx="3"/>
            <a:endCxn id="132" idx="7"/>
          </p:cNvCxnSpPr>
          <p:nvPr/>
        </p:nvCxnSpPr>
        <p:spPr>
          <a:xfrm flipH="1">
            <a:off x="2751840" y="4935240"/>
            <a:ext cx="1486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3470760" y="50864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18" idx="5"/>
            <a:endCxn id="133" idx="1"/>
          </p:cNvCxnSpPr>
          <p:nvPr/>
        </p:nvCxnSpPr>
        <p:spPr>
          <a:xfrm>
            <a:off x="3285720" y="4935240"/>
            <a:ext cx="30672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1717920" y="5924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34880" y="51624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2" idx="3"/>
            <a:endCxn id="135" idx="7"/>
          </p:cNvCxnSpPr>
          <p:nvPr/>
        </p:nvCxnSpPr>
        <p:spPr>
          <a:xfrm flipH="1">
            <a:off x="2211480" y="5850000"/>
            <a:ext cx="1558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2820600" y="5924520"/>
            <a:ext cx="4467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2" idx="5"/>
            <a:endCxn id="137" idx="1"/>
          </p:cNvCxnSpPr>
          <p:nvPr/>
        </p:nvCxnSpPr>
        <p:spPr>
          <a:xfrm>
            <a:off x="2752200" y="5850000"/>
            <a:ext cx="1594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 flipH="1">
            <a:off x="2742840" y="5867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240" y="57913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19560" y="4724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352680" y="50292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" y="2666520"/>
            <a:ext cx="220968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981080" y="480024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114800" y="419076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5374-FE5B-46AC-9E79-F2FE518CCC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M = 101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419720" y="2590920"/>
            <a:ext cx="255600" cy="169920"/>
            <a:chOff x="4419720" y="2590920"/>
            <a:chExt cx="255600" cy="169920"/>
          </a:xfrm>
        </p:grpSpPr>
        <p:sp>
          <p:nvSpPr>
            <p:cNvPr id="149" name=""/>
            <p:cNvSpPr/>
            <p:nvPr/>
          </p:nvSpPr>
          <p:spPr>
            <a:xfrm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197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6753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581280" y="3276720"/>
            <a:ext cx="255600" cy="169920"/>
            <a:chOff x="3581280" y="3276720"/>
            <a:chExt cx="255600" cy="169920"/>
          </a:xfrm>
        </p:grpSpPr>
        <p:sp>
          <p:nvSpPr>
            <p:cNvPr id="154" name=""/>
            <p:cNvSpPr/>
            <p:nvPr/>
          </p:nvSpPr>
          <p:spPr>
            <a:xfrm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812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8368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175120" y="3962520"/>
            <a:ext cx="14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w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38520" y="39625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48200" y="32767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0988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97180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8960" y="312408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CFC-E929-4367-8072-AFB99AB08B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ïve evalu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169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170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175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BCB-9B4E-49A0-9509-E25FDDC8A3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hash R on x into 100 buckets, each of 50 block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hash S on x into 100 bucket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ad eac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memory (50 buffer) join with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 buffer); hash result on y into 50 buckets (50 buffers)   -- here w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so far: 3B(R) + 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191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192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197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5F4-8EF6-4712-AC6E-A25C805DF9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arge are the 50 buckets on y ?  Answer: k/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lt;= 50 then keep all 50 buckets in Step 3 in memory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read U from disk, hash on y and join with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 + 3B(S) + B(U) = 5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13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14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19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D84-29DC-4A3C-A8F7-44F55CB517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50 &lt; k &lt;= 5000 then send the 50 buckets in Step 3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ucket has size k/50 &l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partition U into 50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ad each partition and joi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: 3B(R) + 3B(S) + 2k + 3B(U) = 75,000 + 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35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36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41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3E2-02BC-4437-9427-3B92B55E00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er email to cla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1b on the homework has been updated, se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301-B831-4FC9-BA6D-374BC1D999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k &gt; 5000 then materialize instead of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57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58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63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A92E-87A9-4B79-87F2-2BC3AFF8EA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lt;= 50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5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50 &lt; k &lt;=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gt; 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4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F171-AC71-4CBC-8D6D-E76E5166DE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size in order to estimat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partitioned hash-join E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3B(E1) + 3B(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E1) = T(E1) * record size/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E2) = T(E2) * record size/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we need to estimate T(E1), T(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A51-5F48-49BC-A560-55F6486FE4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: 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 projection doesn’t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4F7-6E40-4860-9ABA-52037EB0AD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ng the size of a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san be anything from 0 to T(R) – V(R,A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value: T(S) = T(R)/V(R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&lt;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can be anything from 0 to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T(S) = T(R)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54B-7980-4AAA-B998-9E5A96D261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natural join,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et of A values are disjoint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s a key in S and a foreign key in R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has a unique value, the same in R and S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 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4F7-B0C3-4E08-9D41-A6CA3A4687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ainment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V(R,A) &lt;= V(S,A), then the set of A values of R is included in the set of A values of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is indeed holds when A is a foreign key in R, and a key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rvation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or any other attribute B,  V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, B) = V(R, B)   (or V(S, B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0E9-D7AB-499E-A6F5-A674489287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V(R,A) &lt;=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each tuple t in R jo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uple(s)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verage T(S)/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will contribute T(S)/V(S,A) tuples in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T(R) T(S) /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: T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T(R) T(S) / max(V(R,A),V(S,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7CC-8E78-43A2-B961-F8DACDB065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10000,  T(S) = 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A) = 100,  V(S,A) 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is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10000 20000/200 = 1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E42-A62D-43DE-8EE9-EA9D2DC666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n more than one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,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T(S)/(max(V(R,A),V(S,A))*max(V(R,B),V(S,B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47B-4607-474B-BBD0-DAD9BB161B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based Query Optimz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the physical query plan: 16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: 1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64E-44BF-4D07-B3F1-5C8841ACB0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620-946C-4421-90CC-5840C373CD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98F-4CFA-4205-9F30-40E86B4126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the size of 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6EF-1670-4E5E-A41C-EB3D70B014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Employee, Salary) =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Ranks, Salary) = 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roper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=Emplo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mpl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uple t in Emplo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oins with how many tuples in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: with T(Employe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/T(Employee) *  T(Employee)/250 =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/ 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(Employ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)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=1,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/ 2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200x8 + 800x20 + 5000x40 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2000x80 + 6500x100 + 500x2)/2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E78-E73B-45BE-AC3E-6B6DA10B24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the Search 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-linear trees v.s. Bushy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 without cartesian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S(B,C) ⋈ T(C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: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T(C,D)) ⋈ S(B,C) has a cartesian product – most query optimizers will not consider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85A-426D-49A9-A0EB-C6D08020C2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the Number of Join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hematics we need to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ow many permutations can we construct ?  Answer:  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ermutations o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br>
              <a:rPr sz="28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br>
              <a:rPr sz="28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re are 4! = 4*3*2*1 = 24 permut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7D8-D6DA-442F-8DA8-EBB828CA2E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the Number of Join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thematics we need to kn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product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how many ways can we place n pairs of parenthesis around them ? Answer:  1/(n+1)*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2n)!/((n+1)*(n!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for n=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6!/(4*3!*3!) = 5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444-EE2E-4536-9314-CC40A5828E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the Number of Join Orders (Excerci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join tree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join trees without cartesian product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tree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trees without cartesian produc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D95-D822-4D85-AC49-AA61E16B12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 of Subplans Inspected by 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subplans inspected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subplans without cartesian products inspected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subplans inspected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subplans without cartesian produ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4A0-71FB-4D14-9F28-750E0D7080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lgorithm to implement each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ccount for more than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emory do we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nput operand(s) sor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for each intermediate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ter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58C-D45D-4848-82E6-B98D4116FF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2-04T18:18:20Z</dcterms:modified>
  <cp:revision>376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73878819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26 updated</vt:lpwstr>
  </property>
</Properties>
</file>