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F436-FD89-41F3-ADBD-AC46C0934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529C-F4FF-4118-AF7A-75BE1214F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942E-22D4-4FE8-850B-F6C0A2AFA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B756-2A7F-458C-83C3-36451557F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70B2-249F-484B-B329-3894D9AA8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9DFD-3BCF-4547-8D66-6C8E253F9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6CDD-044F-4FE3-B187-3DAA890BE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C76F-657B-4648-A971-891DB81FF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0341-E1F7-4AE0-824D-D50508DAA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2014-216B-4F3B-BFB6-EBC24E3F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932A-B2DD-40BC-A2D8-A3EA588C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03CF-FD46-4FC5-8DDB-AD4B8ACA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7004C-AEC0-4964-8943-D816A87C02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26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December 4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0DFC-DAFD-4733-9F4C-B9B2BC7D3BF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terialize Intermediate Results Between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33440" y="2038320"/>
            <a:ext cx="6498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24000" y="3422520"/>
            <a:ext cx="6498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76040" y="4761000"/>
            <a:ext cx="6498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60" idx="3"/>
            <a:endCxn id="61" idx="7"/>
          </p:cNvCxnSpPr>
          <p:nvPr/>
        </p:nvCxnSpPr>
        <p:spPr>
          <a:xfrm flipH="1">
            <a:off x="2640960" y="2725200"/>
            <a:ext cx="624600" cy="831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" name=""/>
          <p:cNvCxnSpPr>
            <a:stCxn id="61" idx="3"/>
            <a:endCxn id="62" idx="7"/>
          </p:cNvCxnSpPr>
          <p:nvPr/>
        </p:nvCxnSpPr>
        <p:spPr>
          <a:xfrm flipH="1">
            <a:off x="1593000" y="4110120"/>
            <a:ext cx="662760" cy="784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5" name=""/>
          <p:cNvSpPr/>
          <p:nvPr/>
        </p:nvSpPr>
        <p:spPr>
          <a:xfrm>
            <a:off x="3140280" y="4781520"/>
            <a:ext cx="60624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8320" y="5827680"/>
            <a:ext cx="63936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70560" y="5848200"/>
            <a:ext cx="5742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64480" y="3486240"/>
            <a:ext cx="67068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2" idx="3"/>
            <a:endCxn id="66" idx="7"/>
          </p:cNvCxnSpPr>
          <p:nvPr/>
        </p:nvCxnSpPr>
        <p:spPr>
          <a:xfrm flipH="1">
            <a:off x="758520" y="5447880"/>
            <a:ext cx="450000" cy="513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0" name=""/>
          <p:cNvCxnSpPr>
            <a:stCxn id="62" idx="5"/>
            <a:endCxn id="67" idx="1"/>
          </p:cNvCxnSpPr>
          <p:nvPr/>
        </p:nvCxnSpPr>
        <p:spPr>
          <a:xfrm>
            <a:off x="1593720" y="5448240"/>
            <a:ext cx="38664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1" name=""/>
          <p:cNvCxnSpPr>
            <a:stCxn id="61" idx="5"/>
            <a:endCxn id="65" idx="1"/>
          </p:cNvCxnSpPr>
          <p:nvPr/>
        </p:nvCxnSpPr>
        <p:spPr>
          <a:xfrm>
            <a:off x="2641680" y="4110120"/>
            <a:ext cx="612000" cy="805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2" name=""/>
          <p:cNvCxnSpPr>
            <a:stCxn id="60" idx="5"/>
            <a:endCxn id="68" idx="1"/>
          </p:cNvCxnSpPr>
          <p:nvPr/>
        </p:nvCxnSpPr>
        <p:spPr>
          <a:xfrm>
            <a:off x="3651120" y="2725200"/>
            <a:ext cx="635760" cy="89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3" name=""/>
          <p:cNvSpPr/>
          <p:nvPr/>
        </p:nvSpPr>
        <p:spPr>
          <a:xfrm>
            <a:off x="1847880" y="441972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95480" y="3048120"/>
            <a:ext cx="1526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97600" y="1825560"/>
            <a:ext cx="3639960" cy="4289400"/>
          </a:xfrm>
          <a:custGeom>
            <a:avLst/>
            <a:gdLst>
              <a:gd name="textAreaLeft" fmla="*/ 177480 w 3639960"/>
              <a:gd name="textAreaRight" fmla="*/ 3462480 w 3639960"/>
              <a:gd name="textAreaTop" fmla="*/ 177480 h 4289400"/>
              <a:gd name="textAreaBottom" fmla="*/ 4111920 h 4289400"/>
            </a:gdLst>
            <a:ahLst/>
            <a:rect l="textAreaLeft" t="textAreaTop" r="textAreaRight" b="textAreaBottom"/>
            <a:pathLst>
              <a:path w="21600" h="25453">
                <a:moveTo>
                  <a:pt x="3600" y="0"/>
                </a:moveTo>
                <a:arcTo wR="3600" hR="3600" stAng="16200000" swAng="-5400000"/>
                <a:lnTo>
                  <a:pt x="0" y="21853"/>
                </a:lnTo>
                <a:arcTo wR="3600" hR="3600" stAng="10800000" swAng="-5400000"/>
                <a:lnTo>
                  <a:pt x="18000" y="254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hTabl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d(R, x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join(HashTable, x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ite(V1, 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hTabl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d(V1, y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join(HashTable, y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ite(V2, 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hTabl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U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d(V2, z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join(HashTable, z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ite(Answer, 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6880" y="3886200"/>
            <a:ext cx="67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V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753560" y="2362320"/>
            <a:ext cx="67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V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2819160" y="434340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900240" y="309564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1723680" y="56386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B4F6-1F56-4A46-BCB3-6A051B4E95F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terialize Intermediate Results Between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 in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B(R), B(S), B(T), B(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total cost of the plan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much main memory do we need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018E-21EB-47F0-A3F2-D54AA53A5F6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peline Between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33440" y="2038320"/>
            <a:ext cx="6498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124000" y="3422520"/>
            <a:ext cx="6498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76040" y="4761000"/>
            <a:ext cx="6498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4" idx="3"/>
            <a:endCxn id="85" idx="7"/>
          </p:cNvCxnSpPr>
          <p:nvPr/>
        </p:nvCxnSpPr>
        <p:spPr>
          <a:xfrm flipH="1">
            <a:off x="2640960" y="2725200"/>
            <a:ext cx="624600" cy="831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8" name=""/>
          <p:cNvCxnSpPr>
            <a:stCxn id="85" idx="3"/>
            <a:endCxn id="86" idx="7"/>
          </p:cNvCxnSpPr>
          <p:nvPr/>
        </p:nvCxnSpPr>
        <p:spPr>
          <a:xfrm flipH="1">
            <a:off x="1593000" y="4110120"/>
            <a:ext cx="662760" cy="784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9" name=""/>
          <p:cNvSpPr/>
          <p:nvPr/>
        </p:nvSpPr>
        <p:spPr>
          <a:xfrm>
            <a:off x="3140280" y="4781520"/>
            <a:ext cx="60624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38320" y="5827680"/>
            <a:ext cx="63936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70560" y="5848200"/>
            <a:ext cx="5742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64480" y="3486240"/>
            <a:ext cx="67068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>
            <a:stCxn id="86" idx="3"/>
            <a:endCxn id="90" idx="7"/>
          </p:cNvCxnSpPr>
          <p:nvPr/>
        </p:nvCxnSpPr>
        <p:spPr>
          <a:xfrm flipH="1">
            <a:off x="758520" y="5447880"/>
            <a:ext cx="450000" cy="513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4" name=""/>
          <p:cNvCxnSpPr>
            <a:stCxn id="86" idx="5"/>
            <a:endCxn id="91" idx="1"/>
          </p:cNvCxnSpPr>
          <p:nvPr/>
        </p:nvCxnSpPr>
        <p:spPr>
          <a:xfrm>
            <a:off x="1593720" y="5448240"/>
            <a:ext cx="38664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5" name=""/>
          <p:cNvCxnSpPr>
            <a:stCxn id="85" idx="5"/>
            <a:endCxn id="89" idx="1"/>
          </p:cNvCxnSpPr>
          <p:nvPr/>
        </p:nvCxnSpPr>
        <p:spPr>
          <a:xfrm>
            <a:off x="2641680" y="4110120"/>
            <a:ext cx="612000" cy="805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6" name=""/>
          <p:cNvCxnSpPr>
            <a:stCxn id="84" idx="5"/>
            <a:endCxn id="92" idx="1"/>
          </p:cNvCxnSpPr>
          <p:nvPr/>
        </p:nvCxnSpPr>
        <p:spPr>
          <a:xfrm>
            <a:off x="3651120" y="2725200"/>
            <a:ext cx="635760" cy="89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7" name=""/>
          <p:cNvSpPr/>
          <p:nvPr/>
        </p:nvSpPr>
        <p:spPr>
          <a:xfrm>
            <a:off x="5151240" y="2702520"/>
            <a:ext cx="3704040" cy="2535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hTable1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hTable2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hTable3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U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d(R, x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join(HashTable1, x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join(HashTable2, y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join(HashTable3, z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ite(Answer, 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2819160" y="434340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900240" y="309564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723680" y="56386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52280" y="1905120"/>
            <a:ext cx="2514600" cy="3047760"/>
            <a:chOff x="152280" y="1905120"/>
            <a:chExt cx="2514600" cy="3047760"/>
          </a:xfrm>
        </p:grpSpPr>
        <p:sp>
          <p:nvSpPr>
            <p:cNvPr id="102" name=""/>
            <p:cNvSpPr/>
            <p:nvPr/>
          </p:nvSpPr>
          <p:spPr>
            <a:xfrm flipV="1">
              <a:off x="152280" y="1905120"/>
              <a:ext cx="2514600" cy="30477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18570000">
              <a:off x="484920" y="3247920"/>
              <a:ext cx="116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ipel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B86E-4C38-4AE5-B069-B253B279690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peline Between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 in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B(R), B(S), B(T), B(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total cost of the plan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much main memory do we need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63D8-5F16-4CCD-BC73-2E508D93124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peline in Bushy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33440" y="2038320"/>
            <a:ext cx="6498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24000" y="3422520"/>
            <a:ext cx="6498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87320" y="4857840"/>
            <a:ext cx="6498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7" idx="3"/>
            <a:endCxn id="108" idx="7"/>
          </p:cNvCxnSpPr>
          <p:nvPr/>
        </p:nvCxnSpPr>
        <p:spPr>
          <a:xfrm flipH="1">
            <a:off x="2640960" y="2725200"/>
            <a:ext cx="624600" cy="831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" name=""/>
          <p:cNvCxnSpPr>
            <a:stCxn id="108" idx="3"/>
            <a:endCxn id="109" idx="7"/>
          </p:cNvCxnSpPr>
          <p:nvPr/>
        </p:nvCxnSpPr>
        <p:spPr>
          <a:xfrm flipH="1">
            <a:off x="1304280" y="4109760"/>
            <a:ext cx="951480" cy="881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2" name=""/>
          <p:cNvSpPr/>
          <p:nvPr/>
        </p:nvSpPr>
        <p:spPr>
          <a:xfrm>
            <a:off x="3668040" y="5848200"/>
            <a:ext cx="67068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4760" y="5848200"/>
            <a:ext cx="63864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56160" y="5848200"/>
            <a:ext cx="5742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09" idx="3"/>
            <a:endCxn id="113" idx="7"/>
          </p:cNvCxnSpPr>
          <p:nvPr/>
        </p:nvCxnSpPr>
        <p:spPr>
          <a:xfrm flipH="1">
            <a:off x="713520" y="5544720"/>
            <a:ext cx="205560" cy="437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" name=""/>
          <p:cNvCxnSpPr>
            <a:stCxn id="109" idx="4"/>
            <a:endCxn id="114" idx="0"/>
          </p:cNvCxnSpPr>
          <p:nvPr/>
        </p:nvCxnSpPr>
        <p:spPr>
          <a:xfrm>
            <a:off x="1112760" y="5659200"/>
            <a:ext cx="131040" cy="208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" name=""/>
          <p:cNvCxnSpPr>
            <a:stCxn id="108" idx="5"/>
            <a:endCxn id="118" idx="1"/>
          </p:cNvCxnSpPr>
          <p:nvPr/>
        </p:nvCxnSpPr>
        <p:spPr>
          <a:xfrm>
            <a:off x="2641320" y="4110120"/>
            <a:ext cx="259560" cy="27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stCxn id="107" idx="5"/>
            <a:endCxn id="120" idx="1"/>
          </p:cNvCxnSpPr>
          <p:nvPr/>
        </p:nvCxnSpPr>
        <p:spPr>
          <a:xfrm>
            <a:off x="3651120" y="2725200"/>
            <a:ext cx="1758240" cy="1047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1" name=""/>
          <p:cNvSpPr/>
          <p:nvPr/>
        </p:nvSpPr>
        <p:spPr>
          <a:xfrm flipH="1">
            <a:off x="2666880" y="4191120"/>
            <a:ext cx="1526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4495680" y="3200400"/>
            <a:ext cx="1526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1066680" y="5715000"/>
            <a:ext cx="1526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276520" y="3638520"/>
            <a:ext cx="6498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67080" y="5022720"/>
            <a:ext cx="6498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0" idx="3"/>
            <a:endCxn id="124" idx="7"/>
          </p:cNvCxnSpPr>
          <p:nvPr/>
        </p:nvCxnSpPr>
        <p:spPr>
          <a:xfrm flipH="1">
            <a:off x="4784040" y="4325400"/>
            <a:ext cx="624600" cy="831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6" name=""/>
          <p:cNvCxnSpPr>
            <a:stCxn id="124" idx="3"/>
            <a:endCxn id="112" idx="7"/>
          </p:cNvCxnSpPr>
          <p:nvPr/>
        </p:nvCxnSpPr>
        <p:spPr>
          <a:xfrm flipH="1">
            <a:off x="4215600" y="5710320"/>
            <a:ext cx="183240" cy="27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7" name=""/>
          <p:cNvSpPr/>
          <p:nvPr/>
        </p:nvSpPr>
        <p:spPr>
          <a:xfrm>
            <a:off x="6332400" y="5103720"/>
            <a:ext cx="60192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20" idx="5"/>
            <a:endCxn id="127" idx="1"/>
          </p:cNvCxnSpPr>
          <p:nvPr/>
        </p:nvCxnSpPr>
        <p:spPr>
          <a:xfrm>
            <a:off x="5794200" y="4325760"/>
            <a:ext cx="626040" cy="91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4842360" y="5924520"/>
            <a:ext cx="67068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24" idx="5"/>
            <a:endCxn id="129" idx="1"/>
          </p:cNvCxnSpPr>
          <p:nvPr/>
        </p:nvCxnSpPr>
        <p:spPr>
          <a:xfrm>
            <a:off x="4784760" y="5710320"/>
            <a:ext cx="180000" cy="348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8" name=""/>
          <p:cNvSpPr/>
          <p:nvPr/>
        </p:nvSpPr>
        <p:spPr>
          <a:xfrm>
            <a:off x="2768400" y="4248000"/>
            <a:ext cx="6498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18" idx="3"/>
            <a:endCxn id="132" idx="7"/>
          </p:cNvCxnSpPr>
          <p:nvPr/>
        </p:nvCxnSpPr>
        <p:spPr>
          <a:xfrm flipH="1">
            <a:off x="2751840" y="4935240"/>
            <a:ext cx="1486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3" name=""/>
          <p:cNvSpPr/>
          <p:nvPr/>
        </p:nvSpPr>
        <p:spPr>
          <a:xfrm>
            <a:off x="3470760" y="5086440"/>
            <a:ext cx="67068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" name=""/>
          <p:cNvCxnSpPr>
            <a:stCxn id="118" idx="5"/>
            <a:endCxn id="133" idx="1"/>
          </p:cNvCxnSpPr>
          <p:nvPr/>
        </p:nvCxnSpPr>
        <p:spPr>
          <a:xfrm>
            <a:off x="3285720" y="4935240"/>
            <a:ext cx="306720" cy="284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5" name=""/>
          <p:cNvSpPr/>
          <p:nvPr/>
        </p:nvSpPr>
        <p:spPr>
          <a:xfrm>
            <a:off x="1717920" y="5924520"/>
            <a:ext cx="60624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34880" y="5162400"/>
            <a:ext cx="6498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" name=""/>
          <p:cNvCxnSpPr>
            <a:stCxn id="132" idx="3"/>
            <a:endCxn id="135" idx="7"/>
          </p:cNvCxnSpPr>
          <p:nvPr/>
        </p:nvCxnSpPr>
        <p:spPr>
          <a:xfrm flipH="1">
            <a:off x="2211480" y="5850000"/>
            <a:ext cx="155880" cy="20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7" name=""/>
          <p:cNvSpPr/>
          <p:nvPr/>
        </p:nvSpPr>
        <p:spPr>
          <a:xfrm>
            <a:off x="2820600" y="5924520"/>
            <a:ext cx="44676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8" name=""/>
          <p:cNvCxnSpPr>
            <a:stCxn id="132" idx="5"/>
            <a:endCxn id="137" idx="1"/>
          </p:cNvCxnSpPr>
          <p:nvPr/>
        </p:nvCxnSpPr>
        <p:spPr>
          <a:xfrm>
            <a:off x="2752200" y="5850000"/>
            <a:ext cx="159480" cy="20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9" name=""/>
          <p:cNvSpPr/>
          <p:nvPr/>
        </p:nvSpPr>
        <p:spPr>
          <a:xfrm flipH="1">
            <a:off x="2742840" y="58672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240" y="579132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6019560" y="47242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3352680" y="5029200"/>
            <a:ext cx="1526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57200" y="2666520"/>
            <a:ext cx="2209680" cy="25146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981080" y="4800240"/>
            <a:ext cx="685800" cy="10666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4114800" y="4190760"/>
            <a:ext cx="1143000" cy="15238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EC8D-21DC-4A89-B4C7-6189607D72B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16.3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ical plan 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memory M = 101 buff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4419720" y="2590920"/>
            <a:ext cx="255600" cy="169920"/>
            <a:chOff x="4419720" y="2590920"/>
            <a:chExt cx="255600" cy="169920"/>
          </a:xfrm>
        </p:grpSpPr>
        <p:sp>
          <p:nvSpPr>
            <p:cNvPr id="149" name=""/>
            <p:cNvSpPr/>
            <p:nvPr/>
          </p:nvSpPr>
          <p:spPr>
            <a:xfrm>
              <a:off x="4419720" y="2590920"/>
              <a:ext cx="25560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419720" y="2590920"/>
              <a:ext cx="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4675320" y="2590920"/>
              <a:ext cx="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419720" y="2590920"/>
              <a:ext cx="25560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581280" y="3276720"/>
            <a:ext cx="255600" cy="169920"/>
            <a:chOff x="3581280" y="3276720"/>
            <a:chExt cx="255600" cy="169920"/>
          </a:xfrm>
        </p:grpSpPr>
        <p:sp>
          <p:nvSpPr>
            <p:cNvPr id="154" name=""/>
            <p:cNvSpPr/>
            <p:nvPr/>
          </p:nvSpPr>
          <p:spPr>
            <a:xfrm>
              <a:off x="3581280" y="3276720"/>
              <a:ext cx="25560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81280" y="3276720"/>
              <a:ext cx="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3836880" y="3276720"/>
              <a:ext cx="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3581280" y="3276720"/>
              <a:ext cx="25560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175120" y="3962520"/>
            <a:ext cx="14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(w,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,000 b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38520" y="3962520"/>
            <a:ext cx="161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(x,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,000 b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948200" y="3276720"/>
            <a:ext cx="161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(y,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,000 b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3809880" y="28195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24280" y="281952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971800" y="35053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86200" y="35053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08960" y="3124080"/>
            <a:ext cx="103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 b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E4FC-0A8A-496A-A6DB-6287F772491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16.3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ïve evaluatio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partitioned hash-jo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3B(R) + 3B(S) + 4k + 3B(U) = 75000 + 4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283120" y="2438280"/>
            <a:ext cx="4388040" cy="2075400"/>
            <a:chOff x="2283120" y="2438280"/>
            <a:chExt cx="4388040" cy="2075400"/>
          </a:xfrm>
        </p:grpSpPr>
        <p:grpSp>
          <p:nvGrpSpPr>
            <p:cNvPr id="169" name=""/>
            <p:cNvGrpSpPr/>
            <p:nvPr/>
          </p:nvGrpSpPr>
          <p:grpSpPr>
            <a:xfrm>
              <a:off x="4527720" y="2438280"/>
              <a:ext cx="255600" cy="169920"/>
              <a:chOff x="4527720" y="2438280"/>
              <a:chExt cx="255600" cy="169920"/>
            </a:xfrm>
          </p:grpSpPr>
          <p:sp>
            <p:nvSpPr>
              <p:cNvPr id="170" name=""/>
              <p:cNvSpPr/>
              <p:nvPr/>
            </p:nvSpPr>
            <p:spPr>
              <a:xfrm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5277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V="1">
                <a:off x="47833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3689280" y="3124080"/>
              <a:ext cx="255600" cy="169920"/>
              <a:chOff x="3689280" y="3124080"/>
              <a:chExt cx="255600" cy="169920"/>
            </a:xfrm>
          </p:grpSpPr>
          <p:sp>
            <p:nvSpPr>
              <p:cNvPr id="175" name=""/>
              <p:cNvSpPr/>
              <p:nvPr/>
            </p:nvSpPr>
            <p:spPr>
              <a:xfrm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6892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>
                <a:off x="39448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>
              <a:off x="2283120" y="3809880"/>
              <a:ext cx="1486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(w,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746520" y="38098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(x,y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56200" y="31240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(y,z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3917880" y="266688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832280" y="26668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3079800" y="335268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994200" y="335268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316960" y="2971440"/>
              <a:ext cx="103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1052280" y="202248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= 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434C-BD22-48DD-B37C-1B0548A5D85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16.3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2280" y="4495320"/>
            <a:ext cx="8839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mart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1: hash R on x into 100 buckets, each of 50 blocks; to d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2: hash S on x into 100 buckets; to d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3: read each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memory (50 buffer) join with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1 buffer); hash result on y into 50 buckets (50 buffers)   -- here we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ipe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t so far: 3B(R) + 3B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283120" y="2438280"/>
            <a:ext cx="4388040" cy="2075400"/>
            <a:chOff x="2283120" y="2438280"/>
            <a:chExt cx="4388040" cy="2075400"/>
          </a:xfrm>
        </p:grpSpPr>
        <p:grpSp>
          <p:nvGrpSpPr>
            <p:cNvPr id="191" name=""/>
            <p:cNvGrpSpPr/>
            <p:nvPr/>
          </p:nvGrpSpPr>
          <p:grpSpPr>
            <a:xfrm>
              <a:off x="4527720" y="2438280"/>
              <a:ext cx="255600" cy="169920"/>
              <a:chOff x="4527720" y="2438280"/>
              <a:chExt cx="255600" cy="169920"/>
            </a:xfrm>
          </p:grpSpPr>
          <p:sp>
            <p:nvSpPr>
              <p:cNvPr id="192" name=""/>
              <p:cNvSpPr/>
              <p:nvPr/>
            </p:nvSpPr>
            <p:spPr>
              <a:xfrm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5277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47833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3689280" y="3124080"/>
              <a:ext cx="255600" cy="169920"/>
              <a:chOff x="3689280" y="3124080"/>
              <a:chExt cx="255600" cy="169920"/>
            </a:xfrm>
          </p:grpSpPr>
          <p:sp>
            <p:nvSpPr>
              <p:cNvPr id="197" name=""/>
              <p:cNvSpPr/>
              <p:nvPr/>
            </p:nvSpPr>
            <p:spPr>
              <a:xfrm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6892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V="1">
                <a:off x="39448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2283120" y="3809880"/>
              <a:ext cx="1486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(w,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46520" y="38098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(x,y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056200" y="31240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(y,z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3917880" y="266688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832280" y="26668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3079800" y="335268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94200" y="335268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316960" y="2971440"/>
              <a:ext cx="103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1052280" y="202248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= 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419B-6A3E-46EA-AAC8-EFA05B58B9D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16.3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2280" y="4495320"/>
            <a:ext cx="8839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large are the 50 buckets on y ?  Answer: k/5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k &lt;= 50 then keep all 50 buckets in Step 3 in memory, 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4: read U from disk, hash on y and join with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cost: 3B(R) + 3B(S) + B(U) = 5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2283120" y="2438280"/>
            <a:ext cx="4388040" cy="2075400"/>
            <a:chOff x="2283120" y="2438280"/>
            <a:chExt cx="4388040" cy="2075400"/>
          </a:xfrm>
        </p:grpSpPr>
        <p:grpSp>
          <p:nvGrpSpPr>
            <p:cNvPr id="213" name=""/>
            <p:cNvGrpSpPr/>
            <p:nvPr/>
          </p:nvGrpSpPr>
          <p:grpSpPr>
            <a:xfrm>
              <a:off x="4527720" y="2438280"/>
              <a:ext cx="255600" cy="169920"/>
              <a:chOff x="4527720" y="2438280"/>
              <a:chExt cx="255600" cy="169920"/>
            </a:xfrm>
          </p:grpSpPr>
          <p:sp>
            <p:nvSpPr>
              <p:cNvPr id="214" name=""/>
              <p:cNvSpPr/>
              <p:nvPr/>
            </p:nvSpPr>
            <p:spPr>
              <a:xfrm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5277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47833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3689280" y="3124080"/>
              <a:ext cx="255600" cy="169920"/>
              <a:chOff x="3689280" y="3124080"/>
              <a:chExt cx="255600" cy="169920"/>
            </a:xfrm>
          </p:grpSpPr>
          <p:sp>
            <p:nvSpPr>
              <p:cNvPr id="219" name=""/>
              <p:cNvSpPr/>
              <p:nvPr/>
            </p:nvSpPr>
            <p:spPr>
              <a:xfrm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6892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V="1">
                <a:off x="39448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2283120" y="3809880"/>
              <a:ext cx="1486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(w,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746520" y="38098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(x,y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056200" y="31240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(y,z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3917880" y="266688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832280" y="26668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3079800" y="335268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94200" y="335268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316960" y="2971440"/>
              <a:ext cx="103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1052280" y="202248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= 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8EEF-F210-49CD-B5C4-9A223220867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16.3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52280" y="4495320"/>
            <a:ext cx="8839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inu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50 &lt; k &lt;= 5000 then send the 50 buckets in Step 3 to d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ch bucket has size k/50 &lt;=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4: partition U into 50 buck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5: read each partition and join i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cost: 3B(R) + 3B(S) + 2k + 3B(U) = 75,000 + 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2283120" y="2438280"/>
            <a:ext cx="4388040" cy="2075400"/>
            <a:chOff x="2283120" y="2438280"/>
            <a:chExt cx="4388040" cy="2075400"/>
          </a:xfrm>
        </p:grpSpPr>
        <p:grpSp>
          <p:nvGrpSpPr>
            <p:cNvPr id="235" name=""/>
            <p:cNvGrpSpPr/>
            <p:nvPr/>
          </p:nvGrpSpPr>
          <p:grpSpPr>
            <a:xfrm>
              <a:off x="4527720" y="2438280"/>
              <a:ext cx="255600" cy="169920"/>
              <a:chOff x="4527720" y="2438280"/>
              <a:chExt cx="255600" cy="169920"/>
            </a:xfrm>
          </p:grpSpPr>
          <p:sp>
            <p:nvSpPr>
              <p:cNvPr id="236" name=""/>
              <p:cNvSpPr/>
              <p:nvPr/>
            </p:nvSpPr>
            <p:spPr>
              <a:xfrm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5277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V="1">
                <a:off x="47833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3689280" y="3124080"/>
              <a:ext cx="255600" cy="169920"/>
              <a:chOff x="3689280" y="3124080"/>
              <a:chExt cx="255600" cy="169920"/>
            </a:xfrm>
          </p:grpSpPr>
          <p:sp>
            <p:nvSpPr>
              <p:cNvPr id="241" name=""/>
              <p:cNvSpPr/>
              <p:nvPr/>
            </p:nvSpPr>
            <p:spPr>
              <a:xfrm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6892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V="1">
                <a:off x="39448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2283120" y="3809880"/>
              <a:ext cx="1486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(w,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746520" y="38098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(x,y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056200" y="31240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(y,z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3917880" y="266688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832280" y="26668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3079800" y="335268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994200" y="335268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316960" y="2971440"/>
              <a:ext cx="103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1052280" y="202248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= 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4D19-FAFE-4623-92A8-59096C504F7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ministra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per email to clas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 1b on the homework has been updated, see web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CB9C-7D64-4558-B40E-B26613DBA2B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16.3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k &gt; 5000 then materialize instead of 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partitioned hash-jo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3B(R) + 3B(S) + 4k + 3B(U) = 75000 + 4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2283120" y="2438280"/>
            <a:ext cx="4388040" cy="2075400"/>
            <a:chOff x="2283120" y="2438280"/>
            <a:chExt cx="4388040" cy="2075400"/>
          </a:xfrm>
        </p:grpSpPr>
        <p:grpSp>
          <p:nvGrpSpPr>
            <p:cNvPr id="257" name=""/>
            <p:cNvGrpSpPr/>
            <p:nvPr/>
          </p:nvGrpSpPr>
          <p:grpSpPr>
            <a:xfrm>
              <a:off x="4527720" y="2438280"/>
              <a:ext cx="255600" cy="169920"/>
              <a:chOff x="4527720" y="2438280"/>
              <a:chExt cx="255600" cy="169920"/>
            </a:xfrm>
          </p:grpSpPr>
          <p:sp>
            <p:nvSpPr>
              <p:cNvPr id="258" name=""/>
              <p:cNvSpPr/>
              <p:nvPr/>
            </p:nvSpPr>
            <p:spPr>
              <a:xfrm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5277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V="1">
                <a:off x="47833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3689280" y="3124080"/>
              <a:ext cx="255600" cy="169920"/>
              <a:chOff x="3689280" y="3124080"/>
              <a:chExt cx="255600" cy="169920"/>
            </a:xfrm>
          </p:grpSpPr>
          <p:sp>
            <p:nvSpPr>
              <p:cNvPr id="263" name=""/>
              <p:cNvSpPr/>
              <p:nvPr/>
            </p:nvSpPr>
            <p:spPr>
              <a:xfrm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6892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V="1">
                <a:off x="39448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2283120" y="3809880"/>
              <a:ext cx="1486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(w,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746520" y="38098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(x,y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056200" y="31240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(y,z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3917880" y="266688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832280" y="26668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3079800" y="335268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994200" y="335268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316960" y="2971440"/>
              <a:ext cx="103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1052280" y="202248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= 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DD48-6BA3-4800-B2B4-0509A7E2FA9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16.3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k &lt;= 50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= 55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50 &lt; k &lt;=5000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= 75,000 + 2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k &gt; 5000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= 75,000 + 4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36A7-FE06-4055-B565-2591C5A601A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imating Siz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size in order to estimate c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of partitioned hash-join E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2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3B(E1) + 3B(E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(E1) = T(E1) * record size/ bloc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(E2) = T(E2) * record size/ bloc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, we need to estimate T(E1), T(E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A632-FC40-4ED4-96FC-DDF3B7A7945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imating Siz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ing the size of a proj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: T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) = T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because a projection doesn’t eliminate duplic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D539-1F08-4C02-8814-D3BC4150F26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imating Siz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imating the size of a se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=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S) san be anything from 0 to T(R) – V(R,A)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 value: T(S) = T(R)/V(R,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&lt;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S) can be anything from 0 to T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uristics: T(S) = T(R)/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CD13-56D2-4234-BD2C-2EF53C2734A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imating Siz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ing the size of a natural join, 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set of A values are disjoint, then T(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)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is a key in S and a foreign key in R, then T(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) = T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has a unique value, the same in R and S, then T(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) = T(R) T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3B47-76E5-4DE3-90C4-6BD4EC62D56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imating Siz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p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ainment of valu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f V(R,A) &lt;= V(S,A), then the set of A values of R is included in the set of A values of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this indeed holds when A is a foreign key in R, and a key in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eservation of valu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for any other attribute B,  V(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, B) = V(R, B)   (or V(S, B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4C91-805E-4CD8-A750-86F3153C7D7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imating Siz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V(R,A) &lt;= V(S,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each tuple t in R join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uple(s) in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an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average T(S)/V(S,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will contribute T(S)/V(S,A) tuples in 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T(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T(R) T(S) / V(S,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: T(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T(R) T(S) / max(V(R,A),V(S,A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EC96-CCD0-4772-92AE-9059D6E8C92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imating Siz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(R) = 10000,  T(S) = 2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(R,A) = 100,  V(S,A) = 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large is 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 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T(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) = 10000 20000/200 = 1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95B6-2BD9-4209-93D8-4FF0BD5EA5B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imating Siz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s on more than one attribu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(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,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(R) T(S)/(max(V(R,A),V(S,A))*max(V(R,B),V(S,B)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1FE6-94E2-434F-A37B-D151ECAAF46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-based Query Optimz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ing the physical query plan: 16.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estimation: 16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FA61-7798-46D8-91B4-0AF1C1B95F6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stics on data maintained by the R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s size estimation much more accurate (hence, cost estimations are more accura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CABD-13BD-4603-90DD-0FBDCDB5745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mployee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ssn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name, salary, pho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 histogram on sala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(Employee) = 25000, but now we know the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838080" y="3429000"/>
          <a:ext cx="7848720" cy="1270080"/>
        </p:xfrm>
        <a:graphic>
          <a:graphicData uri="http://schemas.openxmlformats.org/drawingml/2006/table">
            <a:tbl>
              <a:tblPr/>
              <a:tblGrid>
                <a:gridCol w="1120680"/>
                <a:gridCol w="1121040"/>
                <a:gridCol w="1122120"/>
                <a:gridCol w="1122480"/>
                <a:gridCol w="1120680"/>
                <a:gridCol w="1120680"/>
                <a:gridCol w="1121040"/>
              </a:tblGrid>
              <a:tr h="63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ary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.2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k..4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k..6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k..8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k..10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 10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39DD-383F-4DC9-B5EB-3D873865FA0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anks(rankName, sala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the size of Employe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ala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a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838080" y="3276720"/>
          <a:ext cx="7162920" cy="761760"/>
        </p:xfrm>
        <a:graphic>
          <a:graphicData uri="http://schemas.openxmlformats.org/drawingml/2006/table">
            <a:tbl>
              <a:tblPr/>
              <a:tblGrid>
                <a:gridCol w="1024200"/>
                <a:gridCol w="1020600"/>
                <a:gridCol w="1025640"/>
                <a:gridCol w="1023840"/>
                <a:gridCol w="1023840"/>
                <a:gridCol w="1020960"/>
                <a:gridCol w="102384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ploy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.2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k..4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k..6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k..8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k..10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 10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838080" y="4343400"/>
          <a:ext cx="7162920" cy="762120"/>
        </p:xfrm>
        <a:graphic>
          <a:graphicData uri="http://schemas.openxmlformats.org/drawingml/2006/table">
            <a:tbl>
              <a:tblPr/>
              <a:tblGrid>
                <a:gridCol w="1024200"/>
                <a:gridCol w="1020600"/>
                <a:gridCol w="1025640"/>
                <a:gridCol w="1023840"/>
                <a:gridCol w="1023840"/>
                <a:gridCol w="1020960"/>
                <a:gridCol w="102384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n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.2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k..4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k..6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k..8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k..10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 10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EF79-CF9A-45C2-B298-64AD3842EAD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(Employee, Salary) = 2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(Ranks, Salary) = 2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 propert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ploye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ala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anks=Employe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ala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ank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...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mplye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ala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ank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tuple t in Employe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joins with how many tuples in Rank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swer: with T(Employe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/T(Employee) *  T(Employee)/250 =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/ 2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T(Employe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ala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anks) =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=1,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 / 25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(200x8 + 800x20 + 5000x40 +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12000x80 + 6500x100 + 500x2)/25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…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1FFE-25DC-4CAB-AF80-F89C590054E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ucing the Search Sp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-linear trees v.s. Bushy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s without cartesian 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 R(A,B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 S(B,C) ⋈ T(C,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lan: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(A,B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 T(C,D)) ⋈ S(B,C) has a cartesian product – most query optimizers will not consider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858B-6733-4F7B-93A7-19391B72654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nting the Number of Join Or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thematics we need to know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...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how many permutations can we construct ?  Answer:  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permutations of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br>
              <a:rPr sz="2800"/>
            </a:b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br>
              <a:rPr sz="2800"/>
            </a:b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here are 4! = 4*3*2*1 = 24 permutat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AC5A-20F6-40D8-AA05-CA80AE14F5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nting the Number of Join Or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thematics we need to kn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the product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n how many ways can we place n pairs of parenthesis around them ? Answer:  1/(n+1)*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(2n)!/((n+1)*(n!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for n=3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</a:t>
            </a:r>
            <a:br>
              <a:rPr sz="2400"/>
            </a:b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400"/>
            </a:b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 </a:t>
            </a:r>
            <a:br>
              <a:rPr sz="2400"/>
            </a:b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400"/>
            </a:b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6!/(4*3!*3!) = 5 w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DAD6-83B0-42A0-9F6F-032CA8F5657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nting the Number of Join Orders (Excerci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 ⋈ . . . ⋈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n+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he number of left linear join trees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he number of left linear join trees without cartesian products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he number of bushy join trees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he number of bushy join trees without cartesian product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D9BB-7A90-4521-B61C-B71B667DD57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mber of Subplans Inspected by 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 ⋈ . . . ⋈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n+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he number of left linear subplans inspected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he number of left linear subplans without cartesian products inspected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he number of bushy join subplans inspected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he number of bushy join subplans without cartesian produ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10EF-B1E8-44E6-A198-1EEC6456828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ing th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sical Query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oose algorithm to implement each op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account for more than co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uch memory do we hav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the input operand(s) sorted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de for each intermediate resul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ateria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97FB-EF65-4C43-9F6B-09E1196527A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Administrator</cp:lastModifiedBy>
  <dcterms:modified xsi:type="dcterms:W3CDTF">2002-12-04T18:18:20Z</dcterms:modified>
  <cp:revision>376</cp:revision>
  <dc:subject/>
  <dc:title>Lecture 09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473878819</vt:r8>
  </property>
  <property fmtid="{D5CDD505-2E9C-101B-9397-08002B2CF9AE}" pid="3" name="_AuthorEmail">
    <vt:lpwstr>suciu@cs.washington.edu</vt:lpwstr>
  </property>
  <property fmtid="{D5CDD505-2E9C-101B-9397-08002B2CF9AE}" pid="4" name="_AuthorEmailDisplayName">
    <vt:lpwstr>Dan Suciu</vt:lpwstr>
  </property>
  <property fmtid="{D5CDD505-2E9C-101B-9397-08002B2CF9AE}" pid="5" name="_EmailSubject">
    <vt:lpwstr>Lecture26 updated</vt:lpwstr>
  </property>
</Properties>
</file>