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4E4-3604-4AB8-8DE4-3CEAE9DF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77D-6F3B-4949-834C-6300EFD6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99F-D0C2-4BA8-809F-D9CD3EA3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3C5-8388-4491-B31E-9653F510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BBC-9256-4965-A7AE-3BD0B2F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DE1-38F1-4070-AA95-DCF414E3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7C7-0BBA-4377-AE15-C10A5B0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DC3-75C4-4477-81DE-A470A0A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C5C-5B79-4234-9C9F-F4DDDCB1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649-C8C3-4090-8B5C-A1D3DDC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8AC-5501-4ECD-BCAB-B67D3AB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56C-3725-453A-AD5C-646D60B1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7387-2EC5-4EC9-B307-87FAFD695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5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27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EAA-352B-4E26-8036-6BD601E4FD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124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129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134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145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BF4-B89A-41AF-9BEB-2488404697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155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160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165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170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2EF-5E86-468F-A467-160157B617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5DF-033D-46C3-8424-AA0425B45B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00E-2EDA-4B05-8241-943B8C1478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CA7-B2AA-48C0-B3E8-24F962DF24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2E3-89BA-4F9B-AF1E-701C089A90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1FB-90FA-497C-90FA-8EF30C4D49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451-AA65-4AC9-AB8B-AD3324E40E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75C-EB3E-46B1-B5EF-B05661B496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412-E3FB-4F2C-8E9E-6CC700F01D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5 is due on Monday, 12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demos will be on Tuesday 12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am – 12p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m – 4p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pm – 6p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end me email for an appoin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ome first serv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633-4235-4C53-A7C2-1FEB75E30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168-9218-4C13-8A4C-410FC9BF4B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09680" y="152280"/>
          <a:ext cx="4267440" cy="6454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51D-376A-4FD6-96CD-FA1808E037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095-E94C-4A45-9537-DFC956FB7D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7B1-A1C5-403B-8C97-94FF7B409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B64-34C3-4D6B-A53A-9A03C1E295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2" idx="3"/>
            <a:endCxn id="213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13" idx="3"/>
            <a:endCxn id="214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3"/>
            <a:endCxn id="218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4" idx="5"/>
            <a:endCxn id="219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3" idx="5"/>
            <a:endCxn id="217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2" idx="5"/>
            <a:endCxn id="220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418-8EB1-4451-AEEF-C1056B2A63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AC7-8A6F-4CAD-8D77-8C10B88224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6" idx="3"/>
            <a:endCxn id="237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7" idx="3"/>
            <a:endCxn id="238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38" idx="3"/>
            <a:endCxn id="242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8" idx="5"/>
            <a:endCxn id="243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7" idx="5"/>
            <a:endCxn id="241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6" idx="5"/>
            <a:endCxn id="244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5760" y="6248520"/>
            <a:ext cx="55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How much main memory do we need ? 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255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570000">
              <a:off x="484920" y="324792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67B-7CBD-4A08-9FCB-0AD396965C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697-B098-4019-B157-72E921AF39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F5A-BC63-41A1-ADD1-9FAED98321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: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physical query plan: 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 (will continue next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FD2-C90D-4577-99A0-DAD672C95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264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269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DC0-BAF4-499C-A74B-F718614361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84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85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90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B28-2690-45D2-A7B9-3EC27B257F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i in memory (50 buffer) join with Si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0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0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7F2-C723-4CFD-AC1C-ED067794C1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26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27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32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ED7-74FC-4C99-9C88-49FA0A86DD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4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4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FC1-BD9D-44C1-921E-B1B27DD911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68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69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74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079-0C6F-4FCF-8760-1354281DE3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E98-95CD-4A2C-93DE-EA48FD1298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ize in order to estimat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artitioned hash-join E1     E2 is 3B(E1) + 3B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1) = T(E1)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2) = T(E2)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need to estimate T(E1), T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172200" y="3352680"/>
            <a:ext cx="348840" cy="392400"/>
            <a:chOff x="6172200" y="3352680"/>
            <a:chExt cx="348840" cy="392400"/>
          </a:xfrm>
        </p:grpSpPr>
        <p:grpSp>
          <p:nvGrpSpPr>
            <p:cNvPr id="391" name=""/>
            <p:cNvGrpSpPr/>
            <p:nvPr/>
          </p:nvGrpSpPr>
          <p:grpSpPr>
            <a:xfrm>
              <a:off x="6172200" y="3352680"/>
              <a:ext cx="220320" cy="147600"/>
              <a:chOff x="6172200" y="3352680"/>
              <a:chExt cx="220320" cy="147600"/>
            </a:xfrm>
          </p:grpSpPr>
          <p:sp>
            <p:nvSpPr>
              <p:cNvPr id="392" name=""/>
              <p:cNvSpPr/>
              <p:nvPr/>
            </p:nvSpPr>
            <p:spPr>
              <a:xfrm>
                <a:off x="6172200" y="3352680"/>
                <a:ext cx="220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200" y="335268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6392520" y="335268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172200" y="3352680"/>
                <a:ext cx="220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337440" y="3408120"/>
              <a:ext cx="18360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DA4-E7CA-4A6E-B764-ABE69870D7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643-9DEB-46E6-BD35-3F5B1CBF30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744-4280-466C-8763-A31B908607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029-6935-4C50-B23F-4F3AFC8A0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   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   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    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62920" y="2209320"/>
            <a:ext cx="556920" cy="414000"/>
            <a:chOff x="7162920" y="2209320"/>
            <a:chExt cx="556920" cy="414000"/>
          </a:xfrm>
        </p:grpSpPr>
        <p:grpSp>
          <p:nvGrpSpPr>
            <p:cNvPr id="404" name=""/>
            <p:cNvGrpSpPr/>
            <p:nvPr/>
          </p:nvGrpSpPr>
          <p:grpSpPr>
            <a:xfrm>
              <a:off x="7162920" y="2209320"/>
              <a:ext cx="304560" cy="203760"/>
              <a:chOff x="7162920" y="2209320"/>
              <a:chExt cx="304560" cy="203760"/>
            </a:xfrm>
          </p:grpSpPr>
          <p:sp>
            <p:nvSpPr>
              <p:cNvPr id="405" name=""/>
              <p:cNvSpPr/>
              <p:nvPr/>
            </p:nvSpPr>
            <p:spPr>
              <a:xfrm>
                <a:off x="7162920" y="22096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62920" y="22096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467480" y="22093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162920" y="22096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392960" y="2286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882800" y="3284640"/>
            <a:ext cx="556920" cy="413280"/>
            <a:chOff x="1882800" y="3284640"/>
            <a:chExt cx="556920" cy="413280"/>
          </a:xfrm>
        </p:grpSpPr>
        <p:grpSp>
          <p:nvGrpSpPr>
            <p:cNvPr id="411" name=""/>
            <p:cNvGrpSpPr/>
            <p:nvPr/>
          </p:nvGrpSpPr>
          <p:grpSpPr>
            <a:xfrm>
              <a:off x="1882800" y="3284640"/>
              <a:ext cx="304560" cy="203040"/>
              <a:chOff x="1882800" y="3284640"/>
              <a:chExt cx="304560" cy="203040"/>
            </a:xfrm>
          </p:grpSpPr>
          <p:sp>
            <p:nvSpPr>
              <p:cNvPr id="412" name=""/>
              <p:cNvSpPr/>
              <p:nvPr/>
            </p:nvSpPr>
            <p:spPr>
              <a:xfrm>
                <a:off x="1882800" y="3284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82800" y="3284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187360" y="3284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1882800" y="3284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112840" y="3360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103560" y="4346640"/>
            <a:ext cx="556920" cy="413280"/>
            <a:chOff x="3103560" y="4346640"/>
            <a:chExt cx="556920" cy="413280"/>
          </a:xfrm>
        </p:grpSpPr>
        <p:grpSp>
          <p:nvGrpSpPr>
            <p:cNvPr id="418" name=""/>
            <p:cNvGrpSpPr/>
            <p:nvPr/>
          </p:nvGrpSpPr>
          <p:grpSpPr>
            <a:xfrm>
              <a:off x="3103560" y="4346640"/>
              <a:ext cx="304560" cy="203040"/>
              <a:chOff x="3103560" y="4346640"/>
              <a:chExt cx="304560" cy="203040"/>
            </a:xfrm>
          </p:grpSpPr>
          <p:sp>
            <p:nvSpPr>
              <p:cNvPr id="419" name=""/>
              <p:cNvSpPr/>
              <p:nvPr/>
            </p:nvSpPr>
            <p:spPr>
              <a:xfrm>
                <a:off x="3103560" y="4346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03560" y="4346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408120" y="4346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103560" y="4346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333600" y="4422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09880" y="5409720"/>
            <a:ext cx="556920" cy="414000"/>
            <a:chOff x="3809880" y="5409720"/>
            <a:chExt cx="556920" cy="414000"/>
          </a:xfrm>
        </p:grpSpPr>
        <p:grpSp>
          <p:nvGrpSpPr>
            <p:cNvPr id="425" name=""/>
            <p:cNvGrpSpPr/>
            <p:nvPr/>
          </p:nvGrpSpPr>
          <p:grpSpPr>
            <a:xfrm>
              <a:off x="3809880" y="5409720"/>
              <a:ext cx="304560" cy="203760"/>
              <a:chOff x="3809880" y="5409720"/>
              <a:chExt cx="304560" cy="20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3809880" y="54100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09880" y="54100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4114440" y="54097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809880" y="54100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4039920" y="5486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5CF-2FFF-4921-BCE7-31C3D352CF9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   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766880" y="5299200"/>
            <a:ext cx="556920" cy="413280"/>
            <a:chOff x="1766880" y="5299200"/>
            <a:chExt cx="556920" cy="413280"/>
          </a:xfrm>
        </p:grpSpPr>
        <p:grpSp>
          <p:nvGrpSpPr>
            <p:cNvPr id="434" name=""/>
            <p:cNvGrpSpPr/>
            <p:nvPr/>
          </p:nvGrpSpPr>
          <p:grpSpPr>
            <a:xfrm>
              <a:off x="1766880" y="5299200"/>
              <a:ext cx="304560" cy="203040"/>
              <a:chOff x="1766880" y="5299200"/>
              <a:chExt cx="304560" cy="203040"/>
            </a:xfrm>
          </p:grpSpPr>
          <p:sp>
            <p:nvSpPr>
              <p:cNvPr id="435" name=""/>
              <p:cNvSpPr/>
              <p:nvPr/>
            </p:nvSpPr>
            <p:spPr>
              <a:xfrm>
                <a:off x="1766880" y="529920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66880" y="529920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2071440" y="529920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766880" y="529920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1996920" y="5375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706-45BB-4A8E-A7D4-4329126C82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S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S/V(S,A) tuples in R    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      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     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008760" y="4048200"/>
            <a:ext cx="519840" cy="401040"/>
            <a:chOff x="6008760" y="4048200"/>
            <a:chExt cx="519840" cy="401040"/>
          </a:xfrm>
        </p:grpSpPr>
        <p:grpSp>
          <p:nvGrpSpPr>
            <p:cNvPr id="443" name=""/>
            <p:cNvGrpSpPr/>
            <p:nvPr/>
          </p:nvGrpSpPr>
          <p:grpSpPr>
            <a:xfrm>
              <a:off x="6008760" y="4048200"/>
              <a:ext cx="254880" cy="169920"/>
              <a:chOff x="6008760" y="4048200"/>
              <a:chExt cx="254880" cy="169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008760" y="404820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08760" y="404820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6263640" y="404820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008760" y="404820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201720" y="4111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619360" y="4546080"/>
            <a:ext cx="519840" cy="401400"/>
            <a:chOff x="2619360" y="4546080"/>
            <a:chExt cx="519840" cy="401400"/>
          </a:xfrm>
        </p:grpSpPr>
        <p:grpSp>
          <p:nvGrpSpPr>
            <p:cNvPr id="450" name=""/>
            <p:cNvGrpSpPr/>
            <p:nvPr/>
          </p:nvGrpSpPr>
          <p:grpSpPr>
            <a:xfrm>
              <a:off x="2619360" y="4546080"/>
              <a:ext cx="254880" cy="170640"/>
              <a:chOff x="2619360" y="4546080"/>
              <a:chExt cx="254880" cy="170640"/>
            </a:xfrm>
          </p:grpSpPr>
          <p:sp>
            <p:nvSpPr>
              <p:cNvPr id="451" name=""/>
              <p:cNvSpPr/>
              <p:nvPr/>
            </p:nvSpPr>
            <p:spPr>
              <a:xfrm>
                <a:off x="2619360" y="454644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19360" y="4546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2874240" y="45460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619360" y="454644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2812320" y="4610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905200" y="5586480"/>
            <a:ext cx="519840" cy="401040"/>
            <a:chOff x="2905200" y="5586480"/>
            <a:chExt cx="519840" cy="401040"/>
          </a:xfrm>
        </p:grpSpPr>
        <p:grpSp>
          <p:nvGrpSpPr>
            <p:cNvPr id="457" name=""/>
            <p:cNvGrpSpPr/>
            <p:nvPr/>
          </p:nvGrpSpPr>
          <p:grpSpPr>
            <a:xfrm>
              <a:off x="2905200" y="5586480"/>
              <a:ext cx="254880" cy="169920"/>
              <a:chOff x="2905200" y="5586480"/>
              <a:chExt cx="254880" cy="169920"/>
            </a:xfrm>
          </p:grpSpPr>
          <p:sp>
            <p:nvSpPr>
              <p:cNvPr id="458" name=""/>
              <p:cNvSpPr/>
              <p:nvPr/>
            </p:nvSpPr>
            <p:spPr>
              <a:xfrm>
                <a:off x="2905200" y="558648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05200" y="55864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3160080" y="55864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905200" y="558648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98160" y="5650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831-C6A6-4436-864A-08923DFB21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  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     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797280" y="3984120"/>
            <a:ext cx="519840" cy="401400"/>
            <a:chOff x="3797280" y="3984120"/>
            <a:chExt cx="519840" cy="401400"/>
          </a:xfrm>
        </p:grpSpPr>
        <p:grpSp>
          <p:nvGrpSpPr>
            <p:cNvPr id="466" name=""/>
            <p:cNvGrpSpPr/>
            <p:nvPr/>
          </p:nvGrpSpPr>
          <p:grpSpPr>
            <a:xfrm>
              <a:off x="3797280" y="3984120"/>
              <a:ext cx="254880" cy="170640"/>
              <a:chOff x="3797280" y="3984120"/>
              <a:chExt cx="254880" cy="170640"/>
            </a:xfrm>
          </p:grpSpPr>
          <p:sp>
            <p:nvSpPr>
              <p:cNvPr id="467" name=""/>
              <p:cNvSpPr/>
              <p:nvPr/>
            </p:nvSpPr>
            <p:spPr>
              <a:xfrm>
                <a:off x="3797280" y="39844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97280" y="39844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4052160" y="398412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797280" y="39844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990240" y="4048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071880" y="5159520"/>
            <a:ext cx="519840" cy="401040"/>
            <a:chOff x="3071880" y="5159520"/>
            <a:chExt cx="519840" cy="401040"/>
          </a:xfrm>
        </p:grpSpPr>
        <p:grpSp>
          <p:nvGrpSpPr>
            <p:cNvPr id="473" name=""/>
            <p:cNvGrpSpPr/>
            <p:nvPr/>
          </p:nvGrpSpPr>
          <p:grpSpPr>
            <a:xfrm>
              <a:off x="3071880" y="5159520"/>
              <a:ext cx="254880" cy="169920"/>
              <a:chOff x="3071880" y="5159520"/>
              <a:chExt cx="254880" cy="169920"/>
            </a:xfrm>
          </p:grpSpPr>
          <p:sp>
            <p:nvSpPr>
              <p:cNvPr id="474" name=""/>
              <p:cNvSpPr/>
              <p:nvPr/>
            </p:nvSpPr>
            <p:spPr>
              <a:xfrm>
                <a:off x="3071880" y="515952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71880" y="51595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3326760" y="51595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071880" y="515952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264840" y="5223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6FD-F7C3-4150-A251-9F9CFEEBAD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        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max(V(R,A),V(S,A))max(V(R,B),V(S,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615680" y="2717280"/>
            <a:ext cx="706320" cy="401400"/>
            <a:chOff x="1615680" y="2717280"/>
            <a:chExt cx="706320" cy="401400"/>
          </a:xfrm>
        </p:grpSpPr>
        <p:grpSp>
          <p:nvGrpSpPr>
            <p:cNvPr id="482" name=""/>
            <p:cNvGrpSpPr/>
            <p:nvPr/>
          </p:nvGrpSpPr>
          <p:grpSpPr>
            <a:xfrm>
              <a:off x="1615680" y="2717280"/>
              <a:ext cx="255600" cy="170640"/>
              <a:chOff x="1615680" y="2717280"/>
              <a:chExt cx="255600" cy="170640"/>
            </a:xfrm>
          </p:grpSpPr>
          <p:sp>
            <p:nvSpPr>
              <p:cNvPr id="483" name=""/>
              <p:cNvSpPr/>
              <p:nvPr/>
            </p:nvSpPr>
            <p:spPr>
              <a:xfrm>
                <a:off x="1616040" y="2717640"/>
                <a:ext cx="25524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16040" y="27176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1871280" y="27172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1615680" y="2717640"/>
                <a:ext cx="25524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809000" y="2781360"/>
              <a:ext cx="5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D38-B993-45EF-A02C-207C51CCCAC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A5F-81E6-4FDE-B348-3358F8590ED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7C7-C3B0-44FE-852D-D012B9B483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        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7" name=""/>
          <p:cNvGrpSpPr/>
          <p:nvPr/>
        </p:nvGrpSpPr>
        <p:grpSpPr>
          <a:xfrm>
            <a:off x="6205320" y="2835360"/>
            <a:ext cx="893520" cy="401040"/>
            <a:chOff x="6205320" y="2835360"/>
            <a:chExt cx="893520" cy="401040"/>
          </a:xfrm>
        </p:grpSpPr>
        <p:grpSp>
          <p:nvGrpSpPr>
            <p:cNvPr id="498" name=""/>
            <p:cNvGrpSpPr/>
            <p:nvPr/>
          </p:nvGrpSpPr>
          <p:grpSpPr>
            <a:xfrm>
              <a:off x="6205320" y="2835360"/>
              <a:ext cx="255600" cy="169920"/>
              <a:chOff x="6205320" y="2835360"/>
              <a:chExt cx="255600" cy="169920"/>
            </a:xfrm>
          </p:grpSpPr>
          <p:sp>
            <p:nvSpPr>
              <p:cNvPr id="499" name=""/>
              <p:cNvSpPr/>
              <p:nvPr/>
            </p:nvSpPr>
            <p:spPr>
              <a:xfrm>
                <a:off x="620568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0568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6092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620532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6400080" y="28990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43F-2E1A-430E-B66D-651BFA2BCDA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(Employee            Ranks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244760" y="3652920"/>
            <a:ext cx="893520" cy="401040"/>
            <a:chOff x="4244760" y="3652920"/>
            <a:chExt cx="893520" cy="401040"/>
          </a:xfrm>
        </p:grpSpPr>
        <p:grpSp>
          <p:nvGrpSpPr>
            <p:cNvPr id="507" name=""/>
            <p:cNvGrpSpPr/>
            <p:nvPr/>
          </p:nvGrpSpPr>
          <p:grpSpPr>
            <a:xfrm>
              <a:off x="4244760" y="3652920"/>
              <a:ext cx="255600" cy="169920"/>
              <a:chOff x="4244760" y="3652920"/>
              <a:chExt cx="255600" cy="169920"/>
            </a:xfrm>
          </p:grpSpPr>
          <p:sp>
            <p:nvSpPr>
              <p:cNvPr id="508" name=""/>
              <p:cNvSpPr/>
              <p:nvPr/>
            </p:nvSpPr>
            <p:spPr>
              <a:xfrm>
                <a:off x="424512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4512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450036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24476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39520" y="3716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0A2-AB4C-4858-9899-334C67ED5D2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789-2593-4481-ACD9-E1E134EFD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D9E-BB1A-4F63-927F-8CDF46AC0A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: 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015-A183-4E61-B33B-28EFE97D78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62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67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72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102-6C9D-4C0E-A586-18BA1DAB5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85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90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95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00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E72-D109-4230-81AA-54FE07E99D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2-02T03:11:04Z</dcterms:modified>
  <cp:revision>333</cp:revision>
  <dc:subject/>
  <dc:title>Lecture 09:</dc:title>
</cp:coreProperties>
</file>