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8D5E-9A8B-487F-976B-8CCB1573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524-CD19-46CA-AAF0-0353BC9E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A89-7192-40A9-B9E5-F124A33D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B8A-1254-4005-9EED-89532C58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D10-CB7D-4F76-9C15-A2AC47B6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620-94E3-44CB-91EC-A64F7080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A926-DD1B-4A8A-A1DC-15D025BD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0CE7-4DD3-481D-BBBF-1C5CCF72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D35-EBB5-4F34-A9A1-6015E2DC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B5F-6C5F-4347-A8B2-57604DAB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35D-9E8B-4868-9F6B-66EC0A0E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C8A-A80D-40B6-B31A-6BC99FA7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C1A6-1904-4F56-B1F1-6E61836E5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5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December 27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88A-C15E-43BE-8747-14505AC424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h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552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3600" y="5562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310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26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910960" y="3692520"/>
            <a:ext cx="305280" cy="203040"/>
            <a:chOff x="2910960" y="3692520"/>
            <a:chExt cx="305280" cy="203040"/>
          </a:xfrm>
        </p:grpSpPr>
        <p:sp>
          <p:nvSpPr>
            <p:cNvPr id="124" name=""/>
            <p:cNvSpPr/>
            <p:nvPr/>
          </p:nvSpPr>
          <p:spPr>
            <a:xfrm>
              <a:off x="291132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1132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21624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91096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807160" y="3768840"/>
            <a:ext cx="304560" cy="203040"/>
            <a:chOff x="5807160" y="3768840"/>
            <a:chExt cx="304560" cy="203040"/>
          </a:xfrm>
        </p:grpSpPr>
        <p:sp>
          <p:nvSpPr>
            <p:cNvPr id="129" name=""/>
            <p:cNvSpPr/>
            <p:nvPr/>
          </p:nvSpPr>
          <p:spPr>
            <a:xfrm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0716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11172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11160" y="3006720"/>
            <a:ext cx="305280" cy="203040"/>
            <a:chOff x="4511160" y="3006720"/>
            <a:chExt cx="305280" cy="203040"/>
          </a:xfrm>
        </p:grpSpPr>
        <p:sp>
          <p:nvSpPr>
            <p:cNvPr id="134" name=""/>
            <p:cNvSpPr/>
            <p:nvPr/>
          </p:nvSpPr>
          <p:spPr>
            <a:xfrm>
              <a:off x="45115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115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8164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5111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H="1">
            <a:off x="245412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16240" y="3997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349960" y="3997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8804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292200" y="3159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8720" y="3235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657240" y="4723920"/>
            <a:ext cx="305280" cy="203760"/>
            <a:chOff x="3657240" y="4723920"/>
            <a:chExt cx="305280" cy="203760"/>
          </a:xfrm>
        </p:grpSpPr>
        <p:sp>
          <p:nvSpPr>
            <p:cNvPr id="145" name=""/>
            <p:cNvSpPr/>
            <p:nvPr/>
          </p:nvSpPr>
          <p:spPr>
            <a:xfrm>
              <a:off x="3657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57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962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657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17708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2767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AE1-D501-4884-8EB7-70560B60DA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52320" y="2666520"/>
            <a:ext cx="305280" cy="203760"/>
            <a:chOff x="3352320" y="2666520"/>
            <a:chExt cx="305280" cy="203760"/>
          </a:xfrm>
        </p:grpSpPr>
        <p:sp>
          <p:nvSpPr>
            <p:cNvPr id="155" name=""/>
            <p:cNvSpPr/>
            <p:nvPr/>
          </p:nvSpPr>
          <p:spPr>
            <a:xfrm>
              <a:off x="335268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65760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35232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282560" y="3006720"/>
            <a:ext cx="305280" cy="203040"/>
            <a:chOff x="4282560" y="3006720"/>
            <a:chExt cx="305280" cy="203040"/>
          </a:xfrm>
        </p:grpSpPr>
        <p:sp>
          <p:nvSpPr>
            <p:cNvPr id="160" name=""/>
            <p:cNvSpPr/>
            <p:nvPr/>
          </p:nvSpPr>
          <p:spPr>
            <a:xfrm>
              <a:off x="42829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829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5878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2825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105520" y="3580920"/>
            <a:ext cx="304560" cy="203760"/>
            <a:chOff x="5105520" y="3580920"/>
            <a:chExt cx="304560" cy="203760"/>
          </a:xfrm>
        </p:grpSpPr>
        <p:sp>
          <p:nvSpPr>
            <p:cNvPr id="165" name=""/>
            <p:cNvSpPr/>
            <p:nvPr/>
          </p:nvSpPr>
          <p:spPr>
            <a:xfrm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5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4100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866920" y="4266720"/>
            <a:ext cx="305280" cy="203760"/>
            <a:chOff x="5866920" y="4266720"/>
            <a:chExt cx="305280" cy="203760"/>
          </a:xfrm>
        </p:grpSpPr>
        <p:sp>
          <p:nvSpPr>
            <p:cNvPr id="170" name=""/>
            <p:cNvSpPr/>
            <p:nvPr/>
          </p:nvSpPr>
          <p:spPr>
            <a:xfrm>
              <a:off x="586728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67280" y="42670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172200" y="42667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86692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440440" y="3429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4840" y="403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2920" y="4419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960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664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895120" y="2971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80988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723920" y="3886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56236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DA1-FFE5-4ED2-A176-79019E0125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 a query  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e have a function cost() that gives us the cost of every jo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best join tree for th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C8B6-F914-485E-A0FC-8E5F91CBA4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for each subset of {R1, …, Rn}, compute the best plan for that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creasing order of set cardina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for {R1}, {R2}, …, {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for {R1,R2}, {R1,R3}, …, {Rn-1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n: for {R1, …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bottom-up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et of {R1, …, Rn} is 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21C-4D30-48DA-818D-9E306954E8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subquery 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R1, …, Rn} comput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st plan for Q: Plan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that plan: Cost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CA8-EAE2-44FD-A95F-E5389FAD03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{Ri}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{Ri}) = B(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{Ri}) = 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{Ri}) = (cost of scanning 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D60-E231-4542-8DBF-7D7A98B410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R1, …, Rn} of cardinality i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Size(Q)    (later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pair of subqueries Q’, Q’’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t. Q = Q’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’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cost(Plan(Q’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lan(Q’’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Q) = the smallest suc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Q) = the correspond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8AA-CF5E-4CA3-8283-715C4AC56D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Plan({R1, …, Rn}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2C52-6DFF-4AE0-9C91-D5B1FEADA8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llustrate, we will make the following simpl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P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2) = Cost(P1) + Cost(P2) +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size(intermediate result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1 = a join, then the size of the intermediate result is size(P1), otherwise the size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 for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a scan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248-92FC-4E71-9E16-560060F279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R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7)  = 0       (no intermediate resu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(R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7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Cost(R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 + Cost(R7) + size(R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size(R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851F-6D05-4328-A464-EB1B0AF983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5 is due on Monday, 12/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demos will be on Tuesday 12/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am – 12p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pm – 4p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pm – 6p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send me email for an appoin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come first serve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2FA0-FF26-4238-BD11-FBCF5FBA83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: R, S, T,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tuples: 2000, 5000, 3000,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stimation: T(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) = 0.01*T(A)*T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F31-714D-4DAC-A08E-CB15783E3F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209680" y="152280"/>
          <a:ext cx="4267440" cy="645480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1066680"/>
                <a:gridCol w="106704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1A7-9BB8-432D-8730-EBE5A07337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209680" y="152280"/>
          <a:ext cx="5486040" cy="6454800"/>
        </p:xfrm>
        <a:graphic>
          <a:graphicData uri="http://schemas.openxmlformats.org/drawingml/2006/table">
            <a:tbl>
              <a:tblPr/>
              <a:tblGrid>
                <a:gridCol w="1371600"/>
                <a:gridCol w="1371240"/>
                <a:gridCol w="1371600"/>
                <a:gridCol w="13716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+50k=11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(S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06F7-6CC6-488D-9422-8C8D927FB4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: computes optimal plans for sub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{R1},  {R2}, …, {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 {R1, R2}, {R1, R3}, …, {Rn-1, 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n: {R1, …, 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d naïve size/cost esti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realistic size/cost estimations (next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uristics for Reducing the Search 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rict to left linear 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rict to trees “without cartesian produc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more than just one plan for each sub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ing orde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473-5E17-4704-A932-57BB838ECF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ing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lgorithm to implement each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account for more than c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emory do we h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input operand(s) sort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for each intermediate resu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ter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FFE-273C-4BBC-8D2E-47EFFA2663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76040" y="4761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2" idx="3"/>
            <a:endCxn id="213" idx="7"/>
          </p:cNvCxnSpPr>
          <p:nvPr/>
        </p:nvCxnSpPr>
        <p:spPr>
          <a:xfrm flipH="1">
            <a:off x="2640960" y="2725200"/>
            <a:ext cx="62460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" name=""/>
          <p:cNvCxnSpPr>
            <a:stCxn id="213" idx="3"/>
            <a:endCxn id="214" idx="7"/>
          </p:cNvCxnSpPr>
          <p:nvPr/>
        </p:nvCxnSpPr>
        <p:spPr>
          <a:xfrm flipH="1">
            <a:off x="1593000" y="4110120"/>
            <a:ext cx="6627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3"/>
            <a:endCxn id="218" idx="7"/>
          </p:cNvCxnSpPr>
          <p:nvPr/>
        </p:nvCxnSpPr>
        <p:spPr>
          <a:xfrm flipH="1">
            <a:off x="758520" y="5447880"/>
            <a:ext cx="45000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4" idx="5"/>
            <a:endCxn id="219" idx="1"/>
          </p:cNvCxnSpPr>
          <p:nvPr/>
        </p:nvCxnSpPr>
        <p:spPr>
          <a:xfrm>
            <a:off x="1593720" y="5448240"/>
            <a:ext cx="38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" name=""/>
          <p:cNvCxnSpPr>
            <a:stCxn id="213" idx="5"/>
            <a:endCxn id="217" idx="1"/>
          </p:cNvCxnSpPr>
          <p:nvPr/>
        </p:nvCxnSpPr>
        <p:spPr>
          <a:xfrm>
            <a:off x="2641680" y="4110120"/>
            <a:ext cx="61200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12" idx="5"/>
            <a:endCxn id="220" idx="1"/>
          </p:cNvCxnSpPr>
          <p:nvPr/>
        </p:nvCxnSpPr>
        <p:spPr>
          <a:xfrm>
            <a:off x="3651120" y="2725200"/>
            <a:ext cx="63576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1847880" y="44197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3048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97600" y="1825560"/>
            <a:ext cx="3639960" cy="4289400"/>
          </a:xfrm>
          <a:custGeom>
            <a:avLst/>
            <a:gdLst>
              <a:gd name="textAreaLeft" fmla="*/ 177480 w 3639960"/>
              <a:gd name="textAreaRight" fmla="*/ 3462480 w 3639960"/>
              <a:gd name="textAreaTop" fmla="*/ 177480 h 4289400"/>
              <a:gd name="textAreaBottom" fmla="*/ 4111920 h 4289400"/>
            </a:gdLst>
            <a:ahLst/>
            <a:rect l="textAreaLeft" t="textAreaTop" r="textAreaRight" b="textAreaBottom"/>
            <a:pathLst>
              <a:path w="21600" h="25453">
                <a:moveTo>
                  <a:pt x="3600" y="0"/>
                </a:moveTo>
                <a:arcTo wR="3600" hR="3600" stAng="16200000" swAng="-5400000"/>
                <a:lnTo>
                  <a:pt x="0" y="21853"/>
                </a:lnTo>
                <a:arcTo wR="3600" hR="3600" stAng="10800000" swAng="-5400000"/>
                <a:lnTo>
                  <a:pt x="18000" y="254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1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1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2,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2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6880" y="388620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53560" y="236232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E51-A011-46FC-96FD-592AD6950B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6B9-655A-470D-8D84-10EEF04F07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76040" y="4761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6" idx="3"/>
            <a:endCxn id="237" idx="7"/>
          </p:cNvCxnSpPr>
          <p:nvPr/>
        </p:nvCxnSpPr>
        <p:spPr>
          <a:xfrm flipH="1">
            <a:off x="2640960" y="2725200"/>
            <a:ext cx="62460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stCxn id="237" idx="3"/>
            <a:endCxn id="238" idx="7"/>
          </p:cNvCxnSpPr>
          <p:nvPr/>
        </p:nvCxnSpPr>
        <p:spPr>
          <a:xfrm flipH="1">
            <a:off x="1593000" y="4110120"/>
            <a:ext cx="6627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38" idx="3"/>
            <a:endCxn id="242" idx="7"/>
          </p:cNvCxnSpPr>
          <p:nvPr/>
        </p:nvCxnSpPr>
        <p:spPr>
          <a:xfrm flipH="1">
            <a:off x="758520" y="5447880"/>
            <a:ext cx="45000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38" idx="5"/>
            <a:endCxn id="243" idx="1"/>
          </p:cNvCxnSpPr>
          <p:nvPr/>
        </p:nvCxnSpPr>
        <p:spPr>
          <a:xfrm>
            <a:off x="1593720" y="5448240"/>
            <a:ext cx="38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37" idx="5"/>
            <a:endCxn id="241" idx="1"/>
          </p:cNvCxnSpPr>
          <p:nvPr/>
        </p:nvCxnSpPr>
        <p:spPr>
          <a:xfrm>
            <a:off x="2641680" y="4110120"/>
            <a:ext cx="61200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36" idx="5"/>
            <a:endCxn id="244" idx="1"/>
          </p:cNvCxnSpPr>
          <p:nvPr/>
        </p:nvCxnSpPr>
        <p:spPr>
          <a:xfrm>
            <a:off x="3651120" y="2725200"/>
            <a:ext cx="63576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5151240" y="2702520"/>
            <a:ext cx="3704040" cy="253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1, x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2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3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5760" y="6248520"/>
            <a:ext cx="55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How much main memory do we need ? M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52280" y="1905120"/>
            <a:ext cx="2514600" cy="3047760"/>
            <a:chOff x="152280" y="1905120"/>
            <a:chExt cx="2514600" cy="3047760"/>
          </a:xfrm>
        </p:grpSpPr>
        <p:sp>
          <p:nvSpPr>
            <p:cNvPr id="255" name=""/>
            <p:cNvSpPr/>
            <p:nvPr/>
          </p:nvSpPr>
          <p:spPr>
            <a:xfrm flipV="1">
              <a:off x="152280" y="1905120"/>
              <a:ext cx="2514600" cy="3047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570000">
              <a:off x="484920" y="324792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ipe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6EDE-56C7-4636-B9E5-63AEE508F9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F2D-C455-4D5A-A955-102AD1B5364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ing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lgorithm to implement each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account for more than c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emory do we h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input operand(s) sort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for each intermediate resu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ter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BB9-5613-468A-8403-A143FD4A58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based optimization: 16.5, 16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ing the physical query plan: 16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stimation: 16.4 (will continue next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1A8-3871-4B7E-8681-5405C76D05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M = 101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419720" y="2590920"/>
            <a:ext cx="255600" cy="169920"/>
            <a:chOff x="4419720" y="2590920"/>
            <a:chExt cx="255600" cy="169920"/>
          </a:xfrm>
        </p:grpSpPr>
        <p:sp>
          <p:nvSpPr>
            <p:cNvPr id="264" name=""/>
            <p:cNvSpPr/>
            <p:nvPr/>
          </p:nvSpPr>
          <p:spPr>
            <a:xfrm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197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6753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581280" y="3276720"/>
            <a:ext cx="255600" cy="169920"/>
            <a:chOff x="3581280" y="3276720"/>
            <a:chExt cx="255600" cy="169920"/>
          </a:xfrm>
        </p:grpSpPr>
        <p:sp>
          <p:nvSpPr>
            <p:cNvPr id="269" name=""/>
            <p:cNvSpPr/>
            <p:nvPr/>
          </p:nvSpPr>
          <p:spPr>
            <a:xfrm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812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8368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2175120" y="3962520"/>
            <a:ext cx="14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(w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38520" y="39625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48200" y="32767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809880" y="2819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2428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971800" y="3505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350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08960" y="312408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A1E-E6B0-4E75-9A36-6FD4986D19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ïve evalu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284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285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290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24A-C92D-415E-ACD2-1A0E7AFA95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r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hash R on x into 100 buckets, each of 50 block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hash S on x into 100 bucket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read each Ri in memory (50 buffer) join with Si (1 buffer); hash result on y into 50 buckets (50 buffers)   -- here w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so far: 3B(R) + 3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305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06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11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259-7DC8-4D6A-A45D-A1E50F08F2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arge are the 50 buckets on y ?  Answer: k/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lt;= 50 then keep all 50 buckets in Step 3 in memory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read U from disk, hash on y and join with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 + 3B(S) + B(U) = 5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326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27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32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3C4-6F26-4474-9D2B-76506CCCEF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50 &lt; k &lt;= 5000 then send the 50 buckets in Step 3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ucket has size k/50 &l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4: partition U into 50 bu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5: read each partition and join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cost: 3B(R) + 3B(S) + 2k + 3B(U) = 75,000 + 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347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48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53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94A6-26C3-4265-82BC-E62F31FD521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k &gt; 5000 then materialize instead of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368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369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374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E3C4-290A-457C-A365-8D6951D546F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lt;= 50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5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50 &lt; k &lt;=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2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gt; 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4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6456-468B-4BA1-99BE-8530B4109DB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size in order to estimat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partitioned hash-join E1     E2 is 3B(E1) + 3B(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E1) = T(E1)/ bloc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E2) = T(E2)/ bloc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we need to estimate T(E1), T(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172200" y="3352680"/>
            <a:ext cx="348840" cy="392400"/>
            <a:chOff x="6172200" y="3352680"/>
            <a:chExt cx="348840" cy="392400"/>
          </a:xfrm>
        </p:grpSpPr>
        <p:grpSp>
          <p:nvGrpSpPr>
            <p:cNvPr id="391" name=""/>
            <p:cNvGrpSpPr/>
            <p:nvPr/>
          </p:nvGrpSpPr>
          <p:grpSpPr>
            <a:xfrm>
              <a:off x="6172200" y="3352680"/>
              <a:ext cx="220320" cy="147600"/>
              <a:chOff x="6172200" y="3352680"/>
              <a:chExt cx="220320" cy="147600"/>
            </a:xfrm>
          </p:grpSpPr>
          <p:sp>
            <p:nvSpPr>
              <p:cNvPr id="392" name=""/>
              <p:cNvSpPr/>
              <p:nvPr/>
            </p:nvSpPr>
            <p:spPr>
              <a:xfrm>
                <a:off x="6172200" y="3352680"/>
                <a:ext cx="22032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72200" y="3352680"/>
                <a:ext cx="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6392520" y="3352680"/>
                <a:ext cx="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6172200" y="3352680"/>
                <a:ext cx="22032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6337440" y="3408120"/>
              <a:ext cx="18360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0D6-B359-45E4-A36D-1171865CD7D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pro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: 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a projection doesn’t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64D-7B44-4F40-8E05-A7AA0F05A22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ing the size of a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S) san be anything from 0 to T(R) – V(R,A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value: T(S) = T(R)/V(R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&lt;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S) can be anything from 0 to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s: T(S) = T(R)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371-1393-47AF-9C0E-F3BDC0AB4FD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 apply algebraic laws, until estimated cost is min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lly: start from partial plans, introduce operators one b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see in a few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there are too many ways to apply the laws, hence too many (partial)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86B-CFA2-4056-8E57-7172EB9DBD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natural join, R   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set of A values are disjoint, then T(R     S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is a key in S and a foreign key in R, then T(R     S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has a unique value, the same in R and S, then T(R      S) = T(R) 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162920" y="2209320"/>
            <a:ext cx="556920" cy="414000"/>
            <a:chOff x="7162920" y="2209320"/>
            <a:chExt cx="556920" cy="414000"/>
          </a:xfrm>
        </p:grpSpPr>
        <p:grpSp>
          <p:nvGrpSpPr>
            <p:cNvPr id="404" name=""/>
            <p:cNvGrpSpPr/>
            <p:nvPr/>
          </p:nvGrpSpPr>
          <p:grpSpPr>
            <a:xfrm>
              <a:off x="7162920" y="2209320"/>
              <a:ext cx="304560" cy="203760"/>
              <a:chOff x="7162920" y="2209320"/>
              <a:chExt cx="304560" cy="203760"/>
            </a:xfrm>
          </p:grpSpPr>
          <p:sp>
            <p:nvSpPr>
              <p:cNvPr id="405" name=""/>
              <p:cNvSpPr/>
              <p:nvPr/>
            </p:nvSpPr>
            <p:spPr>
              <a:xfrm>
                <a:off x="7162920" y="2209680"/>
                <a:ext cx="30456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162920" y="2209680"/>
                <a:ext cx="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7467480" y="2209320"/>
                <a:ext cx="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7162920" y="2209680"/>
                <a:ext cx="30456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7392960" y="2286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882800" y="3284640"/>
            <a:ext cx="556920" cy="413280"/>
            <a:chOff x="1882800" y="3284640"/>
            <a:chExt cx="556920" cy="413280"/>
          </a:xfrm>
        </p:grpSpPr>
        <p:grpSp>
          <p:nvGrpSpPr>
            <p:cNvPr id="411" name=""/>
            <p:cNvGrpSpPr/>
            <p:nvPr/>
          </p:nvGrpSpPr>
          <p:grpSpPr>
            <a:xfrm>
              <a:off x="1882800" y="3284640"/>
              <a:ext cx="304560" cy="203040"/>
              <a:chOff x="1882800" y="3284640"/>
              <a:chExt cx="304560" cy="203040"/>
            </a:xfrm>
          </p:grpSpPr>
          <p:sp>
            <p:nvSpPr>
              <p:cNvPr id="412" name=""/>
              <p:cNvSpPr/>
              <p:nvPr/>
            </p:nvSpPr>
            <p:spPr>
              <a:xfrm>
                <a:off x="1882800" y="3284640"/>
                <a:ext cx="30456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882800" y="328464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2187360" y="328464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1882800" y="3284640"/>
                <a:ext cx="30456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2112840" y="3360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103560" y="4346640"/>
            <a:ext cx="556920" cy="413280"/>
            <a:chOff x="3103560" y="4346640"/>
            <a:chExt cx="556920" cy="413280"/>
          </a:xfrm>
        </p:grpSpPr>
        <p:grpSp>
          <p:nvGrpSpPr>
            <p:cNvPr id="418" name=""/>
            <p:cNvGrpSpPr/>
            <p:nvPr/>
          </p:nvGrpSpPr>
          <p:grpSpPr>
            <a:xfrm>
              <a:off x="3103560" y="4346640"/>
              <a:ext cx="304560" cy="203040"/>
              <a:chOff x="3103560" y="4346640"/>
              <a:chExt cx="304560" cy="203040"/>
            </a:xfrm>
          </p:grpSpPr>
          <p:sp>
            <p:nvSpPr>
              <p:cNvPr id="419" name=""/>
              <p:cNvSpPr/>
              <p:nvPr/>
            </p:nvSpPr>
            <p:spPr>
              <a:xfrm>
                <a:off x="3103560" y="4346640"/>
                <a:ext cx="30456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03560" y="434664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3408120" y="434664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3103560" y="4346640"/>
                <a:ext cx="30456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3333600" y="4422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809880" y="5409720"/>
            <a:ext cx="556920" cy="414000"/>
            <a:chOff x="3809880" y="5409720"/>
            <a:chExt cx="556920" cy="414000"/>
          </a:xfrm>
        </p:grpSpPr>
        <p:grpSp>
          <p:nvGrpSpPr>
            <p:cNvPr id="425" name=""/>
            <p:cNvGrpSpPr/>
            <p:nvPr/>
          </p:nvGrpSpPr>
          <p:grpSpPr>
            <a:xfrm>
              <a:off x="3809880" y="5409720"/>
              <a:ext cx="304560" cy="203760"/>
              <a:chOff x="3809880" y="5409720"/>
              <a:chExt cx="304560" cy="203760"/>
            </a:xfrm>
          </p:grpSpPr>
          <p:sp>
            <p:nvSpPr>
              <p:cNvPr id="426" name=""/>
              <p:cNvSpPr/>
              <p:nvPr/>
            </p:nvSpPr>
            <p:spPr>
              <a:xfrm>
                <a:off x="3809880" y="5410080"/>
                <a:ext cx="30456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809880" y="5410080"/>
                <a:ext cx="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4114440" y="5409720"/>
                <a:ext cx="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3809880" y="5410080"/>
                <a:ext cx="30456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4039920" y="5486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2AA-A19F-46B4-86B3-CF5B95AA4DB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ainment of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V(R,A) &lt;= V(S,A), then the set of A values of R is included in the set of A values of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is indeed holds when A is a foreign key in R, and a key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rvation of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or any other attribute B,  V(R     S, B) = V(R, B)   (or V(S, B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766880" y="5299200"/>
            <a:ext cx="556920" cy="413280"/>
            <a:chOff x="1766880" y="5299200"/>
            <a:chExt cx="556920" cy="413280"/>
          </a:xfrm>
        </p:grpSpPr>
        <p:grpSp>
          <p:nvGrpSpPr>
            <p:cNvPr id="434" name=""/>
            <p:cNvGrpSpPr/>
            <p:nvPr/>
          </p:nvGrpSpPr>
          <p:grpSpPr>
            <a:xfrm>
              <a:off x="1766880" y="5299200"/>
              <a:ext cx="304560" cy="203040"/>
              <a:chOff x="1766880" y="5299200"/>
              <a:chExt cx="304560" cy="203040"/>
            </a:xfrm>
          </p:grpSpPr>
          <p:sp>
            <p:nvSpPr>
              <p:cNvPr id="435" name=""/>
              <p:cNvSpPr/>
              <p:nvPr/>
            </p:nvSpPr>
            <p:spPr>
              <a:xfrm>
                <a:off x="1766880" y="5299200"/>
                <a:ext cx="30456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66880" y="529920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2071440" y="529920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1766880" y="5299200"/>
                <a:ext cx="30456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1996920" y="53751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265-40CC-410C-A69B-D108C59909E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V(R,A) &lt;= 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each tuple t in R joi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uple(s)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verage S/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will contribute S/V(S,A) tuples in R       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T(R        S) = T(R) T(S) / 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: T(R       S) = T(R) T(S) / max(V(R,A),V(S,A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008760" y="4048200"/>
            <a:ext cx="519840" cy="401040"/>
            <a:chOff x="6008760" y="4048200"/>
            <a:chExt cx="519840" cy="401040"/>
          </a:xfrm>
        </p:grpSpPr>
        <p:grpSp>
          <p:nvGrpSpPr>
            <p:cNvPr id="443" name=""/>
            <p:cNvGrpSpPr/>
            <p:nvPr/>
          </p:nvGrpSpPr>
          <p:grpSpPr>
            <a:xfrm>
              <a:off x="6008760" y="4048200"/>
              <a:ext cx="254880" cy="169920"/>
              <a:chOff x="6008760" y="4048200"/>
              <a:chExt cx="254880" cy="169920"/>
            </a:xfrm>
          </p:grpSpPr>
          <p:sp>
            <p:nvSpPr>
              <p:cNvPr id="444" name=""/>
              <p:cNvSpPr/>
              <p:nvPr/>
            </p:nvSpPr>
            <p:spPr>
              <a:xfrm>
                <a:off x="6008760" y="4048200"/>
                <a:ext cx="25488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08760" y="404820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6263640" y="404820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6008760" y="4048200"/>
                <a:ext cx="25488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201720" y="41119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619360" y="4546080"/>
            <a:ext cx="519840" cy="401400"/>
            <a:chOff x="2619360" y="4546080"/>
            <a:chExt cx="519840" cy="401400"/>
          </a:xfrm>
        </p:grpSpPr>
        <p:grpSp>
          <p:nvGrpSpPr>
            <p:cNvPr id="450" name=""/>
            <p:cNvGrpSpPr/>
            <p:nvPr/>
          </p:nvGrpSpPr>
          <p:grpSpPr>
            <a:xfrm>
              <a:off x="2619360" y="4546080"/>
              <a:ext cx="254880" cy="170640"/>
              <a:chOff x="2619360" y="4546080"/>
              <a:chExt cx="254880" cy="170640"/>
            </a:xfrm>
          </p:grpSpPr>
          <p:sp>
            <p:nvSpPr>
              <p:cNvPr id="451" name=""/>
              <p:cNvSpPr/>
              <p:nvPr/>
            </p:nvSpPr>
            <p:spPr>
              <a:xfrm>
                <a:off x="2619360" y="4546440"/>
                <a:ext cx="25488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619360" y="45464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2874240" y="454608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2619360" y="4546440"/>
                <a:ext cx="25488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2812320" y="46101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905200" y="5586480"/>
            <a:ext cx="519840" cy="401040"/>
            <a:chOff x="2905200" y="5586480"/>
            <a:chExt cx="519840" cy="401040"/>
          </a:xfrm>
        </p:grpSpPr>
        <p:grpSp>
          <p:nvGrpSpPr>
            <p:cNvPr id="457" name=""/>
            <p:cNvGrpSpPr/>
            <p:nvPr/>
          </p:nvGrpSpPr>
          <p:grpSpPr>
            <a:xfrm>
              <a:off x="2905200" y="5586480"/>
              <a:ext cx="254880" cy="169920"/>
              <a:chOff x="2905200" y="5586480"/>
              <a:chExt cx="254880" cy="169920"/>
            </a:xfrm>
          </p:grpSpPr>
          <p:sp>
            <p:nvSpPr>
              <p:cNvPr id="458" name=""/>
              <p:cNvSpPr/>
              <p:nvPr/>
            </p:nvSpPr>
            <p:spPr>
              <a:xfrm>
                <a:off x="2905200" y="5586480"/>
                <a:ext cx="25488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905200" y="55864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3160080" y="55864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2905200" y="5586480"/>
                <a:ext cx="25488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098160" y="5650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8D8-854F-4677-AF8F-76FDD6B7E60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R) = 10000,  T(S) = 2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(R,A) = 100,  V(S,A) =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is R       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T(R       S) = 10000 20000/200 = 1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3797280" y="3984120"/>
            <a:ext cx="519840" cy="401400"/>
            <a:chOff x="3797280" y="3984120"/>
            <a:chExt cx="519840" cy="401400"/>
          </a:xfrm>
        </p:grpSpPr>
        <p:grpSp>
          <p:nvGrpSpPr>
            <p:cNvPr id="466" name=""/>
            <p:cNvGrpSpPr/>
            <p:nvPr/>
          </p:nvGrpSpPr>
          <p:grpSpPr>
            <a:xfrm>
              <a:off x="3797280" y="3984120"/>
              <a:ext cx="254880" cy="170640"/>
              <a:chOff x="3797280" y="3984120"/>
              <a:chExt cx="254880" cy="170640"/>
            </a:xfrm>
          </p:grpSpPr>
          <p:sp>
            <p:nvSpPr>
              <p:cNvPr id="467" name=""/>
              <p:cNvSpPr/>
              <p:nvPr/>
            </p:nvSpPr>
            <p:spPr>
              <a:xfrm>
                <a:off x="3797280" y="3984480"/>
                <a:ext cx="25488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797280" y="398448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4052160" y="398412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3797280" y="3984480"/>
                <a:ext cx="25488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3990240" y="4048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071880" y="5159520"/>
            <a:ext cx="519840" cy="401040"/>
            <a:chOff x="3071880" y="5159520"/>
            <a:chExt cx="519840" cy="401040"/>
          </a:xfrm>
        </p:grpSpPr>
        <p:grpSp>
          <p:nvGrpSpPr>
            <p:cNvPr id="473" name=""/>
            <p:cNvGrpSpPr/>
            <p:nvPr/>
          </p:nvGrpSpPr>
          <p:grpSpPr>
            <a:xfrm>
              <a:off x="3071880" y="5159520"/>
              <a:ext cx="254880" cy="169920"/>
              <a:chOff x="3071880" y="5159520"/>
              <a:chExt cx="254880" cy="169920"/>
            </a:xfrm>
          </p:grpSpPr>
          <p:sp>
            <p:nvSpPr>
              <p:cNvPr id="474" name=""/>
              <p:cNvSpPr/>
              <p:nvPr/>
            </p:nvSpPr>
            <p:spPr>
              <a:xfrm>
                <a:off x="3071880" y="5159520"/>
                <a:ext cx="25488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071880" y="515952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3326760" y="515952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071880" y="5159520"/>
                <a:ext cx="25488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3264840" y="5223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FCF-925A-41F2-A307-616B32CB6FB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S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s on more than one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          S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T(S)/max(V(R,A),V(S,A))max(V(R,B),V(S,B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615680" y="2717280"/>
            <a:ext cx="706320" cy="401400"/>
            <a:chOff x="1615680" y="2717280"/>
            <a:chExt cx="706320" cy="401400"/>
          </a:xfrm>
        </p:grpSpPr>
        <p:grpSp>
          <p:nvGrpSpPr>
            <p:cNvPr id="482" name=""/>
            <p:cNvGrpSpPr/>
            <p:nvPr/>
          </p:nvGrpSpPr>
          <p:grpSpPr>
            <a:xfrm>
              <a:off x="1615680" y="2717280"/>
              <a:ext cx="255600" cy="170640"/>
              <a:chOff x="1615680" y="2717280"/>
              <a:chExt cx="255600" cy="170640"/>
            </a:xfrm>
          </p:grpSpPr>
          <p:sp>
            <p:nvSpPr>
              <p:cNvPr id="483" name=""/>
              <p:cNvSpPr/>
              <p:nvPr/>
            </p:nvSpPr>
            <p:spPr>
              <a:xfrm>
                <a:off x="1616040" y="2717640"/>
                <a:ext cx="25524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616040" y="271764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1871280" y="2717280"/>
                <a:ext cx="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1615680" y="2717640"/>
                <a:ext cx="255240" cy="17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1809000" y="2781360"/>
              <a:ext cx="5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,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D5F-DDFE-4313-AFAA-651039FE52C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on data maintained by the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size estimation much more accurate (hence, cost estimations are more accu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C307-B42D-4544-AD08-82CC9C486AB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mploye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salary, 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histogram on sa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Employee) = 25000, but now we know th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838080" y="3429000"/>
          <a:ext cx="7848720" cy="1270080"/>
        </p:xfrm>
        <a:graphic>
          <a:graphicData uri="http://schemas.openxmlformats.org/drawingml/2006/table">
            <a:tbl>
              <a:tblPr/>
              <a:tblGrid>
                <a:gridCol w="1120680"/>
                <a:gridCol w="1121040"/>
                <a:gridCol w="1122120"/>
                <a:gridCol w="1122480"/>
                <a:gridCol w="1120680"/>
                <a:gridCol w="1120680"/>
                <a:gridCol w="112104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596E-2249-4EDC-8437-651DCA1A946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anks(rankName, sal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the size of Employee          R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838080" y="3276720"/>
          <a:ext cx="7162920" cy="76176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838080" y="4343400"/>
          <a:ext cx="7162920" cy="76212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7" name=""/>
          <p:cNvGrpSpPr/>
          <p:nvPr/>
        </p:nvGrpSpPr>
        <p:grpSpPr>
          <a:xfrm>
            <a:off x="6205320" y="2835360"/>
            <a:ext cx="893520" cy="401040"/>
            <a:chOff x="6205320" y="2835360"/>
            <a:chExt cx="893520" cy="401040"/>
          </a:xfrm>
        </p:grpSpPr>
        <p:grpSp>
          <p:nvGrpSpPr>
            <p:cNvPr id="498" name=""/>
            <p:cNvGrpSpPr/>
            <p:nvPr/>
          </p:nvGrpSpPr>
          <p:grpSpPr>
            <a:xfrm>
              <a:off x="6205320" y="2835360"/>
              <a:ext cx="255600" cy="169920"/>
              <a:chOff x="6205320" y="2835360"/>
              <a:chExt cx="255600" cy="169920"/>
            </a:xfrm>
          </p:grpSpPr>
          <p:sp>
            <p:nvSpPr>
              <p:cNvPr id="499" name=""/>
              <p:cNvSpPr/>
              <p:nvPr/>
            </p:nvSpPr>
            <p:spPr>
              <a:xfrm>
                <a:off x="6205680" y="283536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205680" y="283536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6460920" y="283536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6205320" y="283536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6400080" y="28990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185-65B5-4053-B6FC-9363B618B88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Employee, Salary) =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anks, Salary) =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T(Employee            Ranks)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=1,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/ 25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200x8 + 800x20 + 5000x40 +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12000x80 + 6500x100 + 500x2)/25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244760" y="3652920"/>
            <a:ext cx="893520" cy="401040"/>
            <a:chOff x="4244760" y="3652920"/>
            <a:chExt cx="893520" cy="401040"/>
          </a:xfrm>
        </p:grpSpPr>
        <p:grpSp>
          <p:nvGrpSpPr>
            <p:cNvPr id="507" name=""/>
            <p:cNvGrpSpPr/>
            <p:nvPr/>
          </p:nvGrpSpPr>
          <p:grpSpPr>
            <a:xfrm>
              <a:off x="4244760" y="3652920"/>
              <a:ext cx="255600" cy="169920"/>
              <a:chOff x="4244760" y="3652920"/>
              <a:chExt cx="255600" cy="169920"/>
            </a:xfrm>
          </p:grpSpPr>
          <p:sp>
            <p:nvSpPr>
              <p:cNvPr id="508" name=""/>
              <p:cNvSpPr/>
              <p:nvPr/>
            </p:nvSpPr>
            <p:spPr>
              <a:xfrm>
                <a:off x="4245120" y="365292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245120" y="365292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4500360" y="365292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4244760" y="3652920"/>
                <a:ext cx="25524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4439520" y="371664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0ED-F8C9-4A88-8DB9-55B5AF45919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p-d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top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tom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bottom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CC5-E04A-4387-BBC7-284C8AAC38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nch-and-b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cheapest complete plan P seen so far and its cost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generating partial plans whose cost is &g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cheaper complete plan is found, replace P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ll climb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only the cheapest partial plan seen so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all cheapest partial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0C8F-F08E-46E6-A500-D3CC0752AB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of Optimization: select-project-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sh selections down, pull projection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DCE-D878-40A0-B066-4D40273E93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lan = a join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tial plan = a subtree of a join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9600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4356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914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630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971440" y="3733920"/>
            <a:ext cx="305280" cy="203040"/>
            <a:chOff x="2971440" y="3733920"/>
            <a:chExt cx="305280" cy="203040"/>
          </a:xfrm>
        </p:grpSpPr>
        <p:sp>
          <p:nvSpPr>
            <p:cNvPr id="62" name=""/>
            <p:cNvSpPr/>
            <p:nvPr/>
          </p:nvSpPr>
          <p:spPr>
            <a:xfrm>
              <a:off x="297180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7180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327672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97144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866920" y="3809520"/>
            <a:ext cx="305280" cy="203760"/>
            <a:chOff x="5866920" y="3809520"/>
            <a:chExt cx="305280" cy="203760"/>
          </a:xfrm>
        </p:grpSpPr>
        <p:sp>
          <p:nvSpPr>
            <p:cNvPr id="67" name=""/>
            <p:cNvSpPr/>
            <p:nvPr/>
          </p:nvSpPr>
          <p:spPr>
            <a:xfrm>
              <a:off x="586728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67280" y="3809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3809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586692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571640" y="3048120"/>
            <a:ext cx="305280" cy="203040"/>
            <a:chOff x="4571640" y="3048120"/>
            <a:chExt cx="305280" cy="203040"/>
          </a:xfrm>
        </p:grpSpPr>
        <p:sp>
          <p:nvSpPr>
            <p:cNvPr id="72" name=""/>
            <p:cNvSpPr/>
            <p:nvPr/>
          </p:nvSpPr>
          <p:spPr>
            <a:xfrm>
              <a:off x="457200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457164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flipH="1">
            <a:off x="251460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038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409720" y="40384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352680" y="32004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276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869-A79A-4EE9-A670-AACAC8920A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876920" y="3048120"/>
            <a:ext cx="304560" cy="203040"/>
            <a:chOff x="4876920" y="3048120"/>
            <a:chExt cx="304560" cy="203040"/>
          </a:xfrm>
        </p:grpSpPr>
        <p:sp>
          <p:nvSpPr>
            <p:cNvPr id="85" name=""/>
            <p:cNvSpPr/>
            <p:nvPr/>
          </p:nvSpPr>
          <p:spPr>
            <a:xfrm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18148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191120" y="3657600"/>
            <a:ext cx="304560" cy="203040"/>
            <a:chOff x="4191120" y="3657600"/>
            <a:chExt cx="304560" cy="203040"/>
          </a:xfrm>
        </p:grpSpPr>
        <p:sp>
          <p:nvSpPr>
            <p:cNvPr id="90" name=""/>
            <p:cNvSpPr/>
            <p:nvPr/>
          </p:nvSpPr>
          <p:spPr>
            <a:xfrm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9112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49568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352320" y="4191120"/>
            <a:ext cx="305280" cy="203040"/>
            <a:chOff x="3352320" y="4191120"/>
            <a:chExt cx="305280" cy="203040"/>
          </a:xfrm>
        </p:grpSpPr>
        <p:sp>
          <p:nvSpPr>
            <p:cNvPr id="95" name=""/>
            <p:cNvSpPr/>
            <p:nvPr/>
          </p:nvSpPr>
          <p:spPr>
            <a:xfrm>
              <a:off x="335268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5268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65760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35232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514240" y="4723920"/>
            <a:ext cx="305280" cy="203760"/>
            <a:chOff x="2514240" y="4723920"/>
            <a:chExt cx="305280" cy="203760"/>
          </a:xfrm>
        </p:grpSpPr>
        <p:sp>
          <p:nvSpPr>
            <p:cNvPr id="100" name=""/>
            <p:cNvSpPr/>
            <p:nvPr/>
          </p:nvSpPr>
          <p:spPr>
            <a:xfrm>
              <a:off x="2514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14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819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514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75464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3600" y="548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48480" y="4689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10600" y="407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00960" y="339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133720" y="5029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029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97144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73392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71640" y="3276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F7A-37FE-4852-8611-CB5FD9E23A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uw</cp:lastModifiedBy>
  <dcterms:modified xsi:type="dcterms:W3CDTF">2002-12-02T03:11:04Z</dcterms:modified>
  <cp:revision>333</cp:revision>
  <dc:subject/>
  <dc:title>Lecture 09:</dc:title>
</cp:coreProperties>
</file>