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6B18-8146-4190-8FBD-DE3344B6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FEF-23E0-4F31-9120-96C33E0A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EFCF-B678-4695-99F9-DAFA72E4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2F24-ED8C-4079-8460-100DA6D4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876-EA41-42E5-A82E-673B3496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BC08-A36F-4377-BDA3-CC6B8142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B6B-1B4A-4E22-9E37-CC770678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8BCD-DB34-4A05-9EC6-28C95CFE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FA67-B5D9-473A-90A8-F1E58E83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F3CB-4937-43A3-AE8F-CD38DCFA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8D1F-8799-4717-8114-C79EF5ED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BAA7-8E9D-48D6-8141-9AD5DE09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40B9-9C04-4A98-AB16-8D0001328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4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ember 27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F2C-29E5-4948-987F-D011964CBB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ate Push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20800" y="191772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08280" y="191772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9400" y="1901880"/>
            <a:ext cx="17496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38160" y="3914640"/>
            <a:ext cx="180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85920" y="3914640"/>
            <a:ext cx="180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38160" y="3914640"/>
            <a:ext cx="34956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38160" y="3914640"/>
            <a:ext cx="34956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43080" y="442584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58920" y="4425840"/>
            <a:ext cx="68436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14560" y="3201840"/>
            <a:ext cx="144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14560" y="227484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4865760"/>
            <a:ext cx="1003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69600" y="4849920"/>
            <a:ext cx="1172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56720" y="4124160"/>
            <a:ext cx="1279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k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20800" y="2895480"/>
            <a:ext cx="2544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rice&gt;100 AND city=“Seatt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73720" y="198612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00480" y="3809880"/>
            <a:ext cx="183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1840" y="283536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70160" y="182880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7400" y="4200480"/>
            <a:ext cx="100080" cy="119160"/>
          </a:xfrm>
          <a:custGeom>
            <a:avLst/>
            <a:gdLst/>
            <a:ahLst/>
            <a:rect l="l" t="t" r="r" b="b"/>
            <a:pathLst>
              <a:path w="63" h="75">
                <a:moveTo>
                  <a:pt x="62" y="37"/>
                </a:moveTo>
                <a:lnTo>
                  <a:pt x="53" y="11"/>
                </a:lnTo>
                <a:lnTo>
                  <a:pt x="31" y="0"/>
                </a:lnTo>
                <a:lnTo>
                  <a:pt x="9" y="11"/>
                </a:lnTo>
                <a:lnTo>
                  <a:pt x="0" y="37"/>
                </a:lnTo>
                <a:lnTo>
                  <a:pt x="9" y="64"/>
                </a:lnTo>
                <a:lnTo>
                  <a:pt x="31" y="74"/>
                </a:lnTo>
                <a:lnTo>
                  <a:pt x="53" y="64"/>
                </a:lnTo>
                <a:lnTo>
                  <a:pt x="62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16720" y="4210200"/>
            <a:ext cx="87120" cy="1440"/>
          </a:xfrm>
          <a:custGeom>
            <a:avLst/>
            <a:gdLst/>
            <a:ahLst/>
            <a:rect l="l" t="t" r="r" b="b"/>
            <a:pathLst>
              <a:path w="55" h="1">
                <a:moveTo>
                  <a:pt x="0" y="0"/>
                </a:moveTo>
                <a:lnTo>
                  <a:pt x="54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45360" y="2482920"/>
            <a:ext cx="1440" cy="133200"/>
          </a:xfrm>
          <a:custGeom>
            <a:avLst/>
            <a:gdLst/>
            <a:ahLst/>
            <a:rect l="l" t="t" r="r" b="b"/>
            <a:pathLst>
              <a:path w="1" h="84">
                <a:moveTo>
                  <a:pt x="0" y="0"/>
                </a:moveTo>
                <a:lnTo>
                  <a:pt x="0" y="8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19880" y="2482920"/>
            <a:ext cx="1440" cy="133200"/>
          </a:xfrm>
          <a:custGeom>
            <a:avLst/>
            <a:gdLst/>
            <a:ahLst/>
            <a:rect l="l" t="t" r="r" b="b"/>
            <a:pathLst>
              <a:path w="1" h="84">
                <a:moveTo>
                  <a:pt x="0" y="0"/>
                </a:moveTo>
                <a:lnTo>
                  <a:pt x="0" y="8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08640" y="2470320"/>
            <a:ext cx="149400" cy="1440"/>
          </a:xfrm>
          <a:custGeom>
            <a:avLst/>
            <a:gdLst/>
            <a:ahLst/>
            <a:rect l="l" t="t" r="r" b="b"/>
            <a:pathLst>
              <a:path w="94" h="1">
                <a:moveTo>
                  <a:pt x="0" y="0"/>
                </a:moveTo>
                <a:lnTo>
                  <a:pt x="93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69200" y="3400560"/>
            <a:ext cx="1440" cy="98280"/>
          </a:xfrm>
          <a:custGeom>
            <a:avLst/>
            <a:gdLst/>
            <a:ahLst/>
            <a:rect l="l" t="t" r="r" b="b"/>
            <a:pathLst>
              <a:path w="1" h="62">
                <a:moveTo>
                  <a:pt x="0" y="0"/>
                </a:move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64400" y="3400560"/>
            <a:ext cx="1440" cy="98280"/>
          </a:xfrm>
          <a:custGeom>
            <a:avLst/>
            <a:gdLst/>
            <a:ahLst/>
            <a:rect l="l" t="t" r="r" b="b"/>
            <a:pathLst>
              <a:path w="1" h="62">
                <a:moveTo>
                  <a:pt x="0" y="0"/>
                </a:move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69200" y="3400560"/>
            <a:ext cx="296640" cy="98280"/>
          </a:xfrm>
          <a:custGeom>
            <a:avLst/>
            <a:gdLst/>
            <a:ahLst/>
            <a:rect l="l" t="t" r="r" b="b"/>
            <a:pathLst>
              <a:path w="187" h="62">
                <a:moveTo>
                  <a:pt x="0" y="0"/>
                </a:moveTo>
                <a:lnTo>
                  <a:pt x="186" y="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69200" y="3400560"/>
            <a:ext cx="296640" cy="98280"/>
          </a:xfrm>
          <a:custGeom>
            <a:avLst/>
            <a:gdLst/>
            <a:ahLst/>
            <a:rect l="l" t="t" r="r" b="b"/>
            <a:pathLst>
              <a:path w="187" h="62">
                <a:moveTo>
                  <a:pt x="0" y="61"/>
                </a:moveTo>
                <a:lnTo>
                  <a:pt x="186" y="0"/>
                </a:lnTo>
                <a:lnTo>
                  <a:pt x="0" y="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1240" y="3794040"/>
            <a:ext cx="569880" cy="274680"/>
          </a:xfrm>
          <a:custGeom>
            <a:avLst/>
            <a:gdLst/>
            <a:ahLst/>
            <a:rect l="l" t="t" r="r" b="b"/>
            <a:pathLst>
              <a:path w="359" h="173">
                <a:moveTo>
                  <a:pt x="0" y="172"/>
                </a:moveTo>
                <a:lnTo>
                  <a:pt x="358" y="0"/>
                </a:lnTo>
                <a:lnTo>
                  <a:pt x="0" y="17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38840" y="3794040"/>
            <a:ext cx="581040" cy="274680"/>
          </a:xfrm>
          <a:custGeom>
            <a:avLst/>
            <a:gdLst/>
            <a:ahLst/>
            <a:rect l="l" t="t" r="r" b="b"/>
            <a:pathLst>
              <a:path w="366" h="173">
                <a:moveTo>
                  <a:pt x="0" y="0"/>
                </a:moveTo>
                <a:lnTo>
                  <a:pt x="365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67760" y="4425840"/>
            <a:ext cx="1440" cy="432000"/>
          </a:xfrm>
          <a:custGeom>
            <a:avLst/>
            <a:gdLst/>
            <a:ahLst/>
            <a:rect l="l" t="t" r="r" b="b"/>
            <a:pathLst>
              <a:path w="1" h="272">
                <a:moveTo>
                  <a:pt x="0" y="0"/>
                </a:moveTo>
                <a:lnTo>
                  <a:pt x="0" y="27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03840" y="2854440"/>
            <a:ext cx="1800" cy="392040"/>
          </a:xfrm>
          <a:custGeom>
            <a:avLst/>
            <a:gdLst/>
            <a:ahLst/>
            <a:rect l="l" t="t" r="r" b="b"/>
            <a:pathLst>
              <a:path w="1" h="247">
                <a:moveTo>
                  <a:pt x="0" y="0"/>
                </a:moveTo>
                <a:lnTo>
                  <a:pt x="0" y="2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86520" y="4175280"/>
            <a:ext cx="100080" cy="122040"/>
          </a:xfrm>
          <a:custGeom>
            <a:avLst/>
            <a:gdLst/>
            <a:ahLst/>
            <a:rect l="l" t="t" r="r" b="b"/>
            <a:pathLst>
              <a:path w="63" h="77">
                <a:moveTo>
                  <a:pt x="62" y="38"/>
                </a:moveTo>
                <a:lnTo>
                  <a:pt x="53" y="11"/>
                </a:lnTo>
                <a:lnTo>
                  <a:pt x="31" y="0"/>
                </a:lnTo>
                <a:lnTo>
                  <a:pt x="9" y="11"/>
                </a:lnTo>
                <a:lnTo>
                  <a:pt x="0" y="38"/>
                </a:lnTo>
                <a:lnTo>
                  <a:pt x="9" y="65"/>
                </a:lnTo>
                <a:lnTo>
                  <a:pt x="31" y="76"/>
                </a:lnTo>
                <a:lnTo>
                  <a:pt x="53" y="65"/>
                </a:lnTo>
                <a:lnTo>
                  <a:pt x="62" y="3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35840" y="4186080"/>
            <a:ext cx="87120" cy="1800"/>
          </a:xfrm>
          <a:custGeom>
            <a:avLst/>
            <a:gdLst/>
            <a:ahLst/>
            <a:rect l="l" t="t" r="r" b="b"/>
            <a:pathLst>
              <a:path w="55" h="1">
                <a:moveTo>
                  <a:pt x="0" y="0"/>
                </a:moveTo>
                <a:lnTo>
                  <a:pt x="54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4520" y="4437000"/>
            <a:ext cx="1440" cy="430200"/>
          </a:xfrm>
          <a:custGeom>
            <a:avLst/>
            <a:gdLst/>
            <a:ahLst/>
            <a:rect l="l" t="t" r="r" b="b"/>
            <a:pathLst>
              <a:path w="1" h="271">
                <a:moveTo>
                  <a:pt x="0" y="0"/>
                </a:moveTo>
                <a:lnTo>
                  <a:pt x="0" y="27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3520" y="4818240"/>
            <a:ext cx="1003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40160" y="4830840"/>
            <a:ext cx="1172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97120" y="3546360"/>
            <a:ext cx="1279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k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28960" y="4224240"/>
            <a:ext cx="1062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ce&gt;1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74160" y="251928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16680" y="236232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22880" y="4200480"/>
            <a:ext cx="1361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“Seattl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42240" y="3305160"/>
            <a:ext cx="183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1240" y="5222880"/>
            <a:ext cx="868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earlier we process selections, less tuples we need to manip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igher up in the tree (but may cause us to loose an important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f the tuples, if we use index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6415-F328-4F1D-9CDD-8572739FFB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ate Push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2200" y="2133720"/>
            <a:ext cx="38077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.name, Max(x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oduct x, company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maker = y.nam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x(x.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6480" y="2286000"/>
            <a:ext cx="3807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name, Max(x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oduct x, company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maker=y.name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.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x(x.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0520" y="4765680"/>
            <a:ext cx="849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or each company, find the maximal price of its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: the size of the join will be smal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ransformation rules specific to the grouping/ag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n’t work if we replace Max by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0AE7-993F-4C62-93DC-A64C070425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ing predicates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1880" y="4267080"/>
            <a:ext cx="2960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1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x.catego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(x.price) A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pric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4648320"/>
            <a:ext cx="44708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2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.name, x.category, x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oduct x, company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maker=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5000" y="1981080"/>
            <a:ext cx="5140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V2.name, V2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V1,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V1.category = V2.category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p = V2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676520" y="36576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680" y="1413000"/>
            <a:ext cx="90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argain view V1: categories with some price&lt;20, and the cheapest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761D-927D-46C3-BC77-E356A89C7E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ing predicates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1880" y="4267080"/>
            <a:ext cx="2960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1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x.catego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(x.price) A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x.pric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  x.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4648320"/>
            <a:ext cx="44708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2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y.name, x.category, x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 x, company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x.maker=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51120" y="1981080"/>
            <a:ext cx="527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V2.name, V2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V1,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V1.category = V2.category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p = V2.pric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V1.p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676520" y="36576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680" y="1413000"/>
            <a:ext cx="90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argain view V1: categories with some price&lt;20, and the cheapest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F5D-6CE9-44D2-83A4-8B3D0C98A4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ing predicates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1880" y="4267080"/>
            <a:ext cx="2960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1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x.catego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(x.price) A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x.pric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  x.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4648320"/>
            <a:ext cx="447084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2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y.name, x.category, x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 x, company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x.maker=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V1.p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51120" y="1981080"/>
            <a:ext cx="527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V2.name, V2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V1,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V1.category = V2.category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p = V2.pric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V1.p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676520" y="36576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680" y="1413000"/>
            <a:ext cx="90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argain view V1: categories with some price&lt;20, and the cheapest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1076-AF8B-4636-8A45-7EE4BA8780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 apply algebraic laws, until estimated cost is min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ally: start from partial plans, introduce operators one by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see in a few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there are too many ways to apply the laws, hence too many (partial)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87F-4677-4BB2-94EB-A182FA3593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-down: the partial plan is a top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tom up: the partial plan is a bottom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00DB-D663-404B-B7DE-DE5380EBD6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nch-and-bou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e cheapest complete plan P seen so far and its cost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generating partial plans whose cost is &gt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cheaper complete plan is found, replace P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 climb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only the cheapest partial plan seen so f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programm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e all cheapest partial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77A9-FA1A-492F-B628-D4E9F0769A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 of Optimiz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-project-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 selections down, pull projections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B0B8-EFA6-44B5-8C0A-5E7F5345D2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       R2        ….       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join tree represents a plan. An optimizer needs to inspect many (all ?) join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9600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4356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914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630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971440" y="3733920"/>
            <a:ext cx="305280" cy="203040"/>
            <a:chOff x="2971440" y="3733920"/>
            <a:chExt cx="305280" cy="203040"/>
          </a:xfrm>
        </p:grpSpPr>
        <p:sp>
          <p:nvSpPr>
            <p:cNvPr id="144" name=""/>
            <p:cNvSpPr/>
            <p:nvPr/>
          </p:nvSpPr>
          <p:spPr>
            <a:xfrm>
              <a:off x="297180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180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27672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97144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866920" y="3809520"/>
            <a:ext cx="305280" cy="203760"/>
            <a:chOff x="5866920" y="3809520"/>
            <a:chExt cx="305280" cy="203760"/>
          </a:xfrm>
        </p:grpSpPr>
        <p:sp>
          <p:nvSpPr>
            <p:cNvPr id="149" name=""/>
            <p:cNvSpPr/>
            <p:nvPr/>
          </p:nvSpPr>
          <p:spPr>
            <a:xfrm>
              <a:off x="586728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67280" y="3809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172200" y="3809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86692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571640" y="3048120"/>
            <a:ext cx="305280" cy="203040"/>
            <a:chOff x="4571640" y="3048120"/>
            <a:chExt cx="305280" cy="203040"/>
          </a:xfrm>
        </p:grpSpPr>
        <p:sp>
          <p:nvSpPr>
            <p:cNvPr id="154" name=""/>
            <p:cNvSpPr/>
            <p:nvPr/>
          </p:nvSpPr>
          <p:spPr>
            <a:xfrm>
              <a:off x="457200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57164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 flipH="1">
            <a:off x="251460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4038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409720" y="40384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352680" y="32004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3276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676520" y="2133720"/>
            <a:ext cx="304560" cy="203040"/>
            <a:chOff x="1676520" y="2133720"/>
            <a:chExt cx="304560" cy="203040"/>
          </a:xfrm>
        </p:grpSpPr>
        <p:sp>
          <p:nvSpPr>
            <p:cNvPr id="165" name=""/>
            <p:cNvSpPr/>
            <p:nvPr/>
          </p:nvSpPr>
          <p:spPr>
            <a:xfrm>
              <a:off x="1676520" y="21337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7652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98108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676520" y="21337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666520" y="2133720"/>
            <a:ext cx="305280" cy="203040"/>
            <a:chOff x="2666520" y="2133720"/>
            <a:chExt cx="305280" cy="203040"/>
          </a:xfrm>
        </p:grpSpPr>
        <p:sp>
          <p:nvSpPr>
            <p:cNvPr id="170" name=""/>
            <p:cNvSpPr/>
            <p:nvPr/>
          </p:nvSpPr>
          <p:spPr>
            <a:xfrm>
              <a:off x="2666880" y="2133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6688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97180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520" y="2133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85840" y="2133720"/>
            <a:ext cx="305280" cy="203040"/>
            <a:chOff x="3885840" y="2133720"/>
            <a:chExt cx="305280" cy="203040"/>
          </a:xfrm>
        </p:grpSpPr>
        <p:sp>
          <p:nvSpPr>
            <p:cNvPr id="175" name=""/>
            <p:cNvSpPr/>
            <p:nvPr/>
          </p:nvSpPr>
          <p:spPr>
            <a:xfrm>
              <a:off x="3886200" y="2133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8620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19112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885840" y="2133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9B6C-3AA1-46CB-9FAC-B7A5E6F1CA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optimization: algebraic laws 1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-based optimization 16.5, 16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17E-09E6-484B-BE72-D84E0C2A42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6920" y="3048120"/>
            <a:ext cx="304560" cy="203040"/>
            <a:chOff x="4876920" y="3048120"/>
            <a:chExt cx="304560" cy="203040"/>
          </a:xfrm>
        </p:grpSpPr>
        <p:sp>
          <p:nvSpPr>
            <p:cNvPr id="182" name=""/>
            <p:cNvSpPr/>
            <p:nvPr/>
          </p:nvSpPr>
          <p:spPr>
            <a:xfrm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18148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191120" y="3657600"/>
            <a:ext cx="304560" cy="203040"/>
            <a:chOff x="4191120" y="3657600"/>
            <a:chExt cx="304560" cy="203040"/>
          </a:xfrm>
        </p:grpSpPr>
        <p:sp>
          <p:nvSpPr>
            <p:cNvPr id="187" name=""/>
            <p:cNvSpPr/>
            <p:nvPr/>
          </p:nvSpPr>
          <p:spPr>
            <a:xfrm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112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49568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352320" y="4191120"/>
            <a:ext cx="305280" cy="203040"/>
            <a:chOff x="3352320" y="4191120"/>
            <a:chExt cx="305280" cy="203040"/>
          </a:xfrm>
        </p:grpSpPr>
        <p:sp>
          <p:nvSpPr>
            <p:cNvPr id="192" name=""/>
            <p:cNvSpPr/>
            <p:nvPr/>
          </p:nvSpPr>
          <p:spPr>
            <a:xfrm>
              <a:off x="335268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5268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65760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35232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514240" y="4723920"/>
            <a:ext cx="305280" cy="203760"/>
            <a:chOff x="2514240" y="4723920"/>
            <a:chExt cx="305280" cy="203760"/>
          </a:xfrm>
        </p:grpSpPr>
        <p:sp>
          <p:nvSpPr>
            <p:cNvPr id="197" name=""/>
            <p:cNvSpPr/>
            <p:nvPr/>
          </p:nvSpPr>
          <p:spPr>
            <a:xfrm>
              <a:off x="2514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14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819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514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754640" y="5410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3600" y="5486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48480" y="4689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10600" y="4079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00960" y="3394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33720" y="5029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5029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971440" y="441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44197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73392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3886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571640" y="3276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3276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110-3F58-4736-8034-0BDE4AE525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h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3552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3600" y="5562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310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26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910960" y="3692520"/>
            <a:ext cx="305280" cy="203040"/>
            <a:chOff x="2910960" y="3692520"/>
            <a:chExt cx="305280" cy="203040"/>
          </a:xfrm>
        </p:grpSpPr>
        <p:sp>
          <p:nvSpPr>
            <p:cNvPr id="221" name=""/>
            <p:cNvSpPr/>
            <p:nvPr/>
          </p:nvSpPr>
          <p:spPr>
            <a:xfrm>
              <a:off x="291132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1132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21624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91096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807160" y="3768840"/>
            <a:ext cx="304560" cy="203040"/>
            <a:chOff x="5807160" y="3768840"/>
            <a:chExt cx="304560" cy="203040"/>
          </a:xfrm>
        </p:grpSpPr>
        <p:sp>
          <p:nvSpPr>
            <p:cNvPr id="226" name=""/>
            <p:cNvSpPr/>
            <p:nvPr/>
          </p:nvSpPr>
          <p:spPr>
            <a:xfrm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0716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11172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511160" y="3006720"/>
            <a:ext cx="305280" cy="203040"/>
            <a:chOff x="4511160" y="3006720"/>
            <a:chExt cx="305280" cy="203040"/>
          </a:xfrm>
        </p:grpSpPr>
        <p:sp>
          <p:nvSpPr>
            <p:cNvPr id="231" name=""/>
            <p:cNvSpPr/>
            <p:nvPr/>
          </p:nvSpPr>
          <p:spPr>
            <a:xfrm>
              <a:off x="45115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115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8164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5111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 flipH="1">
            <a:off x="245412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16240" y="39974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349960" y="3997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8804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292200" y="3159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68720" y="3235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657240" y="4723920"/>
            <a:ext cx="305280" cy="203760"/>
            <a:chOff x="3657240" y="4723920"/>
            <a:chExt cx="305280" cy="203760"/>
          </a:xfrm>
        </p:grpSpPr>
        <p:sp>
          <p:nvSpPr>
            <p:cNvPr id="242" name=""/>
            <p:cNvSpPr/>
            <p:nvPr/>
          </p:nvSpPr>
          <p:spPr>
            <a:xfrm>
              <a:off x="3657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57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962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3657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17708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2767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D752-4804-445E-8433-A389F99E22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352320" y="2666520"/>
            <a:ext cx="305280" cy="203760"/>
            <a:chOff x="3352320" y="2666520"/>
            <a:chExt cx="305280" cy="203760"/>
          </a:xfrm>
        </p:grpSpPr>
        <p:sp>
          <p:nvSpPr>
            <p:cNvPr id="252" name=""/>
            <p:cNvSpPr/>
            <p:nvPr/>
          </p:nvSpPr>
          <p:spPr>
            <a:xfrm>
              <a:off x="335268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52680" y="2666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657600" y="2666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35232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282560" y="3006720"/>
            <a:ext cx="305280" cy="203040"/>
            <a:chOff x="4282560" y="3006720"/>
            <a:chExt cx="305280" cy="203040"/>
          </a:xfrm>
        </p:grpSpPr>
        <p:sp>
          <p:nvSpPr>
            <p:cNvPr id="257" name=""/>
            <p:cNvSpPr/>
            <p:nvPr/>
          </p:nvSpPr>
          <p:spPr>
            <a:xfrm>
              <a:off x="42829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829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5878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42825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105520" y="3580920"/>
            <a:ext cx="304560" cy="203760"/>
            <a:chOff x="5105520" y="3580920"/>
            <a:chExt cx="304560" cy="203760"/>
          </a:xfrm>
        </p:grpSpPr>
        <p:sp>
          <p:nvSpPr>
            <p:cNvPr id="262" name=""/>
            <p:cNvSpPr/>
            <p:nvPr/>
          </p:nvSpPr>
          <p:spPr>
            <a:xfrm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055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4100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866920" y="4266720"/>
            <a:ext cx="305280" cy="203760"/>
            <a:chOff x="5866920" y="4266720"/>
            <a:chExt cx="305280" cy="203760"/>
          </a:xfrm>
        </p:grpSpPr>
        <p:sp>
          <p:nvSpPr>
            <p:cNvPr id="267" name=""/>
            <p:cNvSpPr/>
            <p:nvPr/>
          </p:nvSpPr>
          <p:spPr>
            <a:xfrm>
              <a:off x="586728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67280" y="42670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6172200" y="42667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86692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440440" y="3429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54840" y="403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2920" y="4419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960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664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895120" y="29718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28954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80988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2428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723920" y="38862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3886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56236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77E-AD1B-4753-9F41-10FC201994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: a query  R1     R2      …     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e have a function cost() that gives us the cost of every joi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best join tree for the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266720" y="2209320"/>
            <a:ext cx="305280" cy="203760"/>
            <a:chOff x="4266720" y="2209320"/>
            <a:chExt cx="305280" cy="203760"/>
          </a:xfrm>
        </p:grpSpPr>
        <p:sp>
          <p:nvSpPr>
            <p:cNvPr id="287" name=""/>
            <p:cNvSpPr/>
            <p:nvPr/>
          </p:nvSpPr>
          <p:spPr>
            <a:xfrm>
              <a:off x="426708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67080" y="2209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4572000" y="22093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426672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257440" y="2209320"/>
            <a:ext cx="305280" cy="203760"/>
            <a:chOff x="5257440" y="2209320"/>
            <a:chExt cx="305280" cy="203760"/>
          </a:xfrm>
        </p:grpSpPr>
        <p:sp>
          <p:nvSpPr>
            <p:cNvPr id="292" name=""/>
            <p:cNvSpPr/>
            <p:nvPr/>
          </p:nvSpPr>
          <p:spPr>
            <a:xfrm>
              <a:off x="525780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57800" y="2209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562720" y="22093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25744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400440" y="2209320"/>
            <a:ext cx="305280" cy="203760"/>
            <a:chOff x="6400440" y="2209320"/>
            <a:chExt cx="305280" cy="203760"/>
          </a:xfrm>
        </p:grpSpPr>
        <p:sp>
          <p:nvSpPr>
            <p:cNvPr id="297" name=""/>
            <p:cNvSpPr/>
            <p:nvPr/>
          </p:nvSpPr>
          <p:spPr>
            <a:xfrm>
              <a:off x="640080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00800" y="2209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6705720" y="22093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40044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4D8E-D38C-4952-AF3F-8ECCEEA764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for each subset of {R1, …, Rn}, compute the best plan for that sub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creasing order of set cardina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for {R1}, {R2}, …, {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for {R1,R2}, {R1,R3}, …, {Rn-1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n: for {R1, …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set of {R1, …, Rn} is also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6CB9-487F-4C8E-AE25-9FD7642265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subquery 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R1, …, Rn} comput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est plan for Q: Plan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that plan: Cost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54A3-54BE-4939-9A7E-7E3F03D5E94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{Ri}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{Ri}) = B(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{Ri}) = 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{Ri}) = (cost of scanning 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CDC-7DF1-4B8B-BC2B-33BECB84B6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R1, …, Rn} of cardinality i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Size(Q)    (later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pair of subqueries Q’, Q’’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t. Q = Q’ U Q’’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cost(Plan(Q’)       Plan(Q’’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Q) = the smallest suc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Q) = the correspond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952520" y="4572000"/>
            <a:ext cx="305280" cy="203040"/>
            <a:chOff x="4952520" y="4572000"/>
            <a:chExt cx="305280" cy="203040"/>
          </a:xfrm>
        </p:grpSpPr>
        <p:sp>
          <p:nvSpPr>
            <p:cNvPr id="310" name=""/>
            <p:cNvSpPr/>
            <p:nvPr/>
          </p:nvSpPr>
          <p:spPr>
            <a:xfrm>
              <a:off x="4952880" y="45720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52880" y="45720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5257800" y="45720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4952520" y="45720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18FA-9E1D-4191-A991-ED162B7955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Plan({R1, …, Rn}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6BBB-FB58-417A-86E6-BD1C89C840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llustrate, we will make the following simpl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P1      P2) = Cost(P1) + Cost(P2) +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size(intermediate result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te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1 = a join, then the size of the intermediate result is size(P1), otherwise the size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 for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a scan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362320" y="2971800"/>
            <a:ext cx="304560" cy="203040"/>
            <a:chOff x="2362320" y="2971800"/>
            <a:chExt cx="304560" cy="203040"/>
          </a:xfrm>
        </p:grpSpPr>
        <p:sp>
          <p:nvSpPr>
            <p:cNvPr id="319" name=""/>
            <p:cNvSpPr/>
            <p:nvPr/>
          </p:nvSpPr>
          <p:spPr>
            <a:xfrm>
              <a:off x="2362320" y="29718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362320" y="29718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666880" y="29718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362320" y="29718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B4EC-9319-4903-BF9A-484061DEF09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components of an 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hree things in an optimi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ization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st estim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91CE-BC6C-4EC2-8898-40793BD2B7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R5     R7)  = 0       (no intermediate resu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(R2     R1)      R7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Cost(R2     R1) + Cost(R7) + size(R2     R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size(R2       R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362320" y="2666520"/>
            <a:ext cx="304560" cy="203760"/>
            <a:chOff x="2362320" y="2666520"/>
            <a:chExt cx="304560" cy="203760"/>
          </a:xfrm>
        </p:grpSpPr>
        <p:sp>
          <p:nvSpPr>
            <p:cNvPr id="326" name=""/>
            <p:cNvSpPr/>
            <p:nvPr/>
          </p:nvSpPr>
          <p:spPr>
            <a:xfrm>
              <a:off x="2362320" y="26668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62320" y="2666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2666880" y="2666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362320" y="26668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514240" y="3200400"/>
            <a:ext cx="305280" cy="203040"/>
            <a:chOff x="2514240" y="3200400"/>
            <a:chExt cx="305280" cy="203040"/>
          </a:xfrm>
        </p:grpSpPr>
        <p:sp>
          <p:nvSpPr>
            <p:cNvPr id="331" name=""/>
            <p:cNvSpPr/>
            <p:nvPr/>
          </p:nvSpPr>
          <p:spPr>
            <a:xfrm>
              <a:off x="2514600" y="32004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1460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81952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514240" y="32004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05320" y="3200400"/>
            <a:ext cx="304560" cy="203040"/>
            <a:chOff x="3505320" y="3200400"/>
            <a:chExt cx="304560" cy="203040"/>
          </a:xfrm>
        </p:grpSpPr>
        <p:sp>
          <p:nvSpPr>
            <p:cNvPr id="336" name=""/>
            <p:cNvSpPr/>
            <p:nvPr/>
          </p:nvSpPr>
          <p:spPr>
            <a:xfrm>
              <a:off x="3505320" y="32004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0532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380988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505320" y="32004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048120" y="3580920"/>
            <a:ext cx="304560" cy="203760"/>
            <a:chOff x="3048120" y="3580920"/>
            <a:chExt cx="304560" cy="203760"/>
          </a:xfrm>
        </p:grpSpPr>
        <p:sp>
          <p:nvSpPr>
            <p:cNvPr id="341" name=""/>
            <p:cNvSpPr/>
            <p:nvPr/>
          </p:nvSpPr>
          <p:spPr>
            <a:xfrm>
              <a:off x="30481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481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33526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0481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7162920" y="3580920"/>
            <a:ext cx="304560" cy="203760"/>
            <a:chOff x="7162920" y="3580920"/>
            <a:chExt cx="304560" cy="203760"/>
          </a:xfrm>
        </p:grpSpPr>
        <p:sp>
          <p:nvSpPr>
            <p:cNvPr id="346" name=""/>
            <p:cNvSpPr/>
            <p:nvPr/>
          </p:nvSpPr>
          <p:spPr>
            <a:xfrm>
              <a:off x="71629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74674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71629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48120" y="4038120"/>
            <a:ext cx="304560" cy="203760"/>
            <a:chOff x="3048120" y="4038120"/>
            <a:chExt cx="304560" cy="203760"/>
          </a:xfrm>
        </p:grpSpPr>
        <p:sp>
          <p:nvSpPr>
            <p:cNvPr id="351" name=""/>
            <p:cNvSpPr/>
            <p:nvPr/>
          </p:nvSpPr>
          <p:spPr>
            <a:xfrm>
              <a:off x="3048120" y="40384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48120" y="40384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3352680" y="40381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048120" y="40384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4DA-D763-4B03-9E06-528975D754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: R, S, T,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tuples: 2000, 5000, 3000,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estimation: T(A    B) = 0.01*T(A)*T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114440" y="3200400"/>
            <a:ext cx="305280" cy="203040"/>
            <a:chOff x="4114440" y="3200400"/>
            <a:chExt cx="305280" cy="203040"/>
          </a:xfrm>
        </p:grpSpPr>
        <p:sp>
          <p:nvSpPr>
            <p:cNvPr id="358" name=""/>
            <p:cNvSpPr/>
            <p:nvPr/>
          </p:nvSpPr>
          <p:spPr>
            <a:xfrm>
              <a:off x="4114800" y="32004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1480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441972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114440" y="32004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500C-38F4-44E4-B6B8-F6878B5BBD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2209680" y="152280"/>
          <a:ext cx="4267440" cy="645480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1066680"/>
                <a:gridCol w="106704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BAAD-0A9C-472B-9733-0A2260C7DB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2209680" y="152280"/>
          <a:ext cx="5486040" cy="6454800"/>
        </p:xfrm>
        <a:graphic>
          <a:graphicData uri="http://schemas.openxmlformats.org/drawingml/2006/table">
            <a:tbl>
              <a:tblPr/>
              <a:tblGrid>
                <a:gridCol w="1371600"/>
                <a:gridCol w="1371240"/>
                <a:gridCol w="1371600"/>
                <a:gridCol w="137160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+50k=11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(S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9DC-E7D8-4AE6-82DA-7A33822304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: computes optimal plans for sub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{R1},  {R2}, …, {R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 {R1, R2}, {R1, R3}, …, {Rn-1, R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n: {R1, …, R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d naïve size/cost esti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realistic size/cost estimations (next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uristics for Reducing the Search 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rict to left linear t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rict to trees “without cartesian produc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more than just one plan for each sub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ing orde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3427-793B-4F63-ACA8-7FA5996C448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tative and Associa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=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,  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) = 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S = S ∩ R,  R ∩ (S ∩ T) = (R ∩ S) ∩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= 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, 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 =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  = 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B625-AA87-4EEF-99BD-DC46200EFE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AND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OR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 involves only attributes of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–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8F3-ABEE-4B93-96F7-BB63194557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R(A, B, C, 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=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5 AND G=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626D-FC3C-4474-B87D-4473BC5180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N, P, Q are appropriate subsets of attributes of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R(A,B,C,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B,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?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C7B9-595C-4118-836A-6443E2E3DA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s involving grouping and aggreg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if agg is “duplicate insensitiv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are “duplicate insensitive”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count, avg, min,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(A,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C,D)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(A,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(C,D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y is this tru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y would we do i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1C4-F9B2-40AA-B76B-36B6D0B14F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uristic 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rewriting based on algebraic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n better queries most of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s number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 selections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s number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push selections up, then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74BC-2393-4E12-9EA8-E0B70935C0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dministrator</cp:lastModifiedBy>
  <dcterms:modified xsi:type="dcterms:W3CDTF">2002-11-27T16:54:44Z</dcterms:modified>
  <cp:revision>320</cp:revision>
  <dc:subject/>
  <dc:title>Lecture 09:</dc:title>
</cp:coreProperties>
</file>