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212F-D3B7-4581-ABA3-44D49CA89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3183-075A-46E0-AAB6-BEA02EA9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BAF4-1964-4C53-A430-7858A775F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5816-B77C-498E-B3FB-629053448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716D-883D-4457-970E-D75F921E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31E2-F01A-428F-9F59-6D1A91E1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48F1-7158-482A-BB7E-383FB77F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C82C-254A-434E-A18B-8A60A7C1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C936-D654-44D5-A4AE-571FCC0F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5094-3680-427B-A095-A65687F2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D296-FB86-4801-ABE8-71E198C0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13A9-1FC1-46F8-8DD3-10CBA592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CA15-C89A-4D5C-9A32-E07F807DC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4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November 27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4F08-6C58-4108-B3C8-CFCA795A82A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dicate Pushd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20800" y="1917720"/>
            <a:ext cx="180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08280" y="1917720"/>
            <a:ext cx="144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79400" y="1901880"/>
            <a:ext cx="174960" cy="1440"/>
          </a:xfrm>
          <a:custGeom>
            <a:avLst/>
            <a:gdLst/>
            <a:ahLst/>
            <a:rect l="l" t="t" r="r" b="b"/>
            <a:pathLst>
              <a:path w="110" h="1">
                <a:moveTo>
                  <a:pt x="0" y="0"/>
                </a:moveTo>
                <a:lnTo>
                  <a:pt x="10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38160" y="3914640"/>
            <a:ext cx="180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85920" y="3914640"/>
            <a:ext cx="180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38160" y="3914640"/>
            <a:ext cx="34956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0"/>
                </a:moveTo>
                <a:lnTo>
                  <a:pt x="219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38160" y="3914640"/>
            <a:ext cx="34956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77"/>
                </a:moveTo>
                <a:lnTo>
                  <a:pt x="219" y="0"/>
                </a:lnTo>
                <a:lnTo>
                  <a:pt x="0" y="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43080" y="4425840"/>
            <a:ext cx="669960" cy="357120"/>
          </a:xfrm>
          <a:custGeom>
            <a:avLst/>
            <a:gdLst/>
            <a:ahLst/>
            <a:rect l="l" t="t" r="r" b="b"/>
            <a:pathLst>
              <a:path w="422" h="225">
                <a:moveTo>
                  <a:pt x="0" y="224"/>
                </a:moveTo>
                <a:lnTo>
                  <a:pt x="421" y="0"/>
                </a:lnTo>
                <a:lnTo>
                  <a:pt x="0" y="2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58920" y="4425840"/>
            <a:ext cx="684360" cy="357120"/>
          </a:xfrm>
          <a:custGeom>
            <a:avLst/>
            <a:gdLst/>
            <a:ahLst/>
            <a:rect l="l" t="t" r="r" b="b"/>
            <a:pathLst>
              <a:path w="431" h="225">
                <a:moveTo>
                  <a:pt x="0" y="0"/>
                </a:moveTo>
                <a:lnTo>
                  <a:pt x="430" y="22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14560" y="3201840"/>
            <a:ext cx="1440" cy="560520"/>
          </a:xfrm>
          <a:custGeom>
            <a:avLst/>
            <a:gdLst/>
            <a:ahLst/>
            <a:rect l="l" t="t" r="r" b="b"/>
            <a:pathLst>
              <a:path w="1" h="353">
                <a:moveTo>
                  <a:pt x="0" y="0"/>
                </a:moveTo>
                <a:lnTo>
                  <a:pt x="0" y="35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14560" y="2274840"/>
            <a:ext cx="1440" cy="512640"/>
          </a:xfrm>
          <a:custGeom>
            <a:avLst/>
            <a:gdLst/>
            <a:ahLst/>
            <a:rect l="l" t="t" r="r" b="b"/>
            <a:pathLst>
              <a:path w="1" h="323">
                <a:moveTo>
                  <a:pt x="0" y="0"/>
                </a:moveTo>
                <a:lnTo>
                  <a:pt x="0" y="32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4865760"/>
            <a:ext cx="1003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69600" y="4849920"/>
            <a:ext cx="1172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56720" y="4124160"/>
            <a:ext cx="1279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ker=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20800" y="2895480"/>
            <a:ext cx="2544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rice&gt;100 AND city=“Seattle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73720" y="1986120"/>
            <a:ext cx="75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00480" y="3809880"/>
            <a:ext cx="1839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1840" y="2835360"/>
            <a:ext cx="184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70160" y="182880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67400" y="4200480"/>
            <a:ext cx="100080" cy="119160"/>
          </a:xfrm>
          <a:custGeom>
            <a:avLst/>
            <a:gdLst/>
            <a:ahLst/>
            <a:rect l="l" t="t" r="r" b="b"/>
            <a:pathLst>
              <a:path w="63" h="75">
                <a:moveTo>
                  <a:pt x="62" y="37"/>
                </a:moveTo>
                <a:lnTo>
                  <a:pt x="53" y="11"/>
                </a:lnTo>
                <a:lnTo>
                  <a:pt x="31" y="0"/>
                </a:lnTo>
                <a:lnTo>
                  <a:pt x="9" y="11"/>
                </a:lnTo>
                <a:lnTo>
                  <a:pt x="0" y="37"/>
                </a:lnTo>
                <a:lnTo>
                  <a:pt x="9" y="64"/>
                </a:lnTo>
                <a:lnTo>
                  <a:pt x="31" y="74"/>
                </a:lnTo>
                <a:lnTo>
                  <a:pt x="53" y="64"/>
                </a:lnTo>
                <a:lnTo>
                  <a:pt x="62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616720" y="4210200"/>
            <a:ext cx="87120" cy="1440"/>
          </a:xfrm>
          <a:custGeom>
            <a:avLst/>
            <a:gdLst/>
            <a:ahLst/>
            <a:rect l="l" t="t" r="r" b="b"/>
            <a:pathLst>
              <a:path w="55" h="1">
                <a:moveTo>
                  <a:pt x="0" y="0"/>
                </a:moveTo>
                <a:lnTo>
                  <a:pt x="54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45360" y="2482920"/>
            <a:ext cx="1440" cy="133200"/>
          </a:xfrm>
          <a:custGeom>
            <a:avLst/>
            <a:gdLst/>
            <a:ahLst/>
            <a:rect l="l" t="t" r="r" b="b"/>
            <a:pathLst>
              <a:path w="1" h="84">
                <a:moveTo>
                  <a:pt x="0" y="0"/>
                </a:moveTo>
                <a:lnTo>
                  <a:pt x="0" y="8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19880" y="2482920"/>
            <a:ext cx="1440" cy="133200"/>
          </a:xfrm>
          <a:custGeom>
            <a:avLst/>
            <a:gdLst/>
            <a:ahLst/>
            <a:rect l="l" t="t" r="r" b="b"/>
            <a:pathLst>
              <a:path w="1" h="84">
                <a:moveTo>
                  <a:pt x="0" y="0"/>
                </a:moveTo>
                <a:lnTo>
                  <a:pt x="0" y="8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08640" y="2470320"/>
            <a:ext cx="149400" cy="1440"/>
          </a:xfrm>
          <a:custGeom>
            <a:avLst/>
            <a:gdLst/>
            <a:ahLst/>
            <a:rect l="l" t="t" r="r" b="b"/>
            <a:pathLst>
              <a:path w="94" h="1">
                <a:moveTo>
                  <a:pt x="0" y="0"/>
                </a:moveTo>
                <a:lnTo>
                  <a:pt x="93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69200" y="3400560"/>
            <a:ext cx="1440" cy="98280"/>
          </a:xfrm>
          <a:custGeom>
            <a:avLst/>
            <a:gdLst/>
            <a:ahLst/>
            <a:rect l="l" t="t" r="r" b="b"/>
            <a:pathLst>
              <a:path w="1" h="62">
                <a:moveTo>
                  <a:pt x="0" y="0"/>
                </a:moveTo>
                <a:lnTo>
                  <a:pt x="0" y="6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64400" y="3400560"/>
            <a:ext cx="1440" cy="98280"/>
          </a:xfrm>
          <a:custGeom>
            <a:avLst/>
            <a:gdLst/>
            <a:ahLst/>
            <a:rect l="l" t="t" r="r" b="b"/>
            <a:pathLst>
              <a:path w="1" h="62">
                <a:moveTo>
                  <a:pt x="0" y="0"/>
                </a:moveTo>
                <a:lnTo>
                  <a:pt x="0" y="6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69200" y="3400560"/>
            <a:ext cx="296640" cy="98280"/>
          </a:xfrm>
          <a:custGeom>
            <a:avLst/>
            <a:gdLst/>
            <a:ahLst/>
            <a:rect l="l" t="t" r="r" b="b"/>
            <a:pathLst>
              <a:path w="187" h="62">
                <a:moveTo>
                  <a:pt x="0" y="0"/>
                </a:moveTo>
                <a:lnTo>
                  <a:pt x="186" y="6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69200" y="3400560"/>
            <a:ext cx="296640" cy="98280"/>
          </a:xfrm>
          <a:custGeom>
            <a:avLst/>
            <a:gdLst/>
            <a:ahLst/>
            <a:rect l="l" t="t" r="r" b="b"/>
            <a:pathLst>
              <a:path w="187" h="62">
                <a:moveTo>
                  <a:pt x="0" y="61"/>
                </a:moveTo>
                <a:lnTo>
                  <a:pt x="186" y="0"/>
                </a:lnTo>
                <a:lnTo>
                  <a:pt x="0" y="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61240" y="3794040"/>
            <a:ext cx="569880" cy="274680"/>
          </a:xfrm>
          <a:custGeom>
            <a:avLst/>
            <a:gdLst/>
            <a:ahLst/>
            <a:rect l="l" t="t" r="r" b="b"/>
            <a:pathLst>
              <a:path w="359" h="173">
                <a:moveTo>
                  <a:pt x="0" y="172"/>
                </a:moveTo>
                <a:lnTo>
                  <a:pt x="358" y="0"/>
                </a:lnTo>
                <a:lnTo>
                  <a:pt x="0" y="17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38840" y="3794040"/>
            <a:ext cx="581040" cy="274680"/>
          </a:xfrm>
          <a:custGeom>
            <a:avLst/>
            <a:gdLst/>
            <a:ahLst/>
            <a:rect l="l" t="t" r="r" b="b"/>
            <a:pathLst>
              <a:path w="366" h="173">
                <a:moveTo>
                  <a:pt x="0" y="0"/>
                </a:moveTo>
                <a:lnTo>
                  <a:pt x="365" y="17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67760" y="4425840"/>
            <a:ext cx="1440" cy="432000"/>
          </a:xfrm>
          <a:custGeom>
            <a:avLst/>
            <a:gdLst/>
            <a:ahLst/>
            <a:rect l="l" t="t" r="r" b="b"/>
            <a:pathLst>
              <a:path w="1" h="272">
                <a:moveTo>
                  <a:pt x="0" y="0"/>
                </a:moveTo>
                <a:lnTo>
                  <a:pt x="0" y="27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03840" y="2854440"/>
            <a:ext cx="1800" cy="392040"/>
          </a:xfrm>
          <a:custGeom>
            <a:avLst/>
            <a:gdLst/>
            <a:ahLst/>
            <a:rect l="l" t="t" r="r" b="b"/>
            <a:pathLst>
              <a:path w="1" h="247">
                <a:moveTo>
                  <a:pt x="0" y="0"/>
                </a:moveTo>
                <a:lnTo>
                  <a:pt x="0" y="24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86520" y="4175280"/>
            <a:ext cx="100080" cy="122040"/>
          </a:xfrm>
          <a:custGeom>
            <a:avLst/>
            <a:gdLst/>
            <a:ahLst/>
            <a:rect l="l" t="t" r="r" b="b"/>
            <a:pathLst>
              <a:path w="63" h="77">
                <a:moveTo>
                  <a:pt x="62" y="38"/>
                </a:moveTo>
                <a:lnTo>
                  <a:pt x="53" y="11"/>
                </a:lnTo>
                <a:lnTo>
                  <a:pt x="31" y="0"/>
                </a:lnTo>
                <a:lnTo>
                  <a:pt x="9" y="11"/>
                </a:lnTo>
                <a:lnTo>
                  <a:pt x="0" y="38"/>
                </a:lnTo>
                <a:lnTo>
                  <a:pt x="9" y="65"/>
                </a:lnTo>
                <a:lnTo>
                  <a:pt x="31" y="76"/>
                </a:lnTo>
                <a:lnTo>
                  <a:pt x="53" y="65"/>
                </a:lnTo>
                <a:lnTo>
                  <a:pt x="62" y="3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35840" y="4186080"/>
            <a:ext cx="87120" cy="1800"/>
          </a:xfrm>
          <a:custGeom>
            <a:avLst/>
            <a:gdLst/>
            <a:ahLst/>
            <a:rect l="l" t="t" r="r" b="b"/>
            <a:pathLst>
              <a:path w="55" h="1">
                <a:moveTo>
                  <a:pt x="0" y="0"/>
                </a:moveTo>
                <a:lnTo>
                  <a:pt x="54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24520" y="4437000"/>
            <a:ext cx="1440" cy="430200"/>
          </a:xfrm>
          <a:custGeom>
            <a:avLst/>
            <a:gdLst/>
            <a:ahLst/>
            <a:rect l="l" t="t" r="r" b="b"/>
            <a:pathLst>
              <a:path w="1" h="271">
                <a:moveTo>
                  <a:pt x="0" y="0"/>
                </a:moveTo>
                <a:lnTo>
                  <a:pt x="0" y="27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3520" y="4818240"/>
            <a:ext cx="1003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40160" y="4830840"/>
            <a:ext cx="1172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97120" y="3546360"/>
            <a:ext cx="1279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ker=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28960" y="4224240"/>
            <a:ext cx="1062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ce&gt;10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74160" y="2519280"/>
            <a:ext cx="75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16680" y="2362320"/>
            <a:ext cx="184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22880" y="4200480"/>
            <a:ext cx="1361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ty=“Seattl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42240" y="3305160"/>
            <a:ext cx="1839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1240" y="5222880"/>
            <a:ext cx="868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earlier we process selections, less tuples we need to manipu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igher up in the tree (but may cause us to loose an important or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f the tuples, if we use index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CFDD-F381-45B9-BF85-EB76898581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dicate Pushd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2200" y="2133720"/>
            <a:ext cx="380772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.name, Max(x.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roduct x, company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.maker = y.nam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x(x.price)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56480" y="2286000"/>
            <a:ext cx="380772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.name, Max(x.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roduct x, company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.maker=y.name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.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x(x.price)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0520" y="4765680"/>
            <a:ext cx="849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For each company, find the maximal price of its produ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tage: the size of the join will be small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ransformation rules specific to the grouping/aggre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on’t work if we replace Max by M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9EFB-4A8B-4277-A028-8CD3B13045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ing predicates 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1880" y="4267080"/>
            <a:ext cx="29606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1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x.categor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(x.price) AS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roduc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.price &lt;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.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4648320"/>
            <a:ext cx="44708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2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.name, x.category, x.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roduct x, company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.maker=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5000" y="1981080"/>
            <a:ext cx="5140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V2.name, V2.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V1,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V1.category = V2.category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1.p = V2.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676520" y="3657600"/>
            <a:ext cx="1676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24280" y="365760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680" y="1413000"/>
            <a:ext cx="90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argain view V1: categories with some price&lt;20, and the cheapest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5FDE-49DA-4605-88DE-F2D84BA024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Rewrit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ing predicates 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1880" y="4267080"/>
            <a:ext cx="29606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View V1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x.categor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(x.price) AS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produc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x.price &lt;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By  x.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4648320"/>
            <a:ext cx="44708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View V2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y.name, x.category, x.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product x, company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x.maker=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51120" y="1981080"/>
            <a:ext cx="52722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V2.name, V2.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V1,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 V1.category = V2.category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1.p = V2.pric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 V1.p &lt;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676520" y="3657600"/>
            <a:ext cx="1676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365760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680" y="1413000"/>
            <a:ext cx="90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argain view V1: categories with some price&lt;20, and the cheapest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457A-526D-46D1-9BDF-97C67E3C0F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Rewrit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ing predicates 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1880" y="4267080"/>
            <a:ext cx="29606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View V1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x.categor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(x.price) AS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produc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x.price &lt;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By  x.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4648320"/>
            <a:ext cx="447084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View V2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y.name, x.category, x.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product x, company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x.maker=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 V1.p &lt;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51120" y="1981080"/>
            <a:ext cx="52722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V2.name, V2.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V1,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 V1.category = V2.category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1.p = V2.pric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 V1.p &lt;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676520" y="3657600"/>
            <a:ext cx="1676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24280" y="365760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680" y="1413000"/>
            <a:ext cx="90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argain view V1: categories with some price&lt;20, and the cheapest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B9B5-FFB3-4ED6-A581-485C9030F5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-based Optimiz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dea: apply algebraic laws, until estimated cost is mini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ally: start from partial plans, introduce operators one by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see in a few sl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 there are too many ways to apply the laws, hence too many (partial) p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E63C-CF87-46D2-87EA-626AE127FB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-based Optimiz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-down: the partial plan is a top fragment of the logica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tom up: the partial plan is a bottom fragment of the logica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3DA9-4391-4DBF-9643-FC57A3F652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 Strate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nch-and-bou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the cheapest complete plan P seen so far and its cost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 generating partial plans whose cost is &gt;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cheaper complete plan is found, replace P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 climb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only the cheapest partial plan seen so f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programm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the all cheapest partial p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E7AF-2F3A-43B0-8CCC-0180CFD1D6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t of Optimiz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-project-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sh selections down, pull projections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A17D-6A2C-4ABA-9A9C-C149233168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1       R2        ….       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join tree represents a plan. An optimizer needs to inspect many (all ?) join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9600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4356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9148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6308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971440" y="3733920"/>
            <a:ext cx="305280" cy="203040"/>
            <a:chOff x="2971440" y="3733920"/>
            <a:chExt cx="305280" cy="203040"/>
          </a:xfrm>
        </p:grpSpPr>
        <p:sp>
          <p:nvSpPr>
            <p:cNvPr id="144" name=""/>
            <p:cNvSpPr/>
            <p:nvPr/>
          </p:nvSpPr>
          <p:spPr>
            <a:xfrm>
              <a:off x="2971800" y="37339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1800" y="37339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3276720" y="37339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2971440" y="37339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866920" y="3809520"/>
            <a:ext cx="305280" cy="203760"/>
            <a:chOff x="5866920" y="3809520"/>
            <a:chExt cx="305280" cy="203760"/>
          </a:xfrm>
        </p:grpSpPr>
        <p:sp>
          <p:nvSpPr>
            <p:cNvPr id="149" name=""/>
            <p:cNvSpPr/>
            <p:nvPr/>
          </p:nvSpPr>
          <p:spPr>
            <a:xfrm>
              <a:off x="5867280" y="3809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67280" y="38098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6172200" y="38095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5866920" y="3809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4571640" y="3048120"/>
            <a:ext cx="305280" cy="203040"/>
            <a:chOff x="4571640" y="3048120"/>
            <a:chExt cx="305280" cy="203040"/>
          </a:xfrm>
        </p:grpSpPr>
        <p:sp>
          <p:nvSpPr>
            <p:cNvPr id="154" name=""/>
            <p:cNvSpPr/>
            <p:nvPr/>
          </p:nvSpPr>
          <p:spPr>
            <a:xfrm>
              <a:off x="4572000" y="3048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87692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4571640" y="3048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 flipH="1">
            <a:off x="2514600" y="4038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4038480"/>
            <a:ext cx="5331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409720" y="4038480"/>
            <a:ext cx="3812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48520" y="4038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352680" y="320040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29200" y="3276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676520" y="2133720"/>
            <a:ext cx="304560" cy="203040"/>
            <a:chOff x="1676520" y="2133720"/>
            <a:chExt cx="304560" cy="203040"/>
          </a:xfrm>
        </p:grpSpPr>
        <p:sp>
          <p:nvSpPr>
            <p:cNvPr id="165" name=""/>
            <p:cNvSpPr/>
            <p:nvPr/>
          </p:nvSpPr>
          <p:spPr>
            <a:xfrm>
              <a:off x="1676520" y="213372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76520" y="2133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981080" y="2133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676520" y="213372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666520" y="2133720"/>
            <a:ext cx="305280" cy="203040"/>
            <a:chOff x="2666520" y="2133720"/>
            <a:chExt cx="305280" cy="203040"/>
          </a:xfrm>
        </p:grpSpPr>
        <p:sp>
          <p:nvSpPr>
            <p:cNvPr id="170" name=""/>
            <p:cNvSpPr/>
            <p:nvPr/>
          </p:nvSpPr>
          <p:spPr>
            <a:xfrm>
              <a:off x="2666880" y="2133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666880" y="2133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2971800" y="2133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666520" y="2133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85840" y="2133720"/>
            <a:ext cx="305280" cy="203040"/>
            <a:chOff x="3885840" y="2133720"/>
            <a:chExt cx="305280" cy="203040"/>
          </a:xfrm>
        </p:grpSpPr>
        <p:sp>
          <p:nvSpPr>
            <p:cNvPr id="175" name=""/>
            <p:cNvSpPr/>
            <p:nvPr/>
          </p:nvSpPr>
          <p:spPr>
            <a:xfrm>
              <a:off x="3886200" y="2133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86200" y="2133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4191120" y="2133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3885840" y="2133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92A3-E6C6-4B75-85BA-2DE9163A85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optimization: algebraic laws 16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-based optimization 16.5, 16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0BEB-C488-4833-8905-DFBA11EA61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 dee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876920" y="3048120"/>
            <a:ext cx="304560" cy="203040"/>
            <a:chOff x="4876920" y="3048120"/>
            <a:chExt cx="304560" cy="203040"/>
          </a:xfrm>
        </p:grpSpPr>
        <p:sp>
          <p:nvSpPr>
            <p:cNvPr id="182" name=""/>
            <p:cNvSpPr/>
            <p:nvPr/>
          </p:nvSpPr>
          <p:spPr>
            <a:xfrm>
              <a:off x="4876920" y="304812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87692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518148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876920" y="304812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191120" y="3657600"/>
            <a:ext cx="304560" cy="203040"/>
            <a:chOff x="4191120" y="3657600"/>
            <a:chExt cx="304560" cy="203040"/>
          </a:xfrm>
        </p:grpSpPr>
        <p:sp>
          <p:nvSpPr>
            <p:cNvPr id="187" name=""/>
            <p:cNvSpPr/>
            <p:nvPr/>
          </p:nvSpPr>
          <p:spPr>
            <a:xfrm>
              <a:off x="4191120" y="365760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91120" y="36576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4495680" y="36576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4191120" y="365760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352320" y="4191120"/>
            <a:ext cx="305280" cy="203040"/>
            <a:chOff x="3352320" y="4191120"/>
            <a:chExt cx="305280" cy="203040"/>
          </a:xfrm>
        </p:grpSpPr>
        <p:sp>
          <p:nvSpPr>
            <p:cNvPr id="192" name=""/>
            <p:cNvSpPr/>
            <p:nvPr/>
          </p:nvSpPr>
          <p:spPr>
            <a:xfrm>
              <a:off x="3352680" y="4191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52680" y="4191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3657600" y="4191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3352320" y="4191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2514240" y="4723920"/>
            <a:ext cx="305280" cy="203760"/>
            <a:chOff x="2514240" y="4723920"/>
            <a:chExt cx="305280" cy="203760"/>
          </a:xfrm>
        </p:grpSpPr>
        <p:sp>
          <p:nvSpPr>
            <p:cNvPr id="197" name=""/>
            <p:cNvSpPr/>
            <p:nvPr/>
          </p:nvSpPr>
          <p:spPr>
            <a:xfrm>
              <a:off x="251460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514600" y="4724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819520" y="4723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51424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754640" y="5410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73600" y="5486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48480" y="46893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10600" y="4079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00960" y="3394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133720" y="50292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95480" y="50292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2971440" y="4419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33920" y="44197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733920" y="38862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0" y="38862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4571640" y="32767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57800" y="32767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039E-176D-405E-97D7-5E0B80DAF9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sh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135520" y="4572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73600" y="55627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31000" y="4572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02600" y="4572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910960" y="3692520"/>
            <a:ext cx="305280" cy="203040"/>
            <a:chOff x="2910960" y="3692520"/>
            <a:chExt cx="305280" cy="203040"/>
          </a:xfrm>
        </p:grpSpPr>
        <p:sp>
          <p:nvSpPr>
            <p:cNvPr id="221" name=""/>
            <p:cNvSpPr/>
            <p:nvPr/>
          </p:nvSpPr>
          <p:spPr>
            <a:xfrm>
              <a:off x="2911320" y="36925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11320" y="36925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3216240" y="36925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2910960" y="36925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807160" y="3768840"/>
            <a:ext cx="304560" cy="203040"/>
            <a:chOff x="5807160" y="3768840"/>
            <a:chExt cx="304560" cy="203040"/>
          </a:xfrm>
        </p:grpSpPr>
        <p:sp>
          <p:nvSpPr>
            <p:cNvPr id="226" name=""/>
            <p:cNvSpPr/>
            <p:nvPr/>
          </p:nvSpPr>
          <p:spPr>
            <a:xfrm>
              <a:off x="5807160" y="376884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07160" y="376884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6111720" y="376884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5807160" y="376884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511160" y="3006720"/>
            <a:ext cx="305280" cy="203040"/>
            <a:chOff x="4511160" y="3006720"/>
            <a:chExt cx="305280" cy="203040"/>
          </a:xfrm>
        </p:grpSpPr>
        <p:sp>
          <p:nvSpPr>
            <p:cNvPr id="231" name=""/>
            <p:cNvSpPr/>
            <p:nvPr/>
          </p:nvSpPr>
          <p:spPr>
            <a:xfrm>
              <a:off x="451152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1152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481644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451116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 flipH="1">
            <a:off x="2454120" y="3997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16240" y="399744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349960" y="399744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88040" y="3997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292200" y="31590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68720" y="32353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657240" y="4723920"/>
            <a:ext cx="305280" cy="203760"/>
            <a:chOff x="3657240" y="4723920"/>
            <a:chExt cx="305280" cy="203760"/>
          </a:xfrm>
        </p:grpSpPr>
        <p:sp>
          <p:nvSpPr>
            <p:cNvPr id="242" name=""/>
            <p:cNvSpPr/>
            <p:nvPr/>
          </p:nvSpPr>
          <p:spPr>
            <a:xfrm>
              <a:off x="365760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57600" y="4724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3962520" y="4723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365724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17708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276720" y="50292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50292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5F28-043D-4621-9652-DCAA78FE40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dee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352320" y="2666520"/>
            <a:ext cx="305280" cy="203760"/>
            <a:chOff x="3352320" y="2666520"/>
            <a:chExt cx="305280" cy="203760"/>
          </a:xfrm>
        </p:grpSpPr>
        <p:sp>
          <p:nvSpPr>
            <p:cNvPr id="252" name=""/>
            <p:cNvSpPr/>
            <p:nvPr/>
          </p:nvSpPr>
          <p:spPr>
            <a:xfrm>
              <a:off x="3352680" y="2666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352680" y="26668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3657600" y="26665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3352320" y="2666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4282560" y="3006720"/>
            <a:ext cx="305280" cy="203040"/>
            <a:chOff x="4282560" y="3006720"/>
            <a:chExt cx="305280" cy="203040"/>
          </a:xfrm>
        </p:grpSpPr>
        <p:sp>
          <p:nvSpPr>
            <p:cNvPr id="257" name=""/>
            <p:cNvSpPr/>
            <p:nvPr/>
          </p:nvSpPr>
          <p:spPr>
            <a:xfrm>
              <a:off x="428292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8292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458784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428256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5105520" y="3580920"/>
            <a:ext cx="304560" cy="203760"/>
            <a:chOff x="5105520" y="3580920"/>
            <a:chExt cx="304560" cy="203760"/>
          </a:xfrm>
        </p:grpSpPr>
        <p:sp>
          <p:nvSpPr>
            <p:cNvPr id="262" name=""/>
            <p:cNvSpPr/>
            <p:nvPr/>
          </p:nvSpPr>
          <p:spPr>
            <a:xfrm>
              <a:off x="5105520" y="35812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05520" y="3581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5410080" y="3580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05520" y="35812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866920" y="4266720"/>
            <a:ext cx="305280" cy="203760"/>
            <a:chOff x="5866920" y="4266720"/>
            <a:chExt cx="305280" cy="203760"/>
          </a:xfrm>
        </p:grpSpPr>
        <p:sp>
          <p:nvSpPr>
            <p:cNvPr id="267" name=""/>
            <p:cNvSpPr/>
            <p:nvPr/>
          </p:nvSpPr>
          <p:spPr>
            <a:xfrm>
              <a:off x="5867280" y="42670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67280" y="42670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6172200" y="42667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5866920" y="42670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2440440" y="3429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354840" y="403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92920" y="44197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59600" y="4952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26640" y="4952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895120" y="29718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2895480"/>
            <a:ext cx="3812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3809880" y="3276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724280" y="3276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4723920" y="388620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38862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5562360" y="45720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495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F8CB-B497-4DA8-A8E3-903F1FDD88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: a query  R1     R2      …      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we have a function cost() that gives us the cost of every join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best join tree for the qu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4266720" y="2209320"/>
            <a:ext cx="305280" cy="203760"/>
            <a:chOff x="4266720" y="2209320"/>
            <a:chExt cx="305280" cy="203760"/>
          </a:xfrm>
        </p:grpSpPr>
        <p:sp>
          <p:nvSpPr>
            <p:cNvPr id="287" name=""/>
            <p:cNvSpPr/>
            <p:nvPr/>
          </p:nvSpPr>
          <p:spPr>
            <a:xfrm>
              <a:off x="4267080" y="22096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267080" y="22096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4572000" y="22093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4266720" y="22096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5257440" y="2209320"/>
            <a:ext cx="305280" cy="203760"/>
            <a:chOff x="5257440" y="2209320"/>
            <a:chExt cx="305280" cy="203760"/>
          </a:xfrm>
        </p:grpSpPr>
        <p:sp>
          <p:nvSpPr>
            <p:cNvPr id="292" name=""/>
            <p:cNvSpPr/>
            <p:nvPr/>
          </p:nvSpPr>
          <p:spPr>
            <a:xfrm>
              <a:off x="5257800" y="22096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57800" y="22096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5562720" y="22093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5257440" y="22096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6400440" y="2209320"/>
            <a:ext cx="305280" cy="203760"/>
            <a:chOff x="6400440" y="2209320"/>
            <a:chExt cx="305280" cy="203760"/>
          </a:xfrm>
        </p:grpSpPr>
        <p:sp>
          <p:nvSpPr>
            <p:cNvPr id="297" name=""/>
            <p:cNvSpPr/>
            <p:nvPr/>
          </p:nvSpPr>
          <p:spPr>
            <a:xfrm>
              <a:off x="6400800" y="22096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00800" y="22096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6705720" y="22093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6400440" y="22096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E434-F2BD-47CC-9232-1AA9CB52C2E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for each subset of {R1, …, Rn}, compute the best plan for that sub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increasing order of set cardina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for {R1}, {R2}, …, {R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for {R1,R2}, {R1,R3}, …, {Rn-1, R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n: for {R1, …, R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ubset of {R1, …, Rn} is also called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82CF-1EAA-4A8F-9BCE-9BC855BC75B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subquery 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바탕"/>
              </a:rPr>
              <a:t>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R1, …, Rn} compute the follow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(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est plan for Q: Plan(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st of that plan: Cost(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BEA3-BC7C-4EF3-ADB5-FBB9A82BC13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For each {Ri} 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({Ri}) = B(R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({Ri}) = 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{Ri}) = (cost of scanning R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0351-7C6D-4F05-81B4-A0AD8ABB31E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For each 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바탕"/>
              </a:rPr>
              <a:t>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R1, …, Rn} of cardinality i 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Size(Q)    (later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very pair of subqueries Q’, Q’’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.t. Q = Q’ U Q’’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cost(Plan(Q’)       Plan(Q’’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Q) = the smallest such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(Q) = the corresponding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4952520" y="4572000"/>
            <a:ext cx="305280" cy="203040"/>
            <a:chOff x="4952520" y="4572000"/>
            <a:chExt cx="305280" cy="203040"/>
          </a:xfrm>
        </p:grpSpPr>
        <p:sp>
          <p:nvSpPr>
            <p:cNvPr id="310" name=""/>
            <p:cNvSpPr/>
            <p:nvPr/>
          </p:nvSpPr>
          <p:spPr>
            <a:xfrm>
              <a:off x="4952880" y="457200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952880" y="45720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5257800" y="45720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4952520" y="457200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5E73-F0ED-4C04-9113-11080CE4F81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Plan({R1, …, Rn}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EC56-26FF-4EAD-ABFC-7CE97031D2E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illustrate, we will make the following simplif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P1      P2) = Cost(P1) + Cost(P2) +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size(intermediate result(s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mediate resul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P1 = a join, then the size of the intermediate result is size(P1), otherwise the size i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ly for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a scan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2362320" y="2971800"/>
            <a:ext cx="304560" cy="203040"/>
            <a:chOff x="2362320" y="2971800"/>
            <a:chExt cx="304560" cy="203040"/>
          </a:xfrm>
        </p:grpSpPr>
        <p:sp>
          <p:nvSpPr>
            <p:cNvPr id="319" name=""/>
            <p:cNvSpPr/>
            <p:nvPr/>
          </p:nvSpPr>
          <p:spPr>
            <a:xfrm>
              <a:off x="2362320" y="297180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362320" y="29718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2666880" y="29718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2362320" y="297180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542A-B5A0-4E1B-ABCF-B3EFF706F1D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components of an optimi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three things in an optimiz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ptimization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st estim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BF45-0F89-4F90-9095-BDF1C3F6B8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R5     R7)  = 0       (no intermediate resul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(R2     R1)      R7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= Cost(R2     R1) + Cost(R7) + size(R2     R1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= size(R2       R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362320" y="2666520"/>
            <a:ext cx="304560" cy="203760"/>
            <a:chOff x="2362320" y="2666520"/>
            <a:chExt cx="304560" cy="203760"/>
          </a:xfrm>
        </p:grpSpPr>
        <p:sp>
          <p:nvSpPr>
            <p:cNvPr id="326" name=""/>
            <p:cNvSpPr/>
            <p:nvPr/>
          </p:nvSpPr>
          <p:spPr>
            <a:xfrm>
              <a:off x="2362320" y="26668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362320" y="26668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2666880" y="26665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2362320" y="26668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2514240" y="3200400"/>
            <a:ext cx="305280" cy="203040"/>
            <a:chOff x="2514240" y="3200400"/>
            <a:chExt cx="305280" cy="203040"/>
          </a:xfrm>
        </p:grpSpPr>
        <p:sp>
          <p:nvSpPr>
            <p:cNvPr id="331" name=""/>
            <p:cNvSpPr/>
            <p:nvPr/>
          </p:nvSpPr>
          <p:spPr>
            <a:xfrm>
              <a:off x="2514600" y="320040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514600" y="32004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2819520" y="32004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2514240" y="320040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505320" y="3200400"/>
            <a:ext cx="304560" cy="203040"/>
            <a:chOff x="3505320" y="3200400"/>
            <a:chExt cx="304560" cy="203040"/>
          </a:xfrm>
        </p:grpSpPr>
        <p:sp>
          <p:nvSpPr>
            <p:cNvPr id="336" name=""/>
            <p:cNvSpPr/>
            <p:nvPr/>
          </p:nvSpPr>
          <p:spPr>
            <a:xfrm>
              <a:off x="3505320" y="320040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05320" y="32004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3809880" y="32004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3505320" y="320040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3048120" y="3580920"/>
            <a:ext cx="304560" cy="203760"/>
            <a:chOff x="3048120" y="3580920"/>
            <a:chExt cx="304560" cy="203760"/>
          </a:xfrm>
        </p:grpSpPr>
        <p:sp>
          <p:nvSpPr>
            <p:cNvPr id="341" name=""/>
            <p:cNvSpPr/>
            <p:nvPr/>
          </p:nvSpPr>
          <p:spPr>
            <a:xfrm>
              <a:off x="3048120" y="35812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048120" y="3581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3352680" y="3580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3048120" y="35812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7162920" y="3580920"/>
            <a:ext cx="304560" cy="203760"/>
            <a:chOff x="7162920" y="3580920"/>
            <a:chExt cx="304560" cy="203760"/>
          </a:xfrm>
        </p:grpSpPr>
        <p:sp>
          <p:nvSpPr>
            <p:cNvPr id="346" name=""/>
            <p:cNvSpPr/>
            <p:nvPr/>
          </p:nvSpPr>
          <p:spPr>
            <a:xfrm>
              <a:off x="7162920" y="35812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581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7467480" y="3580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7162920" y="35812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3048120" y="4038120"/>
            <a:ext cx="304560" cy="203760"/>
            <a:chOff x="3048120" y="4038120"/>
            <a:chExt cx="304560" cy="203760"/>
          </a:xfrm>
        </p:grpSpPr>
        <p:sp>
          <p:nvSpPr>
            <p:cNvPr id="351" name=""/>
            <p:cNvSpPr/>
            <p:nvPr/>
          </p:nvSpPr>
          <p:spPr>
            <a:xfrm>
              <a:off x="3048120" y="40384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048120" y="40384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3352680" y="40381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3048120" y="40384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F162-F9A1-44F5-B63E-7BAADDB0109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s: R, S, T, 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tuples: 2000, 5000, 3000, 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estimation: T(A    B) = 0.01*T(A)*T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4114440" y="3200400"/>
            <a:ext cx="305280" cy="203040"/>
            <a:chOff x="4114440" y="3200400"/>
            <a:chExt cx="305280" cy="203040"/>
          </a:xfrm>
        </p:grpSpPr>
        <p:sp>
          <p:nvSpPr>
            <p:cNvPr id="358" name=""/>
            <p:cNvSpPr/>
            <p:nvPr/>
          </p:nvSpPr>
          <p:spPr>
            <a:xfrm>
              <a:off x="4114800" y="320040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114800" y="32004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4419720" y="32004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4114440" y="320040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A545-77A0-4401-A4BE-2CD9A1510A7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2209680" y="152280"/>
          <a:ext cx="4267440" cy="6454800"/>
        </p:xfrm>
        <a:graphic>
          <a:graphicData uri="http://schemas.openxmlformats.org/drawingml/2006/table">
            <a:tbl>
              <a:tblPr/>
              <a:tblGrid>
                <a:gridCol w="1067040"/>
                <a:gridCol w="1066680"/>
                <a:gridCol w="1066680"/>
                <a:gridCol w="1067040"/>
              </a:tblGrid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qu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A5DF-5E94-4463-BE09-BB354825523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"/>
          <p:cNvGraphicFramePr/>
          <p:nvPr/>
        </p:nvGraphicFramePr>
        <p:xfrm>
          <a:off x="2209680" y="152280"/>
          <a:ext cx="5486040" cy="6454800"/>
        </p:xfrm>
        <a:graphic>
          <a:graphicData uri="http://schemas.openxmlformats.org/drawingml/2006/table">
            <a:tbl>
              <a:tblPr/>
              <a:tblGrid>
                <a:gridCol w="1371600"/>
                <a:gridCol w="1371240"/>
                <a:gridCol w="1371600"/>
                <a:gridCol w="1371600"/>
              </a:tblGrid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qu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T)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U)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U)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TU)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+50k=11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T)(SU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40CA-E4C7-4D81-BEFC-642976DA44E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: computes optimal plans for subque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1: {R1},  {R2}, …, {Rn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2:  {R1, R2}, {R1, R3}, …, {Rn-1, Rn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n: {R1, …, Rn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d naïve size/cost estim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realistic size/cost estimations (next 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uristics for Reducing the Search Spa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trict to left linear tr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trict to trees “without cartesian produc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more than just one plan for each subque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ing order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F0DA-A2D7-496E-B6D1-9E2064C50FF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tative and Associative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 = 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,  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) = (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S = S ∩ R,  R ∩ (S ∩ T) = (R ∩ S) ∩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 = 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, 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) = 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ive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)  =  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E87E-2D8C-4C15-A7E4-C94B03D462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s involving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AND 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OR 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 involves only attributes of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–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–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2E87-59AB-422F-967D-C6FEC769D8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R(A, B, C, D), S(E, F, 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=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D=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                                  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=5 AND G=9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D=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                      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7BEA-CF89-42EC-8001-59AB8595F4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s involving pro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N, P, Q are appropriate subsets of attributes of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,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R(A,B,C,D), S(E, F, 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B,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?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D199-BAF5-4321-B1A9-6625764769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ws involving grouping and aggreg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if agg is “duplicate insensitiv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are “duplicate insensitive” 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, count, avg, min,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 agg(D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(A,B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B=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(C,D)) 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 agg(D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(A,B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B=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, agg(D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(C,D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y is this tru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y would we do i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133D-79E9-46EC-82A9-8FAF28BC1A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uristic Based Optimiz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rewriting based on algebraic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 in better queries most of th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uristics number 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sh selections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uristics number 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push selections up, then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2D5A-BAF2-4992-BA44-1061EB62A8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Administrator</cp:lastModifiedBy>
  <dcterms:modified xsi:type="dcterms:W3CDTF">2002-11-27T16:54:44Z</dcterms:modified>
  <cp:revision>320</cp:revision>
  <dc:subject/>
  <dc:title>Lecture 09:</dc:title>
</cp:coreProperties>
</file>