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101-72BE-4C61-A63D-654D5C2F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DE3-1EFD-471D-94F1-149B874D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183-91A4-4379-8BB3-DEFD87C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99C-7486-4984-81C4-8DA3DC04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1CE-3C40-444D-BF53-9256806C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2E2-93A3-4958-89FA-C49650A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EC3-EF1C-4FCA-B685-1BFA0F5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D4F-6A90-409C-BDD1-0E9B8F3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D5F-96BD-488A-A428-44AFDB1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6EE-B223-4D95-AB5F-05109FB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05C-D531-483D-BBE7-C026964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3C8-BDC4-484B-BE47-2F58FCB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071B-CD01-40A8-BE6E-C28E2D6CD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71B-7DE4-4E92-8810-1BD40B2FBB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8320" y="4114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080" y="4114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852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35160" y="3962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65400" y="3962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96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1360" y="4648680"/>
            <a:ext cx="1055520" cy="891000"/>
          </a:xfrm>
          <a:prstGeom prst="wedgeRoundRectCallout">
            <a:avLst>
              <a:gd name="adj1" fmla="val -2627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840" y="480096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AC7-E294-47FB-BD7F-7EF41BC565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 selection:     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 join: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and selection on Company: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2a: scan and sort:             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2b: index-sca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: their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400" y="545940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051-FD61-46C4-9763-02FF2EC21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&lt;&lt;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7200" y="2133720"/>
            <a:ext cx="72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87200" y="3200400"/>
            <a:ext cx="2491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87200" y="4419720"/>
            <a:ext cx="2491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63520" y="5486400"/>
            <a:ext cx="2236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aker)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1AA-7AA3-4641-A6AB-A762C21D9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520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680" y="4003560"/>
            <a:ext cx="108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756-F2AC-4C98-A5F3-533C5B0ACC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hart of the databas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convert the SQL query to som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find a better logical plan, find an associated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0DA-74D1-4DBF-B018-1A5281472F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from SQL to Logical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6272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6040" y="2133720"/>
            <a:ext cx="293148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0520" y="2819520"/>
            <a:ext cx="347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3440" y="4952880"/>
            <a:ext cx="54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1, …, bm, ag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1      R2       …     Rk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114800"/>
            <a:ext cx="33768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1, …,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1, …, 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b1, …, 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7220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781680" y="297180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400800" y="510552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10280" y="5095800"/>
                <a:ext cx="2286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634160" y="5081760"/>
                <a:ext cx="2286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A95-4E88-47C5-8EB0-7B82F27FCB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4060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.maker in (Select company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ompany.city=“Seattl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160" y="4648320"/>
            <a:ext cx="64447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 = company.na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DB0-9B7B-4858-AE4C-937350D6F7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70720" cy="30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.price &gt;= ALL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0080" y="59436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convert this one to logical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D03-9832-4B64-B7F0-54013E6F1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43068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color= “b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x.price &lt; SOME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maker = y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.color=“bl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67652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ompute the complement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304-01E1-4A86-AEC7-55404EF39C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0690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560" y="182880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ne becomes a SFW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257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eturns exactly the products we DON’T want, 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93C-406C-4936-8945-7AFA940147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2E2-7190-4E6C-BD9B-C3CEA26EC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164360" cy="43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 = “blu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name, x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.color= “blue” AND x.maker = y.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.color=“blue”  AND x.price &lt; y.pr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11A-B172-4197-AF89-D211A1CF91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have on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ation for every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pproaches to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apply law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sult in cheaper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ased: estimate size and cost of intermediate results, search systematically for bes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rn database optimizers use a cost-based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D8A-62E0-4E1F-8136-63E4125751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A4A-E1DD-44A7-AA6F-D6A6AA31F1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F18-F7CE-41B9-8D14-57D6DFB97C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CB2-A4C6-43FF-B697-A4A8740A15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1EF-58E2-4393-9792-87871FA0AC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26C-41A5-44BE-A6B7-EF9CA1ECAF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is this tr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would we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A8F-FE1D-4C02-A018-F042F192CF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48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712-F2CF-45BF-8C3A-160579345B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2DC-C3B8-4ABB-BFE4-FD9D04B38E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02320" y="167652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B1B-BFCE-4972-A93E-01D9D53488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A43-7513-49A8-AA7D-7424792F4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CBF-5A60-4B01-85DF-9DBA3027C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4120" y="4495680"/>
            <a:ext cx="527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454-3A81-491C-A693-1CD00542A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9341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58760" y="3962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9000" y="3962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8520" y="1108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E4F-6BCB-424E-B792-B1ECDBC89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25T07:03:04Z</dcterms:modified>
  <cp:revision>310</cp:revision>
  <dc:subject/>
  <dc:title>Lecture 09:</dc:title>
</cp:coreProperties>
</file>