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64E-55F1-46D8-8F0F-B2032F0F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B134-2409-48B2-B926-12C0D52B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2FE7-8554-4B21-B7D0-9D455598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98E-C70E-4A64-A7D1-4C6E6888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0DD-4756-4DA1-9B01-63C6DF6F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391-4514-407D-A539-BFE3851C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685-7E85-4CF3-B4CF-3392B3FA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BBFC-EFA9-4BF8-84D8-44215022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E6F-854A-45CB-A19F-418C5847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05B-2BA1-495B-A045-7613C507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F19-BD38-43FA-9587-1E2CF29A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839F-A9BD-42C1-9055-816B53DA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FE71-7506-4D7A-96E1-2BB7CFE92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3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25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AC8C-712E-4C17-94D3-839C08DEE0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0488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8320" y="41148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0080" y="41148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8520" y="6858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691056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35160" y="3962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65400" y="39625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79680" y="79704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61360" y="4648680"/>
            <a:ext cx="1055520" cy="891000"/>
          </a:xfrm>
          <a:prstGeom prst="wedgeRoundRectCallout">
            <a:avLst>
              <a:gd name="adj1" fmla="val -26273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17880" y="1721880"/>
            <a:ext cx="1679040" cy="496440"/>
          </a:xfrm>
          <a:prstGeom prst="wedgeRoundRectCallout">
            <a:avLst>
              <a:gd name="adj1" fmla="val -64231"/>
              <a:gd name="adj2" fmla="val 1288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840" y="4800960"/>
            <a:ext cx="2584440" cy="891000"/>
          </a:xfrm>
          <a:prstGeom prst="wedgeRoundRectCallout">
            <a:avLst>
              <a:gd name="adj1" fmla="val -19083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9CF-DB63-42AA-9A7F-AA40D73262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 selection:     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 join: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scan and selection on Company: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2a: scan and sort:              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2b: index-sca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: their 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0400" y="5459400"/>
            <a:ext cx="7949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FAD-6B79-4DC6-870A-54C39F8F0B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3276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3: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&lt;&lt;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7200" y="2133720"/>
            <a:ext cx="7200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,000 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00      M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00,000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87200" y="3200400"/>
            <a:ext cx="24912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city) = 2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maker) = 2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87200" y="4419720"/>
            <a:ext cx="24912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city) =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maker) = 2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63520" y="5486400"/>
            <a:ext cx="22366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city) =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maker) =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849-3D6F-4C22-9928-9EE6ADCBFE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lan is Bes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5200" y="2209680"/>
            <a:ext cx="7949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680" y="4003560"/>
            <a:ext cx="1087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B0A-FA55-4CD9-8809-26A33D2392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hart of the database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convert the SQL query to som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find a better logical plan, find an associated phys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8BF-982F-42E3-B618-BE11E889C0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from SQL to Logical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562720" y="297180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536040" y="2133720"/>
            <a:ext cx="293148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1, …,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1, …, 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70520" y="2819520"/>
            <a:ext cx="3472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1      R2       …     Rk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3440" y="4952880"/>
            <a:ext cx="544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1, …, bm, ag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1      R2       …     Rk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4114800"/>
            <a:ext cx="337680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1, …,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1, …, 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b1, …, b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72200" y="297180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781680" y="297180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400800" y="510552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010280" y="5095800"/>
                <a:ext cx="22860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634160" y="508176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9846-8A9A-470A-A71C-A02CA6EE19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4060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.maker in (Select company.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company.city=“Seattl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4160" y="4648320"/>
            <a:ext cx="644472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,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maker = company.nam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.city=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CF08-4589-4D36-80E0-561E83F2A2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70720" cy="30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color= “blu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x.price &gt;= ALL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roduct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maker = y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y.color=“blu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0080" y="5943600"/>
            <a:ext cx="56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convert this one to logical pl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93A-4F06-4F47-8F6A-97101050DC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2590920"/>
            <a:ext cx="6430680" cy="26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color= “bl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x.price &lt; SOME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maker = y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.color=“blu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676520"/>
            <a:ext cx="53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compute the complement fir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F8B-1276-49D5-811F-0D8B4A423D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06904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x, product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.color= “blue” AND x.maker = y.m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y.color=“blue”  AND x.price &lt; y.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0560" y="1828800"/>
            <a:ext cx="48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one becomes a SFW qu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5257800"/>
            <a:ext cx="8076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returns exactly the products we DON’T want, s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849-4479-4DD8-8FAC-EE80C97866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: algebraic laws 1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381-6D6B-42B3-BD12-B9052ADF3C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164360" cy="43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color = “blu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x, product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color= “blue” AND x.maker = y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y.color=“blue”  AND x.price &lt; y.pr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7260-CF3B-45FE-82A4-F8BE281DF5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have one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ic la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ation for every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pproaches to optimiz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apply laws t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sult in cheaper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based: estimate size and cost of intermediate results, search systematically for best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modern database optimizers use a cost-based optim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87D-9997-4055-BBE1-AF6F7BEB69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components of an optim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ree things in an optim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ization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st estim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9A0-EA2C-43E9-833E-CAC05B0617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 = S ∩ R,  R ∩ (S ∩ T) = (R ∩ S) ∩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 = 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95A-8068-42BF-8ED1-18F6492541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1C0-76C2-4466-97C5-E4FCD037E4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368-DF7D-4BAD-BC49-BEA6905B67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, P, Q are appropriate subsets of attributes of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A9A-1BA4-4A59-9332-9D55E662B2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 involving grouping and aggreg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if agg is “duplicate insensitiv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are “duplicate insensitive”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count, avg, min,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C,D)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(C,D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y is this tru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y would we do i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E310-09EB-4B07-9243-9B29838386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d 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in a clustered index all tuples with the same value of the key are clustered on as few blocks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uses another term: “clustering index”.  Difference is min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39120" y="3965760"/>
            <a:ext cx="4113000" cy="459720"/>
            <a:chOff x="2139120" y="3965760"/>
            <a:chExt cx="4113000" cy="459720"/>
          </a:xfrm>
        </p:grpSpPr>
        <p:sp>
          <p:nvSpPr>
            <p:cNvPr id="48" name=""/>
            <p:cNvSpPr/>
            <p:nvPr/>
          </p:nvSpPr>
          <p:spPr>
            <a:xfrm>
              <a:off x="2139120" y="3965760"/>
              <a:ext cx="1121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43200" y="3965760"/>
              <a:ext cx="116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90480" y="3965760"/>
              <a:ext cx="1061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F6A-BE60-47EE-80C1-BAEDC8E935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3612-E6D7-4ED8-9F33-A4600E0152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s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clustered: B(R) = 2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unclustered: T(R) = 100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based 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clustered: B(R)/V(R,a)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unclustered: T(R)/V(R,a) = 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: when V(R,a) is small, then unclustered index is us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02320" y="1676520"/>
            <a:ext cx="24058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2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100,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48120" y="1981080"/>
            <a:ext cx="2760840" cy="53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319-AFD2-4E31-90FC-87B950B33A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R, for each tuple fetch corresponding tuple(s) from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R is clustered.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447920" y="2133720"/>
                <a:ext cx="5760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DB9-CFB8-47D5-926B-EDBB7D1F30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oth R and S have a sorted index (B+ tree)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erform a merge jo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zig-zag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17ED-A5F5-43CD-8EFD-DFB588D420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ed index: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lustered index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maker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4120" y="4495680"/>
            <a:ext cx="5275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aker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ity = 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3A3-5E54-4F16-84DD-F78665BCE9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0006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493416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58760" y="3962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9000" y="39625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3145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578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73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048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8520" y="11080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059-9CB1-44D7-B8F0-CD8A2569CE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uw</cp:lastModifiedBy>
  <dcterms:modified xsi:type="dcterms:W3CDTF">2002-11-25T07:03:04Z</dcterms:modified>
  <cp:revision>310</cp:revision>
  <dc:subject/>
  <dc:title>Lecture 09:</dc:title>
</cp:coreProperties>
</file>